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22F2-4F82-42F6-919E-8124316E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7464-129C-440F-810B-E430C41B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99A-AF58-4AFA-B587-85D76833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5FC-FE1A-4CBA-B401-19A70CC2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181C-4EB2-4B1E-B78C-71ADED8B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B5CA-0011-475F-9A0F-CB3905C2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EE85-54E6-44BD-9586-CE3AF139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06F0-DE9B-40B3-BC43-95CB86B3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C1E2-C6EA-4381-81A0-DAD45A5E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59BF-0470-45CE-B287-6E124975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2D5B-3586-46FC-8E25-53279C59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8CA-22F0-4199-A5BC-167185D6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1DC4-C92C-4015-998C-DFD40B23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70A6-DED3-48B3-9BD2-6A4ABAAF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84C4-2378-461E-8129-31913995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6329-4900-4227-A4D7-3916ACA1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DF97-B344-4052-9FA0-1306EA1F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ACC3F-126F-4268-9B59-A7D3275A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A9CE3-18C9-4C48-80A8-2B4185BD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76475-706C-4B1F-89C2-5D854B98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19DE6-5510-470B-A506-42398B36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C937A-9CAC-402C-80B7-BCEFCC32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043-5E6D-49B3-A6A5-B802DA28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15599-952C-48AB-8036-0B882FD5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81F31-8554-42C2-8146-64C743CD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474AE-3851-4599-953B-C6BBE5B4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D3DA3-A650-4AA9-B570-8A892BC1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559FA-2C68-45F9-BB2A-F9A9B154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5157E-2ED1-40BE-B740-762706CB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C2547-4AA5-4161-832C-F982B592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D9F-BB21-42C3-9871-D42DA64B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D000-6707-4A43-BFED-099DF8EB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077-1B98-4B80-81F6-96DC2714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E5C-86EB-46AE-81D8-763B2FF6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38F-BF3A-4710-8A09-935B71A6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87A-41D2-4398-96BB-DDABEE37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0FDB-C2AC-45E3-AB47-979C837F1AC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2E08-E9C3-42F0-99D5-5942428FFA9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AA8D-62BD-4E11-9DD1-063F5D0C28B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078"/>
          <p:cNvSpPr/>
          <p:nvPr/>
        </p:nvSpPr>
        <p:spPr>
          <a:xfrm>
            <a:off x="685800" y="1447920"/>
            <a:ext cx="7772400" cy="41907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F203-9161-42F2-938F-52419EEFD64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subtitl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1576080" y="593640"/>
            <a:ext cx="60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国外卡通地图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7712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组合 4105"/>
          <p:cNvGrpSpPr/>
          <p:nvPr/>
        </p:nvGrpSpPr>
        <p:grpSpPr>
          <a:xfrm>
            <a:off x="7315200" y="609480"/>
            <a:ext cx="1143000" cy="1143000"/>
            <a:chOff x="7315200" y="609480"/>
            <a:chExt cx="1143000" cy="1143000"/>
          </a:xfrm>
        </p:grpSpPr>
        <p:pic>
          <p:nvPicPr>
            <p:cNvPr id="131" name="图片 4103" descr="Z:\newtek\_backgrounds_1.02\Greg\PowerPoint Templates\Maps\Elements\globe_anim.gif"/>
            <p:cNvPicPr/>
            <p:nvPr/>
          </p:nvPicPr>
          <p:blipFill>
            <a:blip r:embed="rId1"/>
            <a:stretch/>
          </p:blipFill>
          <p:spPr>
            <a:xfrm>
              <a:off x="7315200" y="609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矩形 4104"/>
            <p:cNvSpPr/>
            <p:nvPr/>
          </p:nvSpPr>
          <p:spPr>
            <a:xfrm>
              <a:off x="7315200" y="609480"/>
              <a:ext cx="1143000" cy="1143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ab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文本框 8199"/>
          <p:cNvSpPr/>
          <p:nvPr/>
        </p:nvSpPr>
        <p:spPr>
          <a:xfrm>
            <a:off x="2006640" y="270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77A8-DE6F-407A-8DDA-413DA2A631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ion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21:49:3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7:02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