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05C-41B9-4BE7-9E86-B5EAD850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C36-481D-48EE-96C6-C7027C6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0D5-A631-4911-99C2-25FA0DB5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18B-4BF0-4F20-BE72-D9A8F773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D672-5BC2-4582-A8AA-ADE59B7E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1978-9105-4804-A267-59AA47DF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978C-6F3B-46D0-A2FA-BC35569D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1D6-F16F-4863-A5FB-9512D641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D5E7-1E94-4A29-86AA-4B76A5EE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4B21-3B20-4CB3-976E-61445336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B90A-972B-4C4C-BA8C-2464F8B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740-1461-4D9A-A456-C0E31FF5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60A6-6300-429C-B2E7-DE723A4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90D2-C042-46F5-994D-56CAC418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6AB2-9393-4301-9B7A-34F615D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3F22-16D8-46C8-AADC-15E83868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B49A-E100-4853-867D-5E45D6CB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4436-1297-4723-9AAA-AAC04BA8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7777-AF6C-454F-9C9F-A2696FC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CABC-86EE-440E-82DC-D438791A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D81A-F718-40DF-8E43-E3A4DDD6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AEF1-66B9-41C6-B29F-9CBB9B58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DBA-8C18-428E-8D24-FE6D8E0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AA7A-A2F2-423E-81B2-7E05C7E7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3F35-17C8-43DB-A60D-2109975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B5BC-228D-44B2-AB6C-51A34AE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3E70-9292-4486-9DEA-C4B86EF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9AB5-603E-4700-9F1B-D0C6E081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249D-845A-4286-BB47-A33639C3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2224-A8C6-45B9-A161-E2ADD10B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B47-B7C0-457E-979F-17876FCE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EE5-3D17-476F-8390-5EB18CE9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FB3-A3C5-4631-98FF-8854810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6B3-6D5C-4E41-BD13-10D38F7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87C-516B-4FEA-BACE-AD44DA4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934-5EE7-4DEB-87CB-779B48C6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3d30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7145-695E-4067-8BDF-05A038C89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51F5-4A4C-40CD-8FBF-1C5785322D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D77A-E6B3-4BA7-A9E4-926FBC9E81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3d30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E5EA-B443-4446-854C-4DC2979C4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6880" y="274320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 Traveler's Memo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880" y="4343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025"/>
                </a:solidFill>
                <a:latin typeface="Arial"/>
              </a:rPr>
              <a:t>your subtitle goes here</a:t>
            </a:r>
            <a:endParaRPr b="0" lang="en-US" sz="24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374920" y="45720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卡通个人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Arial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A7F9-E44E-44F2-9B71-0648795EFF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5:44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5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