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9.gif" ContentType="image/gif"/>
  <Override PartName="/ppt/media/image2.png" ContentType="image/png"/>
  <Override PartName="/ppt/media/image6.jpeg" ContentType="image/jpeg"/>
  <Override PartName="/ppt/media/image5.gif" ContentType="image/gif"/>
  <Override PartName="/ppt/media/image4.gif" ContentType="image/gif"/>
  <Override PartName="/ppt/media/image1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3.jpeg" ContentType="image/jpeg"/>
  <Override PartName="/ppt/media/image1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C6D-2B08-40C5-8638-00F5A2D4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1C8-DEB6-44FA-AE6A-D7AA4F6B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03B-A6F4-4615-879C-49C08210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000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5208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5000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5208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7E2-E192-4E14-B0C6-422BC4AE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1F94-5F33-4103-8AE7-E5D36C20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FE99-5541-46BD-A626-66FBC6AB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E9C3-7EA5-44C6-9510-A864507B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64FA-AC43-4C42-87F8-FEB193C3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B7C6-BF25-459F-8CB0-01F8E8EB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610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042B-4291-49F6-82E1-17212BE4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6D8D-6DD1-4620-B2BF-7F6702C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3CF-6B8B-4793-B13C-5536871C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86CC-0BDA-4F3C-BDD9-20B2FAF3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7115-FD64-4C65-9EA1-E0A6469E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E5C1-60CF-4829-8FAC-4215BE8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F094-9772-4E84-9127-2B573625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5000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5208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4792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5000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5208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3D64-ED87-4AC5-9BDF-AF8568C7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3B2F-F4E2-4819-A9AB-694F88C5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011C-4E87-4F49-BBB0-D9844D0E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D42D-605C-4AB1-82A4-AAEB2D5E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939C-84E6-47D0-9331-3331E5C7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3F7A-DDDB-4139-AFCC-5218DD85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363-DD7E-4F1E-817E-232DEA31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610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718C-8B4F-40AF-883F-FF719BD6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49C1-0050-41AB-8B08-DC47377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D5A3-6FC4-4AF0-8E58-34C6B1CA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67E5-13A6-405D-93F2-CE690EA8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6FFF-8D87-4D85-8D36-31E40D43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7DB7-518D-4E91-AC5A-3C41AFE5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000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52080" y="1066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4792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5000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52080" y="38923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197A-A70B-407F-ACD0-B75671D3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9C9-041F-45C6-9402-103037E4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AE3-7DC6-4212-BE64-9E3181B3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610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49F-1667-4A35-ADB0-9FEF68D9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9C5-FB1C-4430-81CA-751019E3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1720" y="3892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9E5-8279-461A-9D36-089EA923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-1440"/>
            <a:ext cx="861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1720" y="10663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8923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3D7-E259-48ED-A926-B1C84D4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3A5F-66CE-402B-931A-8149C6B7BD91}" type="slidenum"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0" descr="vine"/>
          <p:cNvPicPr/>
          <p:nvPr/>
        </p:nvPicPr>
        <p:blipFill>
          <a:blip r:embed="rId3"/>
          <a:stretch/>
        </p:blipFill>
        <p:spPr>
          <a:xfrm>
            <a:off x="0" y="0"/>
            <a:ext cx="2332080" cy="662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CE1A-247C-4DFE-AF2C-9A6F10EFF1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7BEC-BD4C-478F-8F42-458A1F1505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479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897A-1F01-4A13-B579-D0846F6A229B}" type="slidenum">
              <a:rPr b="1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image" Target="../media/image11.png"/><Relationship Id="rId6" Type="http://schemas.openxmlformats.org/officeDocument/2006/relationships/image" Target="../media/image4.gif"/><Relationship Id="rId7" Type="http://schemas.openxmlformats.org/officeDocument/2006/relationships/image" Target="../media/image9.gif"/><Relationship Id="rId8" Type="http://schemas.openxmlformats.org/officeDocument/2006/relationships/image" Target="../media/image7.png"/><Relationship Id="rId9" Type="http://schemas.openxmlformats.org/officeDocument/2006/relationships/image" Target="../media/image12.gif"/><Relationship Id="rId10" Type="http://schemas.openxmlformats.org/officeDocument/2006/relationships/image" Target="../media/image5.gif"/><Relationship Id="rId11" Type="http://schemas.openxmlformats.org/officeDocument/2006/relationships/image" Target="../media/image13.gif"/><Relationship Id="rId12" Type="http://schemas.openxmlformats.org/officeDocument/2006/relationships/image" Target="../media/image14.gif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0190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larendon Condensed"/>
              </a:rPr>
              <a:t>Jungle Lif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4876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058" descr="jungle_girl_club_pulling_man_hg_clr"/>
          <p:cNvPicPr/>
          <p:nvPr/>
        </p:nvPicPr>
        <p:blipFill>
          <a:blip r:embed="rId1"/>
          <a:stretch/>
        </p:blipFill>
        <p:spPr>
          <a:xfrm>
            <a:off x="2666880" y="304920"/>
            <a:ext cx="3535560" cy="38862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1874520" y="228600"/>
            <a:ext cx="56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卡通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1066320"/>
            <a:ext cx="377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内容占位符 15384" descr="jungle_man_riding_elephant_hg_clr"/>
          <p:cNvPicPr/>
          <p:nvPr/>
        </p:nvPicPr>
        <p:blipFill>
          <a:blip r:embed="rId1"/>
          <a:stretch/>
        </p:blipFill>
        <p:spPr>
          <a:xfrm>
            <a:off x="7140600" y="4543560"/>
            <a:ext cx="2003400" cy="231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80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larendon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4876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nsitional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63493" descr="jungle_life"/>
          <p:cNvPicPr/>
          <p:nvPr/>
        </p:nvPicPr>
        <p:blipFill>
          <a:blip r:embed="rId2"/>
          <a:stretch/>
        </p:blipFill>
        <p:spPr>
          <a:xfrm>
            <a:off x="2362320" y="538200"/>
            <a:ext cx="4952880" cy="4871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560" y="1066320"/>
            <a:ext cx="377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内容占位符 62467" descr="jungle_girl_vacuum_leopard_skin_hg_clr"/>
          <p:cNvPicPr/>
          <p:nvPr/>
        </p:nvPicPr>
        <p:blipFill>
          <a:blip r:embed="rId2"/>
          <a:stretch/>
        </p:blipFill>
        <p:spPr>
          <a:xfrm>
            <a:off x="7229520" y="5025960"/>
            <a:ext cx="1914480" cy="183204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51B0-D7DC-42F0-A6FD-824AF63DDC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9562" descr="jungle_life_sld"/>
          <p:cNvPicPr/>
          <p:nvPr/>
        </p:nvPicPr>
        <p:blipFill>
          <a:blip r:embed="rId1"/>
          <a:stretch/>
        </p:blipFill>
        <p:spPr>
          <a:xfrm>
            <a:off x="12193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9563" descr="jungle_life_trs"/>
          <p:cNvPicPr/>
          <p:nvPr/>
        </p:nvPicPr>
        <p:blipFill>
          <a:blip r:embed="rId2"/>
          <a:stretch/>
        </p:blipFill>
        <p:spPr>
          <a:xfrm>
            <a:off x="51055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9564" descr="jungle_life_prt"/>
          <p:cNvPicPr/>
          <p:nvPr/>
        </p:nvPicPr>
        <p:blipFill>
          <a:blip r:embed="rId3"/>
          <a:stretch/>
        </p:blipFill>
        <p:spPr>
          <a:xfrm>
            <a:off x="1219320" y="1600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9565" descr="jungle_life_qx"/>
          <p:cNvPicPr/>
          <p:nvPr/>
        </p:nvPicPr>
        <p:blipFill>
          <a:blip r:embed="rId4"/>
          <a:stretch/>
        </p:blipFill>
        <p:spPr>
          <a:xfrm>
            <a:off x="5105520" y="16002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0190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larendon Condensed"/>
              </a:rPr>
              <a:t>Element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图片 19553" descr="bellow"/>
          <p:cNvPicPr/>
          <p:nvPr/>
        </p:nvPicPr>
        <p:blipFill>
          <a:blip r:embed="rId5"/>
          <a:stretch/>
        </p:blipFill>
        <p:spPr>
          <a:xfrm>
            <a:off x="2514600" y="0"/>
            <a:ext cx="2174760" cy="41911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9554" descr="jungle_girl_club_pulling_man_hg_clr"/>
          <p:cNvPicPr/>
          <p:nvPr/>
        </p:nvPicPr>
        <p:blipFill>
          <a:blip r:embed="rId6"/>
          <a:stretch/>
        </p:blipFill>
        <p:spPr>
          <a:xfrm>
            <a:off x="4495680" y="5334120"/>
            <a:ext cx="13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9555" descr="jungle_girl_vacuum_leopard_skin_hg_clr"/>
          <p:cNvPicPr/>
          <p:nvPr/>
        </p:nvPicPr>
        <p:blipFill>
          <a:blip r:embed="rId7"/>
          <a:stretch/>
        </p:blipFill>
        <p:spPr>
          <a:xfrm>
            <a:off x="6629400" y="4419720"/>
            <a:ext cx="1523880" cy="14572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9556" descr="jungle_life"/>
          <p:cNvPicPr/>
          <p:nvPr/>
        </p:nvPicPr>
        <p:blipFill>
          <a:blip r:embed="rId8"/>
          <a:stretch/>
        </p:blipFill>
        <p:spPr>
          <a:xfrm>
            <a:off x="4705200" y="0"/>
            <a:ext cx="4438800" cy="43671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9557" descr="jungle_man_pound_chest_yell_hg_clr"/>
          <p:cNvPicPr/>
          <p:nvPr/>
        </p:nvPicPr>
        <p:blipFill>
          <a:blip r:embed="rId9"/>
          <a:stretch/>
        </p:blipFill>
        <p:spPr>
          <a:xfrm>
            <a:off x="3352680" y="5334120"/>
            <a:ext cx="1336680" cy="1523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9558" descr="jungle_man_riding_elephant_hg_clr"/>
          <p:cNvPicPr/>
          <p:nvPr/>
        </p:nvPicPr>
        <p:blipFill>
          <a:blip r:embed="rId10"/>
          <a:stretch/>
        </p:blipFill>
        <p:spPr>
          <a:xfrm>
            <a:off x="1828800" y="53341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9559" descr="jungle_man_vacuum_leopard_skin_hg_clr"/>
          <p:cNvPicPr/>
          <p:nvPr/>
        </p:nvPicPr>
        <p:blipFill>
          <a:blip r:embed="rId11"/>
          <a:stretch/>
        </p:blipFill>
        <p:spPr>
          <a:xfrm>
            <a:off x="7620120" y="5400720"/>
            <a:ext cx="1523880" cy="145728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9560" descr="jungle_man_vine_swinging_hg_clr"/>
          <p:cNvPicPr/>
          <p:nvPr/>
        </p:nvPicPr>
        <p:blipFill>
          <a:blip r:embed="rId12"/>
          <a:stretch/>
        </p:blipFill>
        <p:spPr>
          <a:xfrm>
            <a:off x="5867280" y="5334120"/>
            <a:ext cx="1171800" cy="15238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9561" descr="vine"/>
          <p:cNvPicPr/>
          <p:nvPr/>
        </p:nvPicPr>
        <p:blipFill>
          <a:blip r:embed="rId13"/>
          <a:stretch/>
        </p:blipFill>
        <p:spPr>
          <a:xfrm>
            <a:off x="0" y="0"/>
            <a:ext cx="2413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7:00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