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8EA-D9D8-469F-907A-B8F0AEC5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B33-E819-47EF-97C4-68A150D7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C88-01D3-4079-B625-A7DEE14C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3BE-CE05-4DFF-856A-1B00D25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3F5D-BC26-43D5-A2FF-714CD5AA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1907-29B3-4276-9DA1-69B5245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E38B-258D-4B12-ABED-FFC0F1B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E3B-08C2-4B43-9E44-A60FEE0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2559-3AAA-4CC8-A09E-51C001B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142C-3782-471D-8990-402EA4BB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0198-BA13-4C15-9791-62B7364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64D-D551-424E-AA1C-F4A519B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1590-B7C9-4033-9263-A3A126E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B161-980F-4731-9D2A-9AF0644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9C72-1243-4C4B-B2BE-F0F12C7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FF7E-83C0-43AB-8966-8AAE0166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E17D-5EF4-4240-8F86-7D8CA874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17C5-524C-45C3-BEDB-5BC096C9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5D92-512A-498C-B672-38AA4D3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71C2-ECB4-4771-8145-B803044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555D-53C7-46C7-AC59-79696037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DB00-01A1-421C-98EA-5AA1BE1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031-86DC-41FC-A673-95E6BF9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B424-4603-470C-9491-79C1402C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1C1B-4DE2-4DA5-B379-2EDD268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5CC5-6C3B-4CA7-B4EA-11D5B2E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A8B7-87A4-47BE-B325-5D8E4A9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1838-2E5A-4DF9-90FF-5422BD6A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AC80-A73B-4036-8D9B-5B335C7F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3608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20400" y="198108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12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3608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20400" y="4130640"/>
            <a:ext cx="188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02C8-2B2F-4E7F-A76A-F988ACAF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0CC-D674-4607-A221-8FB75A9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723-3814-48D6-ADF2-B1C82C1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609120"/>
            <a:ext cx="49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972-EC69-4593-ADE2-462D8F9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7B6-655B-4289-81D9-5D0E1F5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8840" y="413064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315-AF84-4E96-A84F-00B5CF3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8840" y="198108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130640"/>
            <a:ext cx="5867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11C-21A5-406D-B4AC-3065EDB8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20400" indent="-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D01-0F45-4CCC-A37A-A6CC69EB8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0F6-E581-4C7E-B988-0EA813357D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C8C8-02D4-4E72-8ABE-0126DBB2B3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3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20400" indent="-40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7560" indent="-813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0D6-E277-499C-BF40-D2E583BBF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44197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Presenta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44956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POP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1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01440" y="23328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卡通人物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our Main Poin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r Sub Poi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r Sub Poi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120" y="19810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2502000" y="5545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FF8-1C7E-4EAB-89EC-0C44C50E83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145"/>
          <p:cNvSpPr/>
          <p:nvPr/>
        </p:nvSpPr>
        <p:spPr>
          <a:xfrm>
            <a:off x="228600" y="2209680"/>
            <a:ext cx="48769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i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22:35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