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CF9-C46E-43AF-A7D0-7B6BBB9B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340-CD71-4A30-8707-E22F3DE3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0F8-DBE1-4CAE-AC04-0D4B81A5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324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456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324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456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19B-65FF-4307-B840-BCC10489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768A-DBE1-405A-A14F-75B0BAC5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2568-C46B-4F15-8409-606BD5FB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D55A-A02D-4DC6-97EB-2ED5290A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5319-4DB8-4571-B640-064FE999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A3A9-E10D-4D13-85FE-703E4426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610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FADD-7E23-4A9A-9D1F-10CB2C30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F206-8095-422D-94FE-4BB223B5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3E0-72BC-4394-9C4D-5BD104CE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BA18-FC5C-441A-A7F9-741C1FB7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B7F7-34EB-47AB-B89E-9255124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6875-F850-48F9-8588-971B9052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4B91-F25B-40A7-92AF-DCEB933A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324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456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324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456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A9CA-4F8E-49B9-A3FE-6346B21C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68AB-5C9D-4F67-AF47-388F19C3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D148-6FFF-4C37-9A8C-7CF58C9B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32480-528F-4AD2-B935-B3C1F669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676A-49A2-4C6F-A694-241DFBBD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9690-80C2-466E-A1C3-8292453D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E6A-D057-4849-BE06-91E68AB9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610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5711-AA3E-45EA-9E37-0E0F8D19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09E9-DCCF-4FB1-A799-23614881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E9A69-BF76-450D-BC15-BACF9992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8CA47-B628-4EBD-86A8-ED288FB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AD585-B4B7-4D7E-8F95-268B0F4B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D699-6431-47A6-838D-394FB5EF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6324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4560" y="68580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192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6324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4560" y="3750840"/>
            <a:ext cx="27723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E9BF-62BC-4402-B78E-BB5A1329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5D1-F450-4EF6-97E9-4224E552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008-BD71-48B7-8AE2-8C0982E8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610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ADD-2361-410A-9A0A-B225FB05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F50-BCE9-4E6D-90BE-215B5F5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4440" y="375084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92C-E7A2-4F8B-979D-2C43C5E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5976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4440" y="685800"/>
            <a:ext cx="4201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3750840"/>
            <a:ext cx="86108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54D-2E13-419F-BCD2-EC476162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67F2-C551-40D8-99E7-0A06D61DCA24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7076-ADCA-4035-B663-1EAA0F3A122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83F6-875F-4530-AC36-2A448C76F9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B8D1-7B19-4B5B-BF73-57A770C1D9DF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5562720"/>
            <a:ext cx="8839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Lapse of reas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61722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239480" y="1600200"/>
            <a:ext cx="63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蓝色泡背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562720"/>
            <a:ext cx="8839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-360" y="61722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2DAF-50E8-4310-AA47-625A7CB6D3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7:21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42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