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FC18-4E17-416A-9516-A6E0A3627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23DC-FB18-412F-B73D-BBEA4F174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5CB2-71DE-4464-B50F-5F0A6E4B9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8EE8-042F-47C4-8DCD-7DD09F1FF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48E10-F4EF-4E59-AE38-AFFB3C08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470B6-9ED2-4DE6-A209-FB8274C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D62B0-4478-4395-BE26-BF0FD6CA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5098F-AD2D-495E-9357-A60CC0B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419A1-2A7F-44D2-BCBD-6C00B5CD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9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91037-8229-432A-AC0C-74428FD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70F9-AEA9-4003-8E34-0168E2B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1D1D-A01C-4A6D-AF05-8C62599E7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18282-39D4-4115-BCC7-3BB222F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D8A93-3819-4371-8B00-BE4096E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4320-CA1A-4BE2-993A-E3DBCA41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901F3-5A1B-4EB3-A3AD-9F040DCC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7FDFB-9943-49C6-9CCB-1EB90E25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EAF08-A31A-417E-A311-35B4481531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8CC20-0128-4F58-8334-539C73AD5D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71BA7-F33A-40B9-884B-A669667DF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09622-2373-43BD-AA0C-4988BAB92F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F80A0-B6B3-44D8-B290-CAAF7B14A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BBEF-98F1-465F-AA12-33ABBB5BAA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9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5B189-7A38-47A5-87A7-B8A30EBD9B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0457C-3A29-4686-821F-035F62D66B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98F88-DD7B-4A00-89D2-F59802585E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A998F-3756-4833-9C2F-D383B5A876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87C5A-5354-4CF4-864B-7EC26FE7D3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09809-9EEB-486D-8A11-044DBE302A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EA9C9-C8E2-491D-AB28-33E702DF6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CC12-DB0A-412E-808B-4A5D3BC5E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7BC5-565F-4C3A-88AB-2B1B532F5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9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74C8-700B-4396-9E83-A9959E3E3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CAAD-563B-433D-8823-B3BDB416B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B267-3304-48BB-80A1-2EA207174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D80A-1632-4A88-A357-2F8AC3397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verisign format lt v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64880" y="6486120"/>
            <a:ext cx="447480" cy="2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2DF-3AF2-4EE9-87C7-470295E0EFF3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A02C-A5F4-4ACA-9D00-975D200F10A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7408-9544-458F-AE74-C45EB7562D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verisign title lt v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85000"/>
              </a:lnSpc>
              <a:spcBef>
                <a:spcPts val="1950"/>
              </a:spcBef>
              <a:buClr>
                <a:srgbClr val="ffbe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lnSpc>
                <a:spcPct val="85000"/>
              </a:lnSpc>
              <a:spcBef>
                <a:spcPts val="1950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583920" y="6486120"/>
            <a:ext cx="447480" cy="2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596D-1D24-4015-86F8-BC3DCE19C6E8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6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8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citibank.com/domain/redirect/logo/citi.htm?BVE=http://web.da-us.citibank.com&amp;BVP=/cgi-bin/citifi/scripts/&amp;BV_UseBVCookie=no&amp;US&amp;_u=visitor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http://www.intel.com/index.htm?iid=Homepage+Header_Intel_logo&amp;" TargetMode="External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58428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2D4B-BB94-4882-BEB1-D7C9A8B0820C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Digital Brand Management Servic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March, 2003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1141560" y="63356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8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477880" y="279252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Tahoma"/>
              </a:rPr>
              <a:t>国外企业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Tahoma"/>
              </a:rPr>
              <a:t>PPT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Tahoma"/>
              </a:rPr>
              <a:t>模板免费下载</a:t>
            </a:r>
            <a:endParaRPr b="1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D21-7105-4666-B065-A89B7006DCB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Research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41320" y="2062080"/>
            <a:ext cx="8077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Global Search on Domains – gTLDs / cCTLDs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Trade Marks, Service Marks, Brands, Domains, Slogans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Registrant Search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Brand Presence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Home Page Content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58AC-4FF5-4A1B-ACF1-2DD0E0872874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560"/>
            <a:ext cx="810252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nline Brand Analysis Repor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scover Hong Ko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656240" y="3900600"/>
            <a:ext cx="4487760" cy="26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arch Mechanism: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rawling 40 million+ registered domains and 20 million+  home pages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arch each domain and  analyze the content of the sites to determine if the site conducting eCommerce, contain objectionable content, site alive, etc…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nitor if the brand name appears in either the domain, site title, meta tags, text/ link/ logo on the home page for each of the sites.  If there is a hit, one count is recorded for that specific category (i.e. porn, hate, gambling, ....)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se are highly relevant information.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201080" y="711360"/>
            <a:ext cx="1612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…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.. May 22, 2003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0" y="1160640"/>
            <a:ext cx="4648320" cy="2720880"/>
            <a:chOff x="0" y="1160640"/>
            <a:chExt cx="4648320" cy="2720880"/>
          </a:xfrm>
        </p:grpSpPr>
        <p:grpSp>
          <p:nvGrpSpPr>
            <p:cNvPr id="241" name="Group 7"/>
            <p:cNvGrpSpPr/>
            <p:nvPr/>
          </p:nvGrpSpPr>
          <p:grpSpPr>
            <a:xfrm>
              <a:off x="0" y="1160640"/>
              <a:ext cx="4648320" cy="2720880"/>
              <a:chOff x="0" y="1160640"/>
              <a:chExt cx="4648320" cy="2720880"/>
            </a:xfrm>
          </p:grpSpPr>
          <p:grpSp>
            <p:nvGrpSpPr>
              <p:cNvPr id="242" name="Group 8"/>
              <p:cNvGrpSpPr/>
              <p:nvPr/>
            </p:nvGrpSpPr>
            <p:grpSpPr>
              <a:xfrm>
                <a:off x="0" y="1160640"/>
                <a:ext cx="4648320" cy="2720880"/>
                <a:chOff x="0" y="1160640"/>
                <a:chExt cx="4648320" cy="2720880"/>
              </a:xfrm>
            </p:grpSpPr>
            <p:grpSp>
              <p:nvGrpSpPr>
                <p:cNvPr id="243" name="Group 9"/>
                <p:cNvGrpSpPr/>
                <p:nvPr/>
              </p:nvGrpSpPr>
              <p:grpSpPr>
                <a:xfrm>
                  <a:off x="4320" y="1164600"/>
                  <a:ext cx="4638960" cy="2712600"/>
                  <a:chOff x="4320" y="1164600"/>
                  <a:chExt cx="4638960" cy="2712600"/>
                </a:xfrm>
              </p:grpSpPr>
              <p:grpSp>
                <p:nvGrpSpPr>
                  <p:cNvPr id="244" name="Group 10"/>
                  <p:cNvGrpSpPr/>
                  <p:nvPr/>
                </p:nvGrpSpPr>
                <p:grpSpPr>
                  <a:xfrm>
                    <a:off x="4320" y="1164600"/>
                    <a:ext cx="4638960" cy="2712600"/>
                    <a:chOff x="4320" y="1164600"/>
                    <a:chExt cx="4638960" cy="2712600"/>
                  </a:xfrm>
                </p:grpSpPr>
                <p:sp>
                  <p:nvSpPr>
                    <p:cNvPr id="245" name="Rectangle 11"/>
                    <p:cNvSpPr/>
                    <p:nvPr/>
                  </p:nvSpPr>
                  <p:spPr>
                    <a:xfrm>
                      <a:off x="4320" y="1164600"/>
                      <a:ext cx="4638960" cy="24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Presence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6" name="Rectangle 12"/>
                    <p:cNvSpPr/>
                    <p:nvPr/>
                  </p:nvSpPr>
                  <p:spPr>
                    <a:xfrm>
                      <a:off x="4320" y="1406520"/>
                      <a:ext cx="4638960" cy="268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is present within the following parts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f home pages.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47" name="Group 13"/>
                    <p:cNvGrpSpPr/>
                    <p:nvPr/>
                  </p:nvGrpSpPr>
                  <p:grpSpPr>
                    <a:xfrm>
                      <a:off x="4320" y="1675080"/>
                      <a:ext cx="1650240" cy="1047960"/>
                      <a:chOff x="4320" y="1675080"/>
                      <a:chExt cx="1650240" cy="1047960"/>
                    </a:xfrm>
                  </p:grpSpPr>
                  <p:sp>
                    <p:nvSpPr>
                      <p:cNvPr id="248" name="Rectangle 14"/>
                      <p:cNvSpPr/>
                      <p:nvPr/>
                    </p:nvSpPr>
                    <p:spPr>
                      <a:xfrm>
                        <a:off x="4320" y="167508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49" name="Rectangle 15"/>
                      <p:cNvSpPr/>
                      <p:nvPr/>
                    </p:nvSpPr>
                    <p:spPr>
                      <a:xfrm>
                        <a:off x="336240" y="167508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0" name="Rectangle 16"/>
                      <p:cNvSpPr/>
                      <p:nvPr/>
                    </p:nvSpPr>
                    <p:spPr>
                      <a:xfrm>
                        <a:off x="756000" y="167508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1" name="Rectangle 17"/>
                      <p:cNvSpPr/>
                      <p:nvPr/>
                    </p:nvSpPr>
                    <p:spPr>
                      <a:xfrm>
                        <a:off x="1170720" y="167508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2" name="Rectangle 18"/>
                      <p:cNvSpPr/>
                      <p:nvPr/>
                    </p:nvSpPr>
                    <p:spPr>
                      <a:xfrm>
                        <a:off x="4320" y="184968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3" name="Rectangle 19"/>
                      <p:cNvSpPr/>
                      <p:nvPr/>
                    </p:nvSpPr>
                    <p:spPr>
                      <a:xfrm>
                        <a:off x="336240" y="184968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body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4" name="Rectangle 20"/>
                      <p:cNvSpPr/>
                      <p:nvPr/>
                    </p:nvSpPr>
                    <p:spPr>
                      <a:xfrm>
                        <a:off x="756000" y="184968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17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5" name="Rectangle 21"/>
                      <p:cNvSpPr/>
                      <p:nvPr/>
                    </p:nvSpPr>
                    <p:spPr>
                      <a:xfrm>
                        <a:off x="1170720" y="184968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9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6" name="Rectangle 22"/>
                      <p:cNvSpPr/>
                      <p:nvPr/>
                    </p:nvSpPr>
                    <p:spPr>
                      <a:xfrm>
                        <a:off x="4320" y="2024280"/>
                        <a:ext cx="33192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7" name="Rectangle 23"/>
                      <p:cNvSpPr/>
                      <p:nvPr/>
                    </p:nvSpPr>
                    <p:spPr>
                      <a:xfrm>
                        <a:off x="336240" y="2024280"/>
                        <a:ext cx="4194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lin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8" name="Rectangle 24"/>
                      <p:cNvSpPr/>
                      <p:nvPr/>
                    </p:nvSpPr>
                    <p:spPr>
                      <a:xfrm>
                        <a:off x="756000" y="2024280"/>
                        <a:ext cx="41472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2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9" name="Rectangle 25"/>
                      <p:cNvSpPr/>
                      <p:nvPr/>
                    </p:nvSpPr>
                    <p:spPr>
                      <a:xfrm>
                        <a:off x="1170720" y="2024280"/>
                        <a:ext cx="483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7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0" name="Rectangle 26"/>
                      <p:cNvSpPr/>
                      <p:nvPr/>
                    </p:nvSpPr>
                    <p:spPr>
                      <a:xfrm>
                        <a:off x="4320" y="219924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1" name="Rectangle 27"/>
                      <p:cNvSpPr/>
                      <p:nvPr/>
                    </p:nvSpPr>
                    <p:spPr>
                      <a:xfrm>
                        <a:off x="336240" y="219924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meta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2" name="Rectangle 28"/>
                      <p:cNvSpPr/>
                      <p:nvPr/>
                    </p:nvSpPr>
                    <p:spPr>
                      <a:xfrm>
                        <a:off x="756000" y="219924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3" name="Rectangle 29"/>
                      <p:cNvSpPr/>
                      <p:nvPr/>
                    </p:nvSpPr>
                    <p:spPr>
                      <a:xfrm>
                        <a:off x="1170720" y="219924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4" name="Rectangle 30"/>
                      <p:cNvSpPr/>
                      <p:nvPr/>
                    </p:nvSpPr>
                    <p:spPr>
                      <a:xfrm>
                        <a:off x="4320" y="237384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5" name="Rectangle 31"/>
                      <p:cNvSpPr/>
                      <p:nvPr/>
                    </p:nvSpPr>
                    <p:spPr>
                      <a:xfrm>
                        <a:off x="336240" y="237384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mag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6" name="Rectangle 32"/>
                      <p:cNvSpPr/>
                      <p:nvPr/>
                    </p:nvSpPr>
                    <p:spPr>
                      <a:xfrm>
                        <a:off x="756000" y="237384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7" name="Rectangle 33"/>
                      <p:cNvSpPr/>
                      <p:nvPr/>
                    </p:nvSpPr>
                    <p:spPr>
                      <a:xfrm>
                        <a:off x="1170720" y="237384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8" name="Rectangle 34"/>
                      <p:cNvSpPr/>
                      <p:nvPr/>
                    </p:nvSpPr>
                    <p:spPr>
                      <a:xfrm>
                        <a:off x="4320" y="2548440"/>
                        <a:ext cx="3319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9" name="Rectangle 35"/>
                      <p:cNvSpPr/>
                      <p:nvPr/>
                    </p:nvSpPr>
                    <p:spPr>
                      <a:xfrm>
                        <a:off x="336240" y="2548440"/>
                        <a:ext cx="4194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titl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0" name="Rectangle 36"/>
                      <p:cNvSpPr/>
                      <p:nvPr/>
                    </p:nvSpPr>
                    <p:spPr>
                      <a:xfrm>
                        <a:off x="756000" y="2548440"/>
                        <a:ext cx="41472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1" name="Rectangle 37"/>
                      <p:cNvSpPr/>
                      <p:nvPr/>
                    </p:nvSpPr>
                    <p:spPr>
                      <a:xfrm>
                        <a:off x="1170720" y="2548440"/>
                        <a:ext cx="483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272" name="Rectangle 38"/>
                    <p:cNvSpPr/>
                    <p:nvPr/>
                  </p:nvSpPr>
                  <p:spPr>
                    <a:xfrm>
                      <a:off x="1654920" y="1675080"/>
                      <a:ext cx="2988000" cy="201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Rectangle 39"/>
                    <p:cNvSpPr/>
                    <p:nvPr/>
                  </p:nvSpPr>
                  <p:spPr>
                    <a:xfrm>
                      <a:off x="4320" y="3688560"/>
                      <a:ext cx="4638960" cy="18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80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74" name="Rectangle 40"/>
                  <p:cNvSpPr/>
                  <p:nvPr/>
                </p:nvSpPr>
                <p:spPr>
                  <a:xfrm>
                    <a:off x="4320" y="1164600"/>
                    <a:ext cx="4638960" cy="271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75" name="Rectangle 41"/>
                <p:cNvSpPr/>
                <p:nvPr/>
              </p:nvSpPr>
              <p:spPr>
                <a:xfrm>
                  <a:off x="0" y="1160640"/>
                  <a:ext cx="4648320" cy="27208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6" name="Rectangle 42"/>
              <p:cNvSpPr/>
              <p:nvPr/>
            </p:nvSpPr>
            <p:spPr>
              <a:xfrm>
                <a:off x="0" y="1160640"/>
                <a:ext cx="4648320" cy="27208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277" name="Picture 43" descr="color0"/>
            <p:cNvPicPr/>
            <p:nvPr/>
          </p:nvPicPr>
          <p:blipFill>
            <a:blip r:embed="rId1"/>
            <a:stretch/>
          </p:blipFill>
          <p:spPr>
            <a:xfrm>
              <a:off x="120600" y="1890360"/>
              <a:ext cx="112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4" descr="color1"/>
            <p:cNvPicPr/>
            <p:nvPr/>
          </p:nvPicPr>
          <p:blipFill>
            <a:blip r:embed="rId2"/>
            <a:stretch/>
          </p:blipFill>
          <p:spPr>
            <a:xfrm>
              <a:off x="120600" y="2064960"/>
              <a:ext cx="112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5" descr="color2"/>
            <p:cNvPicPr/>
            <p:nvPr/>
          </p:nvPicPr>
          <p:blipFill>
            <a:blip r:embed="rId3"/>
            <a:stretch/>
          </p:blipFill>
          <p:spPr>
            <a:xfrm>
              <a:off x="120600" y="2239920"/>
              <a:ext cx="11232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6" descr="color3"/>
            <p:cNvPicPr/>
            <p:nvPr/>
          </p:nvPicPr>
          <p:blipFill>
            <a:blip r:embed="rId4"/>
            <a:stretch/>
          </p:blipFill>
          <p:spPr>
            <a:xfrm>
              <a:off x="120600" y="2414880"/>
              <a:ext cx="11232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7" descr="color4"/>
            <p:cNvPicPr/>
            <p:nvPr/>
          </p:nvPicPr>
          <p:blipFill>
            <a:blip r:embed="rId5"/>
            <a:stretch/>
          </p:blipFill>
          <p:spPr>
            <a:xfrm>
              <a:off x="120600" y="2589480"/>
              <a:ext cx="11232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8" descr="barchart"/>
            <p:cNvPicPr/>
            <p:nvPr/>
          </p:nvPicPr>
          <p:blipFill>
            <a:blip r:embed="rId6"/>
            <a:stretch/>
          </p:blipFill>
          <p:spPr>
            <a:xfrm>
              <a:off x="1770840" y="1715760"/>
              <a:ext cx="225504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49"/>
          <p:cNvGrpSpPr/>
          <p:nvPr/>
        </p:nvGrpSpPr>
        <p:grpSpPr>
          <a:xfrm>
            <a:off x="4656240" y="1160640"/>
            <a:ext cx="4487760" cy="2720880"/>
            <a:chOff x="4656240" y="1160640"/>
            <a:chExt cx="4487760" cy="2720880"/>
          </a:xfrm>
        </p:grpSpPr>
        <p:grpSp>
          <p:nvGrpSpPr>
            <p:cNvPr id="284" name="Group 50"/>
            <p:cNvGrpSpPr/>
            <p:nvPr/>
          </p:nvGrpSpPr>
          <p:grpSpPr>
            <a:xfrm>
              <a:off x="4656240" y="1160640"/>
              <a:ext cx="4487760" cy="2720880"/>
              <a:chOff x="4656240" y="1160640"/>
              <a:chExt cx="4487760" cy="2720880"/>
            </a:xfrm>
          </p:grpSpPr>
          <p:grpSp>
            <p:nvGrpSpPr>
              <p:cNvPr id="285" name="Group 51"/>
              <p:cNvGrpSpPr/>
              <p:nvPr/>
            </p:nvGrpSpPr>
            <p:grpSpPr>
              <a:xfrm>
                <a:off x="4656240" y="1160640"/>
                <a:ext cx="4487760" cy="2720880"/>
                <a:chOff x="4656240" y="1160640"/>
                <a:chExt cx="4487760" cy="2720880"/>
              </a:xfrm>
            </p:grpSpPr>
            <p:grpSp>
              <p:nvGrpSpPr>
                <p:cNvPr id="286" name="Group 52"/>
                <p:cNvGrpSpPr/>
                <p:nvPr/>
              </p:nvGrpSpPr>
              <p:grpSpPr>
                <a:xfrm>
                  <a:off x="4660560" y="1164600"/>
                  <a:ext cx="4478760" cy="2712600"/>
                  <a:chOff x="4660560" y="1164600"/>
                  <a:chExt cx="4478760" cy="2712600"/>
                </a:xfrm>
              </p:grpSpPr>
              <p:grpSp>
                <p:nvGrpSpPr>
                  <p:cNvPr id="287" name="Group 53"/>
                  <p:cNvGrpSpPr/>
                  <p:nvPr/>
                </p:nvGrpSpPr>
                <p:grpSpPr>
                  <a:xfrm>
                    <a:off x="4660560" y="1164600"/>
                    <a:ext cx="4478760" cy="2712600"/>
                    <a:chOff x="4660560" y="1164600"/>
                    <a:chExt cx="4478760" cy="2712600"/>
                  </a:xfrm>
                </p:grpSpPr>
                <p:sp>
                  <p:nvSpPr>
                    <p:cNvPr id="288" name="Rectangle 54"/>
                    <p:cNvSpPr/>
                    <p:nvPr/>
                  </p:nvSpPr>
                  <p:spPr>
                    <a:xfrm>
                      <a:off x="4660560" y="1164600"/>
                      <a:ext cx="4478760" cy="24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mains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9" name="Rectangle 55"/>
                    <p:cNvSpPr/>
                    <p:nvPr/>
                  </p:nvSpPr>
                  <p:spPr>
                    <a:xfrm>
                      <a:off x="4660560" y="1406520"/>
                      <a:ext cx="4478760" cy="268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domain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TLD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90" name="Group 56"/>
                    <p:cNvGrpSpPr/>
                    <p:nvPr/>
                  </p:nvGrpSpPr>
                  <p:grpSpPr>
                    <a:xfrm>
                      <a:off x="4660560" y="1675080"/>
                      <a:ext cx="1575360" cy="1397520"/>
                      <a:chOff x="4660560" y="1675080"/>
                      <a:chExt cx="1575360" cy="1397520"/>
                    </a:xfrm>
                  </p:grpSpPr>
                  <p:sp>
                    <p:nvSpPr>
                      <p:cNvPr id="291" name="Rectangle 57"/>
                      <p:cNvSpPr/>
                      <p:nvPr/>
                    </p:nvSpPr>
                    <p:spPr>
                      <a:xfrm>
                        <a:off x="4660560" y="167508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2" name="Rectangle 58"/>
                      <p:cNvSpPr/>
                      <p:nvPr/>
                    </p:nvSpPr>
                    <p:spPr>
                      <a:xfrm>
                        <a:off x="4982760" y="167508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3" name="Rectangle 59"/>
                      <p:cNvSpPr/>
                      <p:nvPr/>
                    </p:nvSpPr>
                    <p:spPr>
                      <a:xfrm>
                        <a:off x="5362920" y="167508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4" name="Rectangle 60"/>
                      <p:cNvSpPr/>
                      <p:nvPr/>
                    </p:nvSpPr>
                    <p:spPr>
                      <a:xfrm>
                        <a:off x="5766120" y="167508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5" name="Rectangle 61"/>
                      <p:cNvSpPr/>
                      <p:nvPr/>
                    </p:nvSpPr>
                    <p:spPr>
                      <a:xfrm>
                        <a:off x="4660560" y="184968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6" name="Rectangle 62"/>
                      <p:cNvSpPr/>
                      <p:nvPr/>
                    </p:nvSpPr>
                    <p:spPr>
                      <a:xfrm>
                        <a:off x="4982760" y="184968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6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</a:t>
                        </a: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OM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7" name="Rectangle 63"/>
                      <p:cNvSpPr/>
                      <p:nvPr/>
                    </p:nvSpPr>
                    <p:spPr>
                      <a:xfrm>
                        <a:off x="5362920" y="184968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2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8" name="Rectangle 64"/>
                      <p:cNvSpPr/>
                      <p:nvPr/>
                    </p:nvSpPr>
                    <p:spPr>
                      <a:xfrm>
                        <a:off x="5766120" y="184968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9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9" name="Rectangle 65"/>
                      <p:cNvSpPr/>
                      <p:nvPr/>
                    </p:nvSpPr>
                    <p:spPr>
                      <a:xfrm>
                        <a:off x="4660560" y="2024280"/>
                        <a:ext cx="322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0" name="Rectangle 66"/>
                      <p:cNvSpPr/>
                      <p:nvPr/>
                    </p:nvSpPr>
                    <p:spPr>
                      <a:xfrm>
                        <a:off x="4982760" y="2024280"/>
                        <a:ext cx="37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N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1" name="Rectangle 67"/>
                      <p:cNvSpPr/>
                      <p:nvPr/>
                    </p:nvSpPr>
                    <p:spPr>
                      <a:xfrm>
                        <a:off x="5362920" y="2024280"/>
                        <a:ext cx="403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2" name="Rectangle 68"/>
                      <p:cNvSpPr/>
                      <p:nvPr/>
                    </p:nvSpPr>
                    <p:spPr>
                      <a:xfrm>
                        <a:off x="5766120" y="2024280"/>
                        <a:ext cx="46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3" name="Rectangle 69"/>
                      <p:cNvSpPr/>
                      <p:nvPr/>
                    </p:nvSpPr>
                    <p:spPr>
                      <a:xfrm>
                        <a:off x="4660560" y="219924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4" name="Rectangle 70"/>
                      <p:cNvSpPr/>
                      <p:nvPr/>
                    </p:nvSpPr>
                    <p:spPr>
                      <a:xfrm>
                        <a:off x="4982760" y="219924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OR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5" name="Rectangle 71"/>
                      <p:cNvSpPr/>
                      <p:nvPr/>
                    </p:nvSpPr>
                    <p:spPr>
                      <a:xfrm>
                        <a:off x="5362920" y="219924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6" name="Rectangle 72"/>
                      <p:cNvSpPr/>
                      <p:nvPr/>
                    </p:nvSpPr>
                    <p:spPr>
                      <a:xfrm>
                        <a:off x="5766120" y="219924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7" name="Rectangle 73"/>
                      <p:cNvSpPr/>
                      <p:nvPr/>
                    </p:nvSpPr>
                    <p:spPr>
                      <a:xfrm>
                        <a:off x="4660560" y="237384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8" name="Rectangle 74"/>
                      <p:cNvSpPr/>
                      <p:nvPr/>
                    </p:nvSpPr>
                    <p:spPr>
                      <a:xfrm>
                        <a:off x="4982760" y="237384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E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09" name="Rectangle 75"/>
                      <p:cNvSpPr/>
                      <p:nvPr/>
                    </p:nvSpPr>
                    <p:spPr>
                      <a:xfrm>
                        <a:off x="5362920" y="237384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0" name="Rectangle 76"/>
                      <p:cNvSpPr/>
                      <p:nvPr/>
                    </p:nvSpPr>
                    <p:spPr>
                      <a:xfrm>
                        <a:off x="5766120" y="237384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1" name="Rectangle 77"/>
                      <p:cNvSpPr/>
                      <p:nvPr/>
                    </p:nvSpPr>
                    <p:spPr>
                      <a:xfrm>
                        <a:off x="4660560" y="254844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2" name="Rectangle 78"/>
                      <p:cNvSpPr/>
                      <p:nvPr/>
                    </p:nvSpPr>
                    <p:spPr>
                      <a:xfrm>
                        <a:off x="4982760" y="254844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NFO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3" name="Rectangle 79"/>
                      <p:cNvSpPr/>
                      <p:nvPr/>
                    </p:nvSpPr>
                    <p:spPr>
                      <a:xfrm>
                        <a:off x="5362920" y="254844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4" name="Rectangle 80"/>
                      <p:cNvSpPr/>
                      <p:nvPr/>
                    </p:nvSpPr>
                    <p:spPr>
                      <a:xfrm>
                        <a:off x="5766120" y="254844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5" name="Rectangle 81"/>
                      <p:cNvSpPr/>
                      <p:nvPr/>
                    </p:nvSpPr>
                    <p:spPr>
                      <a:xfrm>
                        <a:off x="4660560" y="2723040"/>
                        <a:ext cx="322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6" name="Rectangle 82"/>
                      <p:cNvSpPr/>
                      <p:nvPr/>
                    </p:nvSpPr>
                    <p:spPr>
                      <a:xfrm>
                        <a:off x="4982760" y="2723040"/>
                        <a:ext cx="37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7" name="Rectangle 83"/>
                      <p:cNvSpPr/>
                      <p:nvPr/>
                    </p:nvSpPr>
                    <p:spPr>
                      <a:xfrm>
                        <a:off x="5362920" y="2723040"/>
                        <a:ext cx="4032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8" name="Rectangle 84"/>
                      <p:cNvSpPr/>
                      <p:nvPr/>
                    </p:nvSpPr>
                    <p:spPr>
                      <a:xfrm>
                        <a:off x="5766120" y="2723040"/>
                        <a:ext cx="46980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9" name="Rectangle 85"/>
                      <p:cNvSpPr/>
                      <p:nvPr/>
                    </p:nvSpPr>
                    <p:spPr>
                      <a:xfrm>
                        <a:off x="4660560" y="2898000"/>
                        <a:ext cx="322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0" name="Rectangle 86"/>
                      <p:cNvSpPr/>
                      <p:nvPr/>
                    </p:nvSpPr>
                    <p:spPr>
                      <a:xfrm>
                        <a:off x="4982760" y="2898000"/>
                        <a:ext cx="37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U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1" name="Rectangle 87"/>
                      <p:cNvSpPr/>
                      <p:nvPr/>
                    </p:nvSpPr>
                    <p:spPr>
                      <a:xfrm>
                        <a:off x="5362920" y="2898000"/>
                        <a:ext cx="4032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2" name="Rectangle 88"/>
                      <p:cNvSpPr/>
                      <p:nvPr/>
                    </p:nvSpPr>
                    <p:spPr>
                      <a:xfrm>
                        <a:off x="5766120" y="2898000"/>
                        <a:ext cx="46980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23" name="Rectangle 89"/>
                    <p:cNvSpPr/>
                    <p:nvPr/>
                  </p:nvSpPr>
                  <p:spPr>
                    <a:xfrm>
                      <a:off x="6236280" y="1675080"/>
                      <a:ext cx="2902680" cy="201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4" name="Rectangle 90"/>
                    <p:cNvSpPr/>
                    <p:nvPr/>
                  </p:nvSpPr>
                  <p:spPr>
                    <a:xfrm>
                      <a:off x="4660560" y="3688560"/>
                      <a:ext cx="4478760" cy="18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 Total Domain Nam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25" name="Rectangle 91"/>
                  <p:cNvSpPr/>
                  <p:nvPr/>
                </p:nvSpPr>
                <p:spPr>
                  <a:xfrm>
                    <a:off x="4660560" y="1164600"/>
                    <a:ext cx="4478760" cy="271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26" name="Rectangle 92"/>
                <p:cNvSpPr/>
                <p:nvPr/>
              </p:nvSpPr>
              <p:spPr>
                <a:xfrm>
                  <a:off x="4656240" y="1160640"/>
                  <a:ext cx="4487760" cy="27208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27" name="Rectangle 93"/>
              <p:cNvSpPr/>
              <p:nvPr/>
            </p:nvSpPr>
            <p:spPr>
              <a:xfrm>
                <a:off x="4656240" y="1160640"/>
                <a:ext cx="4487760" cy="27208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328" name="Picture 94" descr="color0"/>
            <p:cNvPicPr/>
            <p:nvPr/>
          </p:nvPicPr>
          <p:blipFill>
            <a:blip r:embed="rId7"/>
            <a:stretch/>
          </p:blipFill>
          <p:spPr>
            <a:xfrm>
              <a:off x="4772880" y="189036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95" descr="color1"/>
            <p:cNvPicPr/>
            <p:nvPr/>
          </p:nvPicPr>
          <p:blipFill>
            <a:blip r:embed="rId8"/>
            <a:stretch/>
          </p:blipFill>
          <p:spPr>
            <a:xfrm>
              <a:off x="4772880" y="206496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96" descr="color2"/>
            <p:cNvPicPr/>
            <p:nvPr/>
          </p:nvPicPr>
          <p:blipFill>
            <a:blip r:embed="rId9"/>
            <a:stretch/>
          </p:blipFill>
          <p:spPr>
            <a:xfrm>
              <a:off x="4772880" y="2239920"/>
              <a:ext cx="10944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97" descr="color3"/>
            <p:cNvPicPr/>
            <p:nvPr/>
          </p:nvPicPr>
          <p:blipFill>
            <a:blip r:embed="rId10"/>
            <a:stretch/>
          </p:blipFill>
          <p:spPr>
            <a:xfrm>
              <a:off x="4772880" y="2414880"/>
              <a:ext cx="10944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98" descr="color4"/>
            <p:cNvPicPr/>
            <p:nvPr/>
          </p:nvPicPr>
          <p:blipFill>
            <a:blip r:embed="rId11"/>
            <a:stretch/>
          </p:blipFill>
          <p:spPr>
            <a:xfrm>
              <a:off x="4772880" y="258948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99" descr="color5"/>
            <p:cNvPicPr/>
            <p:nvPr/>
          </p:nvPicPr>
          <p:blipFill>
            <a:blip r:embed="rId12"/>
            <a:stretch/>
          </p:blipFill>
          <p:spPr>
            <a:xfrm>
              <a:off x="4772880" y="2764080"/>
              <a:ext cx="109440" cy="1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00" descr="color6"/>
            <p:cNvPicPr/>
            <p:nvPr/>
          </p:nvPicPr>
          <p:blipFill>
            <a:blip r:embed="rId13"/>
            <a:stretch/>
          </p:blipFill>
          <p:spPr>
            <a:xfrm>
              <a:off x="4772880" y="2939040"/>
              <a:ext cx="109440" cy="1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01" descr="piechart"/>
            <p:cNvPicPr/>
            <p:nvPr/>
          </p:nvPicPr>
          <p:blipFill>
            <a:blip r:embed="rId14"/>
            <a:stretch/>
          </p:blipFill>
          <p:spPr>
            <a:xfrm>
              <a:off x="6349320" y="1715760"/>
              <a:ext cx="219060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102"/>
          <p:cNvGrpSpPr/>
          <p:nvPr/>
        </p:nvGrpSpPr>
        <p:grpSpPr>
          <a:xfrm>
            <a:off x="0" y="3890880"/>
            <a:ext cx="4656240" cy="2967120"/>
            <a:chOff x="0" y="3890880"/>
            <a:chExt cx="4656240" cy="2967120"/>
          </a:xfrm>
        </p:grpSpPr>
        <p:grpSp>
          <p:nvGrpSpPr>
            <p:cNvPr id="337" name="Group 103"/>
            <p:cNvGrpSpPr/>
            <p:nvPr/>
          </p:nvGrpSpPr>
          <p:grpSpPr>
            <a:xfrm>
              <a:off x="0" y="3890880"/>
              <a:ext cx="4656240" cy="2967120"/>
              <a:chOff x="0" y="3890880"/>
              <a:chExt cx="4656240" cy="2967120"/>
            </a:xfrm>
          </p:grpSpPr>
          <p:grpSp>
            <p:nvGrpSpPr>
              <p:cNvPr id="338" name="Group 104"/>
              <p:cNvGrpSpPr/>
              <p:nvPr/>
            </p:nvGrpSpPr>
            <p:grpSpPr>
              <a:xfrm>
                <a:off x="0" y="3890880"/>
                <a:ext cx="4656240" cy="2967120"/>
                <a:chOff x="0" y="3890880"/>
                <a:chExt cx="4656240" cy="2967120"/>
              </a:xfrm>
            </p:grpSpPr>
            <p:grpSp>
              <p:nvGrpSpPr>
                <p:cNvPr id="339" name="Group 105"/>
                <p:cNvGrpSpPr/>
                <p:nvPr/>
              </p:nvGrpSpPr>
              <p:grpSpPr>
                <a:xfrm>
                  <a:off x="4320" y="3895200"/>
                  <a:ext cx="4647240" cy="2958120"/>
                  <a:chOff x="4320" y="3895200"/>
                  <a:chExt cx="4647240" cy="2958120"/>
                </a:xfrm>
              </p:grpSpPr>
              <p:grpSp>
                <p:nvGrpSpPr>
                  <p:cNvPr id="340" name="Group 106"/>
                  <p:cNvGrpSpPr/>
                  <p:nvPr/>
                </p:nvGrpSpPr>
                <p:grpSpPr>
                  <a:xfrm>
                    <a:off x="4320" y="3895200"/>
                    <a:ext cx="4647240" cy="2957760"/>
                    <a:chOff x="4320" y="3895200"/>
                    <a:chExt cx="4647240" cy="2957760"/>
                  </a:xfrm>
                </p:grpSpPr>
                <p:sp>
                  <p:nvSpPr>
                    <p:cNvPr id="341" name="Rectangle 107"/>
                    <p:cNvSpPr/>
                    <p:nvPr/>
                  </p:nvSpPr>
                  <p:spPr>
                    <a:xfrm>
                      <a:off x="4320" y="3895200"/>
                      <a:ext cx="4647240" cy="263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me Page Content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2" name="Rectangle 108"/>
                    <p:cNvSpPr/>
                    <p:nvPr/>
                  </p:nvSpPr>
                  <p:spPr>
                    <a:xfrm>
                      <a:off x="4320" y="4158720"/>
                      <a:ext cx="4647240" cy="29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home page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site category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43" name="Group 109"/>
                    <p:cNvGrpSpPr/>
                    <p:nvPr/>
                  </p:nvGrpSpPr>
                  <p:grpSpPr>
                    <a:xfrm>
                      <a:off x="4320" y="4451760"/>
                      <a:ext cx="1807560" cy="1143000"/>
                      <a:chOff x="4320" y="4451760"/>
                      <a:chExt cx="1807560" cy="1143000"/>
                    </a:xfrm>
                  </p:grpSpPr>
                  <p:sp>
                    <p:nvSpPr>
                      <p:cNvPr id="344" name="Rectangle 110"/>
                      <p:cNvSpPr/>
                      <p:nvPr/>
                    </p:nvSpPr>
                    <p:spPr>
                      <a:xfrm>
                        <a:off x="4320" y="445176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5" name="Rectangle 111"/>
                      <p:cNvSpPr/>
                      <p:nvPr/>
                    </p:nvSpPr>
                    <p:spPr>
                      <a:xfrm>
                        <a:off x="319680" y="445176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6" name="Rectangle 112"/>
                      <p:cNvSpPr/>
                      <p:nvPr/>
                    </p:nvSpPr>
                    <p:spPr>
                      <a:xfrm>
                        <a:off x="957960" y="445176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7" name="Rectangle 113"/>
                      <p:cNvSpPr/>
                      <p:nvPr/>
                    </p:nvSpPr>
                    <p:spPr>
                      <a:xfrm>
                        <a:off x="1352160" y="445176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8" name="Rectangle 114"/>
                      <p:cNvSpPr/>
                      <p:nvPr/>
                    </p:nvSpPr>
                    <p:spPr>
                      <a:xfrm>
                        <a:off x="4320" y="464220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9" name="Rectangle 115"/>
                      <p:cNvSpPr/>
                      <p:nvPr/>
                    </p:nvSpPr>
                    <p:spPr>
                      <a:xfrm>
                        <a:off x="319680" y="464220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nventional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0" name="Rectangle 116"/>
                      <p:cNvSpPr/>
                      <p:nvPr/>
                    </p:nvSpPr>
                    <p:spPr>
                      <a:xfrm>
                        <a:off x="957960" y="464220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66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1" name="Rectangle 117"/>
                      <p:cNvSpPr/>
                      <p:nvPr/>
                    </p:nvSpPr>
                    <p:spPr>
                      <a:xfrm>
                        <a:off x="1352160" y="464220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99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2" name="Rectangle 118"/>
                      <p:cNvSpPr/>
                      <p:nvPr/>
                    </p:nvSpPr>
                    <p:spPr>
                      <a:xfrm>
                        <a:off x="4320" y="4832640"/>
                        <a:ext cx="31536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3" name="Rectangle 119"/>
                      <p:cNvSpPr/>
                      <p:nvPr/>
                    </p:nvSpPr>
                    <p:spPr>
                      <a:xfrm>
                        <a:off x="319680" y="4832640"/>
                        <a:ext cx="63828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orn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4" name="Rectangle 120"/>
                      <p:cNvSpPr/>
                      <p:nvPr/>
                    </p:nvSpPr>
                    <p:spPr>
                      <a:xfrm>
                        <a:off x="957960" y="4832640"/>
                        <a:ext cx="39384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2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5" name="Rectangle 121"/>
                      <p:cNvSpPr/>
                      <p:nvPr/>
                    </p:nvSpPr>
                    <p:spPr>
                      <a:xfrm>
                        <a:off x="1352160" y="4832640"/>
                        <a:ext cx="45972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6" name="Rectangle 122"/>
                      <p:cNvSpPr/>
                      <p:nvPr/>
                    </p:nvSpPr>
                    <p:spPr>
                      <a:xfrm>
                        <a:off x="4320" y="502344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Rectangle 123"/>
                      <p:cNvSpPr/>
                      <p:nvPr/>
                    </p:nvSpPr>
                    <p:spPr>
                      <a:xfrm>
                        <a:off x="319680" y="502344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violenc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8" name="Rectangle 124"/>
                      <p:cNvSpPr/>
                      <p:nvPr/>
                    </p:nvSpPr>
                    <p:spPr>
                      <a:xfrm>
                        <a:off x="957960" y="502344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9" name="Rectangle 125"/>
                      <p:cNvSpPr/>
                      <p:nvPr/>
                    </p:nvSpPr>
                    <p:spPr>
                      <a:xfrm>
                        <a:off x="1352160" y="502344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Rectangle 126"/>
                      <p:cNvSpPr/>
                      <p:nvPr/>
                    </p:nvSpPr>
                    <p:spPr>
                      <a:xfrm>
                        <a:off x="4320" y="521388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1" name="Rectangle 127"/>
                      <p:cNvSpPr/>
                      <p:nvPr/>
                    </p:nvSpPr>
                    <p:spPr>
                      <a:xfrm>
                        <a:off x="319680" y="521388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gamblin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2" name="Rectangle 128"/>
                      <p:cNvSpPr/>
                      <p:nvPr/>
                    </p:nvSpPr>
                    <p:spPr>
                      <a:xfrm>
                        <a:off x="957960" y="521388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Rectangle 129"/>
                      <p:cNvSpPr/>
                      <p:nvPr/>
                    </p:nvSpPr>
                    <p:spPr>
                      <a:xfrm>
                        <a:off x="1352160" y="521388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4" name="Rectangle 130"/>
                      <p:cNvSpPr/>
                      <p:nvPr/>
                    </p:nvSpPr>
                    <p:spPr>
                      <a:xfrm>
                        <a:off x="4320" y="540432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5" name="Rectangle 131"/>
                      <p:cNvSpPr/>
                      <p:nvPr/>
                    </p:nvSpPr>
                    <p:spPr>
                      <a:xfrm>
                        <a:off x="319680" y="540432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hat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Rectangle 132"/>
                      <p:cNvSpPr/>
                      <p:nvPr/>
                    </p:nvSpPr>
                    <p:spPr>
                      <a:xfrm>
                        <a:off x="957960" y="540432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7" name="Rectangle 133"/>
                      <p:cNvSpPr/>
                      <p:nvPr/>
                    </p:nvSpPr>
                    <p:spPr>
                      <a:xfrm>
                        <a:off x="1352160" y="540432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68" name="Rectangle 134"/>
                    <p:cNvSpPr/>
                    <p:nvPr/>
                  </p:nvSpPr>
                  <p:spPr>
                    <a:xfrm>
                      <a:off x="1812240" y="4451760"/>
                      <a:ext cx="2838960" cy="219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9" name="Rectangle 135"/>
                    <p:cNvSpPr/>
                    <p:nvPr/>
                  </p:nvSpPr>
                  <p:spPr>
                    <a:xfrm>
                      <a:off x="4320" y="6647400"/>
                      <a:ext cx="4647240" cy="20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80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70" name="Rectangle 136"/>
                  <p:cNvSpPr/>
                  <p:nvPr/>
                </p:nvSpPr>
                <p:spPr>
                  <a:xfrm>
                    <a:off x="4320" y="3895200"/>
                    <a:ext cx="4647240" cy="295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71" name="Rectangle 137"/>
                <p:cNvSpPr/>
                <p:nvPr/>
              </p:nvSpPr>
              <p:spPr>
                <a:xfrm>
                  <a:off x="0" y="3890880"/>
                  <a:ext cx="4656240" cy="296712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" name="Rectangle 138"/>
              <p:cNvSpPr/>
              <p:nvPr/>
            </p:nvSpPr>
            <p:spPr>
              <a:xfrm>
                <a:off x="0" y="3890880"/>
                <a:ext cx="4656240" cy="296712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373" name="Picture 139" descr="color0"/>
            <p:cNvPicPr/>
            <p:nvPr/>
          </p:nvPicPr>
          <p:blipFill>
            <a:blip r:embed="rId15"/>
            <a:stretch/>
          </p:blipFill>
          <p:spPr>
            <a:xfrm>
              <a:off x="114480" y="468648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40" descr="color1"/>
            <p:cNvPicPr/>
            <p:nvPr/>
          </p:nvPicPr>
          <p:blipFill>
            <a:blip r:embed="rId16"/>
            <a:stretch/>
          </p:blipFill>
          <p:spPr>
            <a:xfrm>
              <a:off x="114480" y="487692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41" descr="color2"/>
            <p:cNvPicPr/>
            <p:nvPr/>
          </p:nvPicPr>
          <p:blipFill>
            <a:blip r:embed="rId17"/>
            <a:stretch/>
          </p:blipFill>
          <p:spPr>
            <a:xfrm>
              <a:off x="114480" y="506808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42" descr="color3"/>
            <p:cNvPicPr/>
            <p:nvPr/>
          </p:nvPicPr>
          <p:blipFill>
            <a:blip r:embed="rId18"/>
            <a:stretch/>
          </p:blipFill>
          <p:spPr>
            <a:xfrm>
              <a:off x="114480" y="525852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43" descr="color4"/>
            <p:cNvPicPr/>
            <p:nvPr/>
          </p:nvPicPr>
          <p:blipFill>
            <a:blip r:embed="rId19"/>
            <a:stretch/>
          </p:blipFill>
          <p:spPr>
            <a:xfrm>
              <a:off x="114480" y="544896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44" descr="barchart"/>
            <p:cNvPicPr/>
            <p:nvPr/>
          </p:nvPicPr>
          <p:blipFill>
            <a:blip r:embed="rId20"/>
            <a:stretch/>
          </p:blipFill>
          <p:spPr>
            <a:xfrm>
              <a:off x="1922760" y="4496040"/>
              <a:ext cx="2142720" cy="21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B9CE-C643-46E1-9626-2036C9B91751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1120" y="25560"/>
            <a:ext cx="810252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nline Brand Analysis Repor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Hong Kong Tou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656240" y="3900600"/>
            <a:ext cx="4487760" cy="26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arch Mechanism: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rawling 40 million+ registered domains and 20 million+  home pages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arch each domain and  analyze the content of the sites to determine if the site conducting eCommerce, contain objectionable content, site alive, etc…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nitor if the brand name appears in either the domain, site title, meta tags, text/ link/ logo on the home page for each of the sites.  If there is a hit, one count is recorded for that specific category (i.e. porn, hate, gambling, ....). 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se are highly relevant information.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7201080" y="711360"/>
            <a:ext cx="1612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…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.. May 22, 2003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384" name="Group 6"/>
          <p:cNvGrpSpPr/>
          <p:nvPr/>
        </p:nvGrpSpPr>
        <p:grpSpPr>
          <a:xfrm>
            <a:off x="0" y="1160640"/>
            <a:ext cx="4660920" cy="2739960"/>
            <a:chOff x="0" y="1160640"/>
            <a:chExt cx="4660920" cy="2739960"/>
          </a:xfrm>
        </p:grpSpPr>
        <p:grpSp>
          <p:nvGrpSpPr>
            <p:cNvPr id="385" name="Group 7"/>
            <p:cNvGrpSpPr/>
            <p:nvPr/>
          </p:nvGrpSpPr>
          <p:grpSpPr>
            <a:xfrm>
              <a:off x="0" y="1160640"/>
              <a:ext cx="4660920" cy="2739960"/>
              <a:chOff x="0" y="1160640"/>
              <a:chExt cx="4660920" cy="2739960"/>
            </a:xfrm>
          </p:grpSpPr>
          <p:grpSp>
            <p:nvGrpSpPr>
              <p:cNvPr id="386" name="Group 8"/>
              <p:cNvGrpSpPr/>
              <p:nvPr/>
            </p:nvGrpSpPr>
            <p:grpSpPr>
              <a:xfrm>
                <a:off x="0" y="1160640"/>
                <a:ext cx="4660920" cy="2739960"/>
                <a:chOff x="0" y="1160640"/>
                <a:chExt cx="4660920" cy="2739960"/>
              </a:xfrm>
            </p:grpSpPr>
            <p:grpSp>
              <p:nvGrpSpPr>
                <p:cNvPr id="387" name="Group 9"/>
                <p:cNvGrpSpPr/>
                <p:nvPr/>
              </p:nvGrpSpPr>
              <p:grpSpPr>
                <a:xfrm>
                  <a:off x="4320" y="1164600"/>
                  <a:ext cx="4651560" cy="2731680"/>
                  <a:chOff x="4320" y="1164600"/>
                  <a:chExt cx="4651560" cy="2731680"/>
                </a:xfrm>
              </p:grpSpPr>
              <p:grpSp>
                <p:nvGrpSpPr>
                  <p:cNvPr id="388" name="Group 10"/>
                  <p:cNvGrpSpPr/>
                  <p:nvPr/>
                </p:nvGrpSpPr>
                <p:grpSpPr>
                  <a:xfrm>
                    <a:off x="4320" y="1164600"/>
                    <a:ext cx="4651560" cy="2731320"/>
                    <a:chOff x="4320" y="1164600"/>
                    <a:chExt cx="4651560" cy="2731320"/>
                  </a:xfrm>
                </p:grpSpPr>
                <p:sp>
                  <p:nvSpPr>
                    <p:cNvPr id="389" name="Rectangle 11"/>
                    <p:cNvSpPr/>
                    <p:nvPr/>
                  </p:nvSpPr>
                  <p:spPr>
                    <a:xfrm>
                      <a:off x="4320" y="1164600"/>
                      <a:ext cx="4651560" cy="243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Presence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0" name="Rectangle 12"/>
                    <p:cNvSpPr/>
                    <p:nvPr/>
                  </p:nvSpPr>
                  <p:spPr>
                    <a:xfrm>
                      <a:off x="4320" y="1407960"/>
                      <a:ext cx="4651560" cy="27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is present within the following parts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f home pages.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91" name="Group 13"/>
                    <p:cNvGrpSpPr/>
                    <p:nvPr/>
                  </p:nvGrpSpPr>
                  <p:grpSpPr>
                    <a:xfrm>
                      <a:off x="4320" y="1678680"/>
                      <a:ext cx="1654560" cy="1055520"/>
                      <a:chOff x="4320" y="1678680"/>
                      <a:chExt cx="1654560" cy="1055520"/>
                    </a:xfrm>
                  </p:grpSpPr>
                  <p:sp>
                    <p:nvSpPr>
                      <p:cNvPr id="392" name="Rectangle 14"/>
                      <p:cNvSpPr/>
                      <p:nvPr/>
                    </p:nvSpPr>
                    <p:spPr>
                      <a:xfrm>
                        <a:off x="4320" y="167868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3" name="Rectangle 15"/>
                      <p:cNvSpPr/>
                      <p:nvPr/>
                    </p:nvSpPr>
                    <p:spPr>
                      <a:xfrm>
                        <a:off x="336960" y="167868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4" name="Rectangle 16"/>
                      <p:cNvSpPr/>
                      <p:nvPr/>
                    </p:nvSpPr>
                    <p:spPr>
                      <a:xfrm>
                        <a:off x="757800" y="167868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5" name="Rectangle 17"/>
                      <p:cNvSpPr/>
                      <p:nvPr/>
                    </p:nvSpPr>
                    <p:spPr>
                      <a:xfrm>
                        <a:off x="1173600" y="167868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Rectangle 18"/>
                      <p:cNvSpPr/>
                      <p:nvPr/>
                    </p:nvSpPr>
                    <p:spPr>
                      <a:xfrm>
                        <a:off x="4320" y="185436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7" name="Rectangle 19"/>
                      <p:cNvSpPr/>
                      <p:nvPr/>
                    </p:nvSpPr>
                    <p:spPr>
                      <a:xfrm>
                        <a:off x="336960" y="185436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body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8" name="Rectangle 20"/>
                      <p:cNvSpPr/>
                      <p:nvPr/>
                    </p:nvSpPr>
                    <p:spPr>
                      <a:xfrm>
                        <a:off x="757800" y="185436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000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9" name="Rectangle 21"/>
                      <p:cNvSpPr/>
                      <p:nvPr/>
                    </p:nvSpPr>
                    <p:spPr>
                      <a:xfrm>
                        <a:off x="1173600" y="185436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4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0" name="Rectangle 22"/>
                      <p:cNvSpPr/>
                      <p:nvPr/>
                    </p:nvSpPr>
                    <p:spPr>
                      <a:xfrm>
                        <a:off x="4320" y="2030400"/>
                        <a:ext cx="33264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1" name="Rectangle 23"/>
                      <p:cNvSpPr/>
                      <p:nvPr/>
                    </p:nvSpPr>
                    <p:spPr>
                      <a:xfrm>
                        <a:off x="336960" y="2030400"/>
                        <a:ext cx="42084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lin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2" name="Rectangle 24"/>
                      <p:cNvSpPr/>
                      <p:nvPr/>
                    </p:nvSpPr>
                    <p:spPr>
                      <a:xfrm>
                        <a:off x="757800" y="2030400"/>
                        <a:ext cx="415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03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3" name="Rectangle 25"/>
                      <p:cNvSpPr/>
                      <p:nvPr/>
                    </p:nvSpPr>
                    <p:spPr>
                      <a:xfrm>
                        <a:off x="1173600" y="2030400"/>
                        <a:ext cx="48528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4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4" name="Rectangle 26"/>
                      <p:cNvSpPr/>
                      <p:nvPr/>
                    </p:nvSpPr>
                    <p:spPr>
                      <a:xfrm>
                        <a:off x="4320" y="220680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5" name="Rectangle 27"/>
                      <p:cNvSpPr/>
                      <p:nvPr/>
                    </p:nvSpPr>
                    <p:spPr>
                      <a:xfrm>
                        <a:off x="336960" y="220680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meta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6" name="Rectangle 28"/>
                      <p:cNvSpPr/>
                      <p:nvPr/>
                    </p:nvSpPr>
                    <p:spPr>
                      <a:xfrm>
                        <a:off x="757800" y="220680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3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7" name="Rectangle 29"/>
                      <p:cNvSpPr/>
                      <p:nvPr/>
                    </p:nvSpPr>
                    <p:spPr>
                      <a:xfrm>
                        <a:off x="1173600" y="220680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8" name="Rectangle 30"/>
                      <p:cNvSpPr/>
                      <p:nvPr/>
                    </p:nvSpPr>
                    <p:spPr>
                      <a:xfrm>
                        <a:off x="4320" y="238248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9" name="Rectangle 31"/>
                      <p:cNvSpPr/>
                      <p:nvPr/>
                    </p:nvSpPr>
                    <p:spPr>
                      <a:xfrm>
                        <a:off x="336960" y="238248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mag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0" name="Rectangle 32"/>
                      <p:cNvSpPr/>
                      <p:nvPr/>
                    </p:nvSpPr>
                    <p:spPr>
                      <a:xfrm>
                        <a:off x="757800" y="238248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06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1" name="Rectangle 33"/>
                      <p:cNvSpPr/>
                      <p:nvPr/>
                    </p:nvSpPr>
                    <p:spPr>
                      <a:xfrm>
                        <a:off x="1173600" y="238248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2" name="Rectangle 34"/>
                      <p:cNvSpPr/>
                      <p:nvPr/>
                    </p:nvSpPr>
                    <p:spPr>
                      <a:xfrm>
                        <a:off x="4320" y="2558520"/>
                        <a:ext cx="3326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3" name="Rectangle 35"/>
                      <p:cNvSpPr/>
                      <p:nvPr/>
                    </p:nvSpPr>
                    <p:spPr>
                      <a:xfrm>
                        <a:off x="336960" y="2558520"/>
                        <a:ext cx="42084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titl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4" name="Rectangle 36"/>
                      <p:cNvSpPr/>
                      <p:nvPr/>
                    </p:nvSpPr>
                    <p:spPr>
                      <a:xfrm>
                        <a:off x="757800" y="2558520"/>
                        <a:ext cx="415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4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5" name="Rectangle 37"/>
                      <p:cNvSpPr/>
                      <p:nvPr/>
                    </p:nvSpPr>
                    <p:spPr>
                      <a:xfrm>
                        <a:off x="1173600" y="2558520"/>
                        <a:ext cx="48528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16" name="Rectangle 38"/>
                    <p:cNvSpPr/>
                    <p:nvPr/>
                  </p:nvSpPr>
                  <p:spPr>
                    <a:xfrm>
                      <a:off x="1659240" y="1678680"/>
                      <a:ext cx="2996280" cy="202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7" name="Rectangle 39"/>
                    <p:cNvSpPr/>
                    <p:nvPr/>
                  </p:nvSpPr>
                  <p:spPr>
                    <a:xfrm>
                      <a:off x="4320" y="3706200"/>
                      <a:ext cx="465156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22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18" name="Rectangle 40"/>
                  <p:cNvSpPr/>
                  <p:nvPr/>
                </p:nvSpPr>
                <p:spPr>
                  <a:xfrm>
                    <a:off x="4320" y="1164600"/>
                    <a:ext cx="4651560" cy="273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9" name="Rectangle 41"/>
                <p:cNvSpPr/>
                <p:nvPr/>
              </p:nvSpPr>
              <p:spPr>
                <a:xfrm>
                  <a:off x="0" y="1160640"/>
                  <a:ext cx="4660920" cy="27399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0" name="Rectangle 42"/>
              <p:cNvSpPr/>
              <p:nvPr/>
            </p:nvSpPr>
            <p:spPr>
              <a:xfrm>
                <a:off x="0" y="1160640"/>
                <a:ext cx="4660920" cy="273996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421" name="Picture 43" descr="color0"/>
            <p:cNvPicPr/>
            <p:nvPr/>
          </p:nvPicPr>
          <p:blipFill>
            <a:blip r:embed="rId1"/>
            <a:stretch/>
          </p:blipFill>
          <p:spPr>
            <a:xfrm>
              <a:off x="120960" y="1895400"/>
              <a:ext cx="1126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4" descr="color1"/>
            <p:cNvPicPr/>
            <p:nvPr/>
          </p:nvPicPr>
          <p:blipFill>
            <a:blip r:embed="rId2"/>
            <a:stretch/>
          </p:blipFill>
          <p:spPr>
            <a:xfrm>
              <a:off x="120960" y="2071440"/>
              <a:ext cx="1126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45" descr="color2"/>
            <p:cNvPicPr/>
            <p:nvPr/>
          </p:nvPicPr>
          <p:blipFill>
            <a:blip r:embed="rId3"/>
            <a:stretch/>
          </p:blipFill>
          <p:spPr>
            <a:xfrm>
              <a:off x="120960" y="2247480"/>
              <a:ext cx="11268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46" descr="color3"/>
            <p:cNvPicPr/>
            <p:nvPr/>
          </p:nvPicPr>
          <p:blipFill>
            <a:blip r:embed="rId4"/>
            <a:stretch/>
          </p:blipFill>
          <p:spPr>
            <a:xfrm>
              <a:off x="120960" y="2423520"/>
              <a:ext cx="11268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7" descr="color4"/>
            <p:cNvPicPr/>
            <p:nvPr/>
          </p:nvPicPr>
          <p:blipFill>
            <a:blip r:embed="rId5"/>
            <a:stretch/>
          </p:blipFill>
          <p:spPr>
            <a:xfrm>
              <a:off x="120960" y="2599560"/>
              <a:ext cx="11268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barchart"/>
            <p:cNvPicPr/>
            <p:nvPr/>
          </p:nvPicPr>
          <p:blipFill>
            <a:blip r:embed="rId6"/>
            <a:stretch/>
          </p:blipFill>
          <p:spPr>
            <a:xfrm>
              <a:off x="1775880" y="1719360"/>
              <a:ext cx="2261160" cy="202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49"/>
          <p:cNvGrpSpPr/>
          <p:nvPr/>
        </p:nvGrpSpPr>
        <p:grpSpPr>
          <a:xfrm>
            <a:off x="4656240" y="1160640"/>
            <a:ext cx="4487760" cy="2739960"/>
            <a:chOff x="4656240" y="1160640"/>
            <a:chExt cx="4487760" cy="2739960"/>
          </a:xfrm>
        </p:grpSpPr>
        <p:grpSp>
          <p:nvGrpSpPr>
            <p:cNvPr id="428" name="Group 50"/>
            <p:cNvGrpSpPr/>
            <p:nvPr/>
          </p:nvGrpSpPr>
          <p:grpSpPr>
            <a:xfrm>
              <a:off x="4656240" y="1160640"/>
              <a:ext cx="4487760" cy="2739960"/>
              <a:chOff x="4656240" y="1160640"/>
              <a:chExt cx="4487760" cy="2739960"/>
            </a:xfrm>
          </p:grpSpPr>
          <p:grpSp>
            <p:nvGrpSpPr>
              <p:cNvPr id="429" name="Group 51"/>
              <p:cNvGrpSpPr/>
              <p:nvPr/>
            </p:nvGrpSpPr>
            <p:grpSpPr>
              <a:xfrm>
                <a:off x="4656240" y="1160640"/>
                <a:ext cx="4487760" cy="2739960"/>
                <a:chOff x="4656240" y="1160640"/>
                <a:chExt cx="4487760" cy="2739960"/>
              </a:xfrm>
            </p:grpSpPr>
            <p:grpSp>
              <p:nvGrpSpPr>
                <p:cNvPr id="430" name="Group 52"/>
                <p:cNvGrpSpPr/>
                <p:nvPr/>
              </p:nvGrpSpPr>
              <p:grpSpPr>
                <a:xfrm>
                  <a:off x="4660560" y="1164600"/>
                  <a:ext cx="4478760" cy="2731680"/>
                  <a:chOff x="4660560" y="1164600"/>
                  <a:chExt cx="4478760" cy="2731680"/>
                </a:xfrm>
              </p:grpSpPr>
              <p:grpSp>
                <p:nvGrpSpPr>
                  <p:cNvPr id="431" name="Group 53"/>
                  <p:cNvGrpSpPr/>
                  <p:nvPr/>
                </p:nvGrpSpPr>
                <p:grpSpPr>
                  <a:xfrm>
                    <a:off x="4660560" y="1164600"/>
                    <a:ext cx="4478760" cy="2731320"/>
                    <a:chOff x="4660560" y="1164600"/>
                    <a:chExt cx="4478760" cy="2731320"/>
                  </a:xfrm>
                </p:grpSpPr>
                <p:sp>
                  <p:nvSpPr>
                    <p:cNvPr id="432" name="Rectangle 54"/>
                    <p:cNvSpPr/>
                    <p:nvPr/>
                  </p:nvSpPr>
                  <p:spPr>
                    <a:xfrm>
                      <a:off x="4660560" y="1164600"/>
                      <a:ext cx="4478760" cy="243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mains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3" name="Rectangle 55"/>
                    <p:cNvSpPr/>
                    <p:nvPr/>
                  </p:nvSpPr>
                  <p:spPr>
                    <a:xfrm>
                      <a:off x="4660560" y="1407960"/>
                      <a:ext cx="4478760" cy="27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domain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TLD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34" name="Group 56"/>
                    <p:cNvGrpSpPr/>
                    <p:nvPr/>
                  </p:nvGrpSpPr>
                  <p:grpSpPr>
                    <a:xfrm>
                      <a:off x="4660560" y="1678680"/>
                      <a:ext cx="1575360" cy="1231200"/>
                      <a:chOff x="4660560" y="1678680"/>
                      <a:chExt cx="1575360" cy="1231200"/>
                    </a:xfrm>
                  </p:grpSpPr>
                  <p:sp>
                    <p:nvSpPr>
                      <p:cNvPr id="435" name="Rectangle 57"/>
                      <p:cNvSpPr/>
                      <p:nvPr/>
                    </p:nvSpPr>
                    <p:spPr>
                      <a:xfrm>
                        <a:off x="4660560" y="167868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6" name="Rectangle 58"/>
                      <p:cNvSpPr/>
                      <p:nvPr/>
                    </p:nvSpPr>
                    <p:spPr>
                      <a:xfrm>
                        <a:off x="4982760" y="167868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7" name="Rectangle 59"/>
                      <p:cNvSpPr/>
                      <p:nvPr/>
                    </p:nvSpPr>
                    <p:spPr>
                      <a:xfrm>
                        <a:off x="5362920" y="167868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8" name="Rectangle 60"/>
                      <p:cNvSpPr/>
                      <p:nvPr/>
                    </p:nvSpPr>
                    <p:spPr>
                      <a:xfrm>
                        <a:off x="5766120" y="167868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9" name="Rectangle 61"/>
                      <p:cNvSpPr/>
                      <p:nvPr/>
                    </p:nvSpPr>
                    <p:spPr>
                      <a:xfrm>
                        <a:off x="4660560" y="185436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0" name="Rectangle 62"/>
                      <p:cNvSpPr/>
                      <p:nvPr/>
                    </p:nvSpPr>
                    <p:spPr>
                      <a:xfrm>
                        <a:off x="4982760" y="185436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M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1" name="Rectangle 63"/>
                      <p:cNvSpPr/>
                      <p:nvPr/>
                    </p:nvSpPr>
                    <p:spPr>
                      <a:xfrm>
                        <a:off x="5362920" y="185436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Rectangle 64"/>
                      <p:cNvSpPr/>
                      <p:nvPr/>
                    </p:nvSpPr>
                    <p:spPr>
                      <a:xfrm>
                        <a:off x="5766120" y="185436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3" name="Rectangle 65"/>
                      <p:cNvSpPr/>
                      <p:nvPr/>
                    </p:nvSpPr>
                    <p:spPr>
                      <a:xfrm>
                        <a:off x="4660560" y="2030040"/>
                        <a:ext cx="322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4" name="Rectangle 66"/>
                      <p:cNvSpPr/>
                      <p:nvPr/>
                    </p:nvSpPr>
                    <p:spPr>
                      <a:xfrm>
                        <a:off x="4982760" y="2030040"/>
                        <a:ext cx="37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INFO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5" name="Rectangle 67"/>
                      <p:cNvSpPr/>
                      <p:nvPr/>
                    </p:nvSpPr>
                    <p:spPr>
                      <a:xfrm>
                        <a:off x="5362920" y="2030040"/>
                        <a:ext cx="403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6" name="Rectangle 68"/>
                      <p:cNvSpPr/>
                      <p:nvPr/>
                    </p:nvSpPr>
                    <p:spPr>
                      <a:xfrm>
                        <a:off x="5766120" y="2030040"/>
                        <a:ext cx="46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7" name="Rectangle 69"/>
                      <p:cNvSpPr/>
                      <p:nvPr/>
                    </p:nvSpPr>
                    <p:spPr>
                      <a:xfrm>
                        <a:off x="4660560" y="220644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8" name="Rectangle 70"/>
                      <p:cNvSpPr/>
                      <p:nvPr/>
                    </p:nvSpPr>
                    <p:spPr>
                      <a:xfrm>
                        <a:off x="4982760" y="220644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UK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9" name="Rectangle 71"/>
                      <p:cNvSpPr/>
                      <p:nvPr/>
                    </p:nvSpPr>
                    <p:spPr>
                      <a:xfrm>
                        <a:off x="5362920" y="220644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0" name="Rectangle 72"/>
                      <p:cNvSpPr/>
                      <p:nvPr/>
                    </p:nvSpPr>
                    <p:spPr>
                      <a:xfrm>
                        <a:off x="5766120" y="220644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1" name="Rectangle 73"/>
                      <p:cNvSpPr/>
                      <p:nvPr/>
                    </p:nvSpPr>
                    <p:spPr>
                      <a:xfrm>
                        <a:off x="4660560" y="238212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2" name="Rectangle 74"/>
                      <p:cNvSpPr/>
                      <p:nvPr/>
                    </p:nvSpPr>
                    <p:spPr>
                      <a:xfrm>
                        <a:off x="4982760" y="238212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KR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3" name="Rectangle 75"/>
                      <p:cNvSpPr/>
                      <p:nvPr/>
                    </p:nvSpPr>
                    <p:spPr>
                      <a:xfrm>
                        <a:off x="5362920" y="238212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4" name="Rectangle 76"/>
                      <p:cNvSpPr/>
                      <p:nvPr/>
                    </p:nvSpPr>
                    <p:spPr>
                      <a:xfrm>
                        <a:off x="5766120" y="238212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5" name="Rectangle 77"/>
                      <p:cNvSpPr/>
                      <p:nvPr/>
                    </p:nvSpPr>
                    <p:spPr>
                      <a:xfrm>
                        <a:off x="4660560" y="2558160"/>
                        <a:ext cx="322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6" name="Rectangle 78"/>
                      <p:cNvSpPr/>
                      <p:nvPr/>
                    </p:nvSpPr>
                    <p:spPr>
                      <a:xfrm>
                        <a:off x="4982760" y="2558160"/>
                        <a:ext cx="37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E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7" name="Rectangle 79"/>
                      <p:cNvSpPr/>
                      <p:nvPr/>
                    </p:nvSpPr>
                    <p:spPr>
                      <a:xfrm>
                        <a:off x="5362920" y="2558160"/>
                        <a:ext cx="4032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8" name="Rectangle 80"/>
                      <p:cNvSpPr/>
                      <p:nvPr/>
                    </p:nvSpPr>
                    <p:spPr>
                      <a:xfrm>
                        <a:off x="5766120" y="2558160"/>
                        <a:ext cx="46980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9" name="Rectangle 81"/>
                      <p:cNvSpPr/>
                      <p:nvPr/>
                    </p:nvSpPr>
                    <p:spPr>
                      <a:xfrm>
                        <a:off x="4660560" y="2733840"/>
                        <a:ext cx="322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0" name="Rectangle 82"/>
                      <p:cNvSpPr/>
                      <p:nvPr/>
                    </p:nvSpPr>
                    <p:spPr>
                      <a:xfrm>
                        <a:off x="4982760" y="2733840"/>
                        <a:ext cx="37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OR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1" name="Rectangle 83"/>
                      <p:cNvSpPr/>
                      <p:nvPr/>
                    </p:nvSpPr>
                    <p:spPr>
                      <a:xfrm>
                        <a:off x="5362920" y="2733840"/>
                        <a:ext cx="4032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2" name="Rectangle 84"/>
                      <p:cNvSpPr/>
                      <p:nvPr/>
                    </p:nvSpPr>
                    <p:spPr>
                      <a:xfrm>
                        <a:off x="5766120" y="2733840"/>
                        <a:ext cx="4698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63" name="Rectangle 85"/>
                    <p:cNvSpPr/>
                    <p:nvPr/>
                  </p:nvSpPr>
                  <p:spPr>
                    <a:xfrm>
                      <a:off x="6236280" y="1678680"/>
                      <a:ext cx="2902680" cy="202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Rectangle 86"/>
                    <p:cNvSpPr/>
                    <p:nvPr/>
                  </p:nvSpPr>
                  <p:spPr>
                    <a:xfrm>
                      <a:off x="4660560" y="3706200"/>
                      <a:ext cx="447876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 Total Domain Nam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65" name="Rectangle 87"/>
                  <p:cNvSpPr/>
                  <p:nvPr/>
                </p:nvSpPr>
                <p:spPr>
                  <a:xfrm>
                    <a:off x="4660560" y="1164600"/>
                    <a:ext cx="4478760" cy="2731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66" name="Rectangle 88"/>
                <p:cNvSpPr/>
                <p:nvPr/>
              </p:nvSpPr>
              <p:spPr>
                <a:xfrm>
                  <a:off x="4656240" y="1160640"/>
                  <a:ext cx="4487760" cy="27399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67" name="Rectangle 89"/>
              <p:cNvSpPr/>
              <p:nvPr/>
            </p:nvSpPr>
            <p:spPr>
              <a:xfrm>
                <a:off x="4656240" y="1160640"/>
                <a:ext cx="4487760" cy="273996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468" name="Picture 90" descr="color0"/>
            <p:cNvPicPr/>
            <p:nvPr/>
          </p:nvPicPr>
          <p:blipFill>
            <a:blip r:embed="rId7"/>
            <a:stretch/>
          </p:blipFill>
          <p:spPr>
            <a:xfrm>
              <a:off x="4772880" y="189540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91" descr="color1"/>
            <p:cNvPicPr/>
            <p:nvPr/>
          </p:nvPicPr>
          <p:blipFill>
            <a:blip r:embed="rId8"/>
            <a:stretch/>
          </p:blipFill>
          <p:spPr>
            <a:xfrm>
              <a:off x="4772880" y="207144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92" descr="color2"/>
            <p:cNvPicPr/>
            <p:nvPr/>
          </p:nvPicPr>
          <p:blipFill>
            <a:blip r:embed="rId9"/>
            <a:stretch/>
          </p:blipFill>
          <p:spPr>
            <a:xfrm>
              <a:off x="4772880" y="2247480"/>
              <a:ext cx="10944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93" descr="color3"/>
            <p:cNvPicPr/>
            <p:nvPr/>
          </p:nvPicPr>
          <p:blipFill>
            <a:blip r:embed="rId10"/>
            <a:stretch/>
          </p:blipFill>
          <p:spPr>
            <a:xfrm>
              <a:off x="4772880" y="2423520"/>
              <a:ext cx="109440" cy="1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94" descr="color4"/>
            <p:cNvPicPr/>
            <p:nvPr/>
          </p:nvPicPr>
          <p:blipFill>
            <a:blip r:embed="rId11"/>
            <a:stretch/>
          </p:blipFill>
          <p:spPr>
            <a:xfrm>
              <a:off x="4772880" y="259956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95" descr="color5"/>
            <p:cNvPicPr/>
            <p:nvPr/>
          </p:nvPicPr>
          <p:blipFill>
            <a:blip r:embed="rId12"/>
            <a:stretch/>
          </p:blipFill>
          <p:spPr>
            <a:xfrm>
              <a:off x="4772880" y="2775240"/>
              <a:ext cx="109440" cy="1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96" descr="piechart"/>
            <p:cNvPicPr/>
            <p:nvPr/>
          </p:nvPicPr>
          <p:blipFill>
            <a:blip r:embed="rId13"/>
            <a:stretch/>
          </p:blipFill>
          <p:spPr>
            <a:xfrm>
              <a:off x="6349320" y="1719360"/>
              <a:ext cx="2190600" cy="202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97"/>
          <p:cNvGrpSpPr/>
          <p:nvPr/>
        </p:nvGrpSpPr>
        <p:grpSpPr>
          <a:xfrm>
            <a:off x="0" y="3890880"/>
            <a:ext cx="4656240" cy="2967120"/>
            <a:chOff x="0" y="3890880"/>
            <a:chExt cx="4656240" cy="2967120"/>
          </a:xfrm>
        </p:grpSpPr>
        <p:grpSp>
          <p:nvGrpSpPr>
            <p:cNvPr id="476" name="Group 98"/>
            <p:cNvGrpSpPr/>
            <p:nvPr/>
          </p:nvGrpSpPr>
          <p:grpSpPr>
            <a:xfrm>
              <a:off x="0" y="3890880"/>
              <a:ext cx="4656240" cy="2967120"/>
              <a:chOff x="0" y="3890880"/>
              <a:chExt cx="4656240" cy="2967120"/>
            </a:xfrm>
          </p:grpSpPr>
          <p:grpSp>
            <p:nvGrpSpPr>
              <p:cNvPr id="477" name="Group 99"/>
              <p:cNvGrpSpPr/>
              <p:nvPr/>
            </p:nvGrpSpPr>
            <p:grpSpPr>
              <a:xfrm>
                <a:off x="0" y="3890880"/>
                <a:ext cx="4656240" cy="2967120"/>
                <a:chOff x="0" y="3890880"/>
                <a:chExt cx="4656240" cy="2967120"/>
              </a:xfrm>
            </p:grpSpPr>
            <p:grpSp>
              <p:nvGrpSpPr>
                <p:cNvPr id="478" name="Group 100"/>
                <p:cNvGrpSpPr/>
                <p:nvPr/>
              </p:nvGrpSpPr>
              <p:grpSpPr>
                <a:xfrm>
                  <a:off x="4320" y="3895200"/>
                  <a:ext cx="4647240" cy="2958120"/>
                  <a:chOff x="4320" y="3895200"/>
                  <a:chExt cx="4647240" cy="2958120"/>
                </a:xfrm>
              </p:grpSpPr>
              <p:grpSp>
                <p:nvGrpSpPr>
                  <p:cNvPr id="479" name="Group 101"/>
                  <p:cNvGrpSpPr/>
                  <p:nvPr/>
                </p:nvGrpSpPr>
                <p:grpSpPr>
                  <a:xfrm>
                    <a:off x="4320" y="3895200"/>
                    <a:ext cx="4647240" cy="2957760"/>
                    <a:chOff x="4320" y="3895200"/>
                    <a:chExt cx="4647240" cy="2957760"/>
                  </a:xfrm>
                </p:grpSpPr>
                <p:sp>
                  <p:nvSpPr>
                    <p:cNvPr id="480" name="Rectangle 102"/>
                    <p:cNvSpPr/>
                    <p:nvPr/>
                  </p:nvSpPr>
                  <p:spPr>
                    <a:xfrm>
                      <a:off x="4320" y="3895200"/>
                      <a:ext cx="4647240" cy="263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me Page Content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Rectangle 103"/>
                    <p:cNvSpPr/>
                    <p:nvPr/>
                  </p:nvSpPr>
                  <p:spPr>
                    <a:xfrm>
                      <a:off x="4320" y="4158720"/>
                      <a:ext cx="4647240" cy="29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and name appears on the following number of home pages.</a:t>
                      </a: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ggregated by site category)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82" name="Group 104"/>
                    <p:cNvGrpSpPr/>
                    <p:nvPr/>
                  </p:nvGrpSpPr>
                  <p:grpSpPr>
                    <a:xfrm>
                      <a:off x="4320" y="4451760"/>
                      <a:ext cx="1807560" cy="1143000"/>
                      <a:chOff x="4320" y="4451760"/>
                      <a:chExt cx="1807560" cy="1143000"/>
                    </a:xfrm>
                  </p:grpSpPr>
                  <p:sp>
                    <p:nvSpPr>
                      <p:cNvPr id="483" name="Rectangle 105"/>
                      <p:cNvSpPr/>
                      <p:nvPr/>
                    </p:nvSpPr>
                    <p:spPr>
                      <a:xfrm>
                        <a:off x="4320" y="445176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4" name="Rectangle 106"/>
                      <p:cNvSpPr/>
                      <p:nvPr/>
                    </p:nvSpPr>
                    <p:spPr>
                      <a:xfrm>
                        <a:off x="319680" y="445176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0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5" name="Rectangle 107"/>
                      <p:cNvSpPr/>
                      <p:nvPr/>
                    </p:nvSpPr>
                    <p:spPr>
                      <a:xfrm>
                        <a:off x="957960" y="445176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u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6" name="Rectangle 108"/>
                      <p:cNvSpPr/>
                      <p:nvPr/>
                    </p:nvSpPr>
                    <p:spPr>
                      <a:xfrm>
                        <a:off x="1352160" y="445176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ercent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7" name="Rectangle 109"/>
                      <p:cNvSpPr/>
                      <p:nvPr/>
                    </p:nvSpPr>
                    <p:spPr>
                      <a:xfrm>
                        <a:off x="4320" y="464220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8" name="Rectangle 110"/>
                      <p:cNvSpPr/>
                      <p:nvPr/>
                    </p:nvSpPr>
                    <p:spPr>
                      <a:xfrm>
                        <a:off x="319680" y="464220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conventional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9" name="Rectangle 111"/>
                      <p:cNvSpPr/>
                      <p:nvPr/>
                    </p:nvSpPr>
                    <p:spPr>
                      <a:xfrm>
                        <a:off x="957960" y="464220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79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0" name="Rectangle 112"/>
                      <p:cNvSpPr/>
                      <p:nvPr/>
                    </p:nvSpPr>
                    <p:spPr>
                      <a:xfrm>
                        <a:off x="1352160" y="464220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98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1" name="Rectangle 113"/>
                      <p:cNvSpPr/>
                      <p:nvPr/>
                    </p:nvSpPr>
                    <p:spPr>
                      <a:xfrm>
                        <a:off x="4320" y="4832640"/>
                        <a:ext cx="31536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2" name="Rectangle 114"/>
                      <p:cNvSpPr/>
                      <p:nvPr/>
                    </p:nvSpPr>
                    <p:spPr>
                      <a:xfrm>
                        <a:off x="319680" y="4832640"/>
                        <a:ext cx="63828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porn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3" name="Rectangle 115"/>
                      <p:cNvSpPr/>
                      <p:nvPr/>
                    </p:nvSpPr>
                    <p:spPr>
                      <a:xfrm>
                        <a:off x="957960" y="4832640"/>
                        <a:ext cx="39384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78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4" name="Rectangle 116"/>
                      <p:cNvSpPr/>
                      <p:nvPr/>
                    </p:nvSpPr>
                    <p:spPr>
                      <a:xfrm>
                        <a:off x="1352160" y="4832640"/>
                        <a:ext cx="459720" cy="19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5" name="Rectangle 117"/>
                      <p:cNvSpPr/>
                      <p:nvPr/>
                    </p:nvSpPr>
                    <p:spPr>
                      <a:xfrm>
                        <a:off x="4320" y="502344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6" name="Rectangle 118"/>
                      <p:cNvSpPr/>
                      <p:nvPr/>
                    </p:nvSpPr>
                    <p:spPr>
                      <a:xfrm>
                        <a:off x="319680" y="502344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violenc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7" name="Rectangle 119"/>
                      <p:cNvSpPr/>
                      <p:nvPr/>
                    </p:nvSpPr>
                    <p:spPr>
                      <a:xfrm>
                        <a:off x="957960" y="502344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4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8" name="Rectangle 120"/>
                      <p:cNvSpPr/>
                      <p:nvPr/>
                    </p:nvSpPr>
                    <p:spPr>
                      <a:xfrm>
                        <a:off x="1352160" y="502344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99" name="Rectangle 121"/>
                      <p:cNvSpPr/>
                      <p:nvPr/>
                    </p:nvSpPr>
                    <p:spPr>
                      <a:xfrm>
                        <a:off x="4320" y="521388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0" name="Rectangle 122"/>
                      <p:cNvSpPr/>
                      <p:nvPr/>
                    </p:nvSpPr>
                    <p:spPr>
                      <a:xfrm>
                        <a:off x="319680" y="521388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gambling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1" name="Rectangle 123"/>
                      <p:cNvSpPr/>
                      <p:nvPr/>
                    </p:nvSpPr>
                    <p:spPr>
                      <a:xfrm>
                        <a:off x="957960" y="521388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31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2" name="Rectangle 124"/>
                      <p:cNvSpPr/>
                      <p:nvPr/>
                    </p:nvSpPr>
                    <p:spPr>
                      <a:xfrm>
                        <a:off x="1352160" y="521388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3" name="Rectangle 125"/>
                      <p:cNvSpPr/>
                      <p:nvPr/>
                    </p:nvSpPr>
                    <p:spPr>
                      <a:xfrm>
                        <a:off x="4320" y="5404320"/>
                        <a:ext cx="31536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    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4" name="Rectangle 126"/>
                      <p:cNvSpPr/>
                      <p:nvPr/>
                    </p:nvSpPr>
                    <p:spPr>
                      <a:xfrm>
                        <a:off x="319680" y="5404320"/>
                        <a:ext cx="63828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hate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5" name="Rectangle 127"/>
                      <p:cNvSpPr/>
                      <p:nvPr/>
                    </p:nvSpPr>
                    <p:spPr>
                      <a:xfrm>
                        <a:off x="957960" y="5404320"/>
                        <a:ext cx="39384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6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06" name="Rectangle 128"/>
                      <p:cNvSpPr/>
                      <p:nvPr/>
                    </p:nvSpPr>
                    <p:spPr>
                      <a:xfrm>
                        <a:off x="1352160" y="5404320"/>
                        <a:ext cx="459720" cy="190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7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0%</a:t>
                        </a:r>
                        <a:endParaRPr b="1" lang="en-US" sz="700" spc="-1" strike="noStrike">
                          <a:solidFill>
                            <a:srgbClr val="008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507" name="Rectangle 129"/>
                    <p:cNvSpPr/>
                    <p:nvPr/>
                  </p:nvSpPr>
                  <p:spPr>
                    <a:xfrm>
                      <a:off x="1812240" y="4451760"/>
                      <a:ext cx="2838960" cy="219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                                                                                  </a:t>
                      </a:r>
                      <a:endParaRPr b="1" lang="en-US" sz="7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Rectangle 130"/>
                    <p:cNvSpPr/>
                    <p:nvPr/>
                  </p:nvSpPr>
                  <p:spPr>
                    <a:xfrm>
                      <a:off x="4320" y="6647400"/>
                      <a:ext cx="4647240" cy="205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22 Total Home Pages </a:t>
                      </a:r>
                      <a:endParaRPr b="1" lang="en-US" sz="8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09" name="Rectangle 131"/>
                  <p:cNvSpPr/>
                  <p:nvPr/>
                </p:nvSpPr>
                <p:spPr>
                  <a:xfrm>
                    <a:off x="4320" y="3895200"/>
                    <a:ext cx="4647240" cy="2958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8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10" name="Rectangle 132"/>
                <p:cNvSpPr/>
                <p:nvPr/>
              </p:nvSpPr>
              <p:spPr>
                <a:xfrm>
                  <a:off x="0" y="3890880"/>
                  <a:ext cx="4656240" cy="296712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8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11" name="Rectangle 133"/>
              <p:cNvSpPr/>
              <p:nvPr/>
            </p:nvSpPr>
            <p:spPr>
              <a:xfrm>
                <a:off x="0" y="3890880"/>
                <a:ext cx="4656240" cy="296712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pic>
          <p:nvPicPr>
            <p:cNvPr id="512" name="Picture 134" descr="color0"/>
            <p:cNvPicPr/>
            <p:nvPr/>
          </p:nvPicPr>
          <p:blipFill>
            <a:blip r:embed="rId14"/>
            <a:stretch/>
          </p:blipFill>
          <p:spPr>
            <a:xfrm>
              <a:off x="114480" y="468648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35" descr="color1"/>
            <p:cNvPicPr/>
            <p:nvPr/>
          </p:nvPicPr>
          <p:blipFill>
            <a:blip r:embed="rId15"/>
            <a:stretch/>
          </p:blipFill>
          <p:spPr>
            <a:xfrm>
              <a:off x="114480" y="487692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36" descr="color2"/>
            <p:cNvPicPr/>
            <p:nvPr/>
          </p:nvPicPr>
          <p:blipFill>
            <a:blip r:embed="rId16"/>
            <a:stretch/>
          </p:blipFill>
          <p:spPr>
            <a:xfrm>
              <a:off x="114480" y="506808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37" descr="color3"/>
            <p:cNvPicPr/>
            <p:nvPr/>
          </p:nvPicPr>
          <p:blipFill>
            <a:blip r:embed="rId17"/>
            <a:stretch/>
          </p:blipFill>
          <p:spPr>
            <a:xfrm>
              <a:off x="114480" y="5258520"/>
              <a:ext cx="1069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38" descr="color4"/>
            <p:cNvPicPr/>
            <p:nvPr/>
          </p:nvPicPr>
          <p:blipFill>
            <a:blip r:embed="rId18"/>
            <a:stretch/>
          </p:blipFill>
          <p:spPr>
            <a:xfrm>
              <a:off x="114480" y="5448960"/>
              <a:ext cx="1069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139" descr="barchart"/>
            <p:cNvPicPr/>
            <p:nvPr/>
          </p:nvPicPr>
          <p:blipFill>
            <a:blip r:embed="rId19"/>
            <a:stretch/>
          </p:blipFill>
          <p:spPr>
            <a:xfrm>
              <a:off x="1922760" y="4496040"/>
              <a:ext cx="2142720" cy="21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6D3C-6680-48CA-AF58-BD438D55774E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Manag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841320" y="2062080"/>
            <a:ext cx="8077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Domain Renewal Management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Lock Down Domains and Standardiz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Manage DN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22" name="Picture 7" descr="new_exp"/>
          <p:cNvPicPr/>
          <p:nvPr/>
        </p:nvPicPr>
        <p:blipFill>
          <a:blip r:embed="rId1"/>
          <a:stretch/>
        </p:blipFill>
        <p:spPr>
          <a:xfrm>
            <a:off x="6772320" y="1449360"/>
            <a:ext cx="1901880" cy="15987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A67A-DE39-49EE-8CE4-17C32B28D07A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Build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841320" y="2062080"/>
            <a:ext cx="8077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Global Registra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Local Presence Service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Domain Recovery / Acquisi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226B-CD05-4D42-A3C2-D589E749B4F7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30" name="Picture 2" descr="map with logos copy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4"/>
          <p:cNvSpPr/>
          <p:nvPr/>
        </p:nvSpPr>
        <p:spPr>
          <a:xfrm>
            <a:off x="393840" y="1739880"/>
            <a:ext cx="25272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3403440" y="2725560"/>
            <a:ext cx="189252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Netherlands (.nl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olombia (.c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Paraguay (.py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zech Republic (.cz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Norway (.n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El Savador (.sv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Portugal (.pt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Finland (.fi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audi Arabia (.sa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France (.fr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876240" y="1440000"/>
            <a:ext cx="8267760" cy="1002600"/>
          </a:xfrm>
          <a:prstGeom prst="rect">
            <a:avLst/>
          </a:prstGeom>
          <a:solidFill>
            <a:srgbClr val="eef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337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More than 100 countries have a restricted domain registra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process, including 7 of the top 10 markets (as measured by GDP)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337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VRSN Local Presence can help you to satisfy this requirements.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6707160" y="2725560"/>
            <a:ext cx="18036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outh Korea (.kr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Germany (.de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ingapore (.sg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Hong Kong (.hk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pain (.es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Hungary (.hu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Sweden (.se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celand (.is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Taiwan (.tw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ndia (.in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Vietnam (.vn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60240" y="2725560"/>
            <a:ext cx="200664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Australia (.au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reland (.ie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Boliva (.b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Italy (.it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Brazil (.br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Japan (.jp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anada (.ca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Jordan (.jo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hile (.cl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Malaysia (.my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Verdana"/>
                <a:ea typeface="宋体"/>
              </a:rPr>
              <a:t>China (.cn)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Global Registration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Local Presence Qualification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0" y="1079640"/>
            <a:ext cx="914400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939-2507-4BDF-AD1C-628B7DF9D756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Monitoring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320" y="206208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Global Domain and Web Watch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Install Surveillance to Continuously Monitor Brand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BAD-E5AB-4403-A51E-5669D7F3CE4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60"/>
            <a:ext cx="810252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5000"/>
              </a:lnSpc>
              <a:spcBef>
                <a:spcPts val="1624"/>
              </a:spcBef>
              <a:buClr>
                <a:srgbClr val="ffbe00"/>
              </a:buClr>
              <a:buSzPct val="7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Domain Watch for Cybersquatting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A truly unique cybersquatting solution combining  100% coverage of all TLDs, patented web crawling technology, and a case management system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34160" indent="-434160">
              <a:lnSpc>
                <a:spcPct val="85000"/>
              </a:lnSpc>
              <a:spcBef>
                <a:spcPts val="1301"/>
              </a:spcBef>
              <a:buClr>
                <a:srgbClr val="ffbe00"/>
              </a:buClr>
              <a:buSzPct val="7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Web Watch for Online Brand Abuse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宋体"/>
              </a:rPr>
              <a:t>(includes Domains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A truly unique brand protection solution combining 100% coverage of home pages and registered domains, patented web crawling technology, and a case management system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34160" indent="-434160">
              <a:lnSpc>
                <a:spcPct val="85000"/>
              </a:lnSpc>
              <a:spcBef>
                <a:spcPts val="1301"/>
              </a:spcBef>
              <a:buClr>
                <a:srgbClr val="ffbe00"/>
              </a:buClr>
              <a:buSzPct val="7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Premium Brand Protection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宋体"/>
              </a:rPr>
              <a:t>(Comprehensive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宋体"/>
              </a:rPr>
              <a:t>A comprehensive protection solution covering 40,000,000+ domains and 5,000,000,000+ web pages, and many mor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32320" indent="-3978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041480" y="12193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139"/>
                </a:solidFill>
                <a:latin typeface="Tahoma"/>
                <a:ea typeface="宋体"/>
              </a:rPr>
              <a:t>Introducing uniquely affordable brand protection services.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72BB-D679-4A1C-9095-1B64D6E975D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15920" y="105372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Watch Produc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828800" y="212076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219320" y="29732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Master List of over 40,000,000 Registered Domain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219320" y="3449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Monthly Searches of Every Home Pag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219320" y="3925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Detailed Attributes about Offending Site for Context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219320" y="4402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Exclude Criteria to Eliminate Irrelevant Information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219320" y="48783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+ Action Center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295280" y="5321160"/>
            <a:ext cx="6400800" cy="360"/>
            <a:chOff x="1295280" y="5321160"/>
            <a:chExt cx="6400800" cy="360"/>
          </a:xfrm>
        </p:grpSpPr>
        <p:sp>
          <p:nvSpPr>
            <p:cNvPr id="556" name="Line 9"/>
            <p:cNvSpPr/>
            <p:nvPr/>
          </p:nvSpPr>
          <p:spPr>
            <a:xfrm>
              <a:off x="1295280" y="5321160"/>
              <a:ext cx="6400800" cy="0"/>
            </a:xfrm>
            <a:prstGeom prst="line">
              <a:avLst/>
            </a:prstGeom>
            <a:ln w="57240">
              <a:solidFill>
                <a:srgbClr val="ffb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1295280" y="532116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558" name="Text Box 10"/>
          <p:cNvSpPr/>
          <p:nvPr/>
        </p:nvSpPr>
        <p:spPr>
          <a:xfrm>
            <a:off x="1219320" y="5549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dd39"/>
                </a:solidFill>
                <a:latin typeface="Tahoma"/>
                <a:ea typeface="宋体"/>
              </a:rPr>
              <a:t>Unique, aggressively priced online brand protection product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914400" y="2120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139"/>
                </a:solidFill>
                <a:latin typeface="Tahoma"/>
                <a:ea typeface="宋体"/>
              </a:rPr>
              <a:t>These low-cost services leverage industry-proven technology.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1" name="文本框 8199"/>
          <p:cNvSpPr/>
          <p:nvPr/>
        </p:nvSpPr>
        <p:spPr>
          <a:xfrm>
            <a:off x="2689200" y="1201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702-32E9-46C4-A9B8-BB25F19161E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2430360" y="1828800"/>
            <a:ext cx="3944880" cy="457200"/>
            <a:chOff x="2430360" y="1828800"/>
            <a:chExt cx="3944880" cy="457200"/>
          </a:xfrm>
        </p:grpSpPr>
        <p:sp>
          <p:nvSpPr>
            <p:cNvPr id="564" name="Text Box 5"/>
            <p:cNvSpPr/>
            <p:nvPr/>
          </p:nvSpPr>
          <p:spPr>
            <a:xfrm>
              <a:off x="2455920" y="1828800"/>
              <a:ext cx="390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565" name="Text Box 6"/>
            <p:cNvSpPr/>
            <p:nvPr/>
          </p:nvSpPr>
          <p:spPr>
            <a:xfrm>
              <a:off x="2430360" y="1841400"/>
              <a:ext cx="3944880" cy="276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Intelligence Center</a:t>
              </a:r>
              <a:endParaRPr b="1" lang="en-US" sz="12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566" name="Rectangle 7"/>
          <p:cNvSpPr/>
          <p:nvPr/>
        </p:nvSpPr>
        <p:spPr>
          <a:xfrm>
            <a:off x="876240" y="1320840"/>
            <a:ext cx="7772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Technology of Intelligence Center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68" name="Host Control  2049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25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D97B-C2B6-48C5-8042-7E98805EEB82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Text Box 1027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28" name="Picture 1028" descr="eBay logo"/>
          <p:cNvPicPr/>
          <p:nvPr/>
        </p:nvPicPr>
        <p:blipFill>
          <a:blip r:embed="rId1"/>
          <a:stretch/>
        </p:blipFill>
        <p:spPr>
          <a:xfrm>
            <a:off x="6465960" y="2311560"/>
            <a:ext cx="1954080" cy="892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029"/>
          <p:cNvSpPr/>
          <p:nvPr/>
        </p:nvSpPr>
        <p:spPr>
          <a:xfrm>
            <a:off x="6929280" y="3170160"/>
            <a:ext cx="45720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30" name="Picture 1030" descr="apple%20logo"/>
          <p:cNvPicPr/>
          <p:nvPr/>
        </p:nvPicPr>
        <p:blipFill>
          <a:blip r:embed="rId2"/>
          <a:stretch/>
        </p:blipFill>
        <p:spPr>
          <a:xfrm>
            <a:off x="5511960" y="1333440"/>
            <a:ext cx="1066680" cy="79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1" descr="IBM"/>
          <p:cNvPicPr/>
          <p:nvPr/>
        </p:nvPicPr>
        <p:blipFill>
          <a:blip r:embed="rId3"/>
          <a:stretch/>
        </p:blipFill>
        <p:spPr>
          <a:xfrm>
            <a:off x="4254480" y="406548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2" descr="cocacola"/>
          <p:cNvPicPr/>
          <p:nvPr/>
        </p:nvPicPr>
        <p:blipFill>
          <a:blip r:embed="rId4"/>
          <a:stretch/>
        </p:blipFill>
        <p:spPr>
          <a:xfrm>
            <a:off x="3479760" y="1589040"/>
            <a:ext cx="1079640" cy="12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3" descr="Disney"/>
          <p:cNvPicPr/>
          <p:nvPr/>
        </p:nvPicPr>
        <p:blipFill>
          <a:blip r:embed="rId5"/>
          <a:stretch/>
        </p:blipFill>
        <p:spPr>
          <a:xfrm>
            <a:off x="6134040" y="3747960"/>
            <a:ext cx="143532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4" descr="Starbucks"/>
          <p:cNvPicPr/>
          <p:nvPr/>
        </p:nvPicPr>
        <p:blipFill>
          <a:blip r:embed="rId6"/>
          <a:stretch/>
        </p:blipFill>
        <p:spPr>
          <a:xfrm>
            <a:off x="1790640" y="4192560"/>
            <a:ext cx="1892520" cy="18921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35"/>
          <p:cNvSpPr/>
          <p:nvPr/>
        </p:nvSpPr>
        <p:spPr>
          <a:xfrm>
            <a:off x="1947960" y="3102120"/>
            <a:ext cx="1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36" name="Picture 1036" descr="space"/>
          <p:cNvPicPr/>
          <p:nvPr/>
        </p:nvPicPr>
        <p:blipFill>
          <a:blip r:embed="rId7"/>
          <a:stretch/>
        </p:blipFill>
        <p:spPr>
          <a:xfrm>
            <a:off x="1947960" y="3467160"/>
            <a:ext cx="149040" cy="111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1947960" y="3102120"/>
            <a:ext cx="1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38" name="Picture 1038" descr="space"/>
          <p:cNvPicPr/>
          <p:nvPr/>
        </p:nvPicPr>
        <p:blipFill>
          <a:blip r:embed="rId8"/>
          <a:stretch/>
        </p:blipFill>
        <p:spPr>
          <a:xfrm>
            <a:off x="1947960" y="3467160"/>
            <a:ext cx="149040" cy="11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039"/>
          <p:cNvSpPr/>
          <p:nvPr/>
        </p:nvSpPr>
        <p:spPr>
          <a:xfrm>
            <a:off x="2995560" y="3274920"/>
            <a:ext cx="1116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40" name="Picture 1040" descr="citi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32320" y="3138480"/>
            <a:ext cx="9907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1" descr="Inte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308240" y="1589040"/>
            <a:ext cx="1218960" cy="81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42" descr="Sony"/>
          <p:cNvPicPr/>
          <p:nvPr/>
        </p:nvPicPr>
        <p:blipFill>
          <a:blip r:embed="rId13"/>
          <a:stretch/>
        </p:blipFill>
        <p:spPr>
          <a:xfrm>
            <a:off x="1095480" y="2852640"/>
            <a:ext cx="1895400" cy="974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3924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What is the value of a brand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4FA9-8B4E-4FF8-97E7-464B105B4943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51040" y="78696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Product Detai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28720" y="1785960"/>
          <a:ext cx="8077320" cy="4127400"/>
        </p:xfrm>
        <a:graphic>
          <a:graphicData uri="http://schemas.openxmlformats.org/drawingml/2006/table">
            <a:tbl>
              <a:tblPr/>
              <a:tblGrid>
                <a:gridCol w="5500800"/>
                <a:gridCol w="1330200"/>
                <a:gridCol w="124632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TYPE OF BRAND ABUSE IDENTIFIED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Domain (cybersquatting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Home Page Text (visible or invisible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Home Page Source Code (meta tag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Brand Use in Link on Home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Logo Use on Home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MATCHING TECHNOLOGY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ildcard Search within Domai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Common Misspellings within Domai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Use of Special Characters within Domai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act Match on Home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572" name="Rectangle 6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768-2DFD-47A5-A242-69BC2115212A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23960" y="99036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Product Details Continu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787320" y="2276640"/>
          <a:ext cx="8207280" cy="2792160"/>
        </p:xfrm>
        <a:graphic>
          <a:graphicData uri="http://schemas.openxmlformats.org/drawingml/2006/table">
            <a:tbl>
              <a:tblPr/>
              <a:tblGrid>
                <a:gridCol w="5672160"/>
                <a:gridCol w="1378080"/>
                <a:gridCol w="115704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CONTEXTUAL INFORMATION PROVIDED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Site Status (Live, Parked, Error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Commerce Status (Yes or No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Objectionable Content Flag (Hate, Violence, Gambling, Pornography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Site Traffic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Archive Version of Pag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Site Registration Contact Informatio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576" name="Rectangle 4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BA23-ED08-44E2-9619-0E46F163AD7A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76240" y="69804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Product Details Continu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51040" y="1828800"/>
          <a:ext cx="8076960" cy="4622760"/>
        </p:xfrm>
        <a:graphic>
          <a:graphicData uri="http://schemas.openxmlformats.org/drawingml/2006/table">
            <a:tbl>
              <a:tblPr/>
              <a:tblGrid>
                <a:gridCol w="5603400"/>
                <a:gridCol w="1341720"/>
                <a:gridCol w="1131840"/>
              </a:tblGrid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FILTERING AND RELEVANCY CRITERIA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List of Site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Top-Level Domain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Site Statu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Objectionable Content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eCommerce Statu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d Based on Minimum Amount of Site Traffic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Previously Delivered Site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Exclude Based on Location of Brand Presence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9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DELIVERY: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Monthly Reports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Action Center Subscription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zh-CN" sz="1400" spc="-1" strike="noStrike">
                          <a:solidFill>
                            <a:srgbClr val="307ce2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3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307ce2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580" name="Rectangle 6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9B30-8539-4101-9A9D-44160CD701F8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87588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宋体"/>
              </a:rPr>
              <a:t>Brand Monitoring Services Comparis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58880" y="2209680"/>
          <a:ext cx="8232840" cy="3398760"/>
        </p:xfrm>
        <a:graphic>
          <a:graphicData uri="http://schemas.openxmlformats.org/drawingml/2006/table">
            <a:tbl>
              <a:tblPr/>
              <a:tblGrid>
                <a:gridCol w="2058840"/>
                <a:gridCol w="2057400"/>
                <a:gridCol w="2059200"/>
                <a:gridCol w="2057400"/>
              </a:tblGrid>
              <a:tr h="40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Domain Watch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Web Watch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rand Protection (Premium)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Search Scope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40,000,000+ domain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40,000,000+ domain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20,000,000+ home pag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40,000,000+ domain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5,000,000,000+ web pag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Spam email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Relevancy Criteria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Exclude list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Exclude list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Customer-specific configuration of scoring formulas 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Site Attribut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Y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Action Center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asic Featur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asic Feature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Advanced Features: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Batch email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Upload Evidence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Folder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5 user ids</a:t>
                      </a:r>
                      <a:endParaRPr b="1" lang="en-US" sz="1200" spc="-1" strike="noStrike">
                        <a:solidFill>
                          <a:srgbClr val="008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4" name="Text Box 35"/>
          <p:cNvSpPr/>
          <p:nvPr/>
        </p:nvSpPr>
        <p:spPr>
          <a:xfrm>
            <a:off x="927000" y="56642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139"/>
                </a:solidFill>
                <a:latin typeface="Tahoma"/>
                <a:ea typeface="宋体"/>
              </a:rPr>
              <a:t>A simplified comparison of Brand Monitoring Services: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5" name="Rectangle 36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3304-DBBD-4D02-B32B-E9444F1C6EE6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rcRect l="450" t="15972" r="1303" b="28124"/>
          <a:stretch/>
        </p:blipFill>
        <p:spPr>
          <a:xfrm>
            <a:off x="622440" y="2133720"/>
            <a:ext cx="8299440" cy="35416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4457880" y="387360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ew China ccTLD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DBM Portal Home Pag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21D-78AF-49ED-992E-110BBFDBC03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rcRect l="0" t="16321" r="1562" b="5729"/>
          <a:stretch/>
        </p:blipFill>
        <p:spPr>
          <a:xfrm>
            <a:off x="698400" y="1979640"/>
            <a:ext cx="7318440" cy="43448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Domains reporting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509-931B-4759-93CA-1D8B6419CB6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rcRect l="303" t="16252" r="1875" b="25004"/>
          <a:stretch/>
        </p:blipFill>
        <p:spPr>
          <a:xfrm>
            <a:off x="749160" y="2075040"/>
            <a:ext cx="8166240" cy="36781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Domain Manage Home Pag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F3FE-E660-4084-8361-44214ADC4608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600" name="Picture 3075" descr=""/>
          <p:cNvPicPr/>
          <p:nvPr/>
        </p:nvPicPr>
        <p:blipFill>
          <a:blip r:embed="rId1"/>
          <a:srcRect l="0" t="16513" r="1628" b="13019"/>
          <a:stretch/>
        </p:blipFill>
        <p:spPr>
          <a:xfrm>
            <a:off x="668160" y="2076480"/>
            <a:ext cx="7669440" cy="41212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076"/>
          <p:cNvSpPr/>
          <p:nvPr/>
        </p:nvSpPr>
        <p:spPr>
          <a:xfrm>
            <a:off x="671400" y="128412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Task Order Audit Trail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2" name="Rectangle 308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3" name="文本框 8199"/>
          <p:cNvSpPr/>
          <p:nvPr/>
        </p:nvSpPr>
        <p:spPr>
          <a:xfrm>
            <a:off x="1384200" y="1049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C2E-C257-4A61-B8AE-37D0C6F30339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607" name="Group 18"/>
          <p:cNvGrpSpPr/>
          <p:nvPr/>
        </p:nvGrpSpPr>
        <p:grpSpPr>
          <a:xfrm>
            <a:off x="684720" y="1422360"/>
            <a:ext cx="8637120" cy="5492880"/>
            <a:chOff x="684720" y="1422360"/>
            <a:chExt cx="8637120" cy="5492880"/>
          </a:xfrm>
        </p:grpSpPr>
        <p:sp>
          <p:nvSpPr>
            <p:cNvPr id="608" name="AutoShape 5"/>
            <p:cNvSpPr/>
            <p:nvPr/>
          </p:nvSpPr>
          <p:spPr>
            <a:xfrm>
              <a:off x="1854360" y="1585800"/>
              <a:ext cx="1834920" cy="5572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09" name="Text Box 6"/>
            <p:cNvSpPr/>
            <p:nvPr/>
          </p:nvSpPr>
          <p:spPr>
            <a:xfrm>
              <a:off x="684720" y="1573200"/>
              <a:ext cx="286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Corporate Intellectual 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perty Lawyers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811080" y="2432160"/>
              <a:ext cx="24606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tecting valuable trademarks and brands on the Internet through domain names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eventing off-shore cybersquatters from infringing on intellectual property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eventing litigation in foreign country to get back a domain name that is trademarked – chances are you’ll lose!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3962880" y="1585800"/>
              <a:ext cx="175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Marketing/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E-Commerce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3556080" y="2432160"/>
              <a:ext cx="259056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moting brands and e-commerce initiatives globally through domain name registration – local content, global message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Driving traffic to e-commerce through ccTLD registration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tecting valuable trademarks and brands on the Internet through domain names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6547320" y="1523880"/>
              <a:ext cx="251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Webmaster/ 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  <a:ea typeface="宋体"/>
                </a:rPr>
                <a:t>Technical Contacts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4" name="Text Box 11"/>
            <p:cNvSpPr/>
            <p:nvPr/>
          </p:nvSpPr>
          <p:spPr>
            <a:xfrm>
              <a:off x="6380280" y="2382840"/>
              <a:ext cx="27795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Managing the inventory of domains and receiving a consolidated quarterly billing statement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Renewing domains automatically and paying in a foreign currency when required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Providing security for gTLDs domain names preventing unauthorized modifications or deactivations</a:t>
              </a: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  <a:p>
              <a:pPr marL="119160" indent="-119160">
                <a:lnSpc>
                  <a:spcPct val="100000"/>
                </a:lnSpc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811080" y="1461960"/>
              <a:ext cx="8348760" cy="468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973080" y="2205000"/>
              <a:ext cx="8348760" cy="1800"/>
              <a:chOff x="973080" y="2205000"/>
              <a:chExt cx="8348760" cy="1800"/>
            </a:xfrm>
          </p:grpSpPr>
          <p:sp>
            <p:nvSpPr>
              <p:cNvPr id="617" name="Line 13"/>
              <p:cNvSpPr/>
              <p:nvPr/>
            </p:nvSpPr>
            <p:spPr>
              <a:xfrm>
                <a:off x="973080" y="2205000"/>
                <a:ext cx="83487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973080" y="2205000"/>
                <a:ext cx="8348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489480" y="1422360"/>
              <a:ext cx="1440" cy="4691160"/>
              <a:chOff x="3489480" y="1422360"/>
              <a:chExt cx="1440" cy="4691160"/>
            </a:xfrm>
          </p:grpSpPr>
          <p:sp>
            <p:nvSpPr>
              <p:cNvPr id="620" name="Line 14"/>
              <p:cNvSpPr/>
              <p:nvPr/>
            </p:nvSpPr>
            <p:spPr>
              <a:xfrm>
                <a:off x="3489480" y="1422360"/>
                <a:ext cx="1440" cy="469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3489480" y="1422360"/>
                <a:ext cx="1440" cy="46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261120" y="1434960"/>
              <a:ext cx="1440" cy="4691160"/>
              <a:chOff x="6261120" y="1434960"/>
              <a:chExt cx="1440" cy="4691160"/>
            </a:xfrm>
          </p:grpSpPr>
          <p:sp>
            <p:nvSpPr>
              <p:cNvPr id="623" name="Line 15"/>
              <p:cNvSpPr/>
              <p:nvPr/>
            </p:nvSpPr>
            <p:spPr>
              <a:xfrm>
                <a:off x="6261120" y="1434960"/>
                <a:ext cx="1440" cy="4691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6261120" y="1434960"/>
                <a:ext cx="1440" cy="46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8000"/>
                  </a:solidFill>
                  <a:latin typeface="Tahoma"/>
                </a:endParaRPr>
              </a:p>
            </p:txBody>
          </p:sp>
        </p:grpSp>
      </p:grpSp>
      <p:sp>
        <p:nvSpPr>
          <p:cNvPr id="625" name="Rectangle 19"/>
          <p:cNvSpPr/>
          <p:nvPr/>
        </p:nvSpPr>
        <p:spPr>
          <a:xfrm>
            <a:off x="684360" y="10177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Customer Benefits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6" name="Rectangle 24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6B9-31CD-4FCC-99ED-10BC28FD0C86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833480" y="132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698400" y="1859040"/>
            <a:ext cx="807732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Master Services Agreement: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No P.O. or money needed to execut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2 year term, automatic 2 year renewal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Designate up to 5 individuals to place task order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Automatic discount on premium services such as international registration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Dedicated account team from VeriSign Digital Brand Management Services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Service-level guarantee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Task Order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Online Portal Management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722160" y="1157400"/>
            <a:ext cx="7367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Implementation is easy 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2272-0334-433E-8EA1-62D438060063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Brands are critical assets to a company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537560" y="1739880"/>
            <a:ext cx="39769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  <a:ea typeface="宋体"/>
              </a:rPr>
              <a:t>Brand Valu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in Billion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09640" y="2349360"/>
            <a:ext cx="321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Coca-Col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7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Microsoft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64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IBM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51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Disney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29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McDonalds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25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Ford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2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Apple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  5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Amazo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宋体"/>
              </a:rPr>
              <a:t>  3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49" name="Picture 8" descr="BS01175_"/>
          <p:cNvPicPr/>
          <p:nvPr/>
        </p:nvPicPr>
        <p:blipFill>
          <a:blip r:embed="rId1"/>
          <a:stretch/>
        </p:blipFill>
        <p:spPr>
          <a:xfrm>
            <a:off x="5340240" y="1589040"/>
            <a:ext cx="758880" cy="79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1231920" y="5035680"/>
            <a:ext cx="7200720" cy="7520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宋体"/>
              </a:rPr>
              <a:t>Brands in many cases can represent on average 35% of a company’s market capitalization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5854680" y="2171880"/>
            <a:ext cx="2463840" cy="2489040"/>
          </a:xfrm>
          <a:custGeom>
            <a:avLst/>
            <a:gdLst>
              <a:gd name="textAreaLeft" fmla="*/ 578520 w 2463840"/>
              <a:gd name="textAreaRight" fmla="*/ 1885320 w 2463840"/>
              <a:gd name="textAreaTop" fmla="*/ 584280 h 2489040"/>
              <a:gd name="textAreaBottom" fmla="*/ 1904760 h 248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6d6d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%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f Mkt. Cap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533600" y="5934240"/>
            <a:ext cx="59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s your Digital Brand Protected?</a:t>
            </a:r>
            <a:endParaRPr b="1" lang="en-US" sz="32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DA1-1D49-4179-950D-1DB2FECF63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823-1CBC-448B-907D-5DB27E1C152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2489040" y="2755800"/>
            <a:ext cx="5080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rtfolio of global digital brand assets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prise level of service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thoritative industry knowledge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917720" y="1549440"/>
            <a:ext cx="5905440" cy="851040"/>
          </a:xfrm>
          <a:prstGeom prst="rect">
            <a:avLst/>
          </a:prstGeom>
          <a:gradFill rotWithShape="0">
            <a:gsLst>
              <a:gs pos="0">
                <a:srgbClr val="ffbe00"/>
              </a:gs>
              <a:gs pos="100000">
                <a:srgbClr val="57a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otect and Promote</a:t>
            </a:r>
            <a:endParaRPr b="1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2019240" y="4915080"/>
            <a:ext cx="5905440" cy="850680"/>
          </a:xfrm>
          <a:prstGeom prst="rect">
            <a:avLst/>
          </a:prstGeom>
          <a:gradFill rotWithShape="0">
            <a:gsLst>
              <a:gs pos="0">
                <a:srgbClr val="ffbe00"/>
              </a:gs>
              <a:gs pos="100000">
                <a:srgbClr val="57a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iving Brand Value in the Digital World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042-E85C-49EC-9DD4-E9FBA2AB73EF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622440" y="1104840"/>
            <a:ext cx="8521200" cy="5752800"/>
            <a:chOff x="622440" y="1104840"/>
            <a:chExt cx="8521200" cy="5752800"/>
          </a:xfrm>
        </p:grpSpPr>
        <p:pic>
          <p:nvPicPr>
            <p:cNvPr id="155" name="Picture 5" descr="whitehousecom"/>
            <p:cNvPicPr/>
            <p:nvPr/>
          </p:nvPicPr>
          <p:blipFill>
            <a:blip r:embed="rId1"/>
            <a:stretch/>
          </p:blipFill>
          <p:spPr>
            <a:xfrm>
              <a:off x="622440" y="1104840"/>
              <a:ext cx="8521200" cy="57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6"/>
            <p:cNvSpPr/>
            <p:nvPr/>
          </p:nvSpPr>
          <p:spPr>
            <a:xfrm>
              <a:off x="4662360" y="4242240"/>
              <a:ext cx="537840" cy="31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57" name="Rectangle 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oes the Government Care?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2781360" y="1155600"/>
            <a:ext cx="4279680" cy="635040"/>
          </a:xfrm>
          <a:prstGeom prst="ellips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98520" y="787320"/>
            <a:ext cx="825840" cy="393840"/>
            <a:chOff x="3098520" y="787320"/>
            <a:chExt cx="825840" cy="393840"/>
          </a:xfrm>
        </p:grpSpPr>
        <p:sp>
          <p:nvSpPr>
            <p:cNvPr id="160" name="Line 10"/>
            <p:cNvSpPr/>
            <p:nvPr/>
          </p:nvSpPr>
          <p:spPr>
            <a:xfrm flipV="1">
              <a:off x="3098880" y="787320"/>
              <a:ext cx="825480" cy="393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 rot="10800000">
              <a:off x="3098520" y="787320"/>
              <a:ext cx="8254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2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553-6F88-485A-9079-B473B1F86C44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280" y="1295280"/>
            <a:ext cx="8839440" cy="825480"/>
          </a:xfrm>
          <a:prstGeom prst="rect">
            <a:avLst/>
          </a:prstGeom>
          <a:gradFill rotWithShape="0">
            <a:gsLst>
              <a:gs pos="0">
                <a:srgbClr val="032987"/>
              </a:gs>
              <a:gs pos="100000">
                <a:srgbClr val="01133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宋体"/>
              </a:rPr>
              <a:t>Growing complexity of domain name registrations                    drives customer towards outsourced services 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16200" y="4127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180"/>
                </a:solidFill>
                <a:latin typeface="Tahoma"/>
                <a:ea typeface="宋体"/>
              </a:rPr>
              <a:t>x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045120" y="3048120"/>
            <a:ext cx="12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192 Registries</a:t>
            </a:r>
            <a:endParaRPr b="1" lang="en-US" sz="1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391520" y="236232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Restricte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06 countri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391520" y="289548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Unrestricte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6 countri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391520" y="342900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 Commercia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com, .net, .org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391520" y="399096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4 Restricte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edu, .gov, .mil, int.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95520" y="4902120"/>
            <a:ext cx="762480" cy="152640"/>
            <a:chOff x="6095520" y="4902120"/>
            <a:chExt cx="762480" cy="152640"/>
          </a:xfrm>
        </p:grpSpPr>
        <p:sp>
          <p:nvSpPr>
            <p:cNvPr id="171" name="Line 10"/>
            <p:cNvSpPr/>
            <p:nvPr/>
          </p:nvSpPr>
          <p:spPr>
            <a:xfrm flipV="1">
              <a:off x="6095880" y="4902120"/>
              <a:ext cx="762120" cy="15264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6095520" y="4902120"/>
              <a:ext cx="76212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73" name="Text Box 11"/>
          <p:cNvSpPr/>
          <p:nvPr/>
        </p:nvSpPr>
        <p:spPr>
          <a:xfrm>
            <a:off x="7391520" y="451152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 Unrestric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info, .biz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5880" y="5283360"/>
            <a:ext cx="762120" cy="304560"/>
            <a:chOff x="6095880" y="5283360"/>
            <a:chExt cx="762120" cy="304560"/>
          </a:xfrm>
        </p:grpSpPr>
        <p:sp>
          <p:nvSpPr>
            <p:cNvPr id="175" name="Line 12"/>
            <p:cNvSpPr/>
            <p:nvPr/>
          </p:nvSpPr>
          <p:spPr>
            <a:xfrm>
              <a:off x="6095880" y="5283360"/>
              <a:ext cx="762120" cy="3045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095880" y="528336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77" name="Text Box 13"/>
          <p:cNvSpPr/>
          <p:nvPr/>
        </p:nvSpPr>
        <p:spPr>
          <a:xfrm>
            <a:off x="7391520" y="5029200"/>
            <a:ext cx="1523880" cy="6415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5 Restricte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name, pro, aero, museum, coop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172200" y="5969160"/>
            <a:ext cx="838080" cy="360"/>
            <a:chOff x="6172200" y="5969160"/>
            <a:chExt cx="838080" cy="360"/>
          </a:xfrm>
        </p:grpSpPr>
        <p:sp>
          <p:nvSpPr>
            <p:cNvPr id="179" name="Line 14"/>
            <p:cNvSpPr/>
            <p:nvPr/>
          </p:nvSpPr>
          <p:spPr>
            <a:xfrm>
              <a:off x="6172200" y="5969160"/>
              <a:ext cx="83808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172200" y="596916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95520" y="3911400"/>
            <a:ext cx="762480" cy="152280"/>
            <a:chOff x="6095520" y="3911400"/>
            <a:chExt cx="762480" cy="152280"/>
          </a:xfrm>
        </p:grpSpPr>
        <p:sp>
          <p:nvSpPr>
            <p:cNvPr id="182" name="Line 15"/>
            <p:cNvSpPr/>
            <p:nvPr/>
          </p:nvSpPr>
          <p:spPr>
            <a:xfrm flipV="1">
              <a:off x="6095880" y="3911400"/>
              <a:ext cx="762120" cy="1522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6095520" y="3911400"/>
              <a:ext cx="7621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5880" y="4292640"/>
            <a:ext cx="762120" cy="304920"/>
            <a:chOff x="6095880" y="4292640"/>
            <a:chExt cx="762120" cy="304920"/>
          </a:xfrm>
        </p:grpSpPr>
        <p:sp>
          <p:nvSpPr>
            <p:cNvPr id="185" name="Line 16"/>
            <p:cNvSpPr/>
            <p:nvPr/>
          </p:nvSpPr>
          <p:spPr>
            <a:xfrm>
              <a:off x="6095880" y="4292640"/>
              <a:ext cx="762120" cy="3049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095880" y="429264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095880" y="2577960"/>
            <a:ext cx="711360" cy="292320"/>
            <a:chOff x="6095880" y="2577960"/>
            <a:chExt cx="711360" cy="292320"/>
          </a:xfrm>
        </p:grpSpPr>
        <p:sp>
          <p:nvSpPr>
            <p:cNvPr id="188" name="Line 17"/>
            <p:cNvSpPr/>
            <p:nvPr/>
          </p:nvSpPr>
          <p:spPr>
            <a:xfrm flipV="1">
              <a:off x="6095880" y="2577960"/>
              <a:ext cx="711360" cy="2923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6095880" y="2577960"/>
              <a:ext cx="711360" cy="29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943600" y="3467160"/>
            <a:ext cx="762120" cy="304920"/>
            <a:chOff x="5943600" y="3467160"/>
            <a:chExt cx="762120" cy="304920"/>
          </a:xfrm>
        </p:grpSpPr>
        <p:sp>
          <p:nvSpPr>
            <p:cNvPr id="191" name="Line 18"/>
            <p:cNvSpPr/>
            <p:nvPr/>
          </p:nvSpPr>
          <p:spPr>
            <a:xfrm>
              <a:off x="5943600" y="3467160"/>
              <a:ext cx="762120" cy="3049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943600" y="346716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193" name="Text Box 19"/>
          <p:cNvSpPr/>
          <p:nvPr/>
        </p:nvSpPr>
        <p:spPr>
          <a:xfrm>
            <a:off x="2755800" y="2895480"/>
            <a:ext cx="3124440" cy="311868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main Nam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3 Country Code top level domain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 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xisting gTLD’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New gTLD’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ultilingual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91960" y="2895480"/>
            <a:ext cx="1981440" cy="318096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50000">
                <a:srgbClr val="0066ff"/>
              </a:gs>
              <a:gs pos="100000">
                <a:srgbClr val="002f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rand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+ 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ivision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04920" y="2362320"/>
            <a:ext cx="558792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rporate Digital Asset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17520" y="6006960"/>
            <a:ext cx="5600520" cy="7038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egistration Requirements, Language Barrier, Time Zones, Currencies, Renewal Dat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152280" y="2286000"/>
            <a:ext cx="8839440" cy="4495680"/>
          </a:xfrm>
          <a:prstGeom prst="rect">
            <a:avLst/>
          </a:prstGeom>
          <a:noFill/>
          <a:ln w="2556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7391520" y="572760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ultiLingual g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L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30 Languag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91520" y="6248520"/>
            <a:ext cx="1523880" cy="459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254a5c"/>
              </a:gs>
              <a:gs pos="100000">
                <a:srgbClr val="66cc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ultilingual cc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L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30 Languages</a:t>
            </a:r>
            <a:endParaRPr b="1" lang="en-US" sz="12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omain Names Management Challeng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402-EF93-47BE-B373-8780CC47F1EA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VeriSign 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473120" y="1536840"/>
            <a:ext cx="6782040" cy="4343400"/>
          </a:xfrm>
          <a:prstGeom prst="rect">
            <a:avLst/>
          </a:prstGeom>
          <a:gradFill rotWithShape="0">
            <a:gsLst>
              <a:gs pos="0">
                <a:srgbClr val="ffbe00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BRANDS</a:t>
            </a:r>
            <a:endParaRPr b="1" lang="en-US" sz="8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473120" y="1689120"/>
            <a:ext cx="678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  <a:ea typeface="宋体"/>
              </a:rPr>
              <a:t>Protect and Promote</a:t>
            </a:r>
            <a:endParaRPr b="1" lang="en-US" sz="4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082960" y="47372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  <a:ea typeface="宋体"/>
              </a:rPr>
              <a:t>In th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rebuchet MS"/>
                <a:ea typeface="宋体"/>
              </a:rPr>
              <a:t>Digital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  <a:ea typeface="宋体"/>
              </a:rPr>
              <a:t> World</a:t>
            </a:r>
            <a:endParaRPr b="1" lang="en-US" sz="4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4AEB-2266-4DB2-96DA-9C8DDCDC8A72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74720" y="2028240"/>
            <a:ext cx="7912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Breath of digital asset management servic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Industry expertise, enterprise customer support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Financial strength and stability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Market leader and Registry operator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- VeriSign manages more than 80% of Fortune 100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.com, .net and .org names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- DBMS has ~200 clients of the Global 500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Global Reach 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Serious about Security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Tahoma"/>
                <a:ea typeface="宋体"/>
              </a:rPr>
              <a:t>- More than 5 billion DNS lookups per day</a:t>
            </a: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Highlights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4215-C92C-452A-AB29-CA7503D7556B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214" name="Group 19"/>
          <p:cNvGrpSpPr/>
          <p:nvPr/>
        </p:nvGrpSpPr>
        <p:grpSpPr>
          <a:xfrm>
            <a:off x="865080" y="1876320"/>
            <a:ext cx="8049960" cy="4492800"/>
            <a:chOff x="865080" y="1876320"/>
            <a:chExt cx="8049960" cy="4492800"/>
          </a:xfrm>
        </p:grpSpPr>
        <p:pic>
          <p:nvPicPr>
            <p:cNvPr id="215" name="Object 5" descr=""/>
            <p:cNvPicPr/>
            <p:nvPr/>
          </p:nvPicPr>
          <p:blipFill>
            <a:blip r:embed="rId1"/>
            <a:stretch/>
          </p:blipFill>
          <p:spPr>
            <a:xfrm>
              <a:off x="1252440" y="1876320"/>
              <a:ext cx="429876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0"/>
            <p:cNvSpPr/>
            <p:nvPr/>
          </p:nvSpPr>
          <p:spPr>
            <a:xfrm>
              <a:off x="2414520" y="2314440"/>
              <a:ext cx="163008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Strategy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5660640" y="2690640"/>
              <a:ext cx="3254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“</a:t>
              </a: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Domain Names – 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The E-Sign to Your Business” …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Ted Chamberlin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Gartner, Inc.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Arial"/>
                  <a:ea typeface="宋体"/>
                </a:rPr>
                <a:t>Aug 22, 2001</a:t>
              </a:r>
              <a:endParaRPr b="1" lang="en-US" sz="14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4281120" y="3228840"/>
              <a:ext cx="163044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Monitor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128840" y="4867200"/>
              <a:ext cx="163044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Build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1703160" y="5286240"/>
              <a:ext cx="163044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Manage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865080" y="3495600"/>
              <a:ext cx="1630080" cy="78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Search</a:t>
              </a:r>
              <a:endParaRPr b="1" lang="en-US" sz="2000" spc="-1" strike="noStrike">
                <a:solidFill>
                  <a:srgbClr val="008000"/>
                </a:solidFill>
                <a:latin typeface="Tahoma"/>
              </a:endParaRPr>
            </a:p>
          </p:txBody>
        </p:sp>
      </p:grpSp>
      <p:sp>
        <p:nvSpPr>
          <p:cNvPr id="222" name="Rectangle 20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21D-60F6-4282-96A2-60ECC7523AE5}" type="slidenum">
              <a:rPr b="0" lang="zh-CN" sz="1000" spc="-1" strike="noStrike">
                <a:solidFill>
                  <a:srgbClr val="4b89db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0820520" y="41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735120" y="1271520"/>
            <a:ext cx="736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Best Practice </a:t>
            </a:r>
            <a:br>
              <a:rPr sz="2300"/>
            </a:b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  <a:ea typeface="宋体"/>
              </a:rPr>
              <a:t>&gt;&gt;&gt; Strategy…..</a:t>
            </a:r>
            <a:endParaRPr b="1" lang="en-US" sz="23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841320" y="2062080"/>
            <a:ext cx="7010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Risk tolerance 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Corporate Security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Copyright Piracy Protection? 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Intellectual Property Protection? 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E-Commerce Strategy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Brand Protection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On-line Partner Compliance? 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Unauthorized Distribution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  <a:ea typeface="宋体"/>
              </a:rPr>
              <a:t>Renewal Management ?</a:t>
            </a:r>
            <a:endParaRPr b="1" lang="en-US" sz="1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774720" y="25560"/>
            <a:ext cx="836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Digital Brand Management Services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9" name="文本框 8199"/>
          <p:cNvSpPr/>
          <p:nvPr/>
        </p:nvSpPr>
        <p:spPr>
          <a:xfrm>
            <a:off x="3479760" y="2319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bb83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8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36Z</dcterms:modified>
  <cp:revision>1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