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65FA-6656-47F5-98DB-A03AC28B1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5106-D074-42E8-A063-39F9FBA64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E370-BCEC-43AD-B200-B0D8AFE87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7BC1-E29F-4D8E-AA17-0F4225CFD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0F095-6C3B-4C15-9F55-737D1FB92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F418C-3AD7-414F-AAE8-2E64A39FE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E62E1-01D6-4590-AAF6-420C2ADF5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49676-92F8-4775-BE7A-3E4AE1130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FD9B3-49B8-4D2C-8A23-F04C74DE0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AF3B3-E09E-46DB-B2E1-AF0758948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529D4-6538-4C09-B0CA-34FE4A6C7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14C9-78EA-43D1-ABF6-0718CC815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96B7A-ED01-43AD-B677-A3FA152E2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65355-1DA6-449F-AAB2-001ED1A44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59FD5-9333-4D86-B93C-F874257F1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68859-1694-4377-BE25-2F7E5A376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2CDDB-B642-4B5A-B4C5-C26611E31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CCF29-81DF-40FD-A849-2B0E9B9E4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599EF-DB8D-49A5-BD63-D09BFDD0D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F5F69-0779-4807-8D72-EB263F715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C23E9-9835-428F-8C5D-FEC6299BD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07D91-1A07-43F8-BC75-427A4461A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3F93-1C5C-43C9-B3BB-2EFC59045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C0D59-5B59-4718-86D4-D75A1D7C0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30AC1-E41A-4C83-949F-1FDEE205E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A5BCC-CB1F-4DF6-BB92-4B54AF992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16D13-18B7-411B-8119-D68E88A6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1CA4B-08E3-4106-94AD-DDE7C0396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27CF2-D856-427D-B884-709C3D6EC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F843D-6844-4CE7-AA6A-7C66B9E3B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CFB2-9B71-4AC9-93FA-8D0473EF7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BB5E-4E78-47CA-B260-E8EAB0941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E17C-79FF-4E88-83BC-91C2BEFB7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9ADE-C2E5-48AE-A04E-DB0592D36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EA40-8D19-42FC-BD80-800F7F3A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1743-F00D-409C-AA1A-2DA2817AC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98664-0EF8-4A7B-9727-7A390F31D71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281CD-6A50-480C-A323-0349637298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4B85E-D04A-4A67-BD07-92ED877D4E98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5A9F4-0DC2-4D82-B6EC-CB954D746FF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0A19D-C90F-453A-8F37-BD6919B95C9A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1F8F7-2E6D-4B5F-92CC-82CCE494265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文本框 4097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4098"/>
          <p:cNvSpPr/>
          <p:nvPr/>
        </p:nvSpPr>
        <p:spPr>
          <a:xfrm>
            <a:off x="1189080" y="404640"/>
            <a:ext cx="63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国外商务会议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351ED-6481-48D2-BA58-9E89F18C42D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5123"/>
          <p:cNvSpPr/>
          <p:nvPr/>
        </p:nvSpPr>
        <p:spPr>
          <a:xfrm>
            <a:off x="755640" y="249408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6T20:34:5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8:08Z</dcterms:modified>
  <cp:revision>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