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13.png" ContentType="image/png"/>
  <Override PartName="/ppt/media/image8.png" ContentType="image/png"/>
  <Override PartName="/ppt/media/image14.jpeg" ContentType="image/jpeg"/>
  <Override PartName="/ppt/media/image7.jpeg" ContentType="image/jpeg"/>
  <Override PartName="/ppt/media/image11.png" ContentType="image/png"/>
  <Override PartName="/ppt/media/image9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</p:sldIdLst>
  <p:sldSz cx="9601200" cy="7042150"/>
  <p:notesSz cx="6872288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2C89A-2780-45AF-9BF6-9DFBE30AE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49440" y="593280"/>
            <a:ext cx="8161200" cy="11732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79440" y="1798200"/>
            <a:ext cx="7842240" cy="21268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279440" y="4127400"/>
            <a:ext cx="7842240" cy="21268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6D1D8-9DFF-480C-BD8A-FBFEE51EB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49440" y="593280"/>
            <a:ext cx="8161200" cy="11732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79440" y="1798200"/>
            <a:ext cx="3826800" cy="21268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98120" y="1798200"/>
            <a:ext cx="3826800" cy="21268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279440" y="4127400"/>
            <a:ext cx="3826800" cy="21268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298120" y="4127400"/>
            <a:ext cx="3826800" cy="21268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EFAEB-D84F-4602-8641-1CAF83B26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49440" y="593280"/>
            <a:ext cx="8161200" cy="11732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79440" y="1798200"/>
            <a:ext cx="2525040" cy="21268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931200" y="1798200"/>
            <a:ext cx="2525040" cy="21268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82960" y="1798200"/>
            <a:ext cx="2525040" cy="21268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279440" y="4127400"/>
            <a:ext cx="2525040" cy="21268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931200" y="4127400"/>
            <a:ext cx="2525040" cy="21268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82960" y="4127400"/>
            <a:ext cx="2525040" cy="21268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72A35-69AB-4594-A8C5-6DAFC5600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5CBE2-CE21-4E90-BE34-3BD3491C1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49440" y="593280"/>
            <a:ext cx="8161200" cy="11732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279440" y="1798200"/>
            <a:ext cx="7842240" cy="44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60886-1F9D-46D0-8845-9E70C8F2C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49440" y="593280"/>
            <a:ext cx="8161200" cy="11732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79440" y="1798200"/>
            <a:ext cx="7842240" cy="44593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A77A0-4634-40A9-B1B5-1DB60D96A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49440" y="593280"/>
            <a:ext cx="8161200" cy="11732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279440" y="1798200"/>
            <a:ext cx="3826800" cy="44593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298120" y="1798200"/>
            <a:ext cx="3826800" cy="44593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62396-2CE2-487D-A17F-C76E18E07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49440" y="593280"/>
            <a:ext cx="8161200" cy="11732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F998F-3B0E-4AC3-AE31-E143D7676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49440" y="593280"/>
            <a:ext cx="816120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6A0FD-5502-4C6F-993A-F6AFB9C2B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49440" y="593280"/>
            <a:ext cx="8161200" cy="11732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79440" y="1798200"/>
            <a:ext cx="3826800" cy="21268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298120" y="1798200"/>
            <a:ext cx="3826800" cy="44593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279440" y="4127400"/>
            <a:ext cx="3826800" cy="21268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91AC3-5CDB-43EA-98B9-7DB6579A3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49440" y="593280"/>
            <a:ext cx="8161200" cy="11732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279440" y="1798200"/>
            <a:ext cx="7842240" cy="44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0D7E4-FBFA-4E66-80D0-5403621DD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49440" y="593280"/>
            <a:ext cx="8161200" cy="11732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79440" y="1798200"/>
            <a:ext cx="3826800" cy="44593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298120" y="1798200"/>
            <a:ext cx="3826800" cy="21268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298120" y="4127400"/>
            <a:ext cx="3826800" cy="21268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0383A-6932-4904-AC5B-37CB080CE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49440" y="593280"/>
            <a:ext cx="8161200" cy="11732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79440" y="1798200"/>
            <a:ext cx="3826800" cy="21268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298120" y="1798200"/>
            <a:ext cx="3826800" cy="21268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279440" y="4127400"/>
            <a:ext cx="7842240" cy="21268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8908B-26B5-4C8B-A3B5-B90DC45DA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49440" y="593280"/>
            <a:ext cx="8161200" cy="11732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79440" y="1798200"/>
            <a:ext cx="7842240" cy="21268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279440" y="4127400"/>
            <a:ext cx="7842240" cy="21268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866DF-64E6-4344-8C87-98A36B610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49440" y="593280"/>
            <a:ext cx="8161200" cy="11732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79440" y="1798200"/>
            <a:ext cx="3826800" cy="21268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98120" y="1798200"/>
            <a:ext cx="3826800" cy="21268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79440" y="4127400"/>
            <a:ext cx="3826800" cy="21268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298120" y="4127400"/>
            <a:ext cx="3826800" cy="21268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070A1-B9AC-43EA-AD7E-0EB27D27C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49440" y="593280"/>
            <a:ext cx="8161200" cy="11732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279440" y="1798200"/>
            <a:ext cx="2525040" cy="21268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931200" y="1798200"/>
            <a:ext cx="2525040" cy="21268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582960" y="1798200"/>
            <a:ext cx="2525040" cy="21268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279440" y="4127400"/>
            <a:ext cx="2525040" cy="21268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931200" y="4127400"/>
            <a:ext cx="2525040" cy="21268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582960" y="4127400"/>
            <a:ext cx="2525040" cy="21268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F03C9-C647-4C3F-8C79-DAB680FAF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49440" y="593280"/>
            <a:ext cx="8161200" cy="11732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279440" y="1798200"/>
            <a:ext cx="7842240" cy="44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49440" y="593280"/>
            <a:ext cx="8161200" cy="11732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79440" y="1798200"/>
            <a:ext cx="7842240" cy="44593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49440" y="593280"/>
            <a:ext cx="8161200" cy="11732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79440" y="1798200"/>
            <a:ext cx="3826800" cy="44593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298120" y="1798200"/>
            <a:ext cx="3826800" cy="44593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49440" y="593280"/>
            <a:ext cx="8161200" cy="11732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49440" y="593280"/>
            <a:ext cx="8161200" cy="11732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79440" y="1798200"/>
            <a:ext cx="7842240" cy="44593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38A1E-3985-401D-9BAE-0425039FE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649440" y="593280"/>
            <a:ext cx="816120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49440" y="593280"/>
            <a:ext cx="8161200" cy="11732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79440" y="1798200"/>
            <a:ext cx="3826800" cy="21268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298120" y="1798200"/>
            <a:ext cx="3826800" cy="44593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1279440" y="4127400"/>
            <a:ext cx="3826800" cy="21268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49440" y="593280"/>
            <a:ext cx="8161200" cy="11732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79440" y="1798200"/>
            <a:ext cx="3826800" cy="44593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298120" y="1798200"/>
            <a:ext cx="3826800" cy="21268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5298120" y="4127400"/>
            <a:ext cx="3826800" cy="21268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49440" y="593280"/>
            <a:ext cx="8161200" cy="11732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79440" y="1798200"/>
            <a:ext cx="3826800" cy="21268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298120" y="1798200"/>
            <a:ext cx="3826800" cy="21268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1279440" y="4127400"/>
            <a:ext cx="7842240" cy="21268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49440" y="593280"/>
            <a:ext cx="8161200" cy="11732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279440" y="1798200"/>
            <a:ext cx="7842240" cy="21268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1279440" y="4127400"/>
            <a:ext cx="7842240" cy="21268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49440" y="593280"/>
            <a:ext cx="8161200" cy="11732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79440" y="1798200"/>
            <a:ext cx="3826800" cy="21268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298120" y="1798200"/>
            <a:ext cx="3826800" cy="21268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1279440" y="4127400"/>
            <a:ext cx="3826800" cy="21268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5298120" y="4127400"/>
            <a:ext cx="3826800" cy="21268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49440" y="593280"/>
            <a:ext cx="8161200" cy="11732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279440" y="1798200"/>
            <a:ext cx="2525040" cy="21268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931200" y="1798200"/>
            <a:ext cx="2525040" cy="21268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582960" y="1798200"/>
            <a:ext cx="2525040" cy="21268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1279440" y="4127400"/>
            <a:ext cx="2525040" cy="21268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931200" y="4127400"/>
            <a:ext cx="2525040" cy="21268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582960" y="4127400"/>
            <a:ext cx="2525040" cy="21268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49440" y="593280"/>
            <a:ext cx="8161200" cy="11732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79440" y="1798200"/>
            <a:ext cx="3826800" cy="44593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298120" y="1798200"/>
            <a:ext cx="3826800" cy="44593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46091-CCB1-4FB2-B4AE-5175583F8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49440" y="593280"/>
            <a:ext cx="8161200" cy="11732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B8699-3EF8-4592-9E83-36E1B6657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49440" y="593280"/>
            <a:ext cx="816120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CF724-4CDC-40C1-AB0A-E3A679389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49440" y="593280"/>
            <a:ext cx="8161200" cy="11732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79440" y="1798200"/>
            <a:ext cx="3826800" cy="21268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98120" y="1798200"/>
            <a:ext cx="3826800" cy="44593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279440" y="4127400"/>
            <a:ext cx="3826800" cy="21268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AA705-0ACF-43DC-B604-140E32117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49440" y="593280"/>
            <a:ext cx="8161200" cy="11732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79440" y="1798200"/>
            <a:ext cx="3826800" cy="44593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98120" y="1798200"/>
            <a:ext cx="3826800" cy="21268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298120" y="4127400"/>
            <a:ext cx="3826800" cy="21268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F0A0F-DF8A-48E8-94A0-4D902FBAE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49440" y="593280"/>
            <a:ext cx="8161200" cy="11732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79440" y="1798200"/>
            <a:ext cx="3826800" cy="21268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98120" y="1798200"/>
            <a:ext cx="3826800" cy="21268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279440" y="4127400"/>
            <a:ext cx="7842240" cy="21268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71B12-FF94-4FF5-8ED8-C5460A70C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1030" descr=""/>
          <p:cNvPicPr/>
          <p:nvPr/>
        </p:nvPicPr>
        <p:blipFill>
          <a:blip r:embed="rId2"/>
          <a:stretch/>
        </p:blipFill>
        <p:spPr>
          <a:xfrm>
            <a:off x="0" y="9360"/>
            <a:ext cx="9601200" cy="70311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49440" y="593280"/>
            <a:ext cx="8161200" cy="11732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79440" y="1798200"/>
            <a:ext cx="7842240" cy="44593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marL="357120" indent="-35712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474840" indent="4759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2" marL="95076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3" marL="1425600" indent="-47484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4" marL="1901880" indent="-95112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5" marL="1901880" indent="-95112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6" marL="1901880" indent="-95112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20720" y="6414840"/>
            <a:ext cx="2000160" cy="468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279600" y="6414840"/>
            <a:ext cx="3042000" cy="468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880320" y="6414840"/>
            <a:ext cx="2000160" cy="468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  <a:defRPr b="0" lang="zh-CN" sz="15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80690BD9-2391-44DE-85D5-F2388509F290}" type="slidenum">
              <a:rPr b="0" lang="zh-CN" sz="15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E6DB1-E2A6-4120-8927-82759C1AAABC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876D5-4CF0-4BBD-958B-C639ED1BADA0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图片 4103" descr=""/>
          <p:cNvPicPr/>
          <p:nvPr/>
        </p:nvPicPr>
        <p:blipFill>
          <a:blip r:embed="rId2"/>
          <a:stretch/>
        </p:blipFill>
        <p:spPr>
          <a:xfrm>
            <a:off x="0" y="0"/>
            <a:ext cx="9601200" cy="7040520"/>
          </a:xfrm>
          <a:prstGeom prst="rect">
            <a:avLst/>
          </a:prstGeom>
          <a:ln w="0">
            <a:noFill/>
          </a:ln>
        </p:spPr>
      </p:pic>
      <p:sp>
        <p:nvSpPr>
          <p:cNvPr id="84" name="动作按钮: 自定义 4105"/>
          <p:cNvSpPr/>
          <p:nvPr/>
        </p:nvSpPr>
        <p:spPr>
          <a:xfrm>
            <a:off x="160200" y="77760"/>
            <a:ext cx="1119240" cy="235080"/>
          </a:xfrm>
          <a:custGeom>
            <a:avLst/>
            <a:gdLst>
              <a:gd name="textAreaLeft" fmla="*/ 15120 w 1119240"/>
              <a:gd name="textAreaRight" fmla="*/ 1104120 w 1119240"/>
              <a:gd name="textAreaTop" fmla="*/ 15120 h 235080"/>
              <a:gd name="textAreaBottom" fmla="*/ 219960 h 235080"/>
            </a:gdLst>
            <a:ahLst/>
            <a:rect l="textAreaLeft" t="textAreaTop" r="textAreaRight" b="textAreaBottom"/>
            <a:pathLst>
              <a:path w="102716" h="21600">
                <a:moveTo>
                  <a:pt x="0" y="0"/>
                </a:moveTo>
                <a:lnTo>
                  <a:pt x="102716" y="0"/>
                </a:lnTo>
                <a:lnTo>
                  <a:pt x="102716" y="21600"/>
                </a:lnTo>
                <a:lnTo>
                  <a:pt x="0" y="21600"/>
                </a:lnTo>
                <a:close/>
              </a:path>
              <a:path fill="lightenLess" w="102716" h="21600">
                <a:moveTo>
                  <a:pt x="0" y="0"/>
                </a:moveTo>
                <a:lnTo>
                  <a:pt x="102716" y="0"/>
                </a:lnTo>
                <a:lnTo>
                  <a:pt x="101316" y="1400"/>
                </a:lnTo>
                <a:lnTo>
                  <a:pt x="1400" y="1400"/>
                </a:lnTo>
                <a:close/>
              </a:path>
              <a:path fill="darken" w="102716" h="21600">
                <a:moveTo>
                  <a:pt x="102716" y="0"/>
                </a:moveTo>
                <a:lnTo>
                  <a:pt x="102716" y="21600"/>
                </a:lnTo>
                <a:lnTo>
                  <a:pt x="101316" y="20200"/>
                </a:lnTo>
                <a:lnTo>
                  <a:pt x="101316" y="1400"/>
                </a:lnTo>
                <a:close/>
              </a:path>
              <a:path fill="darkenLess" w="102716" h="21600">
                <a:moveTo>
                  <a:pt x="1027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1316" y="20200"/>
                </a:lnTo>
                <a:close/>
              </a:path>
              <a:path fill="lighten" w="1027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cde6ff">
                  <a:alpha val="51372"/>
                </a:srgbClr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7520" bIns="47520" anchor="ctr">
            <a:noAutofit/>
          </a:bodyPr>
          <a:p>
            <a:pPr algn="ct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宋体"/>
              </a:rPr>
              <a:t>Who Are W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动作按钮: 自定义 4106"/>
          <p:cNvSpPr/>
          <p:nvPr/>
        </p:nvSpPr>
        <p:spPr>
          <a:xfrm>
            <a:off x="1279440" y="77760"/>
            <a:ext cx="1121040" cy="235080"/>
          </a:xfrm>
          <a:custGeom>
            <a:avLst/>
            <a:gdLst>
              <a:gd name="textAreaLeft" fmla="*/ 15120 w 1121040"/>
              <a:gd name="textAreaRight" fmla="*/ 1105920 w 1121040"/>
              <a:gd name="textAreaTop" fmla="*/ 15120 h 235080"/>
              <a:gd name="textAreaBottom" fmla="*/ 219960 h 235080"/>
            </a:gdLst>
            <a:ahLst/>
            <a:rect l="textAreaLeft" t="textAreaTop" r="textAreaRight" b="textAreaBottom"/>
            <a:pathLst>
              <a:path w="102881" h="21600">
                <a:moveTo>
                  <a:pt x="0" y="0"/>
                </a:moveTo>
                <a:lnTo>
                  <a:pt x="102881" y="0"/>
                </a:lnTo>
                <a:lnTo>
                  <a:pt x="102881" y="21600"/>
                </a:lnTo>
                <a:lnTo>
                  <a:pt x="0" y="21600"/>
                </a:lnTo>
                <a:close/>
              </a:path>
              <a:path fill="lightenLess" w="102881" h="21600">
                <a:moveTo>
                  <a:pt x="0" y="0"/>
                </a:moveTo>
                <a:lnTo>
                  <a:pt x="102881" y="0"/>
                </a:lnTo>
                <a:lnTo>
                  <a:pt x="101481" y="1400"/>
                </a:lnTo>
                <a:lnTo>
                  <a:pt x="1400" y="1400"/>
                </a:lnTo>
                <a:close/>
              </a:path>
              <a:path fill="darken" w="102881" h="21600">
                <a:moveTo>
                  <a:pt x="102881" y="0"/>
                </a:moveTo>
                <a:lnTo>
                  <a:pt x="102881" y="21600"/>
                </a:lnTo>
                <a:lnTo>
                  <a:pt x="101481" y="20200"/>
                </a:lnTo>
                <a:lnTo>
                  <a:pt x="101481" y="1400"/>
                </a:lnTo>
                <a:close/>
              </a:path>
              <a:path fill="darkenLess" w="102881" h="21600">
                <a:moveTo>
                  <a:pt x="1028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1481" y="20200"/>
                </a:lnTo>
                <a:close/>
              </a:path>
              <a:path fill="lighten" w="1028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cde6ff">
                  <a:alpha val="51372"/>
                </a:srgbClr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7520" bIns="47520" anchor="ctr">
            <a:noAutofit/>
          </a:bodyPr>
          <a:p>
            <a:pPr algn="ct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宋体"/>
              </a:rPr>
              <a:t>Core Tea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动作按钮: 自定义 4107"/>
          <p:cNvSpPr/>
          <p:nvPr/>
        </p:nvSpPr>
        <p:spPr>
          <a:xfrm>
            <a:off x="2400480" y="77760"/>
            <a:ext cx="1120680" cy="235080"/>
          </a:xfrm>
          <a:custGeom>
            <a:avLst/>
            <a:gdLst>
              <a:gd name="textAreaLeft" fmla="*/ 15120 w 1120680"/>
              <a:gd name="textAreaRight" fmla="*/ 1105560 w 1120680"/>
              <a:gd name="textAreaTop" fmla="*/ 15120 h 235080"/>
              <a:gd name="textAreaBottom" fmla="*/ 219960 h 235080"/>
            </a:gdLst>
            <a:ahLst/>
            <a:rect l="textAreaLeft" t="textAreaTop" r="textAreaRight" b="textAreaBottom"/>
            <a:pathLst>
              <a:path w="102848" h="21600">
                <a:moveTo>
                  <a:pt x="0" y="0"/>
                </a:moveTo>
                <a:lnTo>
                  <a:pt x="102848" y="0"/>
                </a:lnTo>
                <a:lnTo>
                  <a:pt x="102848" y="21600"/>
                </a:lnTo>
                <a:lnTo>
                  <a:pt x="0" y="21600"/>
                </a:lnTo>
                <a:close/>
              </a:path>
              <a:path fill="lightenLess" w="102848" h="21600">
                <a:moveTo>
                  <a:pt x="0" y="0"/>
                </a:moveTo>
                <a:lnTo>
                  <a:pt x="102848" y="0"/>
                </a:lnTo>
                <a:lnTo>
                  <a:pt x="101448" y="1400"/>
                </a:lnTo>
                <a:lnTo>
                  <a:pt x="1400" y="1400"/>
                </a:lnTo>
                <a:close/>
              </a:path>
              <a:path fill="darken" w="102848" h="21600">
                <a:moveTo>
                  <a:pt x="102848" y="0"/>
                </a:moveTo>
                <a:lnTo>
                  <a:pt x="102848" y="21600"/>
                </a:lnTo>
                <a:lnTo>
                  <a:pt x="101448" y="20200"/>
                </a:lnTo>
                <a:lnTo>
                  <a:pt x="101448" y="1400"/>
                </a:lnTo>
                <a:close/>
              </a:path>
              <a:path fill="darkenLess" w="102848" h="21600">
                <a:moveTo>
                  <a:pt x="1028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1448" y="20200"/>
                </a:lnTo>
                <a:close/>
              </a:path>
              <a:path fill="lighten" w="1028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cde6ff">
                  <a:alpha val="51372"/>
                </a:srgbClr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7520" bIns="47520" anchor="ctr">
            <a:noAutofit/>
          </a:bodyPr>
          <a:p>
            <a:pPr algn="ct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宋体"/>
              </a:rPr>
              <a:t>Our Driver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动作按钮: 自定义 4108"/>
          <p:cNvSpPr/>
          <p:nvPr/>
        </p:nvSpPr>
        <p:spPr>
          <a:xfrm>
            <a:off x="3521160" y="77760"/>
            <a:ext cx="1119240" cy="235080"/>
          </a:xfrm>
          <a:custGeom>
            <a:avLst/>
            <a:gdLst>
              <a:gd name="textAreaLeft" fmla="*/ 15120 w 1119240"/>
              <a:gd name="textAreaRight" fmla="*/ 1104120 w 1119240"/>
              <a:gd name="textAreaTop" fmla="*/ 15120 h 235080"/>
              <a:gd name="textAreaBottom" fmla="*/ 219960 h 235080"/>
            </a:gdLst>
            <a:ahLst/>
            <a:rect l="textAreaLeft" t="textAreaTop" r="textAreaRight" b="textAreaBottom"/>
            <a:pathLst>
              <a:path w="102716" h="21600">
                <a:moveTo>
                  <a:pt x="0" y="0"/>
                </a:moveTo>
                <a:lnTo>
                  <a:pt x="102716" y="0"/>
                </a:lnTo>
                <a:lnTo>
                  <a:pt x="102716" y="21600"/>
                </a:lnTo>
                <a:lnTo>
                  <a:pt x="0" y="21600"/>
                </a:lnTo>
                <a:close/>
              </a:path>
              <a:path fill="lightenLess" w="102716" h="21600">
                <a:moveTo>
                  <a:pt x="0" y="0"/>
                </a:moveTo>
                <a:lnTo>
                  <a:pt x="102716" y="0"/>
                </a:lnTo>
                <a:lnTo>
                  <a:pt x="101316" y="1400"/>
                </a:lnTo>
                <a:lnTo>
                  <a:pt x="1400" y="1400"/>
                </a:lnTo>
                <a:close/>
              </a:path>
              <a:path fill="darken" w="102716" h="21600">
                <a:moveTo>
                  <a:pt x="102716" y="0"/>
                </a:moveTo>
                <a:lnTo>
                  <a:pt x="102716" y="21600"/>
                </a:lnTo>
                <a:lnTo>
                  <a:pt x="101316" y="20200"/>
                </a:lnTo>
                <a:lnTo>
                  <a:pt x="101316" y="1400"/>
                </a:lnTo>
                <a:close/>
              </a:path>
              <a:path fill="darkenLess" w="102716" h="21600">
                <a:moveTo>
                  <a:pt x="1027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1316" y="20200"/>
                </a:lnTo>
                <a:close/>
              </a:path>
              <a:path fill="lighten" w="1027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dddddd">
                  <a:alpha val="65098"/>
                </a:srgbClr>
              </a:gs>
              <a:gs pos="100000">
                <a:srgbClr val="f1f1f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7520" bIns="47520" anchor="ctr">
            <a:noAutofit/>
          </a:bodyPr>
          <a:p>
            <a:pPr algn="ct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宋体"/>
              </a:rPr>
              <a:t>What We D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动作按钮: 自定义 4109"/>
          <p:cNvSpPr/>
          <p:nvPr/>
        </p:nvSpPr>
        <p:spPr>
          <a:xfrm>
            <a:off x="4640400" y="77760"/>
            <a:ext cx="1120680" cy="235080"/>
          </a:xfrm>
          <a:custGeom>
            <a:avLst/>
            <a:gdLst>
              <a:gd name="textAreaLeft" fmla="*/ 15120 w 1120680"/>
              <a:gd name="textAreaRight" fmla="*/ 1105560 w 1120680"/>
              <a:gd name="textAreaTop" fmla="*/ 15120 h 235080"/>
              <a:gd name="textAreaBottom" fmla="*/ 219960 h 235080"/>
            </a:gdLst>
            <a:ahLst/>
            <a:rect l="textAreaLeft" t="textAreaTop" r="textAreaRight" b="textAreaBottom"/>
            <a:pathLst>
              <a:path w="102848" h="21600">
                <a:moveTo>
                  <a:pt x="0" y="0"/>
                </a:moveTo>
                <a:lnTo>
                  <a:pt x="102848" y="0"/>
                </a:lnTo>
                <a:lnTo>
                  <a:pt x="102848" y="21600"/>
                </a:lnTo>
                <a:lnTo>
                  <a:pt x="0" y="21600"/>
                </a:lnTo>
                <a:close/>
              </a:path>
              <a:path fill="lightenLess" w="102848" h="21600">
                <a:moveTo>
                  <a:pt x="0" y="0"/>
                </a:moveTo>
                <a:lnTo>
                  <a:pt x="102848" y="0"/>
                </a:lnTo>
                <a:lnTo>
                  <a:pt x="101448" y="1400"/>
                </a:lnTo>
                <a:lnTo>
                  <a:pt x="1400" y="1400"/>
                </a:lnTo>
                <a:close/>
              </a:path>
              <a:path fill="darken" w="102848" h="21600">
                <a:moveTo>
                  <a:pt x="102848" y="0"/>
                </a:moveTo>
                <a:lnTo>
                  <a:pt x="102848" y="21600"/>
                </a:lnTo>
                <a:lnTo>
                  <a:pt x="101448" y="20200"/>
                </a:lnTo>
                <a:lnTo>
                  <a:pt x="101448" y="1400"/>
                </a:lnTo>
                <a:close/>
              </a:path>
              <a:path fill="darkenLess" w="102848" h="21600">
                <a:moveTo>
                  <a:pt x="1028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1448" y="20200"/>
                </a:lnTo>
                <a:close/>
              </a:path>
              <a:path fill="lighten" w="1028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dddddd">
                  <a:alpha val="65098"/>
                </a:srgbClr>
              </a:gs>
              <a:gs pos="100000">
                <a:srgbClr val="f1f1f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7520" bIns="47520" anchor="ctr">
            <a:noAutofit/>
          </a:bodyPr>
          <a:p>
            <a:pPr algn="ct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宋体"/>
              </a:rPr>
              <a:t>What You G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动作按钮: 自定义 4110"/>
          <p:cNvSpPr/>
          <p:nvPr/>
        </p:nvSpPr>
        <p:spPr>
          <a:xfrm>
            <a:off x="5761080" y="77760"/>
            <a:ext cx="1119240" cy="235080"/>
          </a:xfrm>
          <a:custGeom>
            <a:avLst/>
            <a:gdLst>
              <a:gd name="textAreaLeft" fmla="*/ 15120 w 1119240"/>
              <a:gd name="textAreaRight" fmla="*/ 1104120 w 1119240"/>
              <a:gd name="textAreaTop" fmla="*/ 15120 h 235080"/>
              <a:gd name="textAreaBottom" fmla="*/ 219960 h 235080"/>
            </a:gdLst>
            <a:ahLst/>
            <a:rect l="textAreaLeft" t="textAreaTop" r="textAreaRight" b="textAreaBottom"/>
            <a:pathLst>
              <a:path w="102716" h="21600">
                <a:moveTo>
                  <a:pt x="0" y="0"/>
                </a:moveTo>
                <a:lnTo>
                  <a:pt x="102716" y="0"/>
                </a:lnTo>
                <a:lnTo>
                  <a:pt x="102716" y="21600"/>
                </a:lnTo>
                <a:lnTo>
                  <a:pt x="0" y="21600"/>
                </a:lnTo>
                <a:close/>
              </a:path>
              <a:path fill="lightenLess" w="102716" h="21600">
                <a:moveTo>
                  <a:pt x="0" y="0"/>
                </a:moveTo>
                <a:lnTo>
                  <a:pt x="102716" y="0"/>
                </a:lnTo>
                <a:lnTo>
                  <a:pt x="101316" y="1400"/>
                </a:lnTo>
                <a:lnTo>
                  <a:pt x="1400" y="1400"/>
                </a:lnTo>
                <a:close/>
              </a:path>
              <a:path fill="darken" w="102716" h="21600">
                <a:moveTo>
                  <a:pt x="102716" y="0"/>
                </a:moveTo>
                <a:lnTo>
                  <a:pt x="102716" y="21600"/>
                </a:lnTo>
                <a:lnTo>
                  <a:pt x="101316" y="20200"/>
                </a:lnTo>
                <a:lnTo>
                  <a:pt x="101316" y="1400"/>
                </a:lnTo>
                <a:close/>
              </a:path>
              <a:path fill="darkenLess" w="102716" h="21600">
                <a:moveTo>
                  <a:pt x="1027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1316" y="20200"/>
                </a:lnTo>
                <a:close/>
              </a:path>
              <a:path fill="lighten" w="1027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dddddd">
                  <a:alpha val="65098"/>
                </a:srgbClr>
              </a:gs>
              <a:gs pos="100000">
                <a:srgbClr val="f1f1f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7520" bIns="47520" anchor="ctr">
            <a:noAutofit/>
          </a:bodyPr>
          <a:p>
            <a:pPr algn="ct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宋体"/>
              </a:rPr>
              <a:t>Training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动作按钮: 自定义 4111"/>
          <p:cNvSpPr/>
          <p:nvPr/>
        </p:nvSpPr>
        <p:spPr>
          <a:xfrm>
            <a:off x="8001000" y="77760"/>
            <a:ext cx="1521000" cy="235080"/>
          </a:xfrm>
          <a:custGeom>
            <a:avLst/>
            <a:gdLst>
              <a:gd name="textAreaLeft" fmla="*/ 15120 w 1521000"/>
              <a:gd name="textAreaRight" fmla="*/ 1505880 w 1521000"/>
              <a:gd name="textAreaTop" fmla="*/ 15120 h 235080"/>
              <a:gd name="textAreaBottom" fmla="*/ 219960 h 235080"/>
            </a:gdLst>
            <a:ahLst/>
            <a:rect l="textAreaLeft" t="textAreaTop" r="textAreaRight" b="textAreaBottom"/>
            <a:pathLst>
              <a:path w="139574" h="21600">
                <a:moveTo>
                  <a:pt x="0" y="0"/>
                </a:moveTo>
                <a:lnTo>
                  <a:pt x="139574" y="0"/>
                </a:lnTo>
                <a:lnTo>
                  <a:pt x="139574" y="21600"/>
                </a:lnTo>
                <a:lnTo>
                  <a:pt x="0" y="21600"/>
                </a:lnTo>
                <a:close/>
              </a:path>
              <a:path fill="lightenLess" w="139574" h="21600">
                <a:moveTo>
                  <a:pt x="0" y="0"/>
                </a:moveTo>
                <a:lnTo>
                  <a:pt x="139574" y="0"/>
                </a:lnTo>
                <a:lnTo>
                  <a:pt x="138174" y="1400"/>
                </a:lnTo>
                <a:lnTo>
                  <a:pt x="1400" y="1400"/>
                </a:lnTo>
                <a:close/>
              </a:path>
              <a:path fill="darken" w="139574" h="21600">
                <a:moveTo>
                  <a:pt x="139574" y="0"/>
                </a:moveTo>
                <a:lnTo>
                  <a:pt x="139574" y="21600"/>
                </a:lnTo>
                <a:lnTo>
                  <a:pt x="138174" y="20200"/>
                </a:lnTo>
                <a:lnTo>
                  <a:pt x="138174" y="1400"/>
                </a:lnTo>
                <a:close/>
              </a:path>
              <a:path fill="darkenLess" w="139574" h="21600">
                <a:moveTo>
                  <a:pt x="13957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8174" y="20200"/>
                </a:lnTo>
                <a:close/>
              </a:path>
              <a:path fill="lighten" w="13957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dddddd">
                  <a:alpha val="65098"/>
                </a:srgbClr>
              </a:gs>
              <a:gs pos="100000">
                <a:srgbClr val="f1f1f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7520" bIns="47520" anchor="ctr">
            <a:noAutofit/>
          </a:bodyPr>
          <a:p>
            <a:pPr algn="ct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宋体"/>
              </a:rPr>
              <a:t>What Our Clients Sa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动作按钮: 自定义 4112"/>
          <p:cNvSpPr/>
          <p:nvPr/>
        </p:nvSpPr>
        <p:spPr>
          <a:xfrm>
            <a:off x="6880320" y="77760"/>
            <a:ext cx="1120680" cy="235080"/>
          </a:xfrm>
          <a:custGeom>
            <a:avLst/>
            <a:gdLst>
              <a:gd name="textAreaLeft" fmla="*/ 15120 w 1120680"/>
              <a:gd name="textAreaRight" fmla="*/ 1105560 w 1120680"/>
              <a:gd name="textAreaTop" fmla="*/ 15120 h 235080"/>
              <a:gd name="textAreaBottom" fmla="*/ 219960 h 235080"/>
            </a:gdLst>
            <a:ahLst/>
            <a:rect l="textAreaLeft" t="textAreaTop" r="textAreaRight" b="textAreaBottom"/>
            <a:pathLst>
              <a:path w="102848" h="21600">
                <a:moveTo>
                  <a:pt x="0" y="0"/>
                </a:moveTo>
                <a:lnTo>
                  <a:pt x="102848" y="0"/>
                </a:lnTo>
                <a:lnTo>
                  <a:pt x="102848" y="21600"/>
                </a:lnTo>
                <a:lnTo>
                  <a:pt x="0" y="21600"/>
                </a:lnTo>
                <a:close/>
              </a:path>
              <a:path fill="lightenLess" w="102848" h="21600">
                <a:moveTo>
                  <a:pt x="0" y="0"/>
                </a:moveTo>
                <a:lnTo>
                  <a:pt x="102848" y="0"/>
                </a:lnTo>
                <a:lnTo>
                  <a:pt x="101448" y="1400"/>
                </a:lnTo>
                <a:lnTo>
                  <a:pt x="1400" y="1400"/>
                </a:lnTo>
                <a:close/>
              </a:path>
              <a:path fill="darken" w="102848" h="21600">
                <a:moveTo>
                  <a:pt x="102848" y="0"/>
                </a:moveTo>
                <a:lnTo>
                  <a:pt x="102848" y="21600"/>
                </a:lnTo>
                <a:lnTo>
                  <a:pt x="101448" y="20200"/>
                </a:lnTo>
                <a:lnTo>
                  <a:pt x="101448" y="1400"/>
                </a:lnTo>
                <a:close/>
              </a:path>
              <a:path fill="darkenLess" w="102848" h="21600">
                <a:moveTo>
                  <a:pt x="1028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1448" y="20200"/>
                </a:lnTo>
                <a:close/>
              </a:path>
              <a:path fill="lighten" w="1028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dddddd">
                  <a:alpha val="65098"/>
                </a:srgbClr>
              </a:gs>
              <a:gs pos="100000">
                <a:srgbClr val="f1f1f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7520" bIns="47520" anchor="ctr">
            <a:noAutofit/>
          </a:bodyPr>
          <a:p>
            <a:pPr algn="ct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宋体"/>
              </a:rPr>
              <a:t>Our Journe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动作按钮: 后退或前一项 4113">
            <a:hlinkClick r:id="" action="ppaction://hlinkshowjump?jump=previousslide"/>
          </p:cNvPr>
          <p:cNvSpPr/>
          <p:nvPr/>
        </p:nvSpPr>
        <p:spPr>
          <a:xfrm>
            <a:off x="1521000" y="6570720"/>
            <a:ext cx="558720" cy="156960"/>
          </a:xfrm>
          <a:custGeom>
            <a:avLst/>
            <a:gdLst>
              <a:gd name="textAreaLeft" fmla="*/ 10080 w 558720"/>
              <a:gd name="textAreaRight" fmla="*/ 548640 w 558720"/>
              <a:gd name="textAreaTop" fmla="*/ 10080 h 156960"/>
              <a:gd name="textAreaBottom" fmla="*/ 146880 h 156960"/>
            </a:gdLst>
            <a:ahLst/>
            <a:rect l="textAreaLeft" t="textAreaTop" r="textAreaRight" b="textAreaBottom"/>
            <a:pathLst>
              <a:path w="76762" h="21600">
                <a:moveTo>
                  <a:pt x="0" y="0"/>
                </a:moveTo>
                <a:lnTo>
                  <a:pt x="76762" y="0"/>
                </a:lnTo>
                <a:lnTo>
                  <a:pt x="76762" y="21600"/>
                </a:lnTo>
                <a:lnTo>
                  <a:pt x="0" y="21600"/>
                </a:lnTo>
                <a:close/>
              </a:path>
              <a:path fill="lightenLess" w="76762" h="21600">
                <a:moveTo>
                  <a:pt x="0" y="0"/>
                </a:moveTo>
                <a:lnTo>
                  <a:pt x="76762" y="0"/>
                </a:lnTo>
                <a:lnTo>
                  <a:pt x="75362" y="1400"/>
                </a:lnTo>
                <a:lnTo>
                  <a:pt x="1400" y="1400"/>
                </a:lnTo>
                <a:close/>
              </a:path>
              <a:path fill="darken" w="76762" h="21600">
                <a:moveTo>
                  <a:pt x="76762" y="0"/>
                </a:moveTo>
                <a:lnTo>
                  <a:pt x="76762" y="21600"/>
                </a:lnTo>
                <a:lnTo>
                  <a:pt x="75362" y="20200"/>
                </a:lnTo>
                <a:lnTo>
                  <a:pt x="75362" y="1400"/>
                </a:lnTo>
                <a:close/>
              </a:path>
              <a:path fill="darkenLess" w="76762" h="21600">
                <a:moveTo>
                  <a:pt x="76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5362" y="20200"/>
                </a:lnTo>
                <a:close/>
              </a:path>
              <a:path fill="lighten" w="76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6762" h="21600">
                <a:moveTo>
                  <a:pt x="31374" y="10800"/>
                </a:moveTo>
                <a:lnTo>
                  <a:pt x="45387" y="3794"/>
                </a:lnTo>
                <a:lnTo>
                  <a:pt x="45387" y="17806"/>
                </a:lnTo>
                <a:close/>
              </a:path>
            </a:pathLst>
          </a:custGeom>
          <a:gradFill rotWithShape="0">
            <a:gsLst>
              <a:gs pos="0">
                <a:srgbClr val="e6ecfd"/>
              </a:gs>
              <a:gs pos="100000">
                <a:srgbClr val="a9bcf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动作按钮: 前进或下一项 4115">
            <a:hlinkClick r:id="" action="ppaction://hlinkshowjump?jump=nextslide"/>
          </p:cNvPr>
          <p:cNvSpPr/>
          <p:nvPr/>
        </p:nvSpPr>
        <p:spPr>
          <a:xfrm>
            <a:off x="2160720" y="6570720"/>
            <a:ext cx="560160" cy="156960"/>
          </a:xfrm>
          <a:custGeom>
            <a:avLst/>
            <a:gdLst>
              <a:gd name="textAreaLeft" fmla="*/ 10080 w 560160"/>
              <a:gd name="textAreaRight" fmla="*/ 550080 w 560160"/>
              <a:gd name="textAreaTop" fmla="*/ 10080 h 156960"/>
              <a:gd name="textAreaBottom" fmla="*/ 146880 h 156960"/>
            </a:gdLst>
            <a:ahLst/>
            <a:rect l="textAreaLeft" t="textAreaTop" r="textAreaRight" b="textAreaBottom"/>
            <a:pathLst>
              <a:path w="76959" h="21600">
                <a:moveTo>
                  <a:pt x="0" y="0"/>
                </a:moveTo>
                <a:lnTo>
                  <a:pt x="76959" y="0"/>
                </a:lnTo>
                <a:lnTo>
                  <a:pt x="76959" y="21600"/>
                </a:lnTo>
                <a:lnTo>
                  <a:pt x="0" y="21600"/>
                </a:lnTo>
                <a:close/>
              </a:path>
              <a:path fill="lightenLess" w="76959" h="21600">
                <a:moveTo>
                  <a:pt x="0" y="0"/>
                </a:moveTo>
                <a:lnTo>
                  <a:pt x="76959" y="0"/>
                </a:lnTo>
                <a:lnTo>
                  <a:pt x="75559" y="1400"/>
                </a:lnTo>
                <a:lnTo>
                  <a:pt x="1400" y="1400"/>
                </a:lnTo>
                <a:close/>
              </a:path>
              <a:path fill="darken" w="76959" h="21600">
                <a:moveTo>
                  <a:pt x="76959" y="0"/>
                </a:moveTo>
                <a:lnTo>
                  <a:pt x="76959" y="21600"/>
                </a:lnTo>
                <a:lnTo>
                  <a:pt x="75559" y="20200"/>
                </a:lnTo>
                <a:lnTo>
                  <a:pt x="75559" y="1400"/>
                </a:lnTo>
                <a:close/>
              </a:path>
              <a:path fill="darkenLess" w="76959" h="21600">
                <a:moveTo>
                  <a:pt x="769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5559" y="20200"/>
                </a:lnTo>
                <a:close/>
              </a:path>
              <a:path fill="lighten" w="769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6959" h="21600">
                <a:moveTo>
                  <a:pt x="31473" y="3794"/>
                </a:moveTo>
                <a:lnTo>
                  <a:pt x="45486" y="10800"/>
                </a:lnTo>
                <a:lnTo>
                  <a:pt x="31473" y="17806"/>
                </a:lnTo>
                <a:close/>
              </a:path>
            </a:pathLst>
          </a:custGeom>
          <a:gradFill rotWithShape="0">
            <a:gsLst>
              <a:gs pos="0">
                <a:srgbClr val="a9bcf9"/>
              </a:gs>
              <a:gs pos="100000">
                <a:srgbClr val="e1e8f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49440" y="593280"/>
            <a:ext cx="8161200" cy="11732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1279440" y="1798200"/>
            <a:ext cx="7842240" cy="44593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marL="357120" indent="-35712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474840" indent="4759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2" marL="95076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3" marL="1425600" indent="-47484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4" marL="1901880" indent="-95112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5" marL="1901880" indent="-95112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6" marL="1901880" indent="-95112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ftr" idx="7"/>
          </p:nvPr>
        </p:nvSpPr>
        <p:spPr>
          <a:xfrm>
            <a:off x="3279600" y="6414840"/>
            <a:ext cx="3042000" cy="468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hyperlink" Target="http://www.eeppt.com" TargetMode="External"/><Relationship Id="rId8" Type="http://schemas.openxmlformats.org/officeDocument/2006/relationships/hyperlink" Target="http://www.eeppt.com" TargetMode="External"/><Relationship Id="rId9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21840" y="3285720"/>
            <a:ext cx="8299800" cy="468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ahoma"/>
                <a:ea typeface="宋体"/>
              </a:rPr>
              <a:t>Welcome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2800080" y="2738520"/>
            <a:ext cx="6721560" cy="17985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ahoma"/>
                <a:ea typeface="宋体"/>
              </a:rPr>
              <a:t>Tvarita Consulting - empowering the human spirit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12292"/>
          <p:cNvSpPr/>
          <p:nvPr/>
        </p:nvSpPr>
        <p:spPr>
          <a:xfrm>
            <a:off x="1301760" y="6180120"/>
            <a:ext cx="82994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  <a:ea typeface="宋体"/>
              </a:rPr>
              <a:t>308, East Block, Swarna Jayanthi Complex, Ameerpet, Hyderabad 500016. Ph:040-23735541/5687/ www.tvaritaconsulting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组合 12300"/>
          <p:cNvGrpSpPr/>
          <p:nvPr/>
        </p:nvGrpSpPr>
        <p:grpSpPr>
          <a:xfrm>
            <a:off x="5040360" y="6394320"/>
            <a:ext cx="4481280" cy="568440"/>
            <a:chOff x="5040360" y="6394320"/>
            <a:chExt cx="4481280" cy="568440"/>
          </a:xfrm>
        </p:grpSpPr>
        <p:pic>
          <p:nvPicPr>
            <p:cNvPr id="137" name="图片 12293" descr="Reception"/>
            <p:cNvPicPr/>
            <p:nvPr/>
          </p:nvPicPr>
          <p:blipFill>
            <a:blip r:embed="rId1"/>
            <a:stretch/>
          </p:blipFill>
          <p:spPr>
            <a:xfrm>
              <a:off x="5040360" y="6394320"/>
              <a:ext cx="921240" cy="568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" name="图片 12296" descr="Reception1"/>
            <p:cNvPicPr/>
            <p:nvPr/>
          </p:nvPicPr>
          <p:blipFill>
            <a:blip r:embed="rId2"/>
            <a:stretch/>
          </p:blipFill>
          <p:spPr>
            <a:xfrm>
              <a:off x="5936400" y="6409440"/>
              <a:ext cx="896040" cy="55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" name="图片 12297" descr="Training"/>
            <p:cNvPicPr/>
            <p:nvPr/>
          </p:nvPicPr>
          <p:blipFill>
            <a:blip r:embed="rId3"/>
            <a:stretch/>
          </p:blipFill>
          <p:spPr>
            <a:xfrm>
              <a:off x="6832800" y="6409440"/>
              <a:ext cx="896040" cy="55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" name="图片 12298" descr="Training1"/>
            <p:cNvPicPr/>
            <p:nvPr/>
          </p:nvPicPr>
          <p:blipFill>
            <a:blip r:embed="rId4"/>
            <a:stretch/>
          </p:blipFill>
          <p:spPr>
            <a:xfrm>
              <a:off x="8625600" y="6409440"/>
              <a:ext cx="896040" cy="55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" name="图片 12299" descr="office1"/>
            <p:cNvPicPr/>
            <p:nvPr/>
          </p:nvPicPr>
          <p:blipFill>
            <a:blip r:embed="rId5"/>
            <a:stretch/>
          </p:blipFill>
          <p:spPr>
            <a:xfrm>
              <a:off x="7729200" y="6409440"/>
              <a:ext cx="896040" cy="55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2" name="文本框 6155"/>
          <p:cNvSpPr/>
          <p:nvPr/>
        </p:nvSpPr>
        <p:spPr>
          <a:xfrm>
            <a:off x="152280" y="588168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文本框 1"/>
          <p:cNvSpPr/>
          <p:nvPr/>
        </p:nvSpPr>
        <p:spPr>
          <a:xfrm>
            <a:off x="573120" y="1082520"/>
            <a:ext cx="8672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国外商务业务汇报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打包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60200" y="3206520"/>
            <a:ext cx="2719440" cy="4698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ahoma"/>
                <a:ea typeface="宋体"/>
              </a:rPr>
              <a:t>Our</a:t>
            </a:r>
            <a:r>
              <a:rPr b="1" lang="en-US" sz="2500" spc="-1" strike="noStrike">
                <a:solidFill>
                  <a:srgbClr val="000000"/>
                </a:solidFill>
                <a:latin typeface="Tahoma"/>
                <a:ea typeface="宋体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Tahoma"/>
                <a:ea typeface="宋体"/>
              </a:rPr>
              <a:t>Journey</a:t>
            </a:r>
            <a:r>
              <a:rPr b="1" lang="en-US" sz="2500" spc="-1" strike="noStrike">
                <a:solidFill>
                  <a:srgbClr val="000000"/>
                </a:solidFill>
                <a:latin typeface="Tahoma"/>
                <a:ea typeface="宋体"/>
              </a:rPr>
              <a:t>..</a:t>
            </a:r>
            <a:br>
              <a:rPr sz="2500"/>
            </a:br>
            <a:r>
              <a:rPr b="1" lang="en-US" sz="1200" spc="-1" strike="noStrike">
                <a:solidFill>
                  <a:srgbClr val="000000"/>
                </a:solidFill>
                <a:latin typeface="Tahoma"/>
                <a:ea typeface="宋体"/>
              </a:rPr>
              <a:t>Trainin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2742840" y="1082520"/>
            <a:ext cx="6721560" cy="51055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marL="324000" indent="-324000" algn="just">
              <a:lnSpc>
                <a:spcPct val="90000"/>
              </a:lnSpc>
              <a:spcBef>
                <a:spcPts val="349"/>
              </a:spcBef>
              <a:spcAft>
                <a:spcPts val="349"/>
              </a:spcAft>
              <a:buClr>
                <a:srgbClr val="000000"/>
              </a:buClr>
              <a:buFont typeface="Tahoma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宋体"/>
              </a:rPr>
              <a:t>Training for Middle and Senior Level Professionals of a ITES  Company in Hyderabad 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60320" indent="0" algn="just">
              <a:lnSpc>
                <a:spcPct val="90000"/>
              </a:lnSpc>
              <a:spcBef>
                <a:spcPts val="349"/>
              </a:spcBef>
              <a:spcAft>
                <a:spcPts val="349"/>
              </a:spcAft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60320" indent="-760320" algn="just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Tahoma"/>
              <a:buChar char="–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宋体"/>
              </a:rPr>
              <a:t>Effective Training Skil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4000" indent="0" algn="just">
              <a:lnSpc>
                <a:spcPct val="90000"/>
              </a:lnSpc>
              <a:spcBef>
                <a:spcPts val="349"/>
              </a:spcBef>
              <a:spcAft>
                <a:spcPts val="349"/>
              </a:spcAft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 algn="just">
              <a:lnSpc>
                <a:spcPct val="90000"/>
              </a:lnSpc>
              <a:spcBef>
                <a:spcPts val="349"/>
              </a:spcBef>
              <a:spcAft>
                <a:spcPts val="349"/>
              </a:spcAft>
              <a:buClr>
                <a:srgbClr val="000000"/>
              </a:buClr>
              <a:buFont typeface="Tahoma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宋体"/>
              </a:rPr>
              <a:t>Training in Networking and Influencing skills for Entrepreneurs under the EAP plan, as a key Service Provider for </a:t>
            </a:r>
            <a:r>
              <a:rPr b="1" lang="en-US" sz="1400" spc="-1" strike="noStrike" u="sng">
                <a:solidFill>
                  <a:srgbClr val="00a800"/>
                </a:solidFill>
                <a:uFillTx/>
                <a:latin typeface="Tahoma"/>
                <a:ea typeface="宋体"/>
              </a:rPr>
              <a:t>TiE-Bangalo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0" indent="0" algn="just">
              <a:lnSpc>
                <a:spcPct val="90000"/>
              </a:lnSpc>
              <a:spcBef>
                <a:spcPts val="349"/>
              </a:spcBef>
              <a:spcAft>
                <a:spcPts val="349"/>
              </a:spcAft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 algn="just">
              <a:lnSpc>
                <a:spcPct val="90000"/>
              </a:lnSpc>
              <a:spcBef>
                <a:spcPts val="349"/>
              </a:spcBef>
              <a:spcAft>
                <a:spcPts val="349"/>
              </a:spcAft>
              <a:buClr>
                <a:srgbClr val="000000"/>
              </a:buClr>
              <a:buFont typeface="Tahoma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宋体"/>
              </a:rPr>
              <a:t>Training for Japanese Employees on Acculturation to India for a </a:t>
            </a:r>
            <a:r>
              <a:rPr b="1" lang="en-US" sz="1400" spc="-1" strike="noStrike" u="sng">
                <a:solidFill>
                  <a:srgbClr val="00a800"/>
                </a:solidFill>
                <a:uFillTx/>
                <a:latin typeface="Tahoma"/>
                <a:ea typeface="宋体"/>
              </a:rPr>
              <a:t>top IT Fi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0" indent="0" algn="just">
              <a:lnSpc>
                <a:spcPct val="90000"/>
              </a:lnSpc>
              <a:spcBef>
                <a:spcPts val="349"/>
              </a:spcBef>
              <a:spcAft>
                <a:spcPts val="349"/>
              </a:spcAft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 algn="just">
              <a:lnSpc>
                <a:spcPct val="90000"/>
              </a:lnSpc>
              <a:spcBef>
                <a:spcPts val="349"/>
              </a:spcBef>
              <a:spcAft>
                <a:spcPts val="349"/>
              </a:spcAft>
              <a:buClr>
                <a:srgbClr val="000000"/>
              </a:buClr>
              <a:buFont typeface="Tahoma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宋体"/>
              </a:rPr>
              <a:t>Training Assignments for </a:t>
            </a:r>
            <a:r>
              <a:rPr b="1" lang="en-US" sz="1400" spc="-1" strike="noStrike" u="sng">
                <a:solidFill>
                  <a:srgbClr val="00a800"/>
                </a:solidFill>
                <a:uFillTx/>
                <a:latin typeface="Tahoma"/>
                <a:ea typeface="宋体"/>
              </a:rPr>
              <a:t>premier educational institutions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宋体"/>
              </a:rPr>
              <a:t> (Engineering and Hospitality) in Andhra Prades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0" indent="0" algn="just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60320" indent="-760320" algn="just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Tahoma"/>
              <a:buChar char="–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宋体"/>
              </a:rPr>
              <a:t>Personal Effectiveness to transition into the corporate worl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60320" indent="-760320" algn="just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Tahoma"/>
              <a:buChar char="–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宋体"/>
              </a:rPr>
              <a:t>Faculty Development: Personal Effectiveness and Train the Train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4000" indent="0" algn="just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 algn="just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Clr>
                <a:srgbClr val="000000"/>
              </a:buClr>
              <a:buFont typeface="Tahoma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宋体"/>
              </a:rPr>
              <a:t>Open Training Programs for the public in Language Skills and Professional Capability Enhancement Skills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组合 79875"/>
          <p:cNvGrpSpPr/>
          <p:nvPr/>
        </p:nvGrpSpPr>
        <p:grpSpPr>
          <a:xfrm>
            <a:off x="2982960" y="5945040"/>
            <a:ext cx="6457680" cy="938160"/>
            <a:chOff x="2982960" y="5945040"/>
            <a:chExt cx="6457680" cy="938160"/>
          </a:xfrm>
        </p:grpSpPr>
        <p:pic>
          <p:nvPicPr>
            <p:cNvPr id="147" name="图片 79876" descr="DRL Training"/>
            <p:cNvPicPr/>
            <p:nvPr/>
          </p:nvPicPr>
          <p:blipFill>
            <a:blip r:embed="rId1"/>
            <a:stretch/>
          </p:blipFill>
          <p:spPr>
            <a:xfrm>
              <a:off x="2982960" y="5945040"/>
              <a:ext cx="1199880" cy="938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图片 79877" descr="Puja_02"/>
            <p:cNvPicPr/>
            <p:nvPr/>
          </p:nvPicPr>
          <p:blipFill>
            <a:blip r:embed="rId2"/>
            <a:stretch/>
          </p:blipFill>
          <p:spPr>
            <a:xfrm>
              <a:off x="5143320" y="5945040"/>
              <a:ext cx="1199880" cy="938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图片 79878" descr="DRL Training 02"/>
            <p:cNvPicPr/>
            <p:nvPr/>
          </p:nvPicPr>
          <p:blipFill>
            <a:blip r:embed="rId3"/>
            <a:stretch/>
          </p:blipFill>
          <p:spPr>
            <a:xfrm>
              <a:off x="7303680" y="5945040"/>
              <a:ext cx="1199880" cy="938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图片 79879" descr="GIET_03"/>
            <p:cNvPicPr/>
            <p:nvPr/>
          </p:nvPicPr>
          <p:blipFill>
            <a:blip r:embed="rId4"/>
            <a:stretch/>
          </p:blipFill>
          <p:spPr>
            <a:xfrm>
              <a:off x="4182840" y="5945040"/>
              <a:ext cx="1016640" cy="938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图片 79880" descr="DRL Training 03"/>
            <p:cNvPicPr/>
            <p:nvPr/>
          </p:nvPicPr>
          <p:blipFill>
            <a:blip r:embed="rId5"/>
            <a:stretch/>
          </p:blipFill>
          <p:spPr>
            <a:xfrm>
              <a:off x="6343200" y="5945040"/>
              <a:ext cx="958320" cy="938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图片 79881" descr="audit graphs"/>
            <p:cNvPicPr/>
            <p:nvPr/>
          </p:nvPicPr>
          <p:blipFill>
            <a:blip r:embed="rId6"/>
            <a:stretch/>
          </p:blipFill>
          <p:spPr>
            <a:xfrm>
              <a:off x="8183880" y="5945040"/>
              <a:ext cx="1256760" cy="938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文本框 8199"/>
          <p:cNvSpPr/>
          <p:nvPr/>
        </p:nvSpPr>
        <p:spPr>
          <a:xfrm>
            <a:off x="1905120" y="47160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66cc"/>
                </a:solidFill>
                <a:uFillTx/>
                <a:latin typeface="Arial"/>
                <a:ea typeface="宋体"/>
                <a:hlinkClick r:id="rId7"/>
              </a:rPr>
              <a:t>ppt</a:t>
            </a:r>
            <a:r>
              <a:rPr b="0" lang="zh-CN" sz="1600" spc="-1" strike="noStrike" u="sng">
                <a:solidFill>
                  <a:srgbClr val="0066cc"/>
                </a:solidFill>
                <a:uFillTx/>
                <a:latin typeface="Arial"/>
                <a:ea typeface="宋体"/>
                <a:hlinkClick r:id="rId8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43DF3-C61E-4BA8-A7F7-01E701135129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221840" y="3285720"/>
            <a:ext cx="8299800" cy="468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ahoma"/>
                <a:ea typeface="宋体"/>
              </a:rPr>
              <a:t>Thank You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矩形 69635"/>
          <p:cNvSpPr/>
          <p:nvPr/>
        </p:nvSpPr>
        <p:spPr>
          <a:xfrm>
            <a:off x="1301760" y="6180120"/>
            <a:ext cx="82994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  <a:ea typeface="宋体"/>
              </a:rPr>
              <a:t>308, East Block, Swarna Jayanthi Complex, Ameerpet, Hyderabad 500016. Ph:040-23735541/5687/ www.tvaritaconsulting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组合 69636"/>
          <p:cNvGrpSpPr/>
          <p:nvPr/>
        </p:nvGrpSpPr>
        <p:grpSpPr>
          <a:xfrm>
            <a:off x="5040360" y="6394320"/>
            <a:ext cx="4481280" cy="568440"/>
            <a:chOff x="5040360" y="6394320"/>
            <a:chExt cx="4481280" cy="568440"/>
          </a:xfrm>
        </p:grpSpPr>
        <p:pic>
          <p:nvPicPr>
            <p:cNvPr id="161" name="图片 69637" descr="Reception"/>
            <p:cNvPicPr/>
            <p:nvPr/>
          </p:nvPicPr>
          <p:blipFill>
            <a:blip r:embed="rId1"/>
            <a:stretch/>
          </p:blipFill>
          <p:spPr>
            <a:xfrm>
              <a:off x="5040360" y="6394320"/>
              <a:ext cx="921240" cy="568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" name="图片 69638" descr="Reception1"/>
            <p:cNvPicPr/>
            <p:nvPr/>
          </p:nvPicPr>
          <p:blipFill>
            <a:blip r:embed="rId2"/>
            <a:stretch/>
          </p:blipFill>
          <p:spPr>
            <a:xfrm>
              <a:off x="5936400" y="6409440"/>
              <a:ext cx="896040" cy="55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3" name="图片 69639" descr="Training"/>
            <p:cNvPicPr/>
            <p:nvPr/>
          </p:nvPicPr>
          <p:blipFill>
            <a:blip r:embed="rId3"/>
            <a:stretch/>
          </p:blipFill>
          <p:spPr>
            <a:xfrm>
              <a:off x="6832800" y="6409440"/>
              <a:ext cx="896040" cy="55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" name="图片 69640" descr="Training1"/>
            <p:cNvPicPr/>
            <p:nvPr/>
          </p:nvPicPr>
          <p:blipFill>
            <a:blip r:embed="rId4"/>
            <a:stretch/>
          </p:blipFill>
          <p:spPr>
            <a:xfrm>
              <a:off x="8625600" y="6409440"/>
              <a:ext cx="896040" cy="55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" name="图片 69641" descr="office1"/>
            <p:cNvPicPr/>
            <p:nvPr/>
          </p:nvPicPr>
          <p:blipFill>
            <a:blip r:embed="rId5"/>
            <a:stretch/>
          </p:blipFill>
          <p:spPr>
            <a:xfrm>
              <a:off x="7729200" y="6409440"/>
              <a:ext cx="896040" cy="5529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6T06:54:18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2-12T07:08:05Z</dcterms:modified>
  <cp:revision>131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00</vt:lpwstr>
  </property>
  <property fmtid="{D5CDD505-2E9C-101B-9397-08002B2CF9AE}" pid="3" name="_TemplateID">
    <vt:lpwstr>TC010875781033</vt:lpwstr>
  </property>
</Properties>
</file>