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221-7944-4C6A-B763-151A71CE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1B1-ACBC-42F1-A76C-E4307949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142-28CD-4E2E-A912-F4CB2AAB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94C-4ECC-462E-9044-4936121C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4E72-E22D-4221-8C00-6C138C4C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5085-D45A-4FFF-9BC8-1503051F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2D74-4D3A-45F5-948B-EFBED6A5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ED7D-6CBD-4DF0-BCFC-C98C6170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86F2-DDF3-4052-9162-F8FBBE94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C755-15F0-45F2-A0F0-CFC30970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3C60-E374-4C36-BB04-CDADA67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10E-3842-4710-B3B9-92111080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23AE-497D-4445-B01F-B4868E34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15A0-280E-4DB7-9A40-7904E887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5AD1-14ED-4373-ADA5-9F5818B6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5893-760F-4920-A052-351447FA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E21E-E8F0-4ABD-8026-608DAA35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078-4CDA-4EE1-A009-BA113F4D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A1A-CD9A-4601-9980-1B92ED09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81E-80A8-4E2D-A58F-4D91848D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558-6494-4778-BA08-51AD72EA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584-FD23-45C7-84C6-A48C50D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CC5-02B4-4B9C-AF31-145DBE97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39D-B841-479D-B965-06168F87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3D7A-028A-49CD-BFF3-F0CB48AB458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4EEB-365E-4711-9974-5684C0C5F404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8193" descr="新首面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"/>
          <p:cNvSpPr/>
          <p:nvPr/>
        </p:nvSpPr>
        <p:spPr>
          <a:xfrm>
            <a:off x="2268000" y="4762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工作办公</a:t>
            </a:r>
            <a:r>
              <a:rPr b="0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Microsoft JhengHe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9217" descr="信目录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0241" descr="新过渡2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1265" descr="新内容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DC68-0173-4A62-9153-603883BD0EDB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2289" descr="新结尾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2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