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6A1D-87EE-4A09-903D-B2329F934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4FEA-9A2F-46E5-80AF-F2030813B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18DA-A397-4190-8585-6DFFF4B4F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C64F-26B3-4292-B7B0-5F6F19510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A21A4-B6F0-4091-BDD8-D89D53CC8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BCF40-2F6A-4A9E-93C7-570256CEA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09886-2C1C-478A-820A-B874306BA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BE43E-8BDC-4D76-A498-E4FE81372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01D2E-F29D-44CD-A104-18E830B2C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65F6A-66E9-40B4-B5C9-D12295A06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F6CE7-75EB-4956-AFDE-390B194CE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15EC-49B0-45CD-B063-C5E9A66BD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E9CB6-B0D9-43D1-BC27-D11B939B2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262D2-CFA5-4AD0-8BFD-F189F3B77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76FE9-D809-4BE0-8613-5795C4FA3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18562-D1D4-4EA3-A261-9CFC7520B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2453C-72E3-4320-8A18-97A92609D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5BB8-9982-4E28-907E-C50AB0BB9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881A-0789-42D2-BE7F-9B83D0F9E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C79E-2A2F-4BB3-84BE-A37070D94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655C-38EB-4A71-828E-23302C794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73BF-64B0-4D0C-9337-1D6036C6F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9A9E-ECE1-4A90-B84C-79F7B7865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8FBF-6133-41BC-BCB5-41D7F7EAF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CF458-209F-42E1-A4B9-CFB7073E3C6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56409-2822-46CD-B878-E98697F80FB5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F1E0F-D2F7-4BD9-BDD4-64035E325AF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工作汇报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93E9A-0058-4193-9FD3-8F83DFA0E18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文本框 8198"/>
          <p:cNvSpPr/>
          <p:nvPr/>
        </p:nvSpPr>
        <p:spPr>
          <a:xfrm>
            <a:off x="828720" y="2637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08:05:4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0:47Z</dcterms:modified>
  <cp:revision>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