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79500-E338-4549-83CD-0640D470B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C6E18-6C66-44CA-90E5-820831282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7677-F3BF-4131-908B-2FEE0C761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F0A27-C858-428A-804E-68B1550D0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2F392-93E2-44CD-B408-61B51DB53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8F973-C3E9-400E-9069-2B4E20B5B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73C85-FEFD-4987-957A-FFA15EC6F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75A8-08C3-47BA-BBB1-A218F8F9F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7F00-B4A8-425F-AEBA-08D826486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F1D1D-E3EA-4850-8149-56CE92A6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03F2C-60B3-40BD-BB17-BC92239A9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901EC-D421-47C9-9A91-49B64CA46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CB5C0-8BC0-4E28-AE33-1A96D44F3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2B29E-F319-4029-840C-87C2E6D6A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C017-ABA3-401C-BCC4-6E6AAD8F0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88E79-CA03-4B64-9D19-B745C2BD3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93126-581D-41F4-BAFF-2C19E3051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5A0B-469B-4E95-8D42-5FFE34EEC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09B89-13BF-4C41-A11B-47247FD92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B758-AAD4-4B75-9A6D-E21A7A5A7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B7455-B3BD-46B8-8995-653CBD0B8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80C-388C-43D1-890E-BC6D6861D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80D4-9A31-4B90-AC48-5AAB4281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3C804-91C6-4783-88B3-8AF271831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12DE2-3059-4488-9F39-9F22D7DAE15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79CC4-9A03-47DF-B6DB-3DFFA2D624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85800" y="320004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文本框 4099"/>
          <p:cNvSpPr/>
          <p:nvPr/>
        </p:nvSpPr>
        <p:spPr>
          <a:xfrm>
            <a:off x="898920" y="72216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683720" y="228600"/>
            <a:ext cx="4671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工作卡通笔</a:t>
            </a:r>
            <a:r>
              <a:rPr b="0" lang="en-US" sz="4000" spc="-1" strike="noStrike">
                <a:solidFill>
                  <a:srgbClr val="000000"/>
                </a:solidFill>
                <a:latin typeface="Microsoft JhengHei"/>
                <a:ea typeface="Microsoft JhengHe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Microsoft JhengHei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49DBB-8772-4E0C-A596-74F1D515966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243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谢谢欣赏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图片 6146" descr="图片4"/>
          <p:cNvPicPr/>
          <p:nvPr/>
        </p:nvPicPr>
        <p:blipFill>
          <a:blip r:embed="rId2"/>
          <a:stretch/>
        </p:blipFill>
        <p:spPr>
          <a:xfrm>
            <a:off x="7621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94" name="图片 6147" descr="图片1"/>
          <p:cNvPicPr/>
          <p:nvPr/>
        </p:nvPicPr>
        <p:blipFill>
          <a:blip r:embed="rId3"/>
          <a:stretch/>
        </p:blipFill>
        <p:spPr>
          <a:xfrm>
            <a:off x="2286000" y="4952880"/>
            <a:ext cx="1447920" cy="14479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6148" descr="图片2"/>
          <p:cNvPicPr/>
          <p:nvPr/>
        </p:nvPicPr>
        <p:blipFill>
          <a:blip r:embed="rId4"/>
          <a:stretch/>
        </p:blipFill>
        <p:spPr>
          <a:xfrm>
            <a:off x="3733920" y="4952880"/>
            <a:ext cx="1447560" cy="1447920"/>
          </a:xfrm>
          <a:prstGeom prst="rect">
            <a:avLst/>
          </a:prstGeom>
          <a:ln w="0">
            <a:noFill/>
          </a:ln>
        </p:spPr>
      </p:pic>
      <p:pic>
        <p:nvPicPr>
          <p:cNvPr id="96" name="图片 6149" descr="图片3"/>
          <p:cNvPicPr/>
          <p:nvPr/>
        </p:nvPicPr>
        <p:blipFill>
          <a:blip r:embed="rId5"/>
          <a:stretch/>
        </p:blipFill>
        <p:spPr>
          <a:xfrm>
            <a:off x="5029200" y="4952880"/>
            <a:ext cx="1447920" cy="144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01T03:30:49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0:28Z</dcterms:modified>
  <cp:revision>5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  <property fmtid="{D5CDD505-2E9C-101B-9397-08002B2CF9AE}" pid="3" name="NXTAG2">
    <vt:lpwstr>0008006a02000000000001024140</vt:lpwstr>
  </property>
  <property fmtid="{D5CDD505-2E9C-101B-9397-08002B2CF9AE}" pid="4" name="Version">
    <vt:r8>1</vt:r8>
  </property>
</Properties>
</file>