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D4EF7-8252-49C7-98EB-97053C3BB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A59E3-8ABA-4BF6-B4F0-F0B55F32B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8A69A-6399-453F-871D-3A1B44F3E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57BE5-C5B4-4BE0-8BFE-6186D9529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96A47-9E88-41EC-8373-E96F206F6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37976-68DD-4ABF-AC32-B2C5CC96F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4B73B-6FB7-47CC-BA81-E8BE1C0F6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7FB51-1F15-4F5E-8615-9DB9D288B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175FC-0A31-48EB-837D-12E52CF6B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10BDE-2AB3-4C3D-8737-C643BFF6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298BF-31CE-4C2B-981A-19C6BA4CD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8769C-5D01-4BEA-B768-B8CDCB5FD6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D78B-5BAD-45AB-82CB-985CB4B55C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1" name=""/>
          <p:cNvSpPr/>
          <p:nvPr/>
        </p:nvSpPr>
        <p:spPr>
          <a:xfrm>
            <a:off x="1332000" y="2060640"/>
            <a:ext cx="6858000" cy="323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华文新魏"/>
                <a:ea typeface="华文新魏"/>
              </a:rPr>
              <a:t>货币银行学</a:t>
            </a:r>
            <a:endParaRPr b="0" lang="en-US" sz="72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_x000b__x000c_"/>
                <a:ea typeface="楷体_GB2312"/>
              </a:rPr>
              <a:t>  </a:t>
            </a:r>
            <a:endParaRPr b="0" lang="en-US" sz="4400" spc="-1" strike="noStrike">
              <a:solidFill>
                <a:srgbClr val="000000"/>
              </a:solidFill>
              <a:latin typeface="Times New Roman"/>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_x000b__x000c_"/>
                <a:ea typeface="楷体_GB2312"/>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1" name=""/>
          <p:cNvSpPr/>
          <p:nvPr/>
        </p:nvSpPr>
        <p:spPr>
          <a:xfrm>
            <a:off x="1143000" y="990720"/>
            <a:ext cx="7010280" cy="276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名义利率与实际利率</a:t>
            </a:r>
            <a:r>
              <a:rPr b="1" lang="zh-CN"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这两种利率是根据利率的真实水平划分的。</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名义利率是指包括了通货膨胀因素的利率，通常金融机构公布或采用的利率都是名义利率。</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实际利率是指货币购买力不变条件下的利率，通常用名义利率减去通货膨胀率即为实际利率。</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2" name=""/>
          <p:cNvSpPr/>
          <p:nvPr/>
        </p:nvSpPr>
        <p:spPr>
          <a:xfrm>
            <a:off x="1143000" y="1371600"/>
            <a:ext cx="73152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利率市场化：</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利率市场化是指通过市场和价值规律机制，在某一时点上由供求关系决定的利率运行机制，它是价值规律作用的结果。</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3" name=""/>
          <p:cNvSpPr/>
          <p:nvPr/>
        </p:nvSpPr>
        <p:spPr>
          <a:xfrm>
            <a:off x="1066680" y="1066680"/>
            <a:ext cx="6858000" cy="221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二）本章应该了解和掌握的主要内容：</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掌握利息和利率的概念，了解利息的来源和本质，理解利息与收益的资本化的关系。</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掌握利率的两种计算方法，了解利率的主要分类标准及其主要种类。</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4" name=""/>
          <p:cNvSpPr/>
          <p:nvPr/>
        </p:nvSpPr>
        <p:spPr>
          <a:xfrm>
            <a:off x="1066680" y="762120"/>
            <a:ext cx="7010640" cy="196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了解利率的决定因素，了解利率变化的经济、政治和制度等方面的影响因素，掌握我国利率的决定因素。</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掌握利率的一般经济功能，了解利率在宏观经济活动和微观经济活动中的作用，了解利率发挥作用的环境，掌握利率发挥作用必须具备的条件。</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了解我国社会主义市场经济中利率所发挥的作用，掌握利率市场化的含义。</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5" name=""/>
          <p:cNvSpPr/>
          <p:nvPr/>
        </p:nvSpPr>
        <p:spPr>
          <a:xfrm>
            <a:off x="990720" y="1447920"/>
            <a:ext cx="7238880" cy="237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三）本章的重点和难点问题：</a:t>
            </a:r>
            <a:endParaRPr b="0" lang="en-US" sz="40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1</a:t>
            </a:r>
            <a:r>
              <a:rPr b="1" lang="zh-CN" sz="3600" spc="-1" strike="noStrike">
                <a:solidFill>
                  <a:srgbClr val="ff3300"/>
                </a:solidFill>
                <a:latin typeface="楷体_GB2312"/>
                <a:ea typeface="楷体_GB2312"/>
              </a:rPr>
              <a:t>、怎样认识利息的来源与本质？</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利息的来源与本质问题是把握本章内容的基本立足点，也是研究利率理论的出发点。</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6" name=""/>
          <p:cNvSpPr/>
          <p:nvPr/>
        </p:nvSpPr>
        <p:spPr>
          <a:xfrm>
            <a:off x="1143000" y="1371600"/>
            <a:ext cx="6858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古今中外许多经济学家在利息的来源与本质问题上提出过各种理论观点</a:t>
            </a: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虽然都有一定的合理性，但却因停留在表面现象的解释上和不注重经济关系的分析，而带有较大的片面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7" name=""/>
          <p:cNvSpPr/>
          <p:nvPr/>
        </p:nvSpPr>
        <p:spPr>
          <a:xfrm>
            <a:off x="1066680" y="129528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马克思从借贷资本的特殊运动形式分析人手，深入剖析了利息的来源与本质，为我们认识这个问题提供了科学的方法与依据。对利息来源与本质的认识，要根据不同的社会经济制度，进行具体分析，注意不同制度下利息所体现的经济关系。</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8" name=""/>
          <p:cNvSpPr/>
          <p:nvPr/>
        </p:nvSpPr>
        <p:spPr>
          <a:xfrm>
            <a:off x="990720" y="838080"/>
            <a:ext cx="708660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2</a:t>
            </a:r>
            <a:r>
              <a:rPr b="1" lang="zh-CN" sz="3600" spc="-1" strike="noStrike">
                <a:solidFill>
                  <a:srgbClr val="ff3300"/>
                </a:solidFill>
                <a:latin typeface="楷体_GB2312"/>
                <a:ea typeface="楷体_GB2312"/>
              </a:rPr>
              <a:t>、利息转化为收益的一般形态及其作用是什么？</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利息转化为收益的一般形态</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这种转化的主要作用在于导致了收益的资本化。</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收益的资本化是从收益、利率、本金三者的关系中套算出来的。</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9" name=""/>
          <p:cNvSpPr/>
          <p:nvPr/>
        </p:nvSpPr>
        <p:spPr>
          <a:xfrm>
            <a:off x="990720" y="1066680"/>
            <a:ext cx="7467480" cy="481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收益资本化在经济生活中被广泛地应用。</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例</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地价</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土地年收益</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年利率</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例</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人力资本价格</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年薪</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年利率</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例</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股票价格</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股票收益</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市场利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0" name=""/>
          <p:cNvSpPr/>
          <p:nvPr/>
        </p:nvSpPr>
        <p:spPr>
          <a:xfrm>
            <a:off x="990720" y="1066680"/>
            <a:ext cx="723888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3</a:t>
            </a:r>
            <a:r>
              <a:rPr b="1" lang="zh-CN" sz="3600" spc="-1" strike="noStrike">
                <a:solidFill>
                  <a:srgbClr val="ff3300"/>
                </a:solidFill>
                <a:latin typeface="楷体_GB2312"/>
                <a:ea typeface="楷体_GB2312"/>
              </a:rPr>
              <a:t>、怎样把握利率的种类？</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各种利率都是按不同的划分方法或划分角度来进行分类的，划分利率种类的目的是为了更清楚地说明问题，表明不同种类利率的特性。</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利率的各种分类之间不是互相隔绝而是可以交叉的，同一种利率可以同时具备几种利率的特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2" name=""/>
          <p:cNvSpPr/>
          <p:nvPr/>
        </p:nvSpPr>
        <p:spPr>
          <a:xfrm>
            <a:off x="1143000" y="990720"/>
            <a:ext cx="6705720" cy="3206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华文新魏"/>
                <a:ea typeface="华文新魏"/>
              </a:rPr>
              <a:t>第六章  利息与利息率</a:t>
            </a:r>
            <a:endParaRPr b="0" lang="en-US" sz="40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一）本章应该重点识记的基本概念：</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利息：利息是借贷关系中借入方支付给贷出方的报酬。利息是伴随着信用关系的发展而产生的经济范畴，并构成信用的基础。</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1" name=""/>
          <p:cNvSpPr/>
          <p:nvPr/>
        </p:nvSpPr>
        <p:spPr>
          <a:xfrm>
            <a:off x="1219320" y="1752480"/>
            <a:ext cx="7010280" cy="119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各类利率之间或各类利率内部都有相应的联系，它们之间保持着相对的结构，共同构成一个有机整体，从而形成一国的利率体系。</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2" name=""/>
          <p:cNvSpPr/>
          <p:nvPr/>
        </p:nvSpPr>
        <p:spPr>
          <a:xfrm>
            <a:off x="1066680" y="990720"/>
            <a:ext cx="693432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4</a:t>
            </a:r>
            <a:r>
              <a:rPr b="1" lang="zh-CN" sz="3600" spc="-1" strike="noStrike">
                <a:solidFill>
                  <a:srgbClr val="ff3300"/>
                </a:solidFill>
                <a:latin typeface="楷体_GB2312"/>
                <a:ea typeface="楷体_GB2312"/>
              </a:rPr>
              <a:t>、如何把握利率的风险结构</a:t>
            </a:r>
            <a:r>
              <a:rPr b="1" lang="zh-CN" sz="3600" spc="-1" strike="noStrike">
                <a:solidFill>
                  <a:srgbClr val="ff3300"/>
                </a:solidFill>
                <a:latin typeface="楷体_GB2312"/>
                <a:ea typeface="楷体_GB2312"/>
              </a:rPr>
              <a:t>?</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相同期限金融资产因风险差异而产生的不同利率，被称为利率的风险结构。这一定义中的风险是指违约风险、流动性风险和税收风险。因此，进行金融资产投资必须综合考虑以上三种因素的影响。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3" name=""/>
          <p:cNvSpPr/>
          <p:nvPr/>
        </p:nvSpPr>
        <p:spPr>
          <a:xfrm>
            <a:off x="914400" y="1143000"/>
            <a:ext cx="7238880" cy="314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5</a:t>
            </a:r>
            <a:r>
              <a:rPr b="1" lang="zh-CN" sz="3600" spc="-1" strike="noStrike">
                <a:solidFill>
                  <a:srgbClr val="ff3300"/>
                </a:solidFill>
                <a:latin typeface="楷体_GB2312"/>
                <a:ea typeface="楷体_GB2312"/>
              </a:rPr>
              <a:t>、如何把握利率的作用并充分发挥其作用？</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利率的一般作用</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利率在宏观经济活动中的作用主要是：调节社会资本供给；调节投资；调节社会总供求。</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4" name=""/>
          <p:cNvSpPr/>
          <p:nvPr/>
        </p:nvSpPr>
        <p:spPr>
          <a:xfrm>
            <a:off x="990720" y="1219320"/>
            <a:ext cx="73152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利率在微观经济活动中的作用主要是：对企业而言，利率能够促进企业加强经济核算，提高经济效益。对个人而言，利率影响其经济行为。一方面，利率能够诱发和引导人们的储蓄行为。另一方面，利率可以引导人们选择金融资产。</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5" name=""/>
          <p:cNvSpPr/>
          <p:nvPr/>
        </p:nvSpPr>
        <p:spPr>
          <a:xfrm>
            <a:off x="1219320" y="1295280"/>
            <a:ext cx="6858000" cy="209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利率发挥作用的环境与条件</a:t>
            </a:r>
            <a:endParaRPr b="0" lang="en-US" sz="36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关于利率发挥作用的制约因素</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利率管制；授信限量；市场开放程度；利率弹性。</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关于利率发挥作用须具备的条件</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市场化的利率决定机制；灵活的利率联动机制；适当的利率水平；合理的利率结构。</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6" name=""/>
          <p:cNvSpPr/>
          <p:nvPr/>
        </p:nvSpPr>
        <p:spPr>
          <a:xfrm>
            <a:off x="990720" y="838080"/>
            <a:ext cx="7391160" cy="212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我国利率作用的发挥</a:t>
            </a:r>
            <a:endParaRPr b="0" lang="en-US" sz="36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近年来，我国政府对利率的管理在方法上更为多样，手段上更为灵活，并适时根据经济形势调整利率，对宏观经济进行调控。</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但从总体上看，我国经济社会中利率作用的发挥还受到一定的限制，其中最主要的是利率形成机制没有实现市场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67" name=""/>
          <p:cNvSpPr/>
          <p:nvPr/>
        </p:nvSpPr>
        <p:spPr>
          <a:xfrm>
            <a:off x="1143000" y="1371600"/>
            <a:ext cx="73915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实现利率的市场化需要一定的条件与环境，在我国当前的经济金融背景下，要想一步实现利率的市场化是不现实的。只有从实际出发，实行渐进式的利率改革，才能稳步实现利率市场化，充分发挥利率在社会主义市场经济中的作用。</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8600" y="304920"/>
            <a:ext cx="8610480" cy="6302160"/>
          </a:xfrm>
          <a:prstGeom prst="rect">
            <a:avLst/>
          </a:prstGeom>
          <a:ln w="0">
            <a:noFill/>
          </a:ln>
        </p:spPr>
      </p:pic>
      <p:sp>
        <p:nvSpPr>
          <p:cNvPr id="69" name=""/>
          <p:cNvSpPr/>
          <p:nvPr/>
        </p:nvSpPr>
        <p:spPr>
          <a:xfrm>
            <a:off x="5181480" y="1066680"/>
            <a:ext cx="3429000" cy="28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3300"/>
                </a:solidFill>
                <a:latin typeface="华文新魏"/>
                <a:ea typeface="华文新魏"/>
              </a:rPr>
              <a:t>再见！</a:t>
            </a:r>
            <a:endParaRPr b="0" lang="en-US" sz="7200" spc="-1" strike="noStrike">
              <a:solidFill>
                <a:srgbClr val="000000"/>
              </a:solidFill>
              <a:latin typeface="Times New Roman"/>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3" name=""/>
          <p:cNvSpPr/>
          <p:nvPr/>
        </p:nvSpPr>
        <p:spPr>
          <a:xfrm>
            <a:off x="1066680" y="685800"/>
            <a:ext cx="7162920" cy="1381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利率：</a:t>
            </a:r>
            <a:r>
              <a:rPr b="1" lang="zh-CN" sz="3600" spc="-1" strike="noStrike">
                <a:solidFill>
                  <a:srgbClr val="000000"/>
                </a:solidFill>
                <a:latin typeface="楷体_GB2312"/>
                <a:ea typeface="楷体_GB2312"/>
              </a:rPr>
              <a:t>是指借贷期满所形成的利息额与所贷出的本金额的比率。也有称之为到期的回报率、报酬率。  </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收益资本化：</a:t>
            </a:r>
            <a:r>
              <a:rPr b="1" lang="zh-CN" sz="3600" spc="-1" strike="noStrike">
                <a:solidFill>
                  <a:srgbClr val="000000"/>
                </a:solidFill>
                <a:latin typeface="楷体_GB2312"/>
                <a:ea typeface="楷体_GB2312"/>
              </a:rPr>
              <a:t>指任何有收益的事物，都可以通过收益与利率的对比倒算出它相当于多大的资本金额，使一些本身无内在规律可以决定其资本金数量的事物，也能算出资本金额或价格，这就是资本化的概念。</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4" name=""/>
          <p:cNvSpPr/>
          <p:nvPr/>
        </p:nvSpPr>
        <p:spPr>
          <a:xfrm>
            <a:off x="1066680" y="1219320"/>
            <a:ext cx="7467840" cy="2296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ff3300"/>
                </a:solidFill>
                <a:latin typeface="楷体_GB2312"/>
                <a:ea typeface="楷体_GB2312"/>
              </a:rPr>
              <a:t>单利与单利法：</a:t>
            </a:r>
            <a:r>
              <a:rPr b="1" lang="zh-CN" sz="3600" spc="-1" strike="noStrike">
                <a:solidFill>
                  <a:srgbClr val="000000"/>
                </a:solidFill>
                <a:latin typeface="楷体_GB2312"/>
                <a:ea typeface="楷体_GB2312"/>
              </a:rPr>
              <a:t>单利是指单纯按本金计算出来的利息。用公式表示为：利息（</a:t>
            </a:r>
            <a:r>
              <a:rPr b="1" lang="zh-CN" sz="3600" spc="-1" strike="noStrike">
                <a:solidFill>
                  <a:srgbClr val="000000"/>
                </a:solidFill>
                <a:latin typeface="楷体_GB2312"/>
                <a:ea typeface="楷体_GB2312"/>
              </a:rPr>
              <a:t>I</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本金（</a:t>
            </a:r>
            <a:r>
              <a:rPr b="1" lang="zh-CN"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利率（</a:t>
            </a:r>
            <a:r>
              <a:rPr b="1" lang="zh-CN" sz="3600" spc="-1" strike="noStrike">
                <a:solidFill>
                  <a:srgbClr val="000000"/>
                </a:solidFill>
                <a:latin typeface="楷体_GB2312"/>
                <a:ea typeface="楷体_GB2312"/>
              </a:rPr>
              <a:t>r</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期限（</a:t>
            </a:r>
            <a:r>
              <a:rPr b="1" lang="zh-CN" sz="3600" spc="-1" strike="noStrike">
                <a:solidFill>
                  <a:srgbClr val="000000"/>
                </a:solidFill>
                <a:latin typeface="楷体_GB2312"/>
                <a:ea typeface="楷体_GB2312"/>
              </a:rPr>
              <a:t>n</a:t>
            </a:r>
            <a:r>
              <a:rPr b="1" lang="zh-CN" sz="3600" spc="-1" strike="noStrike">
                <a:solidFill>
                  <a:srgbClr val="000000"/>
                </a:solidFill>
                <a:latin typeface="楷体_GB2312"/>
                <a:ea typeface="楷体_GB2312"/>
              </a:rPr>
              <a:t>）</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单利法是指按单利计算利息的方法，即在计息时只按本金计算利息，不将利息额加入本金一并计算的方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5" name=""/>
          <p:cNvSpPr/>
          <p:nvPr/>
        </p:nvSpPr>
        <p:spPr>
          <a:xfrm>
            <a:off x="1143000" y="914400"/>
            <a:ext cx="701028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复利与复利法</a:t>
            </a:r>
            <a:r>
              <a:rPr b="1" lang="zh-CN"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复利是单利的对称，是指将按本金计算出来的利息额再加入本金，一并计算出来的利息。</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复利的利息计算公式为：</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mc:AlternateContent>
        <mc:Choice xmlns:a14="http://schemas.microsoft.com/office/drawing/2010/main" Requires="a14">
          <p:sp>
            <p:nvSpPr>
              <p:cNvPr id="46" name=""/>
              <p:cNvSpPr txBox="1"/>
              <p:nvPr/>
            </p:nvSpPr>
            <p:spPr>
              <a:xfrm>
                <a:off x="2286000" y="4191120"/>
                <a:ext cx="4800600" cy="1066680"/>
              </a:xfrm>
              <a:prstGeom prst="rect">
                <a:avLst/>
              </a:prstGeom>
            </p:spPr>
            <p:txBody>
              <a:bodyPr/>
              <a:p>
                <a14:m>
                  <m:oMath xmlns:m="http://schemas.openxmlformats.org/officeDocument/2006/math">
                    <m:r>
                      <m:t xml:space="preserve">S</m:t>
                    </m:r>
                    <m:r>
                      <m:t xml:space="preserve">=</m:t>
                    </m:r>
                    <m:r>
                      <m:t xml:space="preserve">P</m:t>
                    </m:r>
                    <m:r>
                      <m:t xml:space="preserve">⋅</m:t>
                    </m:r>
                    <m:r>
                      <m:t xml:space="preserve">(</m:t>
                    </m:r>
                    <m:r>
                      <m:t xml:space="preserve">1</m:t>
                    </m:r>
                    <m:r>
                      <m:t xml:space="preserve">+</m:t>
                    </m:r>
                    <m:r>
                      <m:t xml:space="preserve">r</m:t>
                    </m:r>
                    <m:sSup>
                      <m:e>
                        <m:r>
                          <m:t xml:space="preserve">)</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7" name=""/>
          <p:cNvSpPr/>
          <p:nvPr/>
        </p:nvSpPr>
        <p:spPr>
          <a:xfrm>
            <a:off x="1143000" y="1295280"/>
            <a:ext cx="701028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ff3300"/>
                </a:solidFill>
                <a:latin typeface="楷体_GB2312"/>
                <a:ea typeface="楷体_GB2312"/>
              </a:rPr>
              <a:t>官方利率、公定利率与市场利率：</a:t>
            </a:r>
            <a:r>
              <a:rPr b="1" lang="zh-CN" sz="3600" spc="-1" strike="noStrike">
                <a:solidFill>
                  <a:srgbClr val="000000"/>
                </a:solidFill>
                <a:latin typeface="楷体_GB2312"/>
                <a:ea typeface="楷体_GB2312"/>
              </a:rPr>
              <a:t>这三种利率是按不同的利率决定方式划分的。</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官定利率又称法定利率，是由一国中央银行所规定的利率，各金融机构必须执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8" name=""/>
          <p:cNvSpPr/>
          <p:nvPr/>
        </p:nvSpPr>
        <p:spPr>
          <a:xfrm>
            <a:off x="1219320" y="1219320"/>
            <a:ext cx="6933960" cy="248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公定利率由民间权威性金融组织</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如同业公会</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制定的利率</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各成员机构必须执行。</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市场利率是指按市场规律自由变动的利率，它主要反映了市场内在力量对利率形成的作用。</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49" name=""/>
          <p:cNvSpPr/>
          <p:nvPr/>
        </p:nvSpPr>
        <p:spPr>
          <a:xfrm>
            <a:off x="1066680" y="1143000"/>
            <a:ext cx="7162920" cy="276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固定利率与浮动利率</a:t>
            </a:r>
            <a:r>
              <a:rPr b="1" lang="zh-CN"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这两种利率是按借贷期内利率是否变动划分的。</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固定利率是指在整个借贷期间内按事先约定的利率计息而不作调整的利率。</a:t>
            </a:r>
            <a:endParaRPr b="0" lang="en-US" sz="3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浮动利率是指在借贷期间内随市场利率的变化而定期进行调整的利率。</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0" name=""/>
          <p:cNvSpPr/>
          <p:nvPr/>
        </p:nvSpPr>
        <p:spPr>
          <a:xfrm>
            <a:off x="1066680" y="914400"/>
            <a:ext cx="731520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基准利率与差别利率：</a:t>
            </a:r>
            <a:r>
              <a:rPr b="1" lang="zh-CN" sz="3600" spc="-1" strike="noStrike">
                <a:solidFill>
                  <a:srgbClr val="000000"/>
                </a:solidFill>
                <a:latin typeface="楷体_GB2312"/>
                <a:ea typeface="楷体_GB2312"/>
              </a:rPr>
              <a:t> 这两种利率是根据利率作用的不同划分的。</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基准利率是指在多种利率并存的条件下起决定性作用的利率，当基准利率变动时，其他利率也相应发生变化。</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差别利率是指金融机构对不同客户的存、贷款实行的不同利率。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货币 银行学</cp:keywords>
  <dc:language>en-US</dc:language>
  <cp:lastModifiedBy/>
  <cp:revision>0</cp:revision>
  <dc:subject/>
  <dc:title/>
</cp:coreProperties>
</file>