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4F7-A5B9-47C2-BF04-97373F74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4C6-D8F7-4337-B179-DE3243B2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C77-01C3-4290-A913-1DF051B3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6DC-BC8D-423E-9498-434B77B6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54C5-CC9C-49F6-BE10-7BF49D7E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10D9-B9C1-45E1-9A7C-EA2022FA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CCA-FB6E-4385-B986-D532D3C2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A821-8B11-409B-8EE6-D3170676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6595-626E-4767-9F7B-ECBA848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4CB9-CB3C-4FF1-8E6B-EEF0A85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C1B7-A04A-4E50-8622-419F8AD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2BD-F5EE-4305-9E22-09472F13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0B5-584E-4840-A417-84097B0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3530-88FE-4257-A642-7B2CED31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FAD0-0CE9-4DE2-B320-517923FD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2DCA-4BE9-4B71-986B-3AB0CCB6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FA24-9441-475B-B33F-809E198A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1E0-BFBC-4988-AB10-4352F4D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2FF-0F92-45AD-AF31-1BFF25A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114-D5DC-446A-920E-FA980AA5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14E-BBB9-4D15-8F0C-F26608D8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130-7814-4D19-BDE2-2768381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3BB-3CB2-4DC6-B80E-3C1DA61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7F7-86DE-401D-9A72-88722F6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762-4AB3-491D-833B-371B487D966E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317F-BBC0-4DEC-B28C-D1B670A68335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700" spc="-1" strike="noStrike">
                <a:solidFill>
                  <a:srgbClr val="ffffcc"/>
                </a:solidFill>
                <a:latin typeface="Arial"/>
              </a:rPr>
              <a:t>軍事全球化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D292-EFFA-4576-B861-6A75E8B92E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世界軍事秩序歷史比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00240"/>
          <a:ext cx="9144000" cy="5657760"/>
        </p:xfrm>
        <a:graphic>
          <a:graphicData uri="http://schemas.openxmlformats.org/drawingml/2006/table">
            <a:tbl>
              <a:tblPr/>
              <a:tblGrid>
                <a:gridCol w="1187280"/>
                <a:gridCol w="2305080"/>
                <a:gridCol w="2592360"/>
                <a:gridCol w="305928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前現代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14-18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世紀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現代（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9-20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世紀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當代</a:t>
                      </a: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1945-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地緣政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區域競爭、帝國擴張、有限戰爭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全球帝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全面戰爭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全球競爭、集體安全體制、全球安全體系復合體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武器移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手工藝、組織混亂的、地方性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戰爭的工業化、不受約束的世界武器市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武器生產、貿易跨國化、大量化、消費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地緣統理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文明與宗教約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多邊性法律約制、失敗的集體安全制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規範的普遍化、制度化、法律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2C4-9F32-45C7-AA60-8B89ED6C70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不確定的威脅、不固定的戰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從波灣戰爭談起，九一一、阿富汗戰爭、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伊戰爭充分展現軍事活動全球化的意義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上列戰爭可說是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國為避免喪失全球威信，觸發全球反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勢力，損害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XX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國所擔任世界警察的角色與主導國際秩序走向，勢必以軍事力量展現霸權的威望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從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preventive defense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、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forward deployment strategy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到保護</a:t>
            </a: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homeland secur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Verdana"/>
              </a:rPr>
              <a:t>超限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587-CEB4-42F9-B154-4873811462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戰爭的起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經濟利益與利害衝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宗教、文明差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種族差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政治問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恐怖主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生態、環境危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毒品、走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368-9AB5-4928-AFB3-7B5C6297C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威脅主體不確定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在全球化時代，政治與軍事活動主體已不局限於主權國家，過去以國家為本位、以軍事安全為基本內容的安全觀，已不能夠完全反映人類安全現狀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威脅主體已不局限於民族國家，一個政治性恐怖組織、一個經濟性販毒集團、一 </a:t>
            </a:r>
            <a:br>
              <a:rPr sz="3200"/>
            </a:b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個宗教性祕密團体、甚至一個電腦「駭客」，都有可能對一個國家發動攻擊或戰爭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C55-99AE-4B8C-AA9B-6858575D0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軍事全球化的成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動因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主體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方式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威脅程度不確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Verdana"/>
              </a:rPr>
              <a:t>傳統國際法、戰爭法約束的式微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AA7-49C7-401E-9537-76C5EB2C9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全球化戰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全球化時代戰爭的最明顯特點，是戰場全球化。國家利益、威脅來源與威脅方式的全球化，國家某些時候需要具備在全球進行軍事行動的能力，戰場突破前後方、遠與近的限制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近些年來新軍事革命的興起、新軍事技術的大量幵發應用、以及軍事體制的不斷調整更新，為戰場全球化提供了強大的物質技術基礎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4AA-18A2-4AEE-B12D-14A56EC32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全球化軍事活動特點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戰場同時化、同步化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偵察、通信全球化、全面化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作戰力量系統化、全面性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戰場無人化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從有什麼武器打什麼戰，到打什麼戰造什麼武器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技術轉化成作戰能力時間縮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網狀組織取代樹狀組織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C7C-67FB-4C4A-A50C-F9FF2450E7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Arial"/>
              </a:rPr>
              <a:t>資訊時代戰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資訊達成的精確激動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平台加快速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全球機動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Verdana"/>
              </a:rPr>
              <a:t>非對稱部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103-A38A-482E-A852-C81652D857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军事 全球化</cp:keywords>
  <dc:language>en-US</dc:language>
  <cp:lastModifiedBy/>
  <cp:revision>0</cp:revision>
  <dc:subject/>
  <dc:title/>
</cp:coreProperties>
</file>