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747-6841-44B4-A98C-5F5F6ED1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27D-C3CC-448A-A31D-A3DF438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12B-9D4C-40BB-9ED3-65359A32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A4E-E8A5-4762-8248-8531456A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03C0-9BBC-4530-8E92-A0B66A6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1C58-7B91-4A1A-854A-137572E8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B59-C9D9-4D57-9C29-81A4237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517-F268-4244-92EE-52259C8D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592E-3467-45EA-9545-B377639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8661-7D16-4776-8BBA-E0DC9B7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9E19-C2A9-43F3-B27F-F9119D9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1D0-AEF7-4033-B704-9E03B5F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27FD-96CB-4AD7-A75B-5ED2394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61C-4594-40CC-8063-2ED9EAE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0B78-31E8-4A70-87FC-006B0A9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6E2E-D881-4EB5-B79E-00959F74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796-32D7-4026-957F-378EFC93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7DA-591F-4305-A90F-C45F519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DB0-C3CE-4A14-B34F-CB0A82C9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3EC-E519-4952-AC48-09DE306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DD0-D147-43C5-924E-1BE9424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A1D-E5A5-4CB4-AA68-0660BA9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CE9-8313-44BE-B16C-7B58EAD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8B2-DDCE-4CC2-9D9A-8C5D042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ahom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B3C-BCFB-4B99-8E4D-81DACCE1491F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0000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1D1A-81E3-464A-A03F-125C694B8BAB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33717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情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董事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期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19564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就業市場趨勢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CD8-8721-4CA0-9619-C50B9C68C4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93760" y="19810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~29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年青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問券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06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期        間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~26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4.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解讀年輕世代心情故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3C8-6D38-46C7-8E27-EC8D476399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貨真價實的草莓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2009880"/>
            <a:ext cx="7559640" cy="43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700-A2E5-4FC4-A217-9881BED4C5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生平無大志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59780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578-CF62-4E8E-A1D6-E2EF7610773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3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只恨出道太晚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8348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633-5D22-4CE8-98DD-717A1095F27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4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高學歷，低成就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990800"/>
            <a:ext cx="887868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E7D-9833-40E0-9ABA-C7B08067323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5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麵包徹底打敗愛情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296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3DE-7062-4C8B-A69C-057FF9CD39A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6).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出賣愛情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Love for Sale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7680" y="1989000"/>
            <a:ext cx="889632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804-9F6D-477E-9FA0-87BB41F6BB6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7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志趣無足輕重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5760" y="2060640"/>
            <a:ext cx="89582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112-B845-4A84-AA34-FFD6A8C8470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8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書中自有黃金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8000" y="2133720"/>
            <a:ext cx="87660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471-606B-4CE9-A710-1218AE99687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9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算命仙＝就業諮商輔導師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276640"/>
            <a:ext cx="757548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198-C220-463E-9154-67108A31C97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綱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93400" y="2122560"/>
            <a:ext cx="647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2004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就業市場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趨勢分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值得投入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來最有前途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解讀年輕世代心情故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面對青年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煩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共同打造年輕世代的希望之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輔導體系面臨的重要課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Q&amp;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F76-6613-498D-B3FC-6DF10BD7AD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0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養活自己比父母重要？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6960" y="1989000"/>
            <a:ext cx="8717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0F2-AD54-4B0A-99B7-1DFCF57E644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唯薪主義者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7660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376-3ADA-4241-BCE7-24CAE63C90E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加班，沒什麼大不了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1720" y="1989000"/>
            <a:ext cx="86122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FC7-9388-4374-87FD-2170A8165D8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3).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XXX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萬歲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6520" y="1989000"/>
            <a:ext cx="86374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23C-0565-4A12-8BC7-F98F42987C8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4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無危機感是最大危機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836460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B70-53D7-4B4F-A08F-7467F2784B4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5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名牌的致命吸引力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7320" y="1989000"/>
            <a:ext cx="89866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84F-BCE9-4DF3-9A93-37BCE828334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6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拜金，沒什麼可恥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8502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095-2DF4-48B0-8CA1-5B0C7FD9E4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7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勤修理財學分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4960" y="2133720"/>
            <a:ext cx="8879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56C-A6F0-4BDC-A2E0-0B31CF26C29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8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新債奴階級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960" y="1989000"/>
            <a:ext cx="8717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F85-D445-424A-98D1-B4AF41D7B44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9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銀行是衣食父母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5866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A9F-C5E2-4857-84C7-2FD988C4C99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.2004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年就業市場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趨勢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40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就業市場全面復甦，今年將是求職轉業的安全年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高科技的理工人才供不應求，國防訓儲人才為首選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金融業加速人才新陳代謝，消費金融與財富管理人才最搶手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高學歷高保障，企業用人門檻轉向碩士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F38-9C7B-4CAA-B4D5-DBCBBE3BDF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0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搶錢五大寇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882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BDB-43D9-489E-AB3F-9D5B30E132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政治的絕緣體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1760" y="2133720"/>
            <a:ext cx="874224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E8D-5115-45FD-8569-EA3B31208CC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藍綠青年政策「畫餅得丙」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960" y="2133720"/>
            <a:ext cx="866304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CA6-7DB7-4BDF-B640-4DCB1108C6B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面對青年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煩惱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93760" y="1981080"/>
            <a:ext cx="510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畢業即失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高學歷低成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所學不符志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生涯夢想破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被貼負面標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出頭機會受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C57-B32E-4B7D-BA38-119471634B4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面對青年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煩惱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93760" y="1981080"/>
            <a:ext cx="510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債務滾雪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低薪資高開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單身寄生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工作時數遽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被迫考研究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教改政策混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BE6-7791-4A7A-9158-741B7F0CC59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共同打造年輕世代的希望王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93400" y="1981080"/>
            <a:ext cx="71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曾經高唱我的未來不是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如今年輕世代卻淪為夢想折翼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失樂園世代，在現實壓力下集團庸俗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從金錢的赤裸渴求，到工作的唯薪主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從愛情的麵包萬歲，到政治的冷漠以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如何讓年輕人重新成為希望之國的子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在青春的原野，勇敢地追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E36-0DBB-4129-B720-B6CA5990167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7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就業輔導體系面臨的重要課題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93400" y="1980720"/>
            <a:ext cx="7410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灌輸正確的職涯觀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提升學習的動力與環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及早認識企業與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協助找出學生的適才適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宣導正確的求職技巧與常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依科系別引領職涯地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建立職涯諮商支援體系與訓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9F1-E7C0-4849-82CA-45B45E6D0BE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0773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就業情報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服務專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0800-712-7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0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659-52B6-4EE8-ADE0-01066298709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.2004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年就業市場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趨勢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33856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跨領域人才成為職場新明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重視個人職場競爭力，上班族掀起另一波學習潮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精通英日文的雙語人才，成為企業的新寵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企業實習成為新鮮人踏入就業市場的第一步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3C1-46B9-47F2-8A2A-EDBEC38DAC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TW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981080"/>
          <a:ext cx="8381880" cy="4307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光電、半導體等高科技產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電子、電機、資工、自控、材料、電信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景的研發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理工背景，英語流利，具國際觀的國貿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務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研發實務經驗，擅溝通協調與掌握產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規劃的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PM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通訊服務產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熟經銷商、通路的業務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熟國內外電信事務、英文聽說寫流利的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略聯盟談判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系統安裝、測試、監控、維護的工程人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E8A-B2C7-4B72-96A6-3ADF542AB72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090880"/>
          <a:ext cx="8686440" cy="3995640"/>
        </p:xfrm>
        <a:graphic>
          <a:graphicData uri="http://schemas.openxmlformats.org/drawingml/2006/table">
            <a:tbl>
              <a:tblPr/>
              <a:tblGrid>
                <a:gridCol w="2653560"/>
                <a:gridCol w="603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化醫療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護理、食品背景出身的臨床實驗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物醫學相關背景的研究人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博士以上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精通英文者尤佳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物流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個性開朗、對流行資訊具敏感度的基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理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操守佳、具親和力的門市儲備幹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物業管理的清潔、保全、停車管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園藝、資訊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331-75C4-4A3F-BF9E-1F886A17AD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139840"/>
          <a:ext cx="8381880" cy="357516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金融服務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專業證照與理財顧問特質的業務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協助資訊整合與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化作業的資訊工程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文能力佳的國際金融事務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育服務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2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內國小教師缺額仍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從事國小或補教業的英語教學師資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休閒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關懷客戶精神的專業管理與行銷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餐飲客房服務的基層員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14C-F16E-431A-A3AE-A2EBD4FB10A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四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133720"/>
          <a:ext cx="8381880" cy="357480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企管顧問服務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協助企業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化、整合資源、掌握速度統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析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提供企業經營診斷的企管顧問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眾傳播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T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支援的系統工程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集美編與行銷概念的採編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創意型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富求心求變精神的創意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行動力的企劃執行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C42-7D7B-4503-83DE-42C9416A9FA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3. 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未來最有前途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工作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執行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F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務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新育成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才仲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頭獵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R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投資說明人員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動產證券化顧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D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商品企宣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行銷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I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訊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T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案經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運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投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事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織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法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企業內律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定期養老金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球採購人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K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知識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全專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SO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851-E761-402A-BE97-DE4EF5DD78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就业 市场 分析</cp:keywords>
  <dc:language>en-US</dc:language>
  <cp:lastModifiedBy/>
  <cp:revision>0</cp:revision>
  <dc:subject/>
  <dc:title/>
</cp:coreProperties>
</file>