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BD4DF-45B0-4985-8F2F-91E016AF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A277-8BA3-4C7A-9D45-AF4B980F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F7AC-BC7E-426B-B0CA-A73CE84C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94E8D-E6F9-4B71-9BBB-82C10DE3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7BA6-8465-4368-B00E-7A73E549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8915-BC7D-47B6-B0D8-2C54F235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CEF4-41B3-4563-B1D0-E42CDAFD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2E83-AF70-4C45-86D2-841DE74E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C67A-14C3-41EE-B9FD-D4447B75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0B9B-E4D3-43F5-9D86-49F8C5EF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99AF-9BBB-453B-9772-958E1880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4ED4-3627-4955-9D6D-E83F69B0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44C1-DBFE-495D-9804-4EC6A709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C054-DEED-4791-94B2-8B2911C7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70E1-7C0D-4B92-AD3E-6970643C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C830-F2C5-4BD9-BC2A-5198FEB4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A940-9307-4AD3-8FED-5890F543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B73E2-1398-46AC-8459-6B606FC3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E90F-2D05-41BE-A191-7D6D61DF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F6DE-7D78-47C4-B6F6-7C0BCCA2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24606-8786-4198-AE36-662F541D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E512A-92D6-4A57-BDF9-6973E306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9E4E-C948-4488-9405-D965445A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939BB-CDF9-48CF-96F9-DD74AE49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09F4-C861-43D1-90AE-3AFFF79580C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5CF1-83AB-427A-8D49-9F66607A0908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创业与创投</a:t>
            </a:r>
            <a:br>
              <a:rPr sz="3800"/>
            </a:br>
            <a:r>
              <a:rPr b="0" lang="zh-TW" sz="3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科</a:t>
            </a:r>
            <a:r>
              <a:rPr b="0" lang="zh-TW" sz="3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技</a:t>
            </a:r>
            <a:r>
              <a:rPr b="0" lang="zh-CN" sz="3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创</a:t>
            </a:r>
            <a:r>
              <a:rPr b="0" lang="zh-TW" sz="3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新</a:t>
            </a:r>
            <a:r>
              <a:rPr b="0" lang="zh-CN" sz="3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兴</a:t>
            </a:r>
            <a:r>
              <a:rPr b="0" lang="zh-TW" sz="3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管理期中</a:t>
            </a:r>
            <a:r>
              <a:rPr b="0" lang="zh-CN" sz="3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报</a:t>
            </a:r>
            <a:r>
              <a:rPr b="0" lang="zh-TW" sz="3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告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管研所 全球化策略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報告學生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指導老師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</a:t>
            </a:r>
            <a:r>
              <a:rPr b="0" lang="zh-TW" sz="3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博士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贏得成功的十八項絕招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續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無知識產權或產品的智慧財產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Intellectual Property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企劃中的產品或服務是否擁有很高的進入門檻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Entry Barrier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檯面上隱藏中的競爭者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Competition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無充分的暸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知道自己在市場上、依長處而取決的區隔定位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Position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贏得成功的十八項絕招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續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無完整有三至五年計劃書（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Business Plan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有無完整的三至五年財務分析報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是否能籌募完整足夠的創業資金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Sufficient Funds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？尤其在泡沬破滅之後如何募款更是一大課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投資股東有附加價值嗎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Value Added investors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贏得成功的十八項絕招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續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經營團隊與投資股東享有良好互補關係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Investor Relationship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嗎？他將影響你股東未來與你一路跟進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Follow Up Investment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支撐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主要領導者的人格品質與靈活堅忍性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Leadership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何？有無能力雄厚的執行長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CEO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企業的成敗影響甚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司的整體文化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Corporate Culture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為何？撇開八股教條與文宣，公司整體是否具有共體時艱的內在文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贏得成功的十八項絕招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續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這個企業能吸引足夠的夥伴與聯誼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Partners &amp; Alliances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團隊有市場開發能力嗎（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Business Development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司的願景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Vision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是永續經營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uild to Last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曇花一現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uild to Flop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終也是最偉大雋永的價值─你是否取得了內外大眾的信任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Trust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車庫守則 ─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HP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創業傳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相信你可以改變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迅速工作、隨時工作、隨時工具待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了解何時該獨思自主、何時該集體合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與同仁分享你的主意與工具、信任他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玩政治、杜絕官僚作風。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這在車庫裡本來就是荒謬的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由客戶來決定你的工作是否做的很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車庫守則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續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激進的創建不一定是餿主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創造不同的工作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每天要有貢獻，如果當天成果沒有貢獻，該成果必不離開車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相信團隊合作可以萬事皆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發明創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關於創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是創意、創新、創舉、創造…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nd probably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創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99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上會失敗收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有錦上添花，沒有雪中送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是砸錢且砸時間的瘋狂遊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氣要長、口袋要深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緊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願意當一陣子傻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沒有假日，放假會有罪惡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是職場的特種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是法拉利等級的嗜好─耍酷、敗家子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or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令人艷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多半沒有當專業經理人風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中學生線上即時家教</a:t>
            </a:r>
            <a:br>
              <a:rPr sz="4600"/>
            </a:br>
            <a:r>
              <a:rPr b="0" lang="zh-TW" sz="3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創業實驗計畫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創業動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現行國中教育由於城鄉資源差距或個別家境因素，學生成績落差極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改之路波折坎坷，面對孩子學業成績低落，家長普遍存有焦慮感及無力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校、補習班或家教教學結束後，部分學生仍會有課業上疑問，一時間無所適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學程大學生缺乏教學練習機會，清寒大學生兼任家教亦受制於家教中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線上即時家教」創業構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大學院校在學學生為師資，為國中學生提供線上即時家教服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學校教育、補習班或家教之外，提供國中生不限時空限制的個別化課業輔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供清寒或都會區以外同學使用，平衡因教學資源不均所造成之成績落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提供大學教育學程學生教學模擬，亦可提供大學生安全便捷的家教工讀機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什麼是價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切產品與生意的根本起源都來自於人類兩個最基本需求「解決與降低痛苦、提供與提高樂趣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P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觀念─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Pain &amp; Pl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能夠為人類解決痛苦，提供樂趣的事就有「價值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實驗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計劃之指導教授為台科大資管系王有禮博士，並由資管系同學協助製作實驗教學系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邀請台、師大同學，共同組成跨校創業實驗團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品雅生活資訊提供研究基金，並授權使用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OD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技術，以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ASP.NET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開發教學介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由金華、龍門兩國中家長及同學提供使用者意見，以發展課後學習實驗教學系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贊助與支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品雅生活資訊提供第一階段之研究經費，並歡迎金華與龍門國中家長會，或國內其他公益基金會提供後續經費贊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品雅生活資訊授權使用專利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OD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系統引擎技術，並指派工程師參與台科大同學之研究實驗專題系統開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商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微軟提供優惠之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ASP.NET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系統開發軟體及必要時之技術支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預期效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提供國中學生安全、免費、具時間、空間彈性、符合個別需要之課後輔導。縮短因家境或城鄉差距造成之學習落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刻正修習教育學程之大學生，或即將擔任實習教師者，提供完整教學模擬及練習機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降低家長對當前教育環境之憂慮，免除對現行補習於成本及成效上之疑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TOD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簡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OD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為全新線上隨選學習系統，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OD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採用與數位電信同級之通訊技術，以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SIP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作為技術之通訊協定；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SCORM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做為數位教材之標準格式，所發展的網路教學引擎技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OD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帶來的網路學習革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大幅改善網路頻寬及通訊品質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提升互動學習成效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介面取代人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機介面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全面降低網路學習系統的建置與維運成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25621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歡迎加入創業家行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五個明顯的創投趨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創投業從追崇聰明的主意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Smart idea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與行銷遊戲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Marketing Play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轉為尋求具有深厚核心價值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Core Value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投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創投業從盲目崇尚新貴科技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Advanced Technology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轉為注重回歸基本的完整事業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Complete Business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創投業從只看重一個美好團隊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rilliant Team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擴大到要求個個新創公司擁有寬廣的伙伴與聯盟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Partners &amp; Allia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五個明顯的創投趨勢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續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前或有「摸著石頭過河，做了再說」的投資人心態，現在則強力要求有渡過溝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Chasm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長久執行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美國的頂尖創投業，從過去的「矽谷偉大論」逐漸轉變為暸解「亞洲結構必備論」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Embedded Asian Infra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08000" y="5808600"/>
            <a:ext cx="5904000" cy="789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4943520"/>
            <a:ext cx="5904000" cy="5032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4078440"/>
            <a:ext cx="5904000" cy="502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3214800"/>
            <a:ext cx="5904000" cy="5032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2349360"/>
            <a:ext cx="5904000" cy="5032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末倒置的創業起始動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1484280"/>
            <a:ext cx="1512720" cy="72072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P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考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6920" y="2398680"/>
            <a:ext cx="38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找到令自己驕傲的技術與產品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常是自己所熟悉的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49320" y="3255840"/>
            <a:ext cx="23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找到人才與團隊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常是自己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23080" y="41241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擬訂企劃案，尋找資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65560" y="49878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興高采烈的創業開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54200" y="585792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發現市場問題與原先自我的想像不同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發現自己並非最佳人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0680" y="227484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5120" y="31845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0880" y="4054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0880" y="49118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" y="5919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18" idx="2"/>
            <a:endCxn id="117" idx="0"/>
          </p:cNvCxnSpPr>
          <p:nvPr/>
        </p:nvCxnSpPr>
        <p:spPr>
          <a:xfrm>
            <a:off x="4860720" y="2852640"/>
            <a:ext cx="1080" cy="36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17" idx="2"/>
            <a:endCxn id="116" idx="0"/>
          </p:cNvCxnSpPr>
          <p:nvPr/>
        </p:nvCxnSpPr>
        <p:spPr>
          <a:xfrm>
            <a:off x="4860720" y="3717720"/>
            <a:ext cx="1080" cy="36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16" idx="2"/>
            <a:endCxn id="115" idx="0"/>
          </p:cNvCxnSpPr>
          <p:nvPr/>
        </p:nvCxnSpPr>
        <p:spPr>
          <a:xfrm>
            <a:off x="4860720" y="4581360"/>
            <a:ext cx="1080" cy="36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15" idx="2"/>
            <a:endCxn id="114" idx="0"/>
          </p:cNvCxnSpPr>
          <p:nvPr/>
        </p:nvCxnSpPr>
        <p:spPr>
          <a:xfrm>
            <a:off x="4860720" y="5446440"/>
            <a:ext cx="1080" cy="36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47640" y="5445000"/>
            <a:ext cx="6553440" cy="8654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3502080"/>
            <a:ext cx="3600360" cy="10792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503520"/>
            <a:ext cx="3384720" cy="10778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1774800"/>
            <a:ext cx="6696000" cy="790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763560"/>
            <a:ext cx="1513080" cy="72072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反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P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考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4720" y="1824120"/>
            <a:ext cx="399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與真正的客戶交談中，了解市場上存在的痛苦與問題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將問題好好指出，並定義其所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44920" y="3568680"/>
            <a:ext cx="200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思考如此問題的大小難易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而架構出攻克此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途徑與計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5160" y="3568680"/>
            <a:ext cx="216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按此計畫規劃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適合你可能資源下製作出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產品或服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5499000"/>
            <a:ext cx="38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是不是執行此企劃案的最佳人選？還欠缺什麼人才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此才能憑真正的需求去找到合適的團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00000" y="46324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95880" y="62866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72320" y="463248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07680" y="2687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854440"/>
            <a:ext cx="6494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46560" y="4724280"/>
            <a:ext cx="6490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83280" y="2852640"/>
            <a:ext cx="6494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6920" y="4722840"/>
            <a:ext cx="6494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78200" y="909720"/>
            <a:ext cx="1585800" cy="86364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PM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考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30200" y="2133720"/>
            <a:ext cx="2521080" cy="647640"/>
          </a:xfrm>
          <a:prstGeom prst="rect">
            <a:avLst/>
          </a:prstGeom>
          <a:solidFill>
            <a:srgbClr val="cccce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找到存在的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0200" y="2998800"/>
            <a:ext cx="2521080" cy="647640"/>
          </a:xfrm>
          <a:prstGeom prst="rect">
            <a:avLst/>
          </a:prstGeom>
          <a:solidFill>
            <a:srgbClr val="cccce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提出產品構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30200" y="3933720"/>
            <a:ext cx="2521080" cy="647640"/>
          </a:xfrm>
          <a:prstGeom prst="rect">
            <a:avLst/>
          </a:prstGeom>
          <a:solidFill>
            <a:srgbClr val="cccce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架構嚴密計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0200" y="4870440"/>
            <a:ext cx="2521080" cy="647640"/>
          </a:xfrm>
          <a:prstGeom prst="rect">
            <a:avLst/>
          </a:prstGeom>
          <a:solidFill>
            <a:srgbClr val="cccce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組織合適團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0200" y="5734080"/>
            <a:ext cx="2521080" cy="647640"/>
          </a:xfrm>
          <a:prstGeom prst="rect">
            <a:avLst/>
          </a:prstGeom>
          <a:solidFill>
            <a:srgbClr val="cccce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ers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努力堅定的毅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91280" y="2133720"/>
            <a:ext cx="2520720" cy="647640"/>
          </a:xfrm>
          <a:prstGeom prst="rect">
            <a:avLst/>
          </a:prstGeom>
          <a:solidFill>
            <a:srgbClr val="cccce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確認市場夠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91280" y="2998800"/>
            <a:ext cx="2520720" cy="647640"/>
          </a:xfrm>
          <a:prstGeom prst="rect">
            <a:avLst/>
          </a:prstGeom>
          <a:solidFill>
            <a:srgbClr val="cccce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能力實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91280" y="3933720"/>
            <a:ext cx="2520720" cy="647640"/>
          </a:xfrm>
          <a:prstGeom prst="rect">
            <a:avLst/>
          </a:prstGeom>
          <a:solidFill>
            <a:srgbClr val="cccce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充分資金配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91280" y="4870440"/>
            <a:ext cx="2520720" cy="647640"/>
          </a:xfrm>
          <a:prstGeom prst="rect">
            <a:avLst/>
          </a:prstGeom>
          <a:solidFill>
            <a:srgbClr val="cccce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建立經營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1280" y="5734080"/>
            <a:ext cx="2520720" cy="647640"/>
          </a:xfrm>
          <a:prstGeom prst="rect">
            <a:avLst/>
          </a:prstGeom>
          <a:solidFill>
            <a:srgbClr val="cccce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Ment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正確的創業心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2276640"/>
            <a:ext cx="720720" cy="504720"/>
          </a:xfrm>
          <a:prstGeom prst="rightArrow">
            <a:avLst>
              <a:gd name="adj1" fmla="val 50000"/>
              <a:gd name="adj2" fmla="val 35699"/>
            </a:avLst>
          </a:prstGeom>
          <a:solidFill>
            <a:srgbClr val="6666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1640" y="3139920"/>
            <a:ext cx="720720" cy="505080"/>
          </a:xfrm>
          <a:prstGeom prst="rightArrow">
            <a:avLst>
              <a:gd name="adj1" fmla="val 50000"/>
              <a:gd name="adj2" fmla="val 35674"/>
            </a:avLst>
          </a:prstGeom>
          <a:solidFill>
            <a:srgbClr val="6666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4005360"/>
            <a:ext cx="720720" cy="504720"/>
          </a:xfrm>
          <a:prstGeom prst="rightArrow">
            <a:avLst>
              <a:gd name="adj1" fmla="val 50000"/>
              <a:gd name="adj2" fmla="val 35699"/>
            </a:avLst>
          </a:prstGeom>
          <a:solidFill>
            <a:srgbClr val="6666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4940280"/>
            <a:ext cx="720720" cy="504720"/>
          </a:xfrm>
          <a:prstGeom prst="rightArrow">
            <a:avLst>
              <a:gd name="adj1" fmla="val 50000"/>
              <a:gd name="adj2" fmla="val 35699"/>
            </a:avLst>
          </a:prstGeom>
          <a:solidFill>
            <a:srgbClr val="6666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5805360"/>
            <a:ext cx="720720" cy="505080"/>
          </a:xfrm>
          <a:prstGeom prst="rightArrow">
            <a:avLst>
              <a:gd name="adj1" fmla="val 50000"/>
              <a:gd name="adj2" fmla="val 35674"/>
            </a:avLst>
          </a:prstGeom>
          <a:solidFill>
            <a:srgbClr val="6666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PM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現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找到問題，有時候不一定找到市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偉大的產品構想，當時不一定有合適的方法與條件順利做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嚴密周詳的計畫，卻與資金不成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自認為的最佳團隊，不一定就是真正對公司最好與最合適的經營班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堅定的毅力未建立在正確的創業心態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贏得成功的十八項絕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無良好完整的成熟經營團隊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Management Team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無與眾不同而居於領先的知識能力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Core Competence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市場是否有踏實而足夠的認識？所嚮往的市場是否處在初生期貨成長期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High Growth Market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是否一窩蜂追逐時尚隨波逐流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Momentum Chasing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科技 创新 报告 创业</cp:keywords>
  <dc:language>en-US</dc:language>
  <cp:lastModifiedBy/>
  <cp:revision>0</cp:revision>
  <dc:subject/>
  <dc:title/>
</cp:coreProperties>
</file>