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D2C-47EF-409E-B115-8778BE65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D65-6A5C-4DBE-B69F-4E189617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F9B-60D5-4006-AD9F-CA66D4A3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063-73ED-4933-B11C-1C169513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0D0F-85A9-45E8-B758-6647B7DA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E0C3-A343-4390-9F64-53A2F194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7989-CE39-47C1-AF35-8F3AD059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DD10-A1AF-453A-886C-37322D1A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25CC-384F-4C11-8764-B190543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A214-C51F-4470-8CBB-EE42D10E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9E71-4315-436E-A768-3EF61DEB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D34-F1A2-4267-A862-9CECFBAB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D297-64CF-4788-8CD5-7FDA786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0876-D7C7-4730-919B-AE8B8C13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07D-6C2E-4FD2-8437-7A650A6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3877-E6D2-491F-9060-0ACFB0AF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797F-87C5-4AEB-841B-8F1E4928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8CB-5EE2-47EF-9BA8-0C9EFE94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DB7-AC9C-4875-8B9E-8A29F91D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086-EF93-4EC0-AEF9-E3F93612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117-ED20-4934-A544-43DED975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294-1C06-4989-B5D7-A022978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6E0-EFB9-4BA3-9CC9-7BE7266F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0FA-3402-4C62-8A02-457277F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0402-D01E-49F1-B1E0-5D7482B01AFB}" type="slidenum">
              <a:rPr b="0" lang="zh-CN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939-16CD-4A6D-AEBF-CED602621487}" type="slidenum">
              <a:rPr b="0" lang="zh-CN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科学课程的理念与目标</a:t>
            </a:r>
            <a:br>
              <a:rPr sz="60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XX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学研究室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X</a:t>
            </a:r>
            <a:br>
              <a:rPr sz="3200"/>
            </a:b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七、关于</a:t>
            </a:r>
            <a:r>
              <a:rPr b="1" lang="zh-CN" sz="4200" spc="-1" strike="noStrike">
                <a:solidFill>
                  <a:srgbClr val="ff3300"/>
                </a:solidFill>
                <a:latin typeface="黑体"/>
                <a:ea typeface="黑体"/>
              </a:rPr>
              <a:t>中小学科学课程改革的</a:t>
            </a:r>
            <a:br>
              <a:rPr sz="4200"/>
            </a:br>
            <a:r>
              <a:rPr b="1" lang="zh-CN" sz="4200" spc="-1" strike="noStrike">
                <a:solidFill>
                  <a:srgbClr val="ff3300"/>
                </a:solidFill>
                <a:latin typeface="黑体"/>
                <a:ea typeface="黑体"/>
              </a:rPr>
              <a:t>    几个具体问题</a:t>
            </a:r>
            <a:br>
              <a:rPr sz="4200"/>
            </a:br>
            <a:br>
              <a:rPr sz="42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学技术类课程的课程资源建设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32000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新的科学课程中，课程资源开发的理念应当有哪些变化？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课程资源是否就是“物”的资源？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资源的建设是否一定都要花很多的钱？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资源建设的重点放在哪里？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…………………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略）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828800" y="914400"/>
            <a:ext cx="6553080" cy="4724280"/>
          </a:xfrm>
          <a:prstGeom prst="rect">
            <a:avLst/>
          </a:prstGeom>
        </p:spPr>
        <p:txBody>
          <a:bodyPr wrap="none" lIns="90000" rIns="90000" tIns="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谢谢！！！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一、小学科学课程改革的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背景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二、对中国中小学科学教育的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两种估价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d4d4d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科学教育在中国的中小学占有非常重要的地位。小学开设的科学课程目前叫“自然”。初中和高中开设的科学课程主要有物理、化学、生物，初中地理课以人文地理为主，高中地理含有自然地理内容。一些有条件的学校为学生开设了选修课，如环保、能源、信息技术、科技制作等等。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………………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略）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三、课程性质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培养科学素养为宗旨的科学启蒙教育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四、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基本理念和目标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五、小学科学课程改革的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基本走向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六、科学课程内容的变化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Tahoma"/>
              </a:rPr>
              <a:t>七、《合理饮食》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219320"/>
          <a:ext cx="8305560" cy="5532480"/>
        </p:xfrm>
        <a:graphic>
          <a:graphicData uri="http://schemas.openxmlformats.org/drawingml/2006/table">
            <a:tbl>
              <a:tblPr/>
              <a:tblGrid>
                <a:gridCol w="4070160"/>
                <a:gridCol w="4235400"/>
              </a:tblGrid>
              <a:tr h="533160">
                <a:tc gridSpan="2"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内      容     要    求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教  学  大  纲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课   程   标   准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5421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通过教学，使学生知道食物的营养成分主要有蛋白质、脂肪、淀粉、盐类、维生素、水等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培养学生的实验能力——初步学会用实验的方法来检验食物的营养成分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向学生进行营养卫生教育，使学生知道营养卫生的基本要求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了解需要的主要营养及其来源，懂得营养全面、合理的重要性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用分类的方法认识食物，培养学生分类的能力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用简单的图表进行统计，并对统计结果做出合理的评价，培养学生整理、分析资料的初步能力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能用文字语言、图片语言、图画语言表述自己的研究结果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培养学生利用资料获取知识的初步能力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增进学生关心饮食的意识，乐于用学到的知识提高自己的饮食质量，培养良好的饮食习惯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科学课程 理念 目标</cp:keywords>
  <dc:language>en-US</dc:language>
  <cp:lastModifiedBy/>
  <cp:revision>0</cp:revision>
  <dc:subject/>
  <dc:title/>
</cp:coreProperties>
</file>