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5A1-F9E4-4D5F-963E-D47B7461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DBC-A0D3-4065-A0F5-175D710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3C9-5A5A-4B65-9F9E-B6619D2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047-8192-4D61-ACF8-A4FDBEBD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2321-7D15-4833-AD8F-50CC0376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4DBC-EA51-412D-9061-25059CA2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C14-FBFC-431E-B7BF-172FCF3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ABB-52AB-4A5D-8BFD-545B0066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6CF-A2FF-4C3F-AECD-543B7D5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2F79-24F9-4376-9110-9F247F48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C3BC-2B4F-4814-A667-44CA132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DEF-F1B8-4204-B3E2-D0197B9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669-E50B-45EF-BF2C-C4F5D80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F00-BBF5-41B1-ADEE-D53C278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D01D-D55A-4E58-8B12-6C98FBF9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BF54-414E-42D8-844D-25A1734D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50F-FA3C-4F33-90D8-C26E6D3D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853-9963-4451-B981-8F1BD0E0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427-6F2A-4AE0-B36E-8B5EFE1A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8BA-3ED8-49E6-B6CA-AAC8867A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7FE-F229-48D8-878C-086B88EE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16D-8B59-4E7B-9AA5-912AC59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6B4-C1A1-4196-855B-C8CE4056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097-6587-43ED-AA3A-3D26D93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7DAE-46C0-4247-AF56-09A64C0809C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C577-2286-425F-A615-027C111B5C62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六个生活的启示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默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这是一个聪明的孩子，他知道自己的有限，而更重要的，他也明白别人比自己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凡事不只靠自己的力量，学会适时的依靠他人，是一种谦卑，更是一种聪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4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听的艺术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美国知名主持人 “林克莱特” 一天访问一名小朋友，问他说： 「你长大後想要当甚么呀？」小朋友天真的回答：「嗯…我要当飞机的驾驶员！」林克莱特接著问：「如果有一天，你的飞机飞到太平洋上空所有引擎都 熄火了，你会怎么办？」小朋友想了 想 「我会先告诉坐在飞机上的人绑好安全带，然後我挂上我的降落伞跳出去。」当在现场的观众笑的东倒西歪时，林克莱特继续著注视这孩子，想看他是不是自作聪明的家伙。没想到，接著孩子的两行热泪夺眶而出，这才使的林克莱特发觉这孩子的悲悯之情远非笔墨所能形容。於是林克莱特问他说：「为甚么要这么做？」小孩的答案透露出一个孩子真挚的想法：「我要去拿燃料，我还要回来！！」「我还要回来！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你听到别人说话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你真的听懂他说的意思吗？你懂吗？如果不懂，就请听别人说完吧，这就是「听的艺术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听话不要听一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还有，不要把自己的意思，投射到别人所说的话上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5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散步的启示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上帝给我一个任务，叫我牵一只蜗牛去散步。我不能走得太快，蜗牛已经尽力爬，每次总是挪那　一点点。我催它，我唬 它，我责备它，蜗牛用抱歉的眼光看著我，彷佛说：「人家已经尽了全力！」我拉它，我扯，我甚至想踢它，蜗牛受了伤，它流著汗，喘著气，往 前爬真奇怪，为什　上帝叫我牵一只蜗牛去散步？上帝啊！为什么？」天上一片安静。「唉！也许上帝去了抓蜗牛！」好吧！松手吧！反正上帝不管了，我还管什么？任蜗牛往前爬，我在後面生闷气。咦？我闻到花香，原来这边有个花园。我感到微风吹来， 原来夜里的风这　温柔。慢著！我听到鸟声，我听到虫鸣，我看到满天的星斗多亮丽。咦？以前怎么没有这些体会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我忽然想起来，莫非是我弄错了！原来上帝叫蜗牛牵我去散步。你找到你的蜗牛了吗？偶尔出去散散步吧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黑体"/>
                <a:ea typeface="黑体"/>
              </a:rPr>
              <a:t>(6) </a:t>
            </a:r>
            <a:r>
              <a:rPr b="1" lang="zh-CN" sz="5400" spc="-1" strike="noStrike">
                <a:solidFill>
                  <a:srgbClr val="ffcc66"/>
                </a:solidFill>
                <a:latin typeface="黑体"/>
                <a:ea typeface="黑体"/>
              </a:rPr>
              <a:t>你真的可以很自在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米兰昆德拉有一本书叫「生活在他方」，我对这五个字有很好的联想，我的生活总是在远方，都在想：如果明天我有钱，我就可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但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你现在赚少钱不快乐，就算你有再多的钱，我保证你也不会快乐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你一个人的时候不会自得其乐，即使嫁了人，娶了老婆，别人跟你一起一样不快乐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现在不懂得享受生活，未来也不会享受生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1) </a:t>
            </a: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单纯的喜悦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有人问什么叫做自由，所谓的自由就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你想要拒绝一个人的约会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已经不需要任何理由，你有权力过自己要过的生活，有权力去自己要去的地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MS Hei"/>
                <a:ea typeface="MS Hei"/>
              </a:rPr>
              <a:t>其实生活很简单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男人跟女人都很喜欢在自己的人生设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adline</a:t>
            </a:r>
            <a:r>
              <a:rPr b="0" lang="en-US" sz="2800" spc="-1" strike="noStrike">
                <a:solidFill>
                  <a:srgbClr val="ffffff"/>
                </a:solidFill>
                <a:latin typeface="MS Hei"/>
                <a:ea typeface="MS Hei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比如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我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一定要结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6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一定生孩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时一定要一男一女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的时候一定要有房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所以很多决定就很草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如果刚开始你找的那个人就不对，往後再怎么努力都不对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有时候，我们常常会觉得婚结了，所有问题就没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那如果结了婚还有问题，就赶快把小孩生一生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其实你的问题在这个阶段没解决，在下个阶段只会变大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你对未来不用期待太多，期待太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老实说挫折感会很深，不如看看你现在做什么事情，会让你觉得很自在，吸收到很多的东西，那个时候你才会觉得人生真的很充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另外，一个人如果太努力在活给别人看，就会痛苦得不得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今天如果你相信自己做得还不错，不在乎别人怎么看你的时候，你真的可以很自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一个小女孩每天都从家里走路去上学。一天早上天气不太好，云层渐渐变厚，到了下午时风吹得更急，不久开始有闪电、打雷、下大雨。小女孩的妈妈很担心，她担心小女孩会被打雷吓著，甚至被雷打到。雷雨下得愈来愈大，闪电像一把锐利的剑刺破天空，小女孩的妈妈赶紧开著她的车，沿著上学的路线去找小女孩，看到自己的小女儿一个人走在街上，却发现每次闪电时，她都停下脚步、抬头往上看、并露出微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看了许久，妈妈终於忍不住叫住她的孩子，问她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「你在做什么啊？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她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「上帝刚才帮我照相，所以我要笑啊！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2) </a:t>
            </a: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失去与拥有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位企业家在商场上有著惊人的成就。当他在事业达到巅峰的时候，有一天陪同他的父亲，到一家高贵的餐厅用餐，现场有一位琴艺不凡的小提琴手正在为大家演奏。这位企业家在聆赏之余，想起当年自己也曾学过琴，而且几乎为之疯狂，便对他父亲说：「如果我从前好好学琴的话，现在也许就会在这儿演奏了。「是呀，孩子，」他父亲回答，「不过那样的话，你现在就不会在这儿用餐了。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默想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我们常为失去的机会或成就而嗟叹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但往往忘了为现在所拥有的感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3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知道自己</a:t>
            </a:r>
            <a:br>
              <a:rPr sz="6000"/>
            </a:b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「有限」的聪明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一个聪明的男孩，有一天妈妈带著他到杂货店去买东西，老板看到这个可爱的小孩，就打开一罐糖果，要小男孩自己拿一把糖果。但是这个男孩却没有任何的动作。几次的邀请之後，老板亲自抓了一大把糖果放进他的口袋中。回到家中，母亲很好奇的问小男孩，为什没有自己去抓糖果而要老板抓 呢？小男孩回答得很妙：「因为我的手比较小呀！而老板的手比较大，所以他拿的一定比我拿的多很多！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活 启示</cp:keywords>
  <dc:language>en-US</dc:language>
  <cp:lastModifiedBy/>
  <cp:revision>0</cp:revision>
  <dc:subject/>
  <dc:title/>
</cp:coreProperties>
</file>