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2615-14A5-45F3-836A-D3F5E5FF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2D4-2FC7-4347-8077-6C02808B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5AF9B-77FA-4069-A3F5-60841A86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AD65A-F92F-41F6-B900-F1B41778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7F35D-7409-41BF-A8C1-EED206BD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9F164-AABD-4057-877D-69219E4B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95EA5-8263-4DBD-BADA-1A300FED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FC76C-125B-42EC-B9A1-554C134D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3CFB0-5469-48CF-B0F4-1A925127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112D1-83C8-41E8-A3E7-BDC253BB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12F21-E486-4158-B6FA-7FEC8CC8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7D5FF-1FC6-4A39-A45E-95FE14DA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A19C-0C03-4DBF-8F41-6A1A8559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14AED-7B4E-4CF8-BB85-3F208DB5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E4F90-4082-4131-AEB1-6DF0949E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C74D0-7F71-4226-A473-6C371ED8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10883-A3CF-4786-ADFB-FA4E09C3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23F98-2756-4501-A33E-29F20B77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8C4D0-1C95-4F93-9B09-556FA968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C757B-48EF-4459-B9A5-95308FBA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330AE-05E4-4C35-82E3-21251B57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C34FA-DE4D-4D72-B8C5-37D1A325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E70BA-6918-4543-9568-BEEE7982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701A-6635-4915-9D55-6D1594C0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EC23F-379C-4207-9B0A-82A19FB8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591F3-5D49-4A96-A248-8452A0FD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89C8A-3449-4971-8A5F-20C736BE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77225-CF60-489C-9DD4-39614FD8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F12AA-3BAF-416B-A270-F9B5129A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757FC-B18F-4EC3-B3B5-199D472A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735F5-9B3C-4006-B0E4-2D223FEF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39A6B-BE0A-4F4F-B072-9A3AAB39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0DF84-08FD-4109-86C3-B54A2615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BDD44-1288-4930-BA2B-7E926FB5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3D1C-96DC-4FE1-A6CC-06A77C0B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CF7CC-0653-42A3-9D20-8E077914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5E44A-6E4B-4F08-B960-A7F20EA9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F9380-C2AA-4A92-8317-81F8FAEB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3F009-667F-440A-B2EC-386808FE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33FEF-3A62-4BD5-8A7B-F9BFFBAB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5CE36-3CF1-4981-845B-31AD1D06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45E09-E561-4453-BB14-675E98A0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7E7E1-9EF6-4FFD-8868-24DE5480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98711-7538-4F71-92CB-CFABA89B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1242E-756D-4E86-AE12-70CBBDCF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4F35-009F-42BB-B3EB-8037776B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56874-8444-4B52-87D4-06CDF7D0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4B125-71AB-40C7-AD42-8ACC24F4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A4C6A-6C08-420D-9BDC-FEE7C7A3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38F87-7022-4473-824C-2E14C156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5CDE4-40BD-4F25-9C73-65C39CFD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19AF4-2FEC-4871-8EEE-848C18C2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E7528B-085E-4FEB-AF48-6708F06F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F052E-E31C-4F70-9DA4-2B918734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38A30-4E57-47F0-9E87-05E2E331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52D5A-FE53-4544-8E2A-321B2FB9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C751-ED76-4031-AD2F-670B0768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2013E-C5AC-4425-862C-0344C791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F4107-D4D5-42C6-8898-B02CD0A5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92A6C-499B-4940-B112-134CBB4D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423EA-C663-49A9-B126-CBDADFA7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4B379-3414-4426-92A9-AE6D1E7A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5A5D5-86D8-4FC3-98AE-EB7DB2CC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9D56F-77FC-47EE-9561-FE6C0F09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9036-8722-42E8-B492-60F7701B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07B1-72EB-4462-99C1-2C617F5F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16BC-3ED7-45D3-86AA-CC438D96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68C4-DDB7-4A3D-B32F-FC9D4781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6CD-39C1-4E4F-B1C2-4800D3C5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9E03-C5AE-4116-96E8-5B192871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8EC6-049A-4A6A-8E37-CAC139AB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AA03-9B19-4278-8F4C-9722BBA6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51CB-E4C5-4685-AB59-BCBB0B64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AEBA-C859-42AA-BF2F-497D2903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FACA0-F374-444C-829C-3E53D9D2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959CC-9065-49C9-B942-D1F541C4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596EC-537E-4796-9E0E-4BCFC277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DDE63-655E-491A-82C2-807C99E6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38A5B-8941-440D-B04B-30F12082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84AF-2A54-4B8B-B180-0E36321D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FAAE6-D7C8-433F-9542-2B23ABC4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925E5-7B47-46F7-AB58-FF3529C5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C4A86-DFB2-40C4-BE3A-63207CB1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C211F-E555-4253-8495-1080340D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6F446-2A86-4385-BC6C-42F7BDEF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35616-2E00-471E-BF05-30FFAA7C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69705-76FE-40F2-98AF-468F5B6C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8F15F-7003-46F9-B73F-37B7FD1A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E3635-D252-4FA6-85D5-93C94318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20082-85C2-4019-92A2-C719D088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705-9B76-4420-9E6C-7E55A37D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0D416-5B40-430D-8415-1A4569FE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E2FC4-33EB-4D8C-ABDE-77C0F008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9BC5A-2930-464C-ABA7-2B5B2FA9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25651-3A33-4DAC-BBF2-C42FBC6E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B4890-AFFA-4E23-BB46-614D7A4B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F946D-EABD-47EE-A429-91C4887A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FF34A-5AB7-4076-87CA-80D09B4D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552E4-90EB-444F-A756-74F3EDC8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92AB4-139E-43F2-84E3-991E24CD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1B86A-E9AA-4460-8B42-D8373547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113-FFA0-4742-9711-FFEE0F1E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DBDF3-7D41-4BFA-99FC-E25B1F65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E2F7C-EF8B-4B3F-AF9D-B46C4BED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6DFAE-6BDB-48BB-96D0-A1AAA7C1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46983-B30E-4F87-A3EC-50C0B863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B61DA-9733-495F-BC65-52624395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C39F3-B3B9-483B-A891-342FB2C8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05696-AC96-4C9B-92D2-20B87F26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1B294-4BA1-4C9D-86E7-5691001C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ECA9E-6181-4C95-B32E-4EE3F68F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36675-A19D-4BBD-A37C-B3E7338F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E83F-D838-4D87-9FA1-052DFAF9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16C8A-C970-420F-B243-FD0A4767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D6F7F-5079-4D8E-AB2D-09783FAE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790EB-AC7B-4587-AC48-4F7D27FF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409DA-BCF1-422A-A48F-8B0B305C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B8A8B-967F-4970-8DB2-E24CA61F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23649-1669-4B58-9DDE-A69AA46A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8F85E-A34E-4DDA-AF23-3215CC09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069DF-5E99-4D94-B941-133048D4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F34FE-7EBF-4A10-A226-4A027035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A36D3-37A2-41F1-AB8C-E7084AD4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D7C-C32C-4BDE-8E66-50CD23D5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23B78-0C59-406B-AE18-C42CE9E7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DA136-E535-4120-8F19-1EBF1912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2C037-4F62-455E-9FA9-DDE1C11C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6A5A9-881F-4375-9571-3B30D4F5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02C6F-65C1-42C0-B6BC-037E4712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D3A0A-A8D2-4791-B30C-60BDB323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55B83-AE67-4F9C-95D4-85681BB6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748FF-A619-44AE-89D7-C56E433A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341EC-2C02-4DC3-A02B-6969A16E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49E89-CD50-4FFA-9ACB-FBF7CBE3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1C65-FEED-4806-A71E-412478F8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1670D-6716-4546-802E-39A30F11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CABAA-93DC-49D5-B539-99756CC9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4D72B-49F3-469F-8774-B746BC80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A86AE-2AC6-4CD5-B50E-BDD066F5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FFF6A-5D1F-4856-B15E-174E4C09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D59AE-123F-4432-A06F-42A12767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F2952-C6E7-4D61-BA4C-543D3EFB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F56BB-3CED-4F6D-8259-B06031BC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22FFC-B125-422E-9180-BD1280BD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84665-4F13-4CD4-8052-688E9590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60D3-D3C1-4A9B-A901-B8C0F2CB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F3F9D-3033-47E5-B782-F36F3F7B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11F61-525D-47E6-BF0B-2BAFDAC6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1BEA7-066D-452C-B67E-18D44330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E5451-5596-440E-BF78-5C1CA81F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098C2-7B84-4460-8D62-B1F12479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7840F-3F89-4B8F-9026-9F8FF8BD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7BC87-E0AA-409E-A0E2-E68FA974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6D2EE-BA53-483C-A097-4463F0F3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6A2DB-FD65-49D8-B61D-6041B14F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A3E93-DB21-4456-89A6-2CF6547D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DBB9-CEA1-4474-948E-A8B42C4E12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C68A-85F0-441F-B077-EFA8C7CE81C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B28E-7758-44DF-91BF-D76E8A3B8E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FAA6-0803-4252-B786-633E0FC404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4AED-9D3D-4971-8F4B-F5CFF79531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FBDC-D790-433B-A2D1-9846D990AB7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C11C-808A-4910-BFD9-50AC8A05B5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2C68-4C75-4B04-A48F-54FAEF2F9BF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6E6C-31A9-4136-A87D-F7F89FBCE7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DAE3-3233-4CCD-85DD-818FC2DC95E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2F58-2294-4FD2-A5C7-ED26412C54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0972-5DD7-453A-8D86-A35E15C8A1B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F804-B287-4809-99AE-DD7AFC849D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71C8-F4BD-4E7A-8060-9DA7DF2CA3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E3CE-154B-406A-B9DB-61C2730B76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4CBC-5600-406D-9C21-209D899C54C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D09E-0078-41D2-A9B8-28FFD33935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8014-2DE3-4BFD-8F8B-DBBAEEB75A9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2D4D-F456-4452-B685-72CAEC92A6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A394-3DEF-41F6-BA09-BCEDAF28FAD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07B9-78D5-45DC-A9DE-42350A081C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2AF0-042E-436A-BBA9-7AC6DD5D30F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47B6-108E-4AB5-BC41-3CBCC47524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9051-6754-4B43-AA2F-0735D12F8BF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7D9B-A823-4400-8772-FD99DDFD97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214960" y="4643280"/>
            <a:ext cx="485784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清新简约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"/>
          <p:cNvSpPr/>
          <p:nvPr/>
        </p:nvSpPr>
        <p:spPr>
          <a:xfrm>
            <a:off x="5143680" y="141120"/>
            <a:ext cx="44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5286240" y="514368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14" descr="3.png"/>
          <p:cNvPicPr/>
          <p:nvPr/>
        </p:nvPicPr>
        <p:blipFill>
          <a:blip r:embed="rId2"/>
          <a:stretch/>
        </p:blipFill>
        <p:spPr>
          <a:xfrm>
            <a:off x="1424160" y="3032280"/>
            <a:ext cx="7434000" cy="39996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15" descr="2.png"/>
          <p:cNvPicPr/>
          <p:nvPr/>
        </p:nvPicPr>
        <p:blipFill>
          <a:blip r:embed="rId3"/>
          <a:stretch/>
        </p:blipFill>
        <p:spPr>
          <a:xfrm>
            <a:off x="642960" y="2071800"/>
            <a:ext cx="6083280" cy="1881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16" descr="1.png"/>
          <p:cNvPicPr/>
          <p:nvPr/>
        </p:nvPicPr>
        <p:blipFill>
          <a:blip r:embed="rId4"/>
          <a:stretch/>
        </p:blipFill>
        <p:spPr>
          <a:xfrm>
            <a:off x="2643120" y="2143080"/>
            <a:ext cx="6243840" cy="2102040"/>
          </a:xfrm>
          <a:prstGeom prst="rect">
            <a:avLst/>
          </a:prstGeom>
          <a:ln w="0">
            <a:noFill/>
          </a:ln>
        </p:spPr>
      </p:pic>
      <p:sp>
        <p:nvSpPr>
          <p:cNvPr id="53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20"/>
          <p:cNvSpPr/>
          <p:nvPr/>
        </p:nvSpPr>
        <p:spPr>
          <a:xfrm flipH="1">
            <a:off x="7071480" y="28576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21"/>
          <p:cNvSpPr/>
          <p:nvPr/>
        </p:nvSpPr>
        <p:spPr>
          <a:xfrm>
            <a:off x="5072040" y="30718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29"/>
          <p:cNvSpPr/>
          <p:nvPr/>
        </p:nvSpPr>
        <p:spPr>
          <a:xfrm>
            <a:off x="500040" y="29289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17"/>
          <p:cNvSpPr/>
          <p:nvPr/>
        </p:nvSpPr>
        <p:spPr>
          <a:xfrm>
            <a:off x="3211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图片 14" descr="1.png"/>
          <p:cNvPicPr/>
          <p:nvPr/>
        </p:nvPicPr>
        <p:blipFill>
          <a:blip r:embed="rId2"/>
          <a:stretch/>
        </p:blipFill>
        <p:spPr>
          <a:xfrm>
            <a:off x="4164120" y="2103480"/>
            <a:ext cx="2958840" cy="279396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15" descr="2.png"/>
          <p:cNvPicPr/>
          <p:nvPr/>
        </p:nvPicPr>
        <p:blipFill>
          <a:blip r:embed="rId3"/>
          <a:stretch/>
        </p:blipFill>
        <p:spPr>
          <a:xfrm>
            <a:off x="6000840" y="2071800"/>
            <a:ext cx="2717640" cy="285732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16" descr="1.png"/>
          <p:cNvPicPr/>
          <p:nvPr/>
        </p:nvPicPr>
        <p:blipFill>
          <a:blip r:embed="rId4"/>
          <a:stretch/>
        </p:blipFill>
        <p:spPr>
          <a:xfrm>
            <a:off x="500040" y="2174760"/>
            <a:ext cx="2959200" cy="279396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17" descr="2.png"/>
          <p:cNvPicPr/>
          <p:nvPr/>
        </p:nvPicPr>
        <p:blipFill>
          <a:blip r:embed="rId5"/>
          <a:stretch/>
        </p:blipFill>
        <p:spPr>
          <a:xfrm>
            <a:off x="2336760" y="2143080"/>
            <a:ext cx="2718000" cy="2857680"/>
          </a:xfrm>
          <a:prstGeom prst="rect">
            <a:avLst/>
          </a:prstGeom>
          <a:ln w="0">
            <a:noFill/>
          </a:ln>
        </p:spPr>
      </p:pic>
      <p:sp>
        <p:nvSpPr>
          <p:cNvPr id="5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12"/>
          <p:cNvSpPr/>
          <p:nvPr/>
        </p:nvSpPr>
        <p:spPr>
          <a:xfrm>
            <a:off x="11401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3"/>
          <p:cNvSpPr/>
          <p:nvPr/>
        </p:nvSpPr>
        <p:spPr>
          <a:xfrm>
            <a:off x="32119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14"/>
          <p:cNvSpPr/>
          <p:nvPr/>
        </p:nvSpPr>
        <p:spPr>
          <a:xfrm>
            <a:off x="6998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15"/>
          <p:cNvSpPr/>
          <p:nvPr/>
        </p:nvSpPr>
        <p:spPr>
          <a:xfrm>
            <a:off x="5069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14" descr="1.png"/>
          <p:cNvPicPr/>
          <p:nvPr/>
        </p:nvPicPr>
        <p:blipFill>
          <a:blip r:embed="rId2"/>
          <a:stretch/>
        </p:blipFill>
        <p:spPr>
          <a:xfrm>
            <a:off x="2428920" y="1012680"/>
            <a:ext cx="2913120" cy="253692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15" descr="2.png"/>
          <p:cNvPicPr/>
          <p:nvPr/>
        </p:nvPicPr>
        <p:blipFill>
          <a:blip r:embed="rId3"/>
          <a:stretch/>
        </p:blipFill>
        <p:spPr>
          <a:xfrm>
            <a:off x="4857840" y="785880"/>
            <a:ext cx="2547720" cy="271944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7" descr="2.png"/>
          <p:cNvPicPr/>
          <p:nvPr/>
        </p:nvPicPr>
        <p:blipFill>
          <a:blip r:embed="rId4"/>
          <a:stretch/>
        </p:blipFill>
        <p:spPr>
          <a:xfrm>
            <a:off x="2571840" y="3214800"/>
            <a:ext cx="2547720" cy="271944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16" descr="1.png"/>
          <p:cNvPicPr/>
          <p:nvPr/>
        </p:nvPicPr>
        <p:blipFill>
          <a:blip r:embed="rId5"/>
          <a:stretch/>
        </p:blipFill>
        <p:spPr>
          <a:xfrm>
            <a:off x="4643280" y="3178080"/>
            <a:ext cx="2913120" cy="2536920"/>
          </a:xfrm>
          <a:prstGeom prst="rect">
            <a:avLst/>
          </a:prstGeom>
          <a:ln w="0">
            <a:noFill/>
          </a:ln>
        </p:spPr>
      </p:pic>
      <p:sp>
        <p:nvSpPr>
          <p:cNvPr id="56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10"/>
          <p:cNvSpPr/>
          <p:nvPr/>
        </p:nvSpPr>
        <p:spPr>
          <a:xfrm>
            <a:off x="32835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1"/>
          <p:cNvSpPr/>
          <p:nvPr/>
        </p:nvSpPr>
        <p:spPr>
          <a:xfrm>
            <a:off x="29977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5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6"/>
          <p:cNvSpPr/>
          <p:nvPr/>
        </p:nvSpPr>
        <p:spPr>
          <a:xfrm>
            <a:off x="5926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图片 17" descr="1.png"/>
          <p:cNvPicPr/>
          <p:nvPr/>
        </p:nvPicPr>
        <p:blipFill>
          <a:blip r:embed="rId2"/>
          <a:stretch/>
        </p:blipFill>
        <p:spPr>
          <a:xfrm>
            <a:off x="1143000" y="3571920"/>
            <a:ext cx="2806560" cy="584280"/>
          </a:xfrm>
          <a:prstGeom prst="rect">
            <a:avLst/>
          </a:prstGeom>
          <a:ln w="0">
            <a:noFill/>
          </a:ln>
        </p:spPr>
      </p:pic>
      <p:pic>
        <p:nvPicPr>
          <p:cNvPr id="575" name="图片 14" descr="3.png"/>
          <p:cNvPicPr/>
          <p:nvPr/>
        </p:nvPicPr>
        <p:blipFill>
          <a:blip r:embed="rId3"/>
          <a:stretch/>
        </p:blipFill>
        <p:spPr>
          <a:xfrm>
            <a:off x="5786280" y="2357280"/>
            <a:ext cx="2997360" cy="1295640"/>
          </a:xfrm>
          <a:prstGeom prst="rect">
            <a:avLst/>
          </a:prstGeom>
          <a:ln w="0">
            <a:noFill/>
          </a:ln>
        </p:spPr>
      </p:pic>
      <p:pic>
        <p:nvPicPr>
          <p:cNvPr id="576" name="图片 12" descr="1.png"/>
          <p:cNvPicPr/>
          <p:nvPr/>
        </p:nvPicPr>
        <p:blipFill>
          <a:blip r:embed="rId4"/>
          <a:stretch/>
        </p:blipFill>
        <p:spPr>
          <a:xfrm>
            <a:off x="2786040" y="928800"/>
            <a:ext cx="4152960" cy="481320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13" descr="2.png"/>
          <p:cNvPicPr/>
          <p:nvPr/>
        </p:nvPicPr>
        <p:blipFill>
          <a:blip r:embed="rId5"/>
          <a:stretch/>
        </p:blipFill>
        <p:spPr>
          <a:xfrm>
            <a:off x="3751200" y="1069920"/>
            <a:ext cx="3606840" cy="4788000"/>
          </a:xfrm>
          <a:prstGeom prst="rect">
            <a:avLst/>
          </a:prstGeom>
          <a:ln w="0">
            <a:noFill/>
          </a:ln>
        </p:spPr>
      </p:pic>
      <p:sp>
        <p:nvSpPr>
          <p:cNvPr id="57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18"/>
          <p:cNvSpPr/>
          <p:nvPr/>
        </p:nvSpPr>
        <p:spPr>
          <a:xfrm>
            <a:off x="1783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26"/>
          <p:cNvSpPr/>
          <p:nvPr/>
        </p:nvSpPr>
        <p:spPr>
          <a:xfrm>
            <a:off x="72838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图片 17" descr="1.png"/>
          <p:cNvPicPr/>
          <p:nvPr/>
        </p:nvPicPr>
        <p:blipFill>
          <a:blip r:embed="rId2"/>
          <a:stretch/>
        </p:blipFill>
        <p:spPr>
          <a:xfrm>
            <a:off x="3157560" y="2357280"/>
            <a:ext cx="3030480" cy="185436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18" descr="2.png"/>
          <p:cNvPicPr/>
          <p:nvPr/>
        </p:nvPicPr>
        <p:blipFill>
          <a:blip r:embed="rId3"/>
          <a:stretch/>
        </p:blipFill>
        <p:spPr>
          <a:xfrm>
            <a:off x="5830920" y="2571840"/>
            <a:ext cx="2830320" cy="170316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19" descr="2.png"/>
          <p:cNvPicPr/>
          <p:nvPr/>
        </p:nvPicPr>
        <p:blipFill>
          <a:blip r:embed="rId4"/>
          <a:stretch/>
        </p:blipFill>
        <p:spPr>
          <a:xfrm>
            <a:off x="571680" y="2583000"/>
            <a:ext cx="2830320" cy="1703160"/>
          </a:xfrm>
          <a:prstGeom prst="rect">
            <a:avLst/>
          </a:prstGeom>
          <a:ln w="0">
            <a:noFill/>
          </a:ln>
        </p:spPr>
      </p:pic>
      <p:sp>
        <p:nvSpPr>
          <p:cNvPr id="5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11"/>
          <p:cNvSpPr/>
          <p:nvPr/>
        </p:nvSpPr>
        <p:spPr>
          <a:xfrm>
            <a:off x="67125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14"/>
          <p:cNvSpPr/>
          <p:nvPr/>
        </p:nvSpPr>
        <p:spPr>
          <a:xfrm>
            <a:off x="42120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31"/>
          <p:cNvSpPr/>
          <p:nvPr/>
        </p:nvSpPr>
        <p:spPr>
          <a:xfrm>
            <a:off x="1568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图片 14" descr="1.png"/>
          <p:cNvPicPr/>
          <p:nvPr/>
        </p:nvPicPr>
        <p:blipFill>
          <a:blip r:embed="rId2"/>
          <a:stretch/>
        </p:blipFill>
        <p:spPr>
          <a:xfrm>
            <a:off x="2495520" y="790560"/>
            <a:ext cx="4719600" cy="513864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15" descr="2.png"/>
          <p:cNvPicPr/>
          <p:nvPr/>
        </p:nvPicPr>
        <p:blipFill>
          <a:blip r:embed="rId3"/>
          <a:stretch/>
        </p:blipFill>
        <p:spPr>
          <a:xfrm>
            <a:off x="2000160" y="1000080"/>
            <a:ext cx="5621400" cy="4934160"/>
          </a:xfrm>
          <a:prstGeom prst="rect">
            <a:avLst/>
          </a:prstGeom>
          <a:ln w="0">
            <a:noFill/>
          </a:ln>
        </p:spPr>
      </p:pic>
      <p:sp>
        <p:nvSpPr>
          <p:cNvPr id="59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11"/>
          <p:cNvSpPr/>
          <p:nvPr/>
        </p:nvSpPr>
        <p:spPr>
          <a:xfrm>
            <a:off x="51408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12"/>
          <p:cNvSpPr/>
          <p:nvPr/>
        </p:nvSpPr>
        <p:spPr>
          <a:xfrm>
            <a:off x="5497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13"/>
          <p:cNvSpPr/>
          <p:nvPr/>
        </p:nvSpPr>
        <p:spPr>
          <a:xfrm>
            <a:off x="2926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17"/>
          <p:cNvSpPr/>
          <p:nvPr/>
        </p:nvSpPr>
        <p:spPr>
          <a:xfrm>
            <a:off x="25689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2-09T02:17:55Z</dcterms:modified>
  <cp:revision>332</cp:revision>
  <dc:subject/>
  <dc:title>幻灯片 1</dc:title>
</cp:coreProperties>
</file>