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EC98-A446-4749-B7D7-F6F3A5B4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A5AB-515C-4013-9377-76FB2523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95A-3501-481F-8966-92C0EAAA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B34-6E90-4719-8496-28C5D3EC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E27E-6BE7-4C1D-A5FA-6FCBDE86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8CB4-5945-4297-9832-DD7E66A3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116F-1304-44A5-91BB-97B5A2B5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51DA-48B3-4C29-89E2-898A3CD7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2678-5CAA-4F4E-9637-D744BBDA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51CD-3315-40AC-857A-563F0965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C8D9-6DBC-4A76-A8C6-4C4E1097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D765-FBF8-4C85-B855-9CF2839B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9ECA-D290-4998-9385-50BF410E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18AF-E133-4ED8-9C0A-5E000127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6224-9AD1-44AC-B550-88E2CEB9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CE47-2133-4A33-9B50-25DE2A61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71D0-37B6-4B41-B471-5D5D00EC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A1A-C2A0-450E-9183-F6C899A5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04B-288B-4232-A43D-DFA4A12F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1EC-9512-40AD-AA3D-4350867C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5F65-8BB4-485C-8927-D3ABC547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DA8-ACA2-44A3-96B6-96F7B25A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7C3-7125-4D7D-A549-8DEC9F88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E85-8829-481B-A349-32ADA44E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\1291350070509.jpg"/>
          <p:cNvPicPr/>
          <p:nvPr/>
        </p:nvPicPr>
        <p:blipFill>
          <a:blip r:embed="rId2"/>
          <a:srcRect l="0" t="0" r="0" b="97333"/>
          <a:stretch/>
        </p:blipFill>
        <p:spPr>
          <a:xfrm>
            <a:off x="0" y="0"/>
            <a:ext cx="9143640" cy="151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Administrator\Desktop\新建文件夹\1291350070509.jpg"/>
          <p:cNvPicPr/>
          <p:nvPr/>
        </p:nvPicPr>
        <p:blipFill>
          <a:blip r:embed="rId3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939393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939393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93939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939393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939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69D0E9-5459-4677-8AF8-3A0BE21DB414}" type="slidenum">
              <a:rPr b="0" lang="en-US" sz="1200" spc="-1" strike="noStrike">
                <a:solidFill>
                  <a:srgbClr val="93939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395640" y="3804840"/>
            <a:ext cx="8352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矩形 6"/>
          <p:cNvSpPr/>
          <p:nvPr/>
        </p:nvSpPr>
        <p:spPr>
          <a:xfrm>
            <a:off x="0" y="5715000"/>
            <a:ext cx="9143640" cy="900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2D732B-934A-4C0B-8EEE-5B77305069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640" y="3804840"/>
            <a:ext cx="8352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点击此处添加标题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3120" y="5028840"/>
            <a:ext cx="83574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点击此处添加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480" cy="6858000"/>
            <a:chOff x="0" y="0"/>
            <a:chExt cx="846648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800" cy="6991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8466480" cy="51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>
              <a:hlinkClick r:id="rId3"/>
            </p:cNvPr>
            <p:cNvSpPr/>
            <p:nvPr/>
          </p:nvSpPr>
          <p:spPr>
            <a:xfrm rot="20926800">
              <a:off x="1920600" y="3571920"/>
              <a:ext cx="4667040" cy="11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fdef3"/>
      </a:accent1>
      <a:accent2>
        <a:srgbClr val="333399"/>
      </a:accent2>
      <a:accent3>
        <a:srgbClr val="ffffff"/>
      </a:accent3>
      <a:accent4>
        <a:srgbClr val="000000"/>
      </a:accent4>
      <a:accent5>
        <a:srgbClr val="e4ecf8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  <Words>24</Words>
  <Paragraphs>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>ilovePPT.ORG</dc:creator>
  <dc:description/>
  <cp:keywords>ppt ppt模版 ppt设计</cp:keywords>
  <dc:language>en-US</dc:language>
  <cp:lastModifiedBy>a</cp:lastModifiedBy>
  <dcterms:modified xsi:type="dcterms:W3CDTF">2015-03-18T06:01:12Z</dcterms:modified>
  <cp:revision>2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