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8FF-31DB-475E-9220-8BA630D3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7B1-3259-4FA8-9E5E-6C3E31A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E4A-B37F-4E0C-B98E-F6735C2A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54B-6EC9-40A9-9E31-89D4147F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E1EA-E8A9-4801-8F7C-AB2AFCEB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6208-2241-4168-A895-6A0D823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B14B-3F55-4E62-BF47-0319E6F1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F67B-37AB-4A5A-828E-62800F23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7A22-D286-491C-BE94-EE481FB6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9945-3EED-4DE5-9A9C-120F69AC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31A8-962A-4AB9-BD0F-1A0DEBDA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09E-1DEF-492E-988D-9A740ED1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E816-590C-4667-92D1-B7E7DFF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B39A-0346-4714-A44B-74E1B1E4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7A28-B083-45E6-AD65-8C581EFC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9739-1F10-44BF-A984-EB37B5C6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05D5-5E4E-4313-957C-EF6F495F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1F7-AFF6-4ECC-B9E7-7A5D1C0A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C72-BCD9-41A0-AB42-3A69699A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75B-45DF-4464-BA42-19B1FC1E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C72-E201-4BBD-BCBA-87A5A129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401-68FC-4D51-A032-520E27D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03B-D4F1-4CCD-B9CD-84CFB4C3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253-0F7A-48AC-8EB8-0B5C75DA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859400"/>
            <a:ext cx="64004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299" strike="noStrike" cap="all">
                <a:solidFill>
                  <a:srgbClr val="000000"/>
                </a:solidFill>
                <a:latin typeface="Garamond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" name="Picture 7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2801160"/>
            <a:ext cx="9143640" cy="9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1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1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675120" y="63640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2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7597D9-625B-491D-8290-BD9B0118CBF6}" type="slidenum">
              <a:rPr b="1" lang="en-GB" sz="12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000EDA-9AB5-42E8-9438-05B1942159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859400"/>
            <a:ext cx="64004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299" strike="noStrike" cap="all">
                <a:solidFill>
                  <a:srgbClr val="000000"/>
                </a:solidFill>
                <a:latin typeface="汉仪大宋简"/>
                <a:ea typeface="汉仪大宋简"/>
              </a:rPr>
              <a:t>欧美花边幻灯片背景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0" y="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480" cy="6858000"/>
            <a:chOff x="0" y="0"/>
            <a:chExt cx="846648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>
              <a:hlinkClick r:id="rId3"/>
            </p:cNvPr>
            <p:cNvSpPr/>
            <p:nvPr/>
          </p:nvSpPr>
          <p:spPr>
            <a:xfrm rot="20926800">
              <a:off x="192060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uture">
  <a:themeElements>
    <a:clrScheme name="Couture">
      <a:dk1>
        <a:srgbClr val="000000"/>
      </a:dk1>
      <a:lt1>
        <a:srgbClr val="ffffff"/>
      </a:lt1>
      <a:dk2>
        <a:srgbClr val="37302a"/>
      </a:dk2>
      <a:lt2>
        <a:srgbClr val="d0ccb9"/>
      </a:lt2>
      <a:accent1>
        <a:srgbClr val="9e8e5c"/>
      </a:accent1>
      <a:accent2>
        <a:srgbClr val="a09781"/>
      </a:accent2>
      <a:accent3>
        <a:srgbClr val="85776d"/>
      </a:accent3>
      <a:accent4>
        <a:srgbClr val="aeafa9"/>
      </a:accent4>
      <a:accent5>
        <a:srgbClr val="8d878b"/>
      </a:accent5>
      <a:accent6>
        <a:srgbClr val="6b6149"/>
      </a:accent6>
      <a:hlink>
        <a:srgbClr val="b6a272"/>
      </a:hlink>
      <a:folHlink>
        <a:srgbClr val="8a784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uture</Template>
  <TotalTime>333</TotalTime>
  <Application>LibreOffice/7.4.7.2$Linux_X86_64 LibreOffice_project/40$Build-2</Application>
  <AppVersion>15.0000</AppVersion>
  <Words>104</Words>
  <Paragraphs>12</Paragraphs>
  <Company>Jewish Community Secondary Schoo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58:02Z</dcterms:created>
  <dc:creator>Harley Benson</dc:creator>
  <dc:description/>
  <dc:language>en-US</dc:language>
  <cp:lastModifiedBy>a</cp:lastModifiedBy>
  <dcterms:modified xsi:type="dcterms:W3CDTF">2015-03-18T06:01:26Z</dcterms:modified>
  <cp:revision>75</cp:revision>
  <dc:subject/>
  <dc:title>The royal wed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