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60F7-AFDE-4422-AEC1-AF157430D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CC2D-32B9-47D1-99D8-A5680A12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4221-9FA1-410C-BE70-5BDC5F57D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8395-EE81-4B5F-BC2E-915383FB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AC99-AE91-4AFD-9D16-24B8657A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7E4F-BD77-443F-B6FD-5D484268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005BD-803A-432B-8E70-7412C9AE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83E2-90F9-4D81-8125-157EC0D28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1434C-C0C6-440D-8CE2-5C754908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5795-4CB1-42F0-8840-94E1521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392D-99FC-4452-B9C0-417C4012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216-58DD-4700-BFEF-648C7777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4EAF-9511-4436-ABEE-C34A16EE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9AAD-EAF3-4450-A81F-318B95AF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7CFC0-672F-42D7-A899-AA634C30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8E76-9C0A-4A97-8E86-A224B900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26884-7069-4CDD-86A1-59BAF502F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C735-ED4F-4036-A6AC-CDAFE48B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181-29A6-4065-970C-A986BDC04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C3B-CFD4-47EA-B139-503EF060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7A97-9536-43BB-871E-4C84DD72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CC43-8887-46DB-B2F2-B9E37B91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43DB-AC89-45F7-8E8E-6CA25DC1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0B59-B169-4C25-9AFA-D27C2057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C76F-2C6F-48F4-A568-0953B06A47A4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306C-E9CF-433F-BC9B-4E332FD187D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4ED5-1D6A-4E12-A2EB-1716C970824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340000" y="2636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00"/>
                </a:solidFill>
                <a:latin typeface="华文隶书"/>
                <a:ea typeface="华文隶书"/>
              </a:rPr>
              <a:t>精美插画幻灯片背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28:12Z</dcterms:created>
  <dc:creator>Mariajose</dc:creator>
  <dc:description/>
  <cp:keywords/>
  <dc:language>en-US</dc:language>
  <cp:lastModifiedBy>a</cp:lastModifiedBy>
  <dcterms:modified xsi:type="dcterms:W3CDTF">2015-03-18T06:01:37Z</dcterms:modified>
  <cp:revision>63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