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5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005-C9F1-4672-83D8-38A13494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97D-FF9B-4EB9-A26B-07505349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8C4-0DE2-489C-AAE6-29A0DA78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0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0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E0B-A26D-4E13-908B-B0BD8614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E104-03DA-4699-9054-FABA39AB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22F-7812-485F-8229-8836538C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A31E-0004-4AC9-AB1C-1BB0081B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7647-F402-4E3F-B723-D868A911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48CC-0F1B-4173-956C-BFD259E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303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61EF-174B-4FB0-B758-21F51857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A6D4-B3B3-4007-92E8-0C85E71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465-07BD-4B61-9E59-F2AE6E1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935F-8634-4D39-B6CE-BC2981B9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26E9-C92E-48FF-AC66-ECBE75D9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5DC7-ECBA-4138-829C-06E16C4D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1776-D2E2-4214-9D22-91FDBE89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0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8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0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8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FC6-F743-4866-9335-5A7E2AA5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5F5C-9BE5-4DC6-8BDE-71D54DD3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4886-EB71-409D-A2F8-A7822C11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1932-1B51-497C-BB28-E30672F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6507-F78E-43AB-BE78-F4748840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43E8-9BAB-4FBA-98BC-9019923C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30D-3E98-42D5-A025-F627CC97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303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DBB0-1B45-46F4-9F54-7D3359D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3F67-1682-4E51-816A-03EEF5F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B127-DF91-4319-AEBD-23FC8D2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EA22-DF3B-42E9-A898-CE278C8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97CF-E519-4E8A-8931-1A404343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0895-4B68-46DA-BFAF-3D76302A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0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8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0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8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E913-A04A-430A-BA6F-FC3B9242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B6E-4C80-4701-B870-0A66F581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DD4-85F9-49F0-A392-33543D52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303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4B3-CB0E-49E5-9159-C474FCCA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C97-785A-48EF-8287-AEB3C43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972-34F1-4356-809C-39D66844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C73-A0F2-4B7B-986E-410431D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800" y="6356880"/>
            <a:ext cx="2895480" cy="36468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416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597DE949-3112-44B5-BF99-EB6A6018DA5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800" y="6356880"/>
            <a:ext cx="2895480" cy="36468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416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01E95FE0-5668-4F3A-8B0F-D927BB629449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800" y="624528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4160" y="624528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4286503-9589-42E3-88C3-94E560B44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1"/>
          <p:cNvSpPr/>
          <p:nvPr/>
        </p:nvSpPr>
        <p:spPr>
          <a:xfrm>
            <a:off x="2340360" y="28080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"/>
          <p:cNvGrpSpPr/>
          <p:nvPr/>
        </p:nvGrpSpPr>
        <p:grpSpPr>
          <a:xfrm>
            <a:off x="1404360" y="5373360"/>
            <a:ext cx="6561720" cy="576360"/>
            <a:chOff x="1404360" y="5373360"/>
            <a:chExt cx="6561720" cy="576360"/>
          </a:xfrm>
        </p:grpSpPr>
        <p:sp>
          <p:nvSpPr>
            <p:cNvPr id="125" name="流程图: 延期"/>
            <p:cNvSpPr/>
            <p:nvPr/>
          </p:nvSpPr>
          <p:spPr>
            <a:xfrm>
              <a:off x="7302240" y="537336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gt;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流程图: 延期"/>
            <p:cNvSpPr/>
            <p:nvPr/>
          </p:nvSpPr>
          <p:spPr>
            <a:xfrm flipH="1">
              <a:off x="1404360" y="537336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lt;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"/>
          <p:cNvSpPr/>
          <p:nvPr/>
        </p:nvSpPr>
        <p:spPr>
          <a:xfrm>
            <a:off x="900360" y="6165360"/>
            <a:ext cx="7407000" cy="46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方正粗宋_GBK"/>
                <a:ea typeface="方正粗宋_GBK"/>
              </a:rPr>
              <a:t>Quotes from Lei Feng in Chinese and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-6840" y="0"/>
            <a:ext cx="9043920" cy="51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9" name="直接连接符 4"/>
          <p:cNvCxnSpPr/>
          <p:nvPr/>
        </p:nvCxnSpPr>
        <p:spPr>
          <a:xfrm>
            <a:off x="599040" y="5384160"/>
            <a:ext cx="800640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grpSp>
        <p:nvGrpSpPr>
          <p:cNvPr id="130" name="组合 1"/>
          <p:cNvGrpSpPr/>
          <p:nvPr/>
        </p:nvGrpSpPr>
        <p:grpSpPr>
          <a:xfrm>
            <a:off x="844200" y="215280"/>
            <a:ext cx="4462560" cy="5816160"/>
            <a:chOff x="844200" y="215280"/>
            <a:chExt cx="4462560" cy="5816160"/>
          </a:xfrm>
        </p:grpSpPr>
        <p:pic>
          <p:nvPicPr>
            <p:cNvPr id="131" name="图片" descr=""/>
            <p:cNvPicPr/>
            <p:nvPr/>
          </p:nvPicPr>
          <p:blipFill>
            <a:blip r:embed="rId1"/>
            <a:stretch/>
          </p:blipFill>
          <p:spPr>
            <a:xfrm>
              <a:off x="978120" y="518040"/>
              <a:ext cx="4137480" cy="4633920"/>
            </a:xfrm>
            <a:prstGeom prst="rect">
              <a:avLst/>
            </a:prstGeom>
            <a:ln w="9525">
              <a:noFill/>
            </a:ln>
            <a:effectLst>
              <a:softEdge rad="127080"/>
            </a:effectLst>
          </p:spPr>
        </p:pic>
        <p:pic>
          <p:nvPicPr>
            <p:cNvPr id="132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1929240" y="2988720"/>
              <a:ext cx="5816160" cy="26928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33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263680" y="2988720"/>
              <a:ext cx="5816160" cy="2692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34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5653080" y="101232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当祖国和人民处在最危急的关头，我就挺身而出，不怕牺牲。生为人民生，死为人民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599400" y="5382360"/>
            <a:ext cx="82216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When my motherland and her people are at the critical moment, I won’t hesitate to step forward and sacrifice my life. I was born and will die for the people fearles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900360" y="188640"/>
            <a:ext cx="4467960" cy="6335640"/>
            <a:chOff x="900360" y="188640"/>
            <a:chExt cx="4467960" cy="6335640"/>
          </a:xfrm>
        </p:grpSpPr>
        <p:pic>
          <p:nvPicPr>
            <p:cNvPr id="139" name="图片" descr=""/>
            <p:cNvPicPr/>
            <p:nvPr/>
          </p:nvPicPr>
          <p:blipFill>
            <a:blip r:embed="rId1"/>
            <a:stretch/>
          </p:blipFill>
          <p:spPr>
            <a:xfrm>
              <a:off x="900360" y="620640"/>
              <a:ext cx="4404600" cy="467640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40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04768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41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237040" y="3033000"/>
              <a:ext cx="5975640" cy="2865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42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43" name="TextBox 7"/>
          <p:cNvSpPr/>
          <p:nvPr/>
        </p:nvSpPr>
        <p:spPr>
          <a:xfrm>
            <a:off x="5365080" y="77292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99400" y="5382360"/>
            <a:ext cx="82216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There is a limit to one's life, but no limit to serving the people. I would devote my short life to the lifelong career of serving th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"/>
          <p:cNvGrpSpPr/>
          <p:nvPr/>
        </p:nvGrpSpPr>
        <p:grpSpPr>
          <a:xfrm>
            <a:off x="828360" y="332640"/>
            <a:ext cx="4338360" cy="6191640"/>
            <a:chOff x="828360" y="332640"/>
            <a:chExt cx="4338360" cy="6191640"/>
          </a:xfrm>
        </p:grpSpPr>
        <p:pic>
          <p:nvPicPr>
            <p:cNvPr id="147" name="图片" descr=""/>
            <p:cNvPicPr/>
            <p:nvPr/>
          </p:nvPicPr>
          <p:blipFill>
            <a:blip r:embed="rId1"/>
            <a:stretch/>
          </p:blipFill>
          <p:spPr>
            <a:xfrm>
              <a:off x="828360" y="620640"/>
              <a:ext cx="4267080" cy="483228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48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10420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49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192744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50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51" name="TextBox 7"/>
          <p:cNvSpPr/>
          <p:nvPr/>
        </p:nvSpPr>
        <p:spPr>
          <a:xfrm>
            <a:off x="5365080" y="132876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在工作上，要向积极性最高的同志看齐；在生活上，要向水平最低的同志看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99400" y="5382360"/>
            <a:ext cx="8221680" cy="13694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We should model ourselves after comrades with the most ambition in work while keep up with those who has the lowest living stand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"/>
          <p:cNvGrpSpPr/>
          <p:nvPr/>
        </p:nvGrpSpPr>
        <p:grpSpPr>
          <a:xfrm>
            <a:off x="826560" y="366120"/>
            <a:ext cx="4555800" cy="6144120"/>
            <a:chOff x="826560" y="366120"/>
            <a:chExt cx="4555800" cy="6144120"/>
          </a:xfrm>
        </p:grpSpPr>
        <p:pic>
          <p:nvPicPr>
            <p:cNvPr id="155" name="图片" descr=""/>
            <p:cNvPicPr/>
            <p:nvPr/>
          </p:nvPicPr>
          <p:blipFill>
            <a:blip r:embed="rId1"/>
            <a:stretch/>
          </p:blipFill>
          <p:spPr>
            <a:xfrm>
              <a:off x="826560" y="557640"/>
              <a:ext cx="4503960" cy="512388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56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004120" y="3404160"/>
              <a:ext cx="5937120" cy="27468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57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276280" y="3197160"/>
              <a:ext cx="5937120" cy="27468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58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59" name="TextBox 7"/>
          <p:cNvSpPr/>
          <p:nvPr/>
        </p:nvSpPr>
        <p:spPr>
          <a:xfrm>
            <a:off x="5365080" y="141156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钉子有两个长处：一个是挤劲，一个是钻劲，我们在学习上也要提倡钉子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99400" y="5382360"/>
            <a:ext cx="8221680" cy="13694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The nail has two advantages: one is squeezing and the other is drilling , which should be advocated in our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"/>
          <p:cNvGrpSpPr/>
          <p:nvPr/>
        </p:nvGrpSpPr>
        <p:grpSpPr>
          <a:xfrm>
            <a:off x="873000" y="332640"/>
            <a:ext cx="4463640" cy="6191640"/>
            <a:chOff x="873000" y="332640"/>
            <a:chExt cx="4463640" cy="6191640"/>
          </a:xfrm>
        </p:grpSpPr>
        <p:pic>
          <p:nvPicPr>
            <p:cNvPr id="163" name="图片" descr=""/>
            <p:cNvPicPr/>
            <p:nvPr/>
          </p:nvPicPr>
          <p:blipFill>
            <a:blip r:embed="rId1"/>
            <a:stretch/>
          </p:blipFill>
          <p:spPr>
            <a:xfrm>
              <a:off x="873000" y="519480"/>
              <a:ext cx="4377600" cy="485244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64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07792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65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09736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66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67" name="TextBox 7"/>
          <p:cNvSpPr/>
          <p:nvPr/>
        </p:nvSpPr>
        <p:spPr>
          <a:xfrm>
            <a:off x="5365080" y="216108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自己活着，就是为了使别人过得更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99400" y="5382360"/>
            <a:ext cx="8221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We live to better others l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720" y="0"/>
            <a:ext cx="8466480" cy="6858000"/>
            <a:chOff x="720" y="0"/>
            <a:chExt cx="8466480" cy="6858000"/>
          </a:xfrm>
        </p:grpSpPr>
        <p:sp>
          <p:nvSpPr>
            <p:cNvPr id="170" name="矩形 4"/>
            <p:cNvSpPr/>
            <p:nvPr/>
          </p:nvSpPr>
          <p:spPr>
            <a:xfrm>
              <a:off x="6177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2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7">
              <a:hlinkClick r:id="rId3"/>
            </p:cNvPr>
            <p:cNvSpPr/>
            <p:nvPr/>
          </p:nvSpPr>
          <p:spPr>
            <a:xfrm rot="20926800">
              <a:off x="192168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 主题​​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 主题​​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ormal.eit</Template>
  <TotalTime>585</TotalTime>
  <Application>LibreOffice/7.4.7.2$Linux_X86_64 LibreOffice_project/40$Build-2</Application>
  <AppVersion>15.0000</AppVersion>
  <Words>354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45:07Z</dcterms:created>
  <dc:creator>HHQ</dc:creator>
  <dc:description/>
  <dc:language>en-US</dc:language>
  <cp:lastModifiedBy>a</cp:lastModifiedBy>
  <dcterms:modified xsi:type="dcterms:W3CDTF">2015-02-09T02:11:14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7</vt:r8>
  </property>
</Properties>
</file>