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6DF-E34D-4D6B-9743-85FBD306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1CE-1E08-4C8C-852E-D94B190D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6506E-E204-442F-97F2-7587F550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A0BEB-27F4-4CDD-B342-09D2C099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ECFFC-2BB1-45AC-939B-D45CB31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6356E-3E0D-47EA-ABE2-F582858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8D037-4A17-4AB1-98B6-77A128D7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20E4-15C6-4941-A56E-CE007B9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4EA47-5AF9-42D3-8A5B-941DEF67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1DA77-A2FA-4D8C-8809-D1613D93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DC1F1-5B20-4B70-BE4C-8915433E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21EAE-95DA-4380-A27D-341CF1E2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B6D6-389E-4A4D-807A-CF03C06DA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11189-EB98-4369-B0B7-19A0537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3DC9E-A244-4CD0-AFE0-29494B0D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D103F-369D-4BDA-AF8B-0EFA187B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4D0FB-4BC0-4F42-849E-A40E0451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9B430-280F-4242-8CD0-A2C71ACB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C7AEA-44C8-468D-83CF-511ABE14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722FD-FA1C-4671-BDAC-E07F2D86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8A81A-988F-4720-A6B4-3B177791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63987-011F-4DE4-9D08-9633F39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6BC47-CAC2-4761-835A-4AC22DAA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86AC-C525-4800-8C40-B869D3D5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7FF60-AB47-49F9-8507-F81B8BBF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FA39A-8DC9-4A73-B18C-B27A21AD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3C170-3343-4E1F-AA03-37E5869A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CDDE5-EAD9-4853-8505-F10912FB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DB68A-80D4-49BE-BDBA-C8DB49C2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BBC9A-CD52-42D3-8611-4787A2BE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951AC-7CBD-4E12-BAD0-56AF66CA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4CBF4-103C-4F41-89D8-8F980E58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D7496-6FFA-449E-8966-BFE5DFF6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E597-98E8-4B66-AACC-CABE622A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0A5E-9A0B-4A0F-A346-84510A48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D1FE7-32F4-47AB-91A5-F830B989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DFB13-7D4A-499F-98A0-1AAB3E57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18308-0536-4524-9803-56C6DA8B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4F540-209D-4CA2-A5F6-8286011C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8CC1B-891F-4823-9636-F51133E6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30595-95B5-49B0-BB91-4573AB2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BA2EE-64CE-48B0-B3BB-39347E09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ED233-926E-431A-A991-4B2FE5BA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023BF-CA1B-4C70-BCDB-79F885A4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DB8DA-4982-4314-89FB-B4AC6CA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9493-6183-4CB4-8EAA-A182E64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EE8BF-FF94-4FFB-A5DE-888063C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9CE1F-AF31-4B59-B4FB-1FC9A2CB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431E0-589C-44DA-8E0D-C76D9B5A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07D1F-6CAF-46E1-BF45-579F8FFD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063C8-1337-445A-8391-E307866C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A91CA-642B-490B-8C3B-BFD040E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082D0E-8DCC-49DA-B930-467A1182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336B4-31AE-48F9-8FF6-5A0067E7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886AD-C3FD-4FA2-83DC-FC3B8099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60980-E5C2-4BB2-98DC-93865C14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5410-2AA3-49AD-8E77-89C1E866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859F1-715E-4F9E-82FF-79233CB9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41E63-39ED-4AAF-B177-A377D41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BF551E-FF69-4AEF-953E-6C1735C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B22A4-FC15-4A6B-A693-4924CFF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1D917-B19C-4A30-ACA2-A6DBAB30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3296A-E6D7-4F85-A9B9-86B2401F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80C45-9907-4487-9AA4-0D809CD0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159F-2016-4D7A-BAD5-4016D94C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EDFD-04CB-46AB-9F18-8220B39C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EF7-4F67-48D4-A713-E8218E25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1734-D3B4-4615-BFD0-06088656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A4B-5A2F-49AD-B7E9-67472C8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46C2-D9D6-4F1E-BB42-F5640C7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651B-4DA6-4C53-B024-DDAD5005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D847-153A-44EC-A545-CD468278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E6A4-6FED-4E95-ADF4-8DCCDE8C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E9F-EB0A-4BB6-8B9E-5DC16BC9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A373-6CA5-4044-AC8A-80913064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25F7F-EB65-454A-AE7D-814B0AA7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27C1-4729-4659-B5A3-E6FF914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B54E-2D71-44E0-AF8F-5A97522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CB1EB-95DF-4A99-B2D7-B314BC7E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0E3-B2FC-4456-8D38-FDB6B9B0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5F9A-5E63-4785-99C9-7B9DD2C2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68F8-0996-484B-A666-79725BD2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25A8-3933-4534-A8AB-1D07A07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8B8CA-9723-4179-9E67-F348BFB6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8F28-2E29-4BB2-B3F2-F1D6963F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E569-5D19-4287-8479-D29E9ACA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5A63-D73F-4CA6-8865-61B2AAB5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34C6-9022-4B1F-A10F-71E4397E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3B40-8E77-43E4-B1A1-F271135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B38E-EFF2-4D73-AD2E-6E466154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EB63-26C9-4620-8232-7A38DFF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204A7-FF2B-45C9-9FE6-EE364F78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E90C-AF20-466A-AB13-A2A74ED8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508D5-211F-4DC2-A807-300D4B13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6F557-2F81-47A8-A8A9-778EA340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7ABE-BE91-443A-9F66-7DF37CE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588B0-ACE1-4FD0-B27C-D095E91F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DF05-A3A1-4B6B-BFD0-B31E128B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0190-AF42-4A2E-8A41-3C8CF4EF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E1AC-9A24-4BCC-8F81-4AC648CA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5F70-4B09-408E-9098-922C5D7C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8CC-2201-43DC-96AF-7CF1DEB2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B441B-949B-4D27-BEDA-FF4CB895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AD0E4-3649-49D8-9F0E-EFD739B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05371-8CDB-4B0E-80C6-88D4F2D7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E100A-658A-46AB-9675-C5843D3D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A241-8408-4367-ACFD-8C969BB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50FC9-DBF7-4980-B16D-DFEA2160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7657E-2A52-490B-8876-6C5B25E3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8925E-F231-472E-95FD-35F59DCF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6748-AD54-4EA2-AF6C-28DAF11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CAEF1-FDBA-451E-9D12-7876B804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E50-8822-4E5D-92CA-EB37A4FA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597E-C69C-40E6-8713-0EC07975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43BB7-78B5-4749-90FE-D037C873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1D37B-4374-4199-91C6-0FDD793A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0144-A2D6-4875-A3D8-929B7395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2928F-CADC-4952-9ABD-F27A148C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F994D-6853-4730-980A-4EE0EA00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6E7F4-54AC-497A-BC38-4A9E9310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429E4-4BA1-42EB-BC05-DC00140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B1D06-AB90-41C0-8D00-8551D4A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55131-2F57-4905-84DA-8B24F9B3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365-7DDA-4BFC-BD0C-74F0E3EF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AC2EB-E77C-4A13-9D0B-461CA95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8347-22AA-40F7-8CA3-B9EA0857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91385-1A11-4D50-80FD-3BAAA5DE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E7FFC-A880-4391-8B65-5A8AC5D4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24915-97F5-48AA-92CA-1796958B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62AB7-97E9-4BDD-8F0D-474D8D40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50F8E-C14B-4DBA-85AE-225EC78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D7798-BA61-471C-8563-D31A44FF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71044-E916-4A73-A191-0CFB550F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35DD-D971-49D5-AC3B-825CDFE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3C6-DE21-4879-A3D4-DA0196E7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DD275-E331-405D-9B6D-D63F14F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D9188-7C46-479A-B771-09850841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7CC71-C2B2-4392-993B-B0C93655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315D6-CF27-4D99-B553-157E2CDF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BC293-B1B8-4009-8D5E-4F2E80ED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11CB2-8AB9-42A0-82FB-B58F794D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F4BC3-9BB0-4652-AB03-CE0159CC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50D5F-A286-4B9B-A3B1-B9BAA012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0C585-47F6-4BE7-827A-FCEBC5D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8AEB-973C-4A92-9789-67D7DFFC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05B0-F74A-431D-BBFC-1CFBACF7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470C5-3F7B-467D-8E7E-0225A02D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5775-77BA-408A-A583-8D386A9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2EB9-2689-4634-B91B-9502C2C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7C923-2174-4EF2-B175-07FCBB70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8490B-6451-4741-817F-29B3F6EA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20718-C93A-4D12-B144-69D71B8C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D3DB-E1DA-4D5D-A125-7856B3BB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71A48-9BA7-4027-8986-D804B9B3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5EEC4-7F2F-4FC1-A6D7-F8E95292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AC7DA-DB21-47BE-9E05-6AD7E54F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1748-238A-4978-95C4-B93DFBA5E3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471-38A9-4C1D-8B20-1F53F02D47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92F7-8EE0-4B1C-8016-736219CFF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8D0B-DDE9-4CBA-9CBB-D4E02E191E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FCEE-EE50-4E89-8607-CFFC670911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49F-6272-46C3-A5C8-54BA79674B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8A49-1016-40B2-A604-9ACA76C5E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4A0-0297-4C7D-A8E3-4832E6BA65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B9AD-924B-40D3-8325-A3F610B40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991-BBB2-437E-887E-125DE8E9B8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148-CF9A-4789-B40D-6495BF42F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133B-7295-402D-861F-3AABAAA599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09F1-DC7E-499C-BD97-67ECA30E4D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482E-5DF9-4B76-8DE8-07270064EFA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50E-5A6C-4713-9829-8F69F7697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5715-C08C-4D1E-9362-F6971F1912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348A-C6D7-437E-BBCF-6080A2CD8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CE9D-2EE5-41E5-B2D3-A20C9F291D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134F-1CD8-43C5-8AB0-A4D6B5972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00C9-349E-481D-B18D-E0EDAAC6D6E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5FD-7D8F-4616-80EF-33A0D5A878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821-9542-46F9-A079-8420E1ADF5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D51-320A-4995-BB94-7BD1487314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DC9E-D080-43C4-9A2B-59D00DB5DB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ADDB-0915-4087-BC38-3C2B00B207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4"/>
          <p:cNvSpPr/>
          <p:nvPr/>
        </p:nvSpPr>
        <p:spPr>
          <a:xfrm>
            <a:off x="5643720" y="478620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5"/>
          <p:cNvSpPr/>
          <p:nvPr/>
        </p:nvSpPr>
        <p:spPr>
          <a:xfrm>
            <a:off x="5500800" y="480204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7"/>
          <p:cNvSpPr/>
          <p:nvPr/>
        </p:nvSpPr>
        <p:spPr>
          <a:xfrm>
            <a:off x="5357880" y="428616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9"/>
          <p:cNvSpPr/>
          <p:nvPr/>
        </p:nvSpPr>
        <p:spPr>
          <a:xfrm>
            <a:off x="6212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"/>
          <p:cNvSpPr/>
          <p:nvPr/>
        </p:nvSpPr>
        <p:spPr>
          <a:xfrm>
            <a:off x="24260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3140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"/>
          <p:cNvSpPr/>
          <p:nvPr/>
        </p:nvSpPr>
        <p:spPr>
          <a:xfrm>
            <a:off x="6569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457092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5"/>
          <p:cNvSpPr/>
          <p:nvPr/>
        </p:nvSpPr>
        <p:spPr>
          <a:xfrm>
            <a:off x="4712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7"/>
          <p:cNvSpPr/>
          <p:nvPr/>
        </p:nvSpPr>
        <p:spPr>
          <a:xfrm>
            <a:off x="45691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5"/>
          <p:cNvSpPr/>
          <p:nvPr/>
        </p:nvSpPr>
        <p:spPr>
          <a:xfrm>
            <a:off x="2640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59266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5"/>
          <p:cNvSpPr/>
          <p:nvPr/>
        </p:nvSpPr>
        <p:spPr>
          <a:xfrm>
            <a:off x="44265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7"/>
          <p:cNvSpPr/>
          <p:nvPr/>
        </p:nvSpPr>
        <p:spPr>
          <a:xfrm>
            <a:off x="3140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5"/>
          <p:cNvSpPr/>
          <p:nvPr/>
        </p:nvSpPr>
        <p:spPr>
          <a:xfrm>
            <a:off x="628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5"/>
          <p:cNvSpPr/>
          <p:nvPr/>
        </p:nvSpPr>
        <p:spPr>
          <a:xfrm>
            <a:off x="20689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7"/>
          <p:cNvSpPr/>
          <p:nvPr/>
        </p:nvSpPr>
        <p:spPr>
          <a:xfrm>
            <a:off x="442656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4212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8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5426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5"/>
          <p:cNvSpPr/>
          <p:nvPr/>
        </p:nvSpPr>
        <p:spPr>
          <a:xfrm>
            <a:off x="44978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5"/>
          <p:cNvSpPr/>
          <p:nvPr/>
        </p:nvSpPr>
        <p:spPr>
          <a:xfrm>
            <a:off x="2997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"/>
          <p:cNvSpPr/>
          <p:nvPr/>
        </p:nvSpPr>
        <p:spPr>
          <a:xfrm>
            <a:off x="521208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"/>
          <p:cNvSpPr/>
          <p:nvPr/>
        </p:nvSpPr>
        <p:spPr>
          <a:xfrm>
            <a:off x="42120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"/>
          <p:cNvSpPr/>
          <p:nvPr/>
        </p:nvSpPr>
        <p:spPr>
          <a:xfrm>
            <a:off x="5212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"/>
          <p:cNvSpPr/>
          <p:nvPr/>
        </p:nvSpPr>
        <p:spPr>
          <a:xfrm>
            <a:off x="421200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6"/>
          <p:cNvSpPr/>
          <p:nvPr/>
        </p:nvSpPr>
        <p:spPr>
          <a:xfrm>
            <a:off x="32835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09T02:29:34Z</dcterms:modified>
  <cp:revision>120</cp:revision>
  <dc:subject/>
  <dc:title>幻灯片 1</dc:title>
</cp:coreProperties>
</file>