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698-8FF3-45E3-B4FD-D137D82F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E10-7857-408C-ADDE-0E2227DB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83851-9396-4E23-AB76-984A2F15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EDD8D-937F-4EF8-B652-0B9B3B27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CAF78-55CA-4EFC-94D9-D97EA61C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D8802-151D-4E63-8705-FDAD1799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254DC-FA9D-4D97-81B2-87F930B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8F5CA-A1D1-4DCC-A1F8-B5350AB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21BBE-2167-4F66-9DAF-C7D8723A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CCB7C-AD69-42C8-95B4-2A85076B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E512F-2283-4ECE-B64C-CD3A7A32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14C9F-9B7A-43FE-B1CD-B106C64E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9C0-3011-40FF-A527-A71F0530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D5AB5-1ABF-446D-92FE-37C3B0C9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8A9DC-B601-437E-BFF3-C8BCCA93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8015C-0D6F-4B49-ACFE-F57CADFF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ACECA-92C1-4EC2-8324-04A1A4E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B645A-B9B3-4A7D-BB2D-9FCCAFC6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2771B-E8B6-496F-BDF2-405688E0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4DB67-2064-4DDA-A5E9-1D1A1A04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9AA81-6C03-4CF1-81B2-4A6CDBD4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FD213-CE5E-47DC-90AC-CBA45C3D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6B8A7-9641-45DF-AC25-15AF8519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F8D-CEFD-480B-8782-C184245A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B2725-5BA3-4A14-AD89-504BA529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93985-3044-4386-926E-E4F5AA84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DCDE2-A960-4609-8859-ACA4A25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FD9B2-3683-46DF-85AD-62B3BDB9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4A959-C65B-478C-96D3-34CC2B80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ED6C3-EAA3-4200-A177-71E91386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1B353-A0C4-4CF4-B0FA-183E4C5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F8F0B-149C-4DAA-9E6D-64BB0ADE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FA7AF-1A3D-4801-848D-E8AB9124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632F3-D236-45FD-859B-F3950756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B3CC-3A82-45F9-938B-F6226713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45339-832C-4177-8800-BBE0B6E4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48B10-AADE-4365-A14E-82218247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1BF3A-3BAC-469C-8263-482E5730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C7392-5E07-4DB6-94E8-39B3E9D4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B2BF3-9180-42C2-91C4-ED9F84B3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14CBC-F5C6-4D11-835B-3B82E32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F4B00-9D61-45A5-8113-3BFFB85E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2FEF5-9EF9-4149-8638-62DC2F5F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B7126-FEAC-43C9-A762-6838DD34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209A4-CA1B-4244-BDC8-99CB8639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A845-69AF-4614-9F3D-A85315B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8DF9F-1CBC-42A0-B6F7-F2FAC7B6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9881F-7E2C-4E6E-A294-0322448B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90A8E-37A6-494A-BFDB-2D1D4AF5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E81FF-3B1B-4662-B80E-964829EB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E47C5-EA8C-4CC8-8A23-FFDF020A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DBA38-7CE0-44EC-AE4B-BE3655DF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9F4B6-7C9E-4E56-A73F-3B70BF06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5E9D2-6708-4031-84D1-A888DD01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50E3B-1FCF-45FF-95EE-4126A3B2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E8A55-3C38-47DD-A507-8B7BEC8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6F28-5065-4779-9328-A54D250D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8E255-A042-417C-A084-51027269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F364A-E149-4672-B1E4-9C9C3F3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B1688-A8BA-47A0-BF99-524F1FC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25830-C91D-4C13-A928-3365A756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C7A47-54CA-4C6A-8704-142DC0D0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2FD49-B41C-42E4-925F-F47BC3E7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FF0EF-EE88-4EC8-B1CC-C81B1376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E2E4D-E913-4BD4-A8B3-885D96AC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C1345-09F4-4B36-968F-53DDE3F9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B100E-C9A5-4F09-8F97-329ECFBE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FFCC-33DE-425E-9C6A-8AF9DE4F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FAF7D-40E7-4385-92E9-E6F360A2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3E5F5-A440-4512-83F8-4D07797A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93E2E-3730-4DAA-A773-86AB8E9F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3E929-D459-4D3F-8BBC-6D2BD8A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98180-5A77-4CD6-A978-BA07250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D374C-72ED-4A7B-BAB3-12332899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75113-B9B5-40FB-BC0A-A533D2FC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2E361-8A55-436F-946E-C6BA23D6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1F6A5-11D7-47EF-85E5-961475D1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1EA72-746D-4623-AF5E-A858DBB1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871D-13FF-446D-BC8A-0649DF7E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C5BCB-C13F-4E91-9819-D67DDBF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F19B4-190A-4F5D-B59A-BFED83FC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49778-1B0E-4FC0-ACA2-B804829E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9F1BB-FF7C-475B-B33A-619D6BB1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B7A16-1DC0-4C57-B0C8-BF053E1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9DB80-5504-402C-91FC-9452F8ED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9E6CE-BC0E-452E-A651-2ED6A0F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6FF85-E740-43B8-A540-31735683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C2A35-F6F4-4ACC-9A97-1666A579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3ED72-87E2-4D75-A14D-3D0BA2F3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067B-2358-4CCF-8F7D-2A73716C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B8C33-C037-4C2F-874F-81735B5B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ED82-BB33-4C6E-BE52-8FC1C9BE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73A-5743-4E85-98E5-8B672230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AD03-0366-4E0D-A7F6-ED35D235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E15-B5DF-45FE-B4A0-6BE86F5F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31A9-7D57-4DF0-9391-014207D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2531-B4C2-482B-8DAC-FE2A1CA9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E30B-C01C-4EFE-BFCE-AEC8577B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9B14-84C6-400F-B393-CEBC3C32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1AB9-FF75-4314-995A-018ACC2A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5D28-2B16-46D3-8B49-A48117E4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FC4B5-F849-4D10-9593-9E999A03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5B4B-246A-45C8-BFDD-887792E7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B3B-3B7A-4C46-8C89-35320093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5BD0-F745-4055-960C-830F6EEA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A638-4099-4CDC-BC04-F2E6A83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18FA-D302-4D4A-AD51-1B9232A5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8492-1DEE-4315-8E8A-407DB220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2EE6-C241-4DA4-A35E-BB798BA6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D779-468C-4A9C-B6F9-496BE5E6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3412-825C-49BB-8A50-519E23CC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C2CC2-C60F-4A13-86D2-9ADC7C05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A9F8-B9C2-4D59-8E6F-7123A8C5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4EE2-0133-46AE-9328-8552F505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0C9-D0F3-4760-AD5D-2AA72088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20DFE-231C-41E7-96FD-27262843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8A4D4-E36D-4966-A983-EDDFD57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4650-6DAB-4F55-9363-6DAF3A21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D308-4DDE-4002-8969-D5E0EB88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DE12-C631-48DB-A3E9-56B5815C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95D4-38FF-4AD3-ABB6-8F5A9E7B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39C15-DCE9-4EBE-9BDB-6E331DD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27E5-3997-4EF6-AA1A-86B3294C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C8D28-2E4D-4A7C-AF4A-08CCF20A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C9D61-C171-442D-948E-37E7F365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D5F-FCDE-4101-A745-A52D72F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6EE1-3B6C-4D00-AFC3-1578B412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0CA7-B228-42CF-9FAA-25034977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82ED-8F73-46DB-B0E6-DB82F6F5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E9755-34B5-4428-83CD-AC955654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C22E-41DC-4DFD-922C-D9C74ABC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3909-31A7-4AD2-8966-FAD0B3D2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DE946-E96A-4ABF-B904-70359B0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623D4-849E-414D-A3B4-ED052E7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43DB-510D-4FBF-A7D6-CBF18D7F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40ED-6217-42B2-A09F-AF1382EF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8E9-B267-4533-884C-CC661114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08ED9-4B22-4FFA-A38C-9DFF0457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EDFFD-048C-42D2-A370-B181D27E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A927-D3AB-433A-B83D-9C98C697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7EE8-7E6A-4E37-B6D2-FA3C59BF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0F7F3-7F89-4DD9-986E-C95CABF6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405B-35E9-4D92-8F65-67CD3C0C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BEA3D-1AFB-4B44-821D-747D4AC3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A4565-7B81-485C-A405-E5E34280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BA7C6-3D1B-4C00-BCD2-0B46930E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A5ED-92B9-4F7C-8535-85949C56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A8F-91BB-4FAB-A865-A7B034AB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DE6BF-858F-4822-9EB1-D7DAEF19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B4C16-20D5-44A1-A274-B8E36C2F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D1C8C-0747-4FFD-AFC8-8E185231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50138-768A-45C7-A5DF-A6603BA2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6F8D2-9395-4126-8BFE-2BEFF526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9ECD6-9BE6-4A70-8355-2CD86774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6346E-7973-404A-935B-72C79CD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5E80-A1EF-44B9-AB90-CCF47810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EE1BE-7831-4A78-87EC-9CC40C01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CA3E-F1E6-41B5-BEF4-0EB0D83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CE8-623C-4FA5-9720-3C983E9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1145E-0DD9-4F36-8715-936B1CB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D4AE1-E5E1-4F70-9168-BC94BBB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3FBDE-DBF0-40C1-A78A-FEE714B6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1BAE9-65D5-4522-8572-1359E7E9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910D-1E69-491E-8F4E-2F9DCAFB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E82B-FF45-44F5-B2D8-06AD5125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DA83-6B84-4665-AF8D-D2869619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9ED8-5F58-47BF-A784-D3D8A867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AE690-F717-4F9D-AD27-5FD80556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63068-8514-4713-B0EF-672AD504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397-16AC-44D8-9C19-0E17C61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6BCD-DBA8-467B-851C-98784A93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7521F-930A-48A7-8CB7-281D77AC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FD297-BC06-4AA5-9F37-D3E40B8A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146E-E95D-45BF-89A9-C04E684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8CD7E-547F-4ECA-91A4-256FACB7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6E04-6E55-4DFF-A0D5-1001A5A3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9B5D-EBDC-4106-BB99-33F0836A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28D01-0361-4C58-91B8-1A562B1D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F17BF-F133-4821-8CA9-3C14049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A48E7-C58E-432F-B2C4-FCE4C744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A502-E613-46D7-BB1B-E16D3CC34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98F1-24B9-4B33-ADDE-E1C7AEEFB3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F408-752E-40ED-8928-9F41A4AB3E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8FF5-B169-416F-A64E-F5A3A2689F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E81F-5DA9-4927-A37D-09D13D7D19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088-E711-497F-B43C-B49C7CB58D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616D-D07E-4F37-8E2F-C8BA706405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8917-E0F5-41EA-89E8-D547C9DE91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F9F7-AA41-4FE3-A825-451A81B4E4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3F6-3560-4453-A3D9-32C8FF2EF0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2A4-E9E0-4FEC-957E-93EED66F1C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85A2-B65A-420F-B5F0-7C72464601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34BE-D232-49D5-8AFC-834825CEB8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1A3-8EF9-4F4F-93E9-EBB4E0498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DFBB-05E2-4FFB-B68C-97DBDF3C4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E79-2E61-4E1A-A3AB-F054E0FE3D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3A27-75A1-4D6D-B251-A002647561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6467-926C-41DB-9D49-38F5603F49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0DF0-89B8-431B-A515-4843D9F546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867-3EAF-42B5-AEAA-996EEDC5BB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0006-9E81-45A6-8FDB-785D6EC90F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D5EF-7CE8-4102-8CF2-BFE64450E7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1AA-F7C1-472C-B9A1-58BDC69156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27DD-B8E5-4116-A8B1-410A34602D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A93-4EF1-418C-84E0-8ED73CE278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B8F3-AA79-4EBD-ABF8-3B6D2FCE37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D44D-A451-4C28-B5F6-8BEF95E29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qq_xiao.exe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file:///qq_kwzs.exe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hyperlink" Target="file:///qq_pyxx.exe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3"/>
          <p:cNvSpPr/>
          <p:nvPr/>
        </p:nvSpPr>
        <p:spPr>
          <a:xfrm>
            <a:off x="4099320" y="603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郎织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牛郎织女"/>
          <p:cNvPicPr/>
          <p:nvPr/>
        </p:nvPicPr>
        <p:blipFill>
          <a:blip r:embed="rId3"/>
          <a:stretch/>
        </p:blipFill>
        <p:spPr>
          <a:xfrm>
            <a:off x="1905120" y="15238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1523880" y="16765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放声朗读课文，想一想古代人是怎样过乞巧节的。结合拼音认读生字，同学间可互相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2743200" y="1371600"/>
            <a:ext cx="380988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　巧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 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 夕 今 宵 看 碧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ea typeface="楷体_GB2312"/>
                <a:hlinkClick r:id="rId3"/>
              </a:rPr>
              <a:t>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牵 牛 织 女渡 河 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 家乞巧 望 秋 月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 尽 红 丝 几 万 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4038480" y="2666880"/>
            <a:ext cx="2133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iāo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iā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小学语文(古诗词)02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sna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657440"/>
            <a:ext cx="6019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小学语文(古诗词)03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1752480" y="1447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朗诵，体会诗歌的感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snap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038320"/>
            <a:ext cx="5715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小学语文(古诗词)04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3"/>
          <p:cNvSpPr/>
          <p:nvPr/>
        </p:nvSpPr>
        <p:spPr>
          <a:xfrm>
            <a:off x="1371600" y="2241720"/>
            <a:ext cx="7086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乞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阅读牛郎织女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371600" y="3187800"/>
            <a:ext cx="6934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搜集一些民间故事，开个故事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小学语文(古诗词)04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3"/>
          <p:cNvSpPr/>
          <p:nvPr/>
        </p:nvSpPr>
        <p:spPr>
          <a:xfrm>
            <a:off x="402300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郎织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4" descr="牛郎织女"/>
          <p:cNvPicPr/>
          <p:nvPr/>
        </p:nvPicPr>
        <p:blipFill>
          <a:blip r:embed="rId3"/>
          <a:stretch/>
        </p:blipFill>
        <p:spPr>
          <a:xfrm>
            <a:off x="1143000" y="1589040"/>
            <a:ext cx="6972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"/>
          <p:cNvSpPr/>
          <p:nvPr/>
        </p:nvSpPr>
        <p:spPr>
          <a:xfrm>
            <a:off x="1143000" y="1752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七月七鹊桥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夕乞巧女儿节。“乞巧节”，源于我国四大民间爱情传说之一的牛郎织女的故事。相传在七月初七，也就是七夕这天，牛郎和织女要在银河鹊桥相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"/>
          <p:cNvSpPr/>
          <p:nvPr/>
        </p:nvSpPr>
        <p:spPr>
          <a:xfrm>
            <a:off x="1219320" y="1523880"/>
            <a:ext cx="73152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汉代时，民间便开始向织女乞巧了，不但祈求心灵手巧，还祈求得到财富、早日有美满甜蜜的婚姻和早得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七夕节最普遍的习俗，就是妇女们在七月初七的夜晚进行的各种乞巧活动。乞巧的方式大多是姑娘们穿针引线验巧，做些小物品赛巧，摆上些瓜果乞巧，各个地区的乞巧的方式不尽相同，各有趣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28"/>
          <p:cNvSpPr/>
          <p:nvPr/>
        </p:nvSpPr>
        <p:spPr>
          <a:xfrm>
            <a:off x="241128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背景0084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962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276360" y="11430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乞   巧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林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437920" y="2514240"/>
            <a:ext cx="5040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夕 今宵 看碧霄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牛 织女 渡河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家 乞巧 望秋月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尽 红丝 几万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5"/>
          <p:cNvSpPr/>
          <p:nvPr/>
        </p:nvSpPr>
        <p:spPr>
          <a:xfrm flipH="1">
            <a:off x="3505320" y="259092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6"/>
          <p:cNvSpPr/>
          <p:nvPr/>
        </p:nvSpPr>
        <p:spPr>
          <a:xfrm flipH="1">
            <a:off x="4800240" y="259092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7"/>
          <p:cNvSpPr/>
          <p:nvPr/>
        </p:nvSpPr>
        <p:spPr>
          <a:xfrm flipH="1">
            <a:off x="3505320" y="3352680"/>
            <a:ext cx="304560" cy="609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8"/>
          <p:cNvSpPr/>
          <p:nvPr/>
        </p:nvSpPr>
        <p:spPr>
          <a:xfrm flipH="1">
            <a:off x="4723920" y="3352680"/>
            <a:ext cx="304920" cy="609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9"/>
          <p:cNvSpPr/>
          <p:nvPr/>
        </p:nvSpPr>
        <p:spPr>
          <a:xfrm flipH="1">
            <a:off x="3505320" y="411480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4800240" y="411480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1"/>
          <p:cNvSpPr/>
          <p:nvPr/>
        </p:nvSpPr>
        <p:spPr>
          <a:xfrm flipH="1">
            <a:off x="3505320" y="480060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2"/>
          <p:cNvSpPr/>
          <p:nvPr/>
        </p:nvSpPr>
        <p:spPr>
          <a:xfrm flipH="1">
            <a:off x="4800240" y="480060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3" descr="花边01"/>
          <p:cNvPicPr/>
          <p:nvPr/>
        </p:nvPicPr>
        <p:blipFill>
          <a:blip r:embed="rId2"/>
          <a:stretch/>
        </p:blipFill>
        <p:spPr>
          <a:xfrm>
            <a:off x="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4" descr="花边01"/>
          <p:cNvPicPr/>
          <p:nvPr/>
        </p:nvPicPr>
        <p:blipFill>
          <a:blip r:embed="rId3"/>
          <a:stretch/>
        </p:blipFill>
        <p:spPr>
          <a:xfrm>
            <a:off x="434340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15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4162680"/>
          </a:xfrm>
          <a:prstGeom prst="rect">
            <a:avLst/>
          </a:prstGeom>
          <a:ln w="0">
            <a:noFill/>
          </a:ln>
        </p:spPr>
      </p:pic>
      <p:pic>
        <p:nvPicPr>
          <p:cNvPr id="636" name="Object 16" descr=""/>
          <p:cNvPicPr/>
          <p:nvPr/>
        </p:nvPicPr>
        <p:blipFill>
          <a:blip r:embed="rId5"/>
          <a:stretch/>
        </p:blipFill>
        <p:spPr>
          <a:xfrm>
            <a:off x="0" y="3152880"/>
            <a:ext cx="304920" cy="3705120"/>
          </a:xfrm>
          <a:prstGeom prst="rect">
            <a:avLst/>
          </a:prstGeom>
          <a:ln w="0">
            <a:noFill/>
          </a:ln>
        </p:spPr>
      </p:pic>
      <p:pic>
        <p:nvPicPr>
          <p:cNvPr id="637" name="Object 17" descr=""/>
          <p:cNvPicPr/>
          <p:nvPr/>
        </p:nvPicPr>
        <p:blipFill>
          <a:blip r:embed="rId6"/>
          <a:stretch/>
        </p:blipFill>
        <p:spPr>
          <a:xfrm>
            <a:off x="8839080" y="380880"/>
            <a:ext cx="304920" cy="3705480"/>
          </a:xfrm>
          <a:prstGeom prst="rect">
            <a:avLst/>
          </a:prstGeom>
          <a:ln w="0">
            <a:noFill/>
          </a:ln>
        </p:spPr>
      </p:pic>
      <p:pic>
        <p:nvPicPr>
          <p:cNvPr id="638" name="Object 18" descr=""/>
          <p:cNvPicPr/>
          <p:nvPr/>
        </p:nvPicPr>
        <p:blipFill>
          <a:blip r:embed="rId7"/>
          <a:stretch/>
        </p:blipFill>
        <p:spPr>
          <a:xfrm>
            <a:off x="8839080" y="3152880"/>
            <a:ext cx="304920" cy="37051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花边01"/>
          <p:cNvPicPr/>
          <p:nvPr/>
        </p:nvPicPr>
        <p:blipFill>
          <a:blip r:embed="rId8"/>
          <a:stretch/>
        </p:blipFill>
        <p:spPr>
          <a:xfrm>
            <a:off x="476712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花边01"/>
          <p:cNvPicPr/>
          <p:nvPr/>
        </p:nvPicPr>
        <p:blipFill>
          <a:blip r:embed="rId9"/>
          <a:stretch/>
        </p:blipFill>
        <p:spPr>
          <a:xfrm>
            <a:off x="0" y="647712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花边01"/>
          <p:cNvPicPr/>
          <p:nvPr/>
        </p:nvPicPr>
        <p:blipFill>
          <a:blip r:embed="rId10"/>
          <a:stretch/>
        </p:blipFill>
        <p:spPr>
          <a:xfrm>
            <a:off x="4267080" y="647712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花边01"/>
          <p:cNvPicPr/>
          <p:nvPr/>
        </p:nvPicPr>
        <p:blipFill>
          <a:blip r:embed="rId11"/>
          <a:stretch/>
        </p:blipFill>
        <p:spPr>
          <a:xfrm>
            <a:off x="4767120" y="6477120"/>
            <a:ext cx="4376880" cy="3808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5"/>
          <p:cNvSpPr/>
          <p:nvPr/>
        </p:nvSpPr>
        <p:spPr>
          <a:xfrm>
            <a:off x="594360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4"/>
          <p:cNvSpPr/>
          <p:nvPr/>
        </p:nvSpPr>
        <p:spPr>
          <a:xfrm>
            <a:off x="419112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"/>
          <p:cNvSpPr/>
          <p:nvPr/>
        </p:nvSpPr>
        <p:spPr>
          <a:xfrm>
            <a:off x="2133720" y="32004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4" descr="乞巧"/>
          <p:cNvPicPr/>
          <p:nvPr/>
        </p:nvPicPr>
        <p:blipFill>
          <a:blip r:embed="rId3"/>
          <a:stretch/>
        </p:blipFill>
        <p:spPr>
          <a:xfrm>
            <a:off x="2948040" y="1219320"/>
            <a:ext cx="4672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3"/>
          <p:cNvSpPr/>
          <p:nvPr/>
        </p:nvSpPr>
        <p:spPr>
          <a:xfrm>
            <a:off x="3993480" y="5958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 巧 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4" descr="乞巧节"/>
          <p:cNvPicPr/>
          <p:nvPr/>
        </p:nvPicPr>
        <p:blipFill>
          <a:blip r:embed="rId3"/>
          <a:stretch/>
        </p:blipFill>
        <p:spPr>
          <a:xfrm>
            <a:off x="1600200" y="1600200"/>
            <a:ext cx="6095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3"/>
          <p:cNvSpPr/>
          <p:nvPr/>
        </p:nvSpPr>
        <p:spPr>
          <a:xfrm>
            <a:off x="4099320" y="588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巧供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乞巧供桌"/>
          <p:cNvPicPr/>
          <p:nvPr/>
        </p:nvPicPr>
        <p:blipFill>
          <a:blip r:embed="rId3"/>
          <a:stretch/>
        </p:blipFill>
        <p:spPr>
          <a:xfrm>
            <a:off x="1828800" y="1646280"/>
            <a:ext cx="5740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3902760" y="5904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 巧 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4" descr="乞巧馍"/>
          <p:cNvPicPr/>
          <p:nvPr/>
        </p:nvPicPr>
        <p:blipFill>
          <a:blip r:embed="rId3"/>
          <a:stretch/>
        </p:blipFill>
        <p:spPr>
          <a:xfrm>
            <a:off x="1828800" y="1646280"/>
            <a:ext cx="5740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3"/>
          <p:cNvSpPr/>
          <p:nvPr/>
        </p:nvSpPr>
        <p:spPr>
          <a:xfrm>
            <a:off x="3956400" y="588168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巧　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巧芽"/>
          <p:cNvPicPr/>
          <p:nvPr/>
        </p:nvPicPr>
        <p:blipFill>
          <a:blip r:embed="rId3"/>
          <a:stretch/>
        </p:blipFill>
        <p:spPr>
          <a:xfrm>
            <a:off x="1447920" y="1523880"/>
            <a:ext cx="60451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0:00:47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54:51Z</dcterms:modified>
  <cp:revision>5</cp:revision>
  <dc:subject>第一PPT模板网-WWW.1PPT.COM</dc:subject>
  <dc:title>第一PPT模板网-WWW.1PPT.COM</dc:title>
</cp:coreProperties>
</file>