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C81A-E698-40D7-9BE4-4D4B7FE01AC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81C7-20CC-438E-8DBB-C9E35481E5F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28C0-BD1F-4DBD-B02E-ACFB51C9A9F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9C12-13D1-4B81-A850-0609997EA68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E3BE-11F7-4EE6-A2D7-5D71214ECA7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E64A8-2D25-47AC-AB9C-A1EF27A7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C940B-4B44-4638-9F20-E72D76AC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A07C5-00B7-4288-9E1D-8F098365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E662A-2A25-49B8-BE14-1C769E4C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82B0E-C790-47BA-AA5D-85FB9256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E4B9D-43DD-409E-90C4-0E5B5AA5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0A1B1-EE92-44FB-9D2A-BC13FBC5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A97C9-55C3-492C-A884-110A8522D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F141B-19DB-4DCB-9991-4C21E5AC5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F02C4-CED8-4205-B4C1-7B303C6FF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D03EE-7BAC-46B5-A9BD-DDDCD1A2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7C68A-6B92-49CE-9FEE-7BF9D120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86584-A630-4A01-ACF7-4C8CE509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8871A-58D6-4231-AF15-4DB8E48A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DC634-AAE3-4FC6-A1CA-7E037A0E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CAA13-FFA4-4A17-9199-AE1798DA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FE078-8380-491C-B754-EE84179C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8D1C3-DFA6-4663-AEFE-E080F849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FF673-8825-47CD-BD3F-DE08810C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AEA31-0BA4-4979-BF1D-38DCC3CF9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C5DBE-1E42-43DE-B313-B77974C79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E69BA2-CB81-4D38-BADF-4DDEB0AC3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2469A-9ED6-4E13-BE0F-4E835102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7E77E4-F92C-4890-8ECC-F8063A53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31C3FF-130D-4953-9D0F-6222560E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3C2308-5A83-400F-9989-78357A20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E525B0-AA4E-4992-BA5A-011B1CF7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DB1F8A-12DF-486E-A488-AB5FC019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26E83-4B36-4BFC-B068-14D5A847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3A7BA-BA04-4B54-BC7C-F1EDCC66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FF64-6B63-4B31-931B-ED125458E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6BD71A-C82C-4DB2-9147-54C158CA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20244F-D630-418E-87D8-C48EA6954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CF62DD-D693-4840-9EEF-F26787A4C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4001D7-7E90-4932-9EC0-EA48A43F3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2F4254-3860-4ECF-B89E-F0568986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6B3F00-4BB4-47A7-803C-3BECBCB0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BE9511-73A5-41AA-BB00-8C711E22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05A41E-FA45-425F-BE73-52A758BF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B94AA2-9C61-4162-BFE2-A564B9D9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913626-7F69-4D08-A0F6-C4C989FC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986C-7256-44B7-AB53-E1687CBF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C611B3-CA47-456D-B818-F519D8F0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638571-6E79-4948-8137-233326FB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6520CE-A027-4C42-80C1-2FDA905A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1DF3D5-D157-4A16-AEEC-00A6EACF7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8BFB25-A35D-43B7-8F2D-D2F30B381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BC5C4F-C323-4921-A3D5-4962CBFDE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08DA5-EBD6-491F-BBBE-19A91DC0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0E847-3950-46F4-8B30-5DC8BFAF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A9557-09F4-4528-A68E-6E708350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1F94E-595C-4650-BCBA-A8FB3E99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4E06-5515-437E-A534-14E66F188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67825-8617-43C3-ADF4-3899D12B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6892EC-7B75-4C4D-8AAA-61A7CAC0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BC8E0-2DC2-4400-BFFF-5EFD7AA8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B9B6F-CA8D-48F5-AE82-217AF135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3D4BF-21C3-48F4-84B3-1AFCF338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CD1EE5-2799-4465-B835-714DF7237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4CCC3-0045-4FD6-B5EA-3B1DA8DA9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1863C6-1EEE-4DA1-9B90-2D4D8D054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E3B414-DC85-43CB-A6DB-B5F24BBA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7C3539-FE82-406E-BFE9-93466929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6C39-D6ED-499D-9338-8BBA3A5A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4D28D3-0ED3-408A-98AF-CD49C9D6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7293A8-9E6F-4EDD-AE9B-0F036D70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5BE98B-7F15-46CB-9696-B42C63A0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8DE2D3-33D5-4AC4-BDD7-5024F8E6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AFE2AC-33FF-4920-B2C6-5C06EF6F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A8DCE2-300D-4DCC-88B7-120BF9C1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80B66E-AE62-44D0-9B6D-9F4A8BEF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ABEFCB-926F-4CF1-B86B-6B250855A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64F435-0AAB-4A69-81EF-AF34E7975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92A1-D865-4A7E-BA41-9D8FBD82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11F7-9AC8-4AF8-9BE6-4FBF415E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7788-96DF-446C-8108-EF60EFBA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F50B-EB09-4041-AE94-D0A5C577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F453-0C20-4310-9938-779EB6CA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2520-2701-4591-A979-3D2D18D0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F2A4-9AE4-4E1E-8E58-2A627AE01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4E54-54C7-444D-8944-DAA02626E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E493-C0B7-43DF-BE32-B3727E1BA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C505-1C0B-4BF3-8F17-A835CB8E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56B7-A583-4E1F-B2A2-8F2F9859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3C45-7B5A-449F-9B74-FDA9307B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6A6D8-71D5-4E98-8BFA-046AA839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4B3E-4735-4C64-AD7F-0DF7D3A5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CAB5-979F-43DA-9728-870688BF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390A-C62A-4C74-85DD-7584F8E5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BBD3-8D88-4FD0-8092-30E268CC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D84A-2A98-4838-AA92-2A89E35F7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6D28-24CE-40D8-95EA-3AC81AD4F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7366-F9B7-4FED-B337-2C241A71C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D493A-2175-40B1-A7A0-6F48803C2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43453-D648-4C35-9376-BB989D3F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A1796-D344-4B92-9BBB-E4D5F1D8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34E66-0EE1-43CD-810D-07A95E3C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8EDCC-5082-485D-84EC-772249F5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E7F4A-07BA-40F9-8423-5587CCB3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9841E-FB39-4D81-BB26-ED0F2143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7AF89-CFE3-4A9E-A959-0C2CE465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3D2B7-2850-4B37-BE61-CFF2A1B4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B9C18-EDBF-4EE5-AAD5-0525DA12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B16C1-4421-46F8-8DDF-4F2B103BA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D7E24-AEE8-4335-B5DD-428A84CA2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ADE0F-EB80-47D7-BC03-51D93F792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07FD7-BD2C-475A-87B0-1F825FBE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9DB4D-A2CB-4CD1-81A4-D6C4C881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737BA-0171-4E05-9055-B5C3D2F8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64B8B-7681-4A96-AE9C-8F3CD3FC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14EDF-E00E-4FF3-A6C2-6FF34D0D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766F5-1D07-448E-8821-C866EE35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BF7CB-1649-451C-9ECC-6CA8E4AD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62714-7BB3-4FD6-84D5-505F64EA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3052C-A154-438E-8A79-3DAEEBA1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02420-240C-40A7-BFDF-E9EB6FCC3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52AC6-E3DA-4EBF-95FB-26DC702ED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191D3-6A7F-4458-9534-C6295308B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0BB09-3114-46B5-87EE-CA956131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D0521-C1C4-47CA-9AE8-068FB09F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644CA-999A-49BD-81D1-F4D9E0AF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FD8DB-2CAF-473A-8D23-A4D6B883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2828F-52F2-4C09-8DE5-CCC318D3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A751F-D7EE-4658-8F1F-F8F1E82D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A4AC3-A7FF-42BD-8F6E-A91048EE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4519D-0131-4ABA-8A2F-18B4A64E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EFDB1-F880-47C7-B630-891AD8E0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F2F99-6B72-459A-AF82-264A277DC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84285-D615-4737-880F-BE308F211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D71E7-53B0-4E13-89BE-5389E754A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4E971-7939-46F8-88B1-2ED85C04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2F5F1-905E-4971-A8A3-751F8884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38464-D495-452A-B19C-AE18EFF4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C05B5-42F9-4DE3-932C-F6BB3B19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2ACB8-B03B-42E2-9CDB-53D8A877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3343F-A1B5-4CF9-B251-E72F586E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48C7D-FCFF-4C0A-AAFC-A7AA6745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FFE65-3A09-4E56-9AB5-32226FBE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6FC8C-FF7F-473E-936A-66042CB3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28A58-BC86-4300-A42D-28787F120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D46C4-12A0-4FB5-92B4-476B4B37A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5A2CB-3A2A-48C4-98F5-270F25867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9E6E3-FA1C-437D-9B15-19F2FDD8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EF275-9BA1-4F2B-B175-F66DEA03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4683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93F6-8842-4566-83F5-99ADFECF78A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6DE1-B1B1-4614-A1A7-656EE6B08A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2816-CD9D-4DE3-B5F9-A221E43A2E0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A084-B8A6-44A1-A5CF-A9859B95F3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50D5-2337-4A57-BEFB-FD353E8A57A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DC9A-08F7-4044-B71D-8C4A7878AA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9703-7452-42DE-B447-1B9FA03331E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3EF1-ABF9-4476-B28F-2F2FC578DB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3D28-CC31-4E93-A8B7-16DF0F02F7E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4F4F-9D15-449B-BBB3-2E783BA204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C458-CD33-4980-A20B-47659E7AC96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7641-4336-40B6-8747-923536A607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D157-B5BD-4665-8BD3-B0C3FA1C0D4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9D1F-3CFD-4A31-BE93-1BE59205DA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BB87-A729-42B5-9FAF-03715A6EF6A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5E59-71E5-4869-8623-5168C4F3A5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028F-511E-4CDA-8A29-FE96310D879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831E-B0B3-4A71-B34C-ABAA090E89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C234-A8FE-458F-A819-0BF93723339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00C2-A64E-476F-A3C9-9876D3431B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7636-280B-49E2-8F11-8A235A3689D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9EEB-4098-4923-8231-B8F4E06A73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42FD-81B8-4408-BD67-058180B3AAA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2DFB-1964-4C99-ACE9-9935524440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2"/>
          <p:cNvSpPr/>
          <p:nvPr/>
        </p:nvSpPr>
        <p:spPr>
          <a:xfrm>
            <a:off x="468360" y="177336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468360" y="2436840"/>
            <a:ext cx="287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模板的使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2"/>
          <p:cNvSpPr/>
          <p:nvPr/>
        </p:nvSpPr>
        <p:spPr>
          <a:xfrm>
            <a:off x="0" y="234936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3"/>
          <p:cNvSpPr/>
          <p:nvPr/>
        </p:nvSpPr>
        <p:spPr>
          <a:xfrm>
            <a:off x="0" y="162864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Administrator</dc:creator>
  <dc:description/>
  <dc:language>en-US</dc:language>
  <cp:lastModifiedBy>a</cp:lastModifiedBy>
  <dcterms:modified xsi:type="dcterms:W3CDTF">2015-02-10T11:32:16Z</dcterms:modified>
  <cp:revision>66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  <property fmtid="{D5CDD505-2E9C-101B-9397-08002B2CF9AE}" pid="3" name="NXTAG2">
    <vt:lpwstr>0008008c02000000000001024140</vt:lpwstr>
  </property>
</Properties>
</file>