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3.gif" ContentType="image/gif"/>
  <Override PartName="/ppt/media/image6.png" ContentType="image/png"/>
  <Override PartName="/ppt/media/image7.gif" ContentType="image/gif"/>
  <Override PartName="/ppt/media/image12.gif" ContentType="image/gif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21F0-633C-4C2F-BC74-882DA4A6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102-27A7-40C4-92CB-7B8F6540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57532-985E-4BCC-8894-F7BBACF5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499B5-6C5F-4AE3-9358-53F8E9F2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84CED-E400-4DC2-A96E-A52A50B5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4CD67-739C-4643-BA0D-AAE6535C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5369E-3D03-477F-965A-2309E16A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A6217-2723-4FF4-BB68-D6FDD560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7A375-7F13-42C0-BCCC-932B69FA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C28AE-0EFC-4FF4-BCC5-736A7E7A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AD21A-F34B-4B30-B682-98200BF1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326F8-D3EA-47B6-8F64-24F56529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D46-7A16-4904-9F4F-A8B5FCB0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2609E-6AC9-4ED8-9A52-55E2A4F4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B0207-1EA9-46E0-AD74-E436433D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7B1D0-DAEE-4068-8B48-ED6A02AE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AF708-67E3-4F23-8B95-BD0F40D5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A0DCF-DDA4-4FA4-A960-8BA7D3E4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30F5D-8015-4E69-A1A4-E5634FCD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36BA6-3B5E-4EFC-8838-02D3CB01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D93A2-0592-41F6-A81B-17B1B9B7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C5D8A-0837-49D8-BA62-FCE82030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615E6-480A-449E-B1E2-97998941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3D9-8DBE-45A1-89AE-D0E2A1EE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AA0E3-3721-446D-92F3-81A62D02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8BFE4-43ED-43A1-9C5F-313FDE36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286A1-E5F7-481E-A660-6115680B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84E87-BE17-4484-BD00-C3EE6A28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471BE-8FAF-44FF-8CBB-23326940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F7490-6030-45E1-9E0C-522F82C7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EB407-7E4F-4ECA-B69A-35229318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6FB3E-750F-498C-AB6E-3D2AE9DA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F7490-8A94-4746-8546-C1307B0E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0C2E1-A7E1-40C5-B386-C7DE34DC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053B-FB48-4325-9F54-EC4C090C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148C5-983B-42A8-A3E1-98CE905C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AC3BA-C35F-4ACD-8803-1268039D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8B8C3-EEAF-474D-AB74-0C505221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F3176-D694-47BA-B45D-0DE7FD01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DD957-E05A-4684-ADB0-D14D56C7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9E12B-2420-4A2A-BD82-D0E8D1E5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686CC-7FFB-4B10-B3C1-BC1DDA4E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2184A-0280-47DD-B783-B6E8BA72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7DF48-74BC-4629-8807-0F9286DB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2C090-0633-46BD-B5D8-12D3106D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9CA1-FC9B-4FC4-B2E6-4A6F1A46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C52DA-0FC6-4494-BAB5-129CC724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D2277-07A9-4433-B80B-75E2DF5D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E312A-E604-4164-A276-5CA21160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BD363-F1E7-475C-A9A8-9973625C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2AE8D-2D4E-451C-95F5-609FC648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A7C7A-17C2-40C0-B17C-EB1DE846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BA9485-DC8A-4785-9ACF-690FFE92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DFE423-DD80-4FDB-B562-FDC7051D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FB1F4-B56B-450D-B845-BD191D50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B99CB5-34C2-42EF-80A7-9906FF06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62D4-959C-4B0C-AF71-CCBCEEF4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AEAFD-2327-4CFB-96E7-C5B62DB0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E637B7-B305-4BE3-9D6E-E3FD734A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F39A7-287E-4E8B-850E-94F09895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61CEF-851A-4F7F-8952-00A96E82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2AFA3-1794-4E29-BFD6-4AEE527B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D0EBE-A62D-4596-9D04-6E48DD0A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9BE23F-A78E-4A7D-AECE-5F4D3186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744EBA-22DD-4057-8DCC-3917F428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BEC6F3-F157-48AC-8BB9-A8CCDE0E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24F5E2-6486-43F2-930C-9226ACD9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BF79-EBF5-40C4-9C12-38C0BCA1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222D34-669B-4C2B-9D1A-C3966EC7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E4F660-94F1-4D8D-B497-368D873E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5954C8-65D5-4E9F-B6CD-327248E4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DBE3E4-7DBA-43A6-8EB4-29228C09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8D01B-7793-4066-B57A-FAB0729C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C054E8-AD68-465C-BD73-43C0DB1A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DB6476-F741-4E24-853D-7FF2E9D7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82A85A-5EBE-4C93-8C9F-5718520D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7395A9-3430-4047-ADDF-046E35D0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7522-D507-4CFA-B938-D7CEB208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CD75-E2A2-408D-B989-0841DFF8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A26B-C553-4ABD-93B3-8643F33C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D1C-315C-49B1-A88F-4CC2D7B5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D666-1111-44A1-9A2C-3B53328E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B295-A503-466F-A744-73E4B1D6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A1F1-A8AC-4538-BFE5-D193E73E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1206-BF37-42B1-9407-FAC6AE40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4BE2-4A7C-4727-BEA4-C7FB118E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1F537-F96B-4C0C-804F-B4FBA02C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20C52-6F54-40A5-B454-3B87315A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EF721-606C-4E8C-A95D-A1DAC48D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F42E5-EFA0-448D-A29B-F02FF435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C85D4-865F-46D3-9692-2C34DD4A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C3F-D624-4CD5-A93D-BAC9602D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140E7-2705-4CA6-B5AC-7AE86FAF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E6044-93B3-4D0F-B567-89EB56D6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B824A-BA6F-46E0-BE31-97CFC122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CC52F-11F3-47C5-B438-73AE10E1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D860D-7EBE-4C2A-BAA5-D604CEFF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2207F-6DC1-4D47-B637-E9E0440E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631F2-6164-498F-890F-FB565426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49331-E47A-485D-9E78-8B3CAEEA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79727-16DC-4A25-9C5B-5501F2A9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FD0F4-E53F-408C-948E-3F5CD5C0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57C9-8B8B-4407-A0BE-57CC1329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E9832-9B8A-4A67-A44A-40757FE7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152AA-2B89-4E0D-9D95-84250AF1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5C85C-B861-49B2-AED3-ACD7FC57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0A373-FA36-49E3-9EA3-3D171927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23BE9-1006-4D1F-9235-400F9564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F288A-9FA1-4B39-BD0D-7827221D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E51B0-43D5-4285-95AD-880687E2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41231-FA47-4D1B-A686-06A69470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1074C-1D13-46B0-8E3E-750BC6A8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8E714-D99D-4FEF-AC75-13C14F59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F19E-838E-42F2-B1B4-EBF482F2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BB0EB-9F8F-42D7-9FE3-6CCE00EA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7EC00-EF03-403E-B1ED-9BA41556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73ECA-2A82-41BB-862B-F19F5421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D94BF-1E6F-4F81-8549-10468A61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7DC01-5829-4752-A389-BE1B1DD9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73ED3-82DE-40DA-9AAA-ADA99643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A3B5B-895B-49FC-B079-7F9EC132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D4DC4-46E8-4C3F-9C85-6C45FD2F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5AB0A-5646-460E-AB6D-2943BA20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EFD20-B021-4037-9F38-E6A8D4DE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371-D2A7-4FF1-BD8C-2FCC254C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34793-F1FF-4C57-BF0B-35E7A2B0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51261-3F24-495A-9F70-E4822ABC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11F55-3B76-4399-87C6-BF7FCD46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374E8-726E-46D9-A225-207CFF00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B9A71-D366-4982-860A-CC1F7856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A2328-FAE9-4865-BE23-9FF21488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9BAA6-B914-48A6-A04B-A332AF1F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92DCD-3871-4D65-8260-175DEBA5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2B0F1-FD2E-40D5-A1F4-78835C52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0E0CA-3FDB-41EF-95AA-CC027E03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605B-C399-49C6-833E-4EA9CC9B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DE5E6-6576-460F-BC9A-522E95B1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3146D-9577-439F-8126-4455C072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DDCE9-C17C-4DFD-AD0D-62A30333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CD6B2-F021-4EE6-AAD0-8DE6F621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2F742-19D8-4478-9967-7F744265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ADF66-9B7B-4201-9037-B909B9A0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520EF-0286-4C62-998D-94ECE83A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4D65F-4E0E-4D72-B21D-4E7B0867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6C4CD-C7C9-4CFA-A0EB-70D13971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9696F-BAA5-4B12-8BC2-80FF6BF5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BBBD-DBAA-4140-8618-115DBBC7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59E51-2E4B-4AE4-87B7-803BF974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64099-1F99-4AB7-8542-EC336381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DB3CC-0104-4562-893E-D8A0A392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B4039-0344-4681-AA92-1F90430B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AF403-BD8B-4662-AAD7-8FC87A77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051E7-C03D-4C60-A2D1-A1B44BC2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60B0D-F055-45A2-9961-AEB1E158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23662-1FFE-4DC4-8CCF-0C501E0D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9985B-18DA-4B19-8299-51AD9D62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9559B-B2CC-43A3-8E5E-EBE1519A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1B84-2B4C-45ED-80E9-04B09AEB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F3D5B-34FD-40AE-A4DC-9F42AEE5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57F69-5D6C-4773-AF0B-07904CA3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9D92C-8A58-427C-BCFC-E94B2AB1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43AF1-DA64-4F19-A8BF-728C343A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60617-BC73-417E-9DB1-9A3F7B51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E5229-B3DC-4F34-80B7-196410B8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54E1A-CF47-4B65-8E0E-3B1B0697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EE38D-EB30-4EDC-83B4-BBE7C48F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7BA75-DBB8-4E1D-AFD3-9A2F48B6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083F2-A107-401B-9816-8BB2645D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F6E1-16AD-4BC6-91B9-B8B86BB55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DE70-4932-4B24-B14A-F44D9D94B4F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3914-4040-4D15-B010-3D2C3EBD8E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F5BC-1E49-48FE-A448-DF80881D5F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4775-7FA4-4372-926B-85311A9B6F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4DF4-3B2F-4E31-9CFB-D0916521806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7E5C-F8C9-4528-9661-B6CA57E177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AFBB-22F4-4D0C-8558-DFFBF40FD31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4033-B266-49B2-9625-85D0532E65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9887-E594-4CED-82FA-8795A6614BC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99B1-10F0-4D29-AB99-834CC53319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D1B9-C121-402B-A581-C3AEA7889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B819-E5F6-47F1-997D-BEEF3A33A63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8CF3-28A5-4419-9E0F-8C12D6685F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0C82-0568-4B8F-AACB-15116D64BDD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61A3-AF86-41D0-A675-F079B1558F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DB72-40DB-4D8E-9284-1BC859875F5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04D1-1CBA-4D6F-A3DB-BC2BC0B091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FD59-2AA6-4FAF-9F86-A14D62401DC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5DEF-DB23-40E6-BA2F-F61AC22386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093E-3DA2-4466-8B38-1C727D640BF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3FD3-CDD5-45E9-BBC6-15A331AB59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8BB5-BEA8-4FAB-9C6F-13AFEBD204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675E-BE81-4E58-9F15-753A7EA4F9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0777-EC7B-4BC6-A8EA-B4F73D14F95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ED24-22DD-4E1A-A87A-A18708D375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179280" y="3429000"/>
            <a:ext cx="5688000" cy="764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“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凤辣子”初见林黛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WordArt 3"/>
          <p:cNvSpPr txBox="1"/>
          <p:nvPr/>
        </p:nvSpPr>
        <p:spPr>
          <a:xfrm>
            <a:off x="324000" y="1197000"/>
            <a:ext cx="5327640" cy="13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新魏"/>
              </a:rPr>
              <a:t>人物描写一组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"/>
          <p:cNvSpPr/>
          <p:nvPr/>
        </p:nvSpPr>
        <p:spPr>
          <a:xfrm>
            <a:off x="1600200" y="3049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2209680" y="12193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684360" y="1628640"/>
            <a:ext cx="7772400" cy="228852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年貌虽小，举止不俗，身体面庞虽怯懦不胜却有一段自然的风流态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---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众人眼中的黛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弯似蹙非蹙罥烟眉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一双似喜非喜含情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态生两靥之态，  娇袭一身之病．泪光点点， 娇喘微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闲静时如姣花照水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行动处似弱柳扶风．心较比干多一窍，病如西子胜三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-----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宝玉眼中的黛玉</a:t>
            </a:r>
            <a:r>
              <a:rPr b="0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1476360" y="0"/>
            <a:ext cx="624852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阅读下列两段文字，回答问题</a:t>
            </a:r>
            <a:r>
              <a:rPr b="0" lang="en-US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826920" y="4724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上是属于什么描写？说明黛玉的什么 样的性格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7"/>
          <p:cNvSpPr/>
          <p:nvPr/>
        </p:nvSpPr>
        <p:spPr>
          <a:xfrm>
            <a:off x="1403280" y="5229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仿宋"/>
              </a:rPr>
              <a:t>肖像描写；（美貌）多情、（体弱）多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"/>
          <p:cNvSpPr/>
          <p:nvPr/>
        </p:nvSpPr>
        <p:spPr>
          <a:xfrm>
            <a:off x="539640" y="260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林黛玉形象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183240" y="1916280"/>
            <a:ext cx="1094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三      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4"/>
          <p:cNvSpPr/>
          <p:nvPr/>
        </p:nvSpPr>
        <p:spPr>
          <a:xfrm>
            <a:off x="1403280" y="1413000"/>
            <a:ext cx="152640" cy="4267080"/>
          </a:xfrm>
          <a:custGeom>
            <a:avLst/>
            <a:gdLst>
              <a:gd name="textAreaLeft" fmla="*/ 97560 w 152640"/>
              <a:gd name="textAreaRight" fmla="*/ 153000 w 15264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1476360" y="14130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美貌）多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6"/>
          <p:cNvSpPr/>
          <p:nvPr/>
        </p:nvSpPr>
        <p:spPr>
          <a:xfrm>
            <a:off x="1476360" y="31417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体弱）多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7"/>
          <p:cNvSpPr/>
          <p:nvPr/>
        </p:nvSpPr>
        <p:spPr>
          <a:xfrm>
            <a:off x="1403280" y="479736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言行）多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8" descr="xsgs487"/>
          <p:cNvPicPr/>
          <p:nvPr/>
        </p:nvPicPr>
        <p:blipFill>
          <a:blip r:embed="rId2"/>
          <a:stretch/>
        </p:blipFill>
        <p:spPr>
          <a:xfrm>
            <a:off x="179280" y="692280"/>
            <a:ext cx="704880" cy="990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WordArt 2"/>
          <p:cNvSpPr txBox="1"/>
          <p:nvPr/>
        </p:nvSpPr>
        <p:spPr>
          <a:xfrm rot="5400000">
            <a:off x="5990760" y="1504800"/>
            <a:ext cx="2808360" cy="1614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44" name="Picture 3" descr="xsgs1-026"/>
          <p:cNvPicPr/>
          <p:nvPr/>
        </p:nvPicPr>
        <p:blipFill>
          <a:blip r:embed="rId2"/>
          <a:stretch/>
        </p:blipFill>
        <p:spPr>
          <a:xfrm>
            <a:off x="8286840" y="2924280"/>
            <a:ext cx="857160" cy="2857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4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矩形 6"/>
          <p:cNvSpPr/>
          <p:nvPr/>
        </p:nvSpPr>
        <p:spPr>
          <a:xfrm>
            <a:off x="1187280" y="9079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3"/>
          <p:cNvSpPr/>
          <p:nvPr/>
        </p:nvSpPr>
        <p:spPr>
          <a:xfrm>
            <a:off x="3132000" y="0"/>
            <a:ext cx="6012000" cy="278532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红楼梦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，又名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石头记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，是一部具有高度思想性和艺术性的伟大作品，在我国文学史和世界文学史上都占有重要的地位。本文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节选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自第三回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林黛玉进荣国 府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。作者曹雪芹，名霑，字梦阮，号雪芹。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全书以林黛玉和贾宝玉的爱情故事为中心，揭露了封建统治阶级的罪恶和腐朽本质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揭示了封建社会必然崩溃的历史发展趋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"/>
          <p:cNvSpPr/>
          <p:nvPr/>
        </p:nvSpPr>
        <p:spPr>
          <a:xfrm>
            <a:off x="395280" y="1989000"/>
            <a:ext cx="6769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凡鸟偏从末世来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,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1187280" y="4221000"/>
            <a:ext cx="53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哭向金陵事更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3767760" y="27082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都知爱慕此生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3233880" y="3860640"/>
            <a:ext cx="108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一从二令三人木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2700360" y="404640"/>
            <a:ext cx="34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判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2286000" y="5731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方正粗圆简体"/>
              </a:rPr>
              <a:t>王熙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4500720" y="54936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(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猜一猜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79520" y="610236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250920" y="5950080"/>
            <a:ext cx="350496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肖像描写的浓墨重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4"/>
          <p:cNvSpPr/>
          <p:nvPr/>
        </p:nvSpPr>
        <p:spPr>
          <a:xfrm>
            <a:off x="3755880" y="6102360"/>
            <a:ext cx="1600200" cy="228600"/>
          </a:xfrm>
          <a:prstGeom prst="rightArrow">
            <a:avLst>
              <a:gd name="adj1" fmla="val 50000"/>
              <a:gd name="adj2" fmla="val 17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5356080" y="5950080"/>
            <a:ext cx="350532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貌似可喜，实则可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468360" y="260280"/>
            <a:ext cx="8459640" cy="1873440"/>
          </a:xfrm>
          <a:prstGeom prst="rect">
            <a:avLst/>
          </a:prstGeom>
          <a:solidFill>
            <a:srgbClr val="ff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容貌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双丹凤三角眼，两弯柳叶吊梢眉，身量苗条，体格风骚，粉面含春威不露，丹唇未启笑先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2195640" y="4076640"/>
            <a:ext cx="4824360" cy="642600"/>
          </a:xfrm>
          <a:prstGeom prst="rect">
            <a:avLst/>
          </a:prstGeom>
          <a:solidFill>
            <a:srgbClr val="0000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美丽俊俏，狡猾刁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8" descr="20040525122356(1)_200405251223561"/>
          <p:cNvPicPr/>
          <p:nvPr/>
        </p:nvPicPr>
        <p:blipFill>
          <a:blip r:embed="rId5"/>
          <a:stretch/>
        </p:blipFill>
        <p:spPr>
          <a:xfrm>
            <a:off x="3132000" y="6095880"/>
            <a:ext cx="952560" cy="7621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"/>
          <p:cNvSpPr/>
          <p:nvPr/>
        </p:nvSpPr>
        <p:spPr>
          <a:xfrm>
            <a:off x="250920" y="5734080"/>
            <a:ext cx="3886200" cy="581400"/>
          </a:xfrm>
          <a:prstGeom prst="rect">
            <a:avLst/>
          </a:prstGeom>
          <a:solidFill>
            <a:srgbClr val="ff00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老祖宗戏为“凤辣子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3"/>
          <p:cNvSpPr/>
          <p:nvPr/>
        </p:nvSpPr>
        <p:spPr>
          <a:xfrm>
            <a:off x="4356000" y="5877000"/>
            <a:ext cx="1752840" cy="304560"/>
          </a:xfrm>
          <a:prstGeom prst="rightArrow">
            <a:avLst>
              <a:gd name="adj1" fmla="val 50000"/>
              <a:gd name="adj2" fmla="val 143883"/>
            </a:avLst>
          </a:prstGeom>
          <a:solidFill>
            <a:srgbClr val="00cc99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6516720" y="5734080"/>
            <a:ext cx="2158920" cy="64260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深受喜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WordArt 5"/>
          <p:cNvSpPr txBox="1"/>
          <p:nvPr/>
        </p:nvSpPr>
        <p:spPr>
          <a:xfrm>
            <a:off x="7308720" y="1557360"/>
            <a:ext cx="12240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受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宠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179280" y="4365720"/>
            <a:ext cx="8748720" cy="138420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先恭维，再拭泪，后转悲为喜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视贾母态度而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3"/>
          <p:cNvGrpSpPr/>
          <p:nvPr/>
        </p:nvGrpSpPr>
        <p:grpSpPr>
          <a:xfrm>
            <a:off x="539640" y="1484280"/>
            <a:ext cx="8604360" cy="855720"/>
            <a:chOff x="539640" y="1484280"/>
            <a:chExt cx="8604360" cy="855720"/>
          </a:xfrm>
        </p:grpSpPr>
        <p:sp>
          <p:nvSpPr>
            <p:cNvPr id="604" name="Text Box 4"/>
            <p:cNvSpPr/>
            <p:nvPr/>
          </p:nvSpPr>
          <p:spPr>
            <a:xfrm>
              <a:off x="539640" y="1484280"/>
              <a:ext cx="261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察颜观色，</a:t>
              </a:r>
              <a:br>
                <a:rPr sz="1800"/>
              </a:b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5"/>
            <p:cNvSpPr/>
            <p:nvPr/>
          </p:nvSpPr>
          <p:spPr>
            <a:xfrm>
              <a:off x="6804000" y="1484280"/>
              <a:ext cx="23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随机应变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"/>
          <p:cNvSpPr/>
          <p:nvPr/>
        </p:nvSpPr>
        <p:spPr>
          <a:xfrm>
            <a:off x="7688880" y="189000"/>
            <a:ext cx="1155240" cy="5410080"/>
          </a:xfrm>
          <a:prstGeom prst="rect">
            <a:avLst/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天下真有这样标致的人物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WordArt 3"/>
          <p:cNvSpPr txBox="1"/>
          <p:nvPr/>
        </p:nvSpPr>
        <p:spPr>
          <a:xfrm>
            <a:off x="1476360" y="3068640"/>
            <a:ext cx="22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邀宠取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-364680" y="115920"/>
            <a:ext cx="1277640" cy="6553080"/>
          </a:xfrm>
          <a:prstGeom prst="rect">
            <a:avLst/>
          </a:prstGeom>
          <a:solidFill>
            <a:srgbClr val="ffff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只可怜我这妹妹这么命苦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3124080" y="6248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1763640" y="5805360"/>
            <a:ext cx="2448000" cy="64260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取悦贾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5219640" y="5805360"/>
            <a:ext cx="2448000" cy="64260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取悦贾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"/>
          <p:cNvSpPr/>
          <p:nvPr/>
        </p:nvSpPr>
        <p:spPr>
          <a:xfrm>
            <a:off x="2340000" y="1628640"/>
            <a:ext cx="236232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琥珀"/>
                <a:ea typeface="华文琥珀"/>
              </a:rPr>
              <a:t>肖像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5292720" y="1628640"/>
            <a:ext cx="236232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琥珀"/>
                <a:ea typeface="华文琥珀"/>
              </a:rPr>
              <a:t>语言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2340000" y="3500280"/>
            <a:ext cx="236232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琥珀"/>
                <a:ea typeface="华文琥珀"/>
              </a:rPr>
              <a:t>行动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5292720" y="3519360"/>
            <a:ext cx="236232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琥珀"/>
                <a:ea typeface="华文琥珀"/>
              </a:rPr>
              <a:t>心理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3995640" y="4941720"/>
            <a:ext cx="236232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琥珀"/>
                <a:ea typeface="华文琥珀"/>
              </a:rPr>
              <a:t>侧面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8"/>
          <p:cNvSpPr/>
          <p:nvPr/>
        </p:nvSpPr>
        <p:spPr>
          <a:xfrm>
            <a:off x="1095120" y="1341360"/>
            <a:ext cx="546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9"/>
          <p:cNvSpPr/>
          <p:nvPr/>
        </p:nvSpPr>
        <p:spPr>
          <a:xfrm>
            <a:off x="826920" y="26028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采   用   的   方   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2050920" y="692280"/>
            <a:ext cx="47466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自读课文，思考下列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900000" y="14842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、从王熙凤的服饰中，你能看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900000" y="26370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、贾母怎样戏谑王熙凤，说明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2"/>
          <p:cNvSpPr/>
          <p:nvPr/>
        </p:nvSpPr>
        <p:spPr>
          <a:xfrm>
            <a:off x="900000" y="357336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、王熙凤对林黛玉说了什么，这又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3"/>
          <p:cNvSpPr/>
          <p:nvPr/>
        </p:nvSpPr>
        <p:spPr>
          <a:xfrm>
            <a:off x="900000" y="5157720"/>
            <a:ext cx="883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、王熙凤为林黛玉流眼泪，该如何看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2:46:18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7T06:18:25Z</dcterms:modified>
  <cp:revision>18</cp:revision>
  <dc:subject>第一PPT模板网-WWW.1PPT.COM</dc:subject>
  <dc:title>第一PPT模板网-WWW.1PPT.COM</dc:title>
</cp:coreProperties>
</file>