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4161-AC04-4506-8490-8B6A8891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600-E6F4-4A0C-8820-2696EEC4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EBEF-C690-4636-9633-9B46077C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285A-F891-4358-8A9A-EACACFBD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82D1-D047-4032-92E3-6DD66515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A62C-8F92-4995-A41D-38163BD5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EA4A-145A-4883-A811-5F780FA6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12CB-44B7-4C33-AF9C-B7778B08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47D4-CEA5-4920-B8AE-79C90573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3805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01E2-93D1-4EE6-9C11-3E0F8D0F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22D7-A94B-4B06-BC8C-BB2BA461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2378-71DE-4A9F-B668-8F23FB6D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F1AF-E773-48EF-B157-58B4B486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FAFE-4F67-437C-A9DB-8D77F5E5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0E02-4308-41BF-97F8-5B9F6DE5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559A-F32C-46EB-A4F3-FA90BA85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8339-3F0E-4DAA-859E-4989AB5E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91E7-4801-4247-8A01-859E60CC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5616-8016-4E5F-967F-431F1A6D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59CA-C5C4-4652-8607-ECF5EC74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3805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FBB-5C8E-4AB9-AF45-D828780A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734F-A790-4049-8F6F-4D140C08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D14D-2AFE-42B6-B3BA-D637C1F9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EF3-FF5A-402E-AD76-71B12510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3756-FA03-4C61-BA40-BF65D88DD8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3A15-1C47-4CAE-9DD5-CE0F789B03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Times New Roman"/>
                <a:ea typeface="標楷體"/>
              </a:rPr>
              <a:t>市場調查與業務行銷之簡介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3583-BA52-4018-9BE9-4A198CEA9B6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8595686-3569-443B-AE0D-E66968FEEBD4}" type="datetime1">
              <a:rPr lang="en-US"/>
              <a:t>07/31/26</a:t>
            </a:fld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建立人脈的目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尋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貴　　人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0492-5EEE-4DC2-A278-B086FC7EDCD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AFB31-12BA-42AC-B697-F238065A202B}" type="datetime1">
              <a:rPr lang="en-US"/>
              <a:t>07/31/26</a:t>
            </a:fld>
          </a:p>
        </p:txBody>
      </p:sp>
    </p:spTree>
  </p:cSld>
  <p:transition>
    <p:pull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拓展人脈的兩大法寶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培養自信與溝通能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習適時讚美他人的能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479-E950-4D85-BC6D-F9E5FFA35D2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D5AD5-2B18-4E85-A301-FE040F3BB9AC}" type="datetime1">
              <a:rPr lang="en-US"/>
              <a:t>07/31/26</a:t>
            </a:fld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91548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標楷體"/>
              </a:rPr>
              <a:t>( XX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X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壽總裁營業處處經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X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市場研究顧問公司研究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市調主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X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傳播公司祕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X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貿易公司祕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X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大學統計系助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77DF-1E4C-4433-8E80-42CF2BC0057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C9B69-2E0E-4336-87EC-E470F34BFE69}" type="datetime1">
              <a:rPr lang="en-US"/>
              <a:t>07/31/26</a:t>
            </a:fld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91548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標楷體"/>
              </a:rPr>
              <a:t>活用『市場調查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就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轉換職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自行創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投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新市場的開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婚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9DB9-FEAA-4EBC-8C9C-EE420994485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9404F-251B-40E4-B726-F3B30C4531D4}" type="datetime1">
              <a:rPr lang="en-US"/>
              <a:t>07/31/26</a:t>
            </a:fld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572760"/>
            <a:ext cx="779292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  <a:ea typeface="標楷體"/>
              </a:rPr>
              <a:t>Market Rearch VS Marketing R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Market Rear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–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析市場的實情況，如商品的銷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額及進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Marketing Rearch –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市場採取行銷的方法，及採行之後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結果之衡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9D56-D3CD-4FF4-BF38-61261AB8682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984B8-BB69-47A1-A4C0-4A793718AEC6}" type="datetime1">
              <a:rPr lang="en-US"/>
              <a:t>07/31/26</a:t>
            </a:fld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Times New Roman"/>
                <a:ea typeface="標楷體"/>
              </a:rPr>
              <a:t>何謂成功 </a:t>
            </a:r>
            <a:r>
              <a:rPr b="0" lang="en-US" sz="6600" spc="-1" strike="noStrike">
                <a:solidFill>
                  <a:srgbClr val="333399"/>
                </a:solidFill>
                <a:latin typeface="Times New Roman"/>
                <a:ea typeface="標楷體"/>
              </a:rPr>
              <a:t>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成功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=</a:t>
            </a:r>
            <a:r>
              <a:rPr b="0" lang="zh-CN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達成夢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成功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=</a:t>
            </a:r>
            <a:r>
              <a:rPr b="0" lang="zh-CN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健康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+</a:t>
            </a:r>
            <a:r>
              <a:rPr b="0" lang="zh-CN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家庭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+</a:t>
            </a:r>
            <a:r>
              <a:rPr b="0" lang="zh-CN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財富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+</a:t>
            </a:r>
            <a:r>
              <a:rPr b="0" lang="zh-CN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聲望＋知識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成功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=</a:t>
            </a:r>
            <a:r>
              <a:rPr b="0" lang="zh-CN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扮演好自己的角色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6A81-9C29-4845-94A1-E001F90E996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BD7AD-E784-4767-926A-9EE4CF2002D7}" type="datetime1">
              <a:rPr lang="en-US"/>
              <a:t>07/31/26</a:t>
            </a:fld>
          </a:p>
        </p:txBody>
      </p:sp>
    </p:spTree>
  </p:cSld>
  <p:transition>
    <p:pull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工作職場的成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66"/>
                </a:solidFill>
                <a:latin typeface="標楷體"/>
                <a:ea typeface="標楷體"/>
              </a:rPr>
              <a:t>成功 </a:t>
            </a:r>
            <a:r>
              <a:rPr b="0" lang="en-US" sz="4000" spc="-1" strike="noStrike">
                <a:solidFill>
                  <a:srgbClr val="993366"/>
                </a:solidFill>
                <a:latin typeface="標楷體"/>
                <a:ea typeface="標楷體"/>
              </a:rPr>
              <a:t>= </a:t>
            </a:r>
            <a:r>
              <a:rPr b="0" lang="zh-CN" sz="4000" spc="-1" strike="noStrike">
                <a:solidFill>
                  <a:srgbClr val="993366"/>
                </a:solidFill>
                <a:latin typeface="標楷體"/>
                <a:ea typeface="標楷體"/>
              </a:rPr>
              <a:t>會做人 </a:t>
            </a:r>
            <a:r>
              <a:rPr b="0" lang="en-US" sz="4000" spc="-1" strike="noStrike">
                <a:solidFill>
                  <a:srgbClr val="993366"/>
                </a:solidFill>
                <a:latin typeface="標楷體"/>
                <a:ea typeface="標楷體"/>
              </a:rPr>
              <a:t>+ </a:t>
            </a:r>
            <a:r>
              <a:rPr b="0" lang="zh-CN" sz="4000" spc="-1" strike="noStrike">
                <a:solidFill>
                  <a:srgbClr val="993366"/>
                </a:solidFill>
                <a:latin typeface="標楷體"/>
                <a:ea typeface="標楷體"/>
              </a:rPr>
              <a:t>會做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標楷體"/>
                <a:ea typeface="標楷體"/>
              </a:rPr>
              <a:t>  </a:t>
            </a:r>
            <a:r>
              <a:rPr b="0" lang="zh-CN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文天祥 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  <a:ea typeface="標楷體"/>
              </a:rPr>
              <a:t>VS.</a:t>
            </a:r>
            <a:r>
              <a:rPr b="0" lang="en-US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 </a:t>
            </a:r>
            <a:r>
              <a:rPr b="0" lang="zh-CN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岳飛 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  <a:ea typeface="標楷體"/>
              </a:rPr>
              <a:t>VS </a:t>
            </a:r>
            <a:r>
              <a:rPr b="0" lang="zh-CN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郭子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8524-CFD4-4BA4-9C7E-28A5FD10563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4DEE5-357D-4345-9964-95DF01B10DAC}" type="datetime1">
              <a:rPr lang="en-US"/>
              <a:t>07/31/26</a:t>
            </a:fld>
          </a:p>
        </p:txBody>
      </p: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Times New Roman"/>
                <a:ea typeface="標楷體"/>
              </a:rPr>
              <a:t>如何成功 </a:t>
            </a:r>
            <a:r>
              <a:rPr b="0" lang="en-US" sz="6600" spc="-1" strike="noStrike">
                <a:solidFill>
                  <a:srgbClr val="333399"/>
                </a:solidFill>
                <a:latin typeface="Times New Roman"/>
                <a:ea typeface="標楷體"/>
              </a:rPr>
              <a:t>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3DB9-542B-45F8-95C1-A6E3E104571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64ACC3E-1EBB-4E84-A431-2D068533E93F}" type="datetime1">
              <a:rPr lang="en-US"/>
              <a:t>07/31/26</a:t>
            </a:fld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《胡雪巖》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: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「花花轎兒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,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人抬人」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《曾禹旖》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: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「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20-30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歲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,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靠專業、體力賺錢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     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30-40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歲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,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靠朋友、關係賺錢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     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40-50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歲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,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靠 錢 賺 錢」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《黑幼龍》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:</a:t>
            </a:r>
            <a:r>
              <a:rPr b="0" lang="zh-CN" sz="2600" spc="-1" strike="noStrike">
                <a:solidFill>
                  <a:srgbClr val="333399"/>
                </a:solidFill>
                <a:latin typeface="Times New Roman"/>
                <a:ea typeface="標楷體"/>
              </a:rPr>
              <a:t>「人脈</a:t>
            </a:r>
            <a:r>
              <a:rPr b="0" lang="en-US" sz="2600" spc="-1" strike="noStrike">
                <a:solidFill>
                  <a:srgbClr val="333399"/>
                </a:solidFill>
                <a:latin typeface="Times New Roman"/>
                <a:ea typeface="標楷體"/>
              </a:rPr>
              <a:t>, </a:t>
            </a:r>
            <a:r>
              <a:rPr b="0" lang="zh-CN" sz="2600" spc="-1" strike="noStrike">
                <a:solidFill>
                  <a:srgbClr val="333399"/>
                </a:solidFill>
                <a:latin typeface="Times New Roman"/>
                <a:ea typeface="標楷體"/>
              </a:rPr>
              <a:t>是一個人通往財富、成功的門票」</a:t>
            </a:r>
            <a:br>
              <a:rPr sz="2400"/>
            </a:b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《好來塢》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: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「一個人能否成功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,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不在於你知道什麼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                        ，而是在於你認識誰」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96AF-FC4F-4670-907B-DA77FBCDE22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AF251-3696-4CE6-B1C5-93B0D26F5FA9}" type="datetime1">
              <a:rPr lang="en-US"/>
              <a:t>07/31/26</a:t>
            </a:fld>
          </a:p>
        </p:txBody>
      </p:sp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標楷體"/>
              </a:rPr>
              <a:t>「人脈競爭力」自我評量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專業上，大家對你的評價是肯定的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是否在任何陌生場合都可以感到自在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參加各種聚會時，你是否樂於與陌生人攀談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是否會把握每個可以認識新朋友的機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並善加利用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與他人談話時，你聆聴時間比說話的長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常常適切的讚美周遭的人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2528-FF44-434C-A147-7A5FA8480DF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F4810-B932-4AAB-95D9-13A622E56C9B}" type="datetime1">
              <a:rPr lang="en-US"/>
              <a:t>07/31/26</a:t>
            </a:fld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標楷體"/>
              </a:rPr>
              <a:t>「人脈競爭力」自我評量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別人眼中，你是一個說到做到的人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能否對待所有人都一視同仁，不以貌取人，不以人廢言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願意付出自己的的時間，去幫助別人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願意投入更多時間去幫助別人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對周遭人、事、物有源源不絕的好奇心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能否常常設身處地為他人著想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2BCB-1C14-4785-ABBF-52341D82B8B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12CE3-A266-44A7-B23C-824244802B70}" type="datetime1">
              <a:rPr lang="en-US"/>
              <a:t>07/31/26</a:t>
            </a:fld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標楷體"/>
              </a:rPr>
              <a:t>「人脈競爭力」自我評量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3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願意與別人分享資訊、機會或財富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4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除了目前的工作以外， 你是否參加其他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社團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5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下班以後，你是否願意花時間與心思在社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活動上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6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能否做到真心不虛偽的關心他人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D436-B131-46E3-A991-4E9F52FEB6D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D6EAF-4AB4-4C22-A1FE-65A9EB9EA6C1}" type="datetime1">
              <a:rPr lang="en-US"/>
              <a:t>07/31/26</a:t>
            </a:fld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標楷體"/>
              </a:rPr>
              <a:t>「人脈競爭力」自我評量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7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於往來的人士，你能夠記住別人的名字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並妥善管理名片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8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可以想出認新朋友的創意點子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9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與人互動時，時常細心考量到對方感受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需要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是否細心觀察他人的需要，並給予適當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鼓勵與肯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3793-B6D3-4C35-9723-08651EDAF3F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05022-1827-4C97-A0F0-B93666BFF796}" type="datetime1">
              <a:rPr lang="en-US"/>
              <a:t>07/31/26</a:t>
            </a:fld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市场调查 业务营销</cp:keywords>
  <dc:language>en-US</dc:language>
  <cp:lastModifiedBy/>
  <cp:revision>0</cp:revision>
  <dc:subject/>
  <dc:title/>
</cp:coreProperties>
</file>