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006-3A7B-4B4D-983E-6C6111E8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C8B-657D-41EA-9DBF-839E2AAA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B17-3108-4864-A534-8191C290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271-2C5C-4BE1-9783-AF42CC77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CA0-57DF-4D96-B892-E918EE67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6A8-FAEC-43E9-8918-32CFD477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9C8-DC00-4CCB-A0F7-7D3E7C2C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AB2-285B-4A46-966A-EF31F63D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C39-2081-4F50-930F-E6A0D4BD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650C-BC12-4D68-88CE-E8D27C50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172-D9AC-4EBB-8CAF-3DDEFD6F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966-DFD8-47AE-98C3-434E3B1B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A962-AD4A-4EA4-BB7E-15952F2467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市场及政府的有效性</a:t>
            </a:r>
            <a:br>
              <a:rPr sz="6600"/>
            </a:br>
            <a:r>
              <a:rPr b="0" lang="zh-CN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与局限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辅导教师：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XX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、政府的有效性与局限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政府的有效性表现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制定规则和维护市场秩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制定和实施发展计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政策指导和参数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政府直接投资与招商引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直接调控与间接调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政府的局限性表现在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信息不足形成决策落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人浮于事形成决策成本过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智慧不足形成了决策失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、市场的有效性与局限性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一）列举生活中具体市场的名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______     ______        ______      ______     ______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凡是种种市场的存在，无论是形式上分、时间上分、空间上分，我们可以找出它们的共同的基本特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、消费者和生产者（买卖双方）均是理性的经济人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、在交易中坚持互惠互利平等交易的原则，不可欺诈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、双方具有平等的法律地位，不可以大欺小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、价格是交易双方能否相互接受的重要信号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、消费者追求效用最大化目标，生产者追求利润最大化目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5151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结论：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所有市场是买卖双方为取得商品让渡或     服务的场所，它为为有形市场和无形市场网络二大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二）回忆：什么是经济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它是由于资源稀缺而产生的配置和利用的科学。它有二种方式：“计划经济”和“市场经济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比较：计划经济     与     市场经济   优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压力     行政命令            残酷竞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动力      精神                    逐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果表明：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在计划经济体制下，由于产权不清，职责不明，政企不分，结果吃大锅饭现象严重，资源配置的效率低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1219320"/>
            <a:ext cx="78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结论：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所有市场经济，是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种通过市场机制实现的社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资源的高效率配置经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XX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同志南巡讲话的精辟论述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三）讨论：在市场上购买一般受什么因素的影响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收入水平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广告引导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个人喜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同类产品替代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⑤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国家宏观政策等，但最基本、最根本的是价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亚当斯密誉价格为“一只看不见的手”“上帝之手”，原因是因为价格具有以下四大功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信息的传递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行动的刺激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调节市场供求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6720" y="5445000"/>
            <a:ext cx="721836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节约社会资源，降低生产成本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促进技术进步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思考：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在供求定理发挥作用的前提下，在消费者是理性经济人的前提下，“消费者是上帝”就一定能变为现实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小结：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影响消费者行为的因素有许多，但由于市场信息的不对称性及市场经济制度的不完善性，在一定程度上说，消费者还是弱势群体，消费者主权仍是个需要不断瞄准，长期努力实现的目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企业家才能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=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利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企业家的创新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=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风险报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解除约束，鼓励创新，培养群体，使市场经济充满生机和活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二、市场局限与政府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市场经济是高效率的经济，高效率经济不等于没有局限的经济，其局限性表现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收入分配不公，极易形成两极分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原因：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由于个人在体格、天分、聪明、学历、知识、技能、遗产、环境及其他条件上存在差别，以至影响到分配上的收入差别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外部不经济，生态环境恶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原因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：由于企业为追求利润最大化目标，而将一些成本负担转嫁出去，以至形成世界各国都面临的难以解决的污染问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经济主体行为短期化，急功近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原因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：所有市场的参加者都追求他们在有生之年的利润和效用最大化，而长期项目的成果难以为他们所享有，帮对长期目标无积极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4005000"/>
            <a:ext cx="77724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结论：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市场不是万能的，政府的宏观调控显得重要且必要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83664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、宏观经济结构的失衡，主要表现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总量失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周期波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产业结构失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经济危机与通货膨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 政府 有效性 局限性</cp:keywords>
  <dc:language>en-US</dc:language>
  <cp:lastModifiedBy/>
  <cp:revision>0</cp:revision>
  <dc:subject/>
  <dc:title/>
</cp:coreProperties>
</file>