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png" ContentType="image/png"/>
  <Override PartName="/ppt/media/image7.wmf" ContentType="image/x-wmf"/>
  <Override PartName="/ppt/media/image11.jpeg" ContentType="image/jpeg"/>
  <Override PartName="/ppt/media/image12.jpeg" ContentType="image/jpeg"/>
  <Override PartName="/ppt/media/image1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E1BFC-A661-4E17-B856-F72FC8B4C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3DD7B-7E86-444E-A003-7B045EF9A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19C8F-16D2-4507-A0FF-59C3A8E92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028E4-2293-49B3-95C5-298B7C6A3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79E3E-DA7F-4ABB-AC5F-CEEBB6FEE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01862-C94D-4513-8759-67B02EC0B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88024-2D4A-4D67-AFD8-BCBCB4D92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092E5-4758-4C9D-B5A1-751FBAFFC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357C0-E4CD-47B3-9415-B6D6C4AD2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6B231-8A09-4DD6-93CE-F1165E001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40029-9378-43D9-B05A-FE413860D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09AE2-EE2D-4A08-9E4E-D89C97786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BA77A-3317-4829-BFDA-E8775A98C8A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2.png"/><Relationship Id="rId5" Type="http://schemas.openxmlformats.org/officeDocument/2006/relationships/image" Target="../media/image15.jpeg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609480"/>
            <a:ext cx="9144000" cy="74674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 rot="62400">
            <a:off x="457200" y="1523880"/>
            <a:ext cx="923940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>
                    <a:alpha val="50000"/>
                  </a:srgbClr>
                </a:solidFill>
                <a:latin typeface="华文行楷"/>
              </a:rPr>
              <a:t>实践对认识的决定作用</a:t>
            </a:r>
            <a:endParaRPr b="1" lang="en-US" sz="7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>
                  <a:alpha val="50000"/>
                </a:srgbClr>
              </a:solidFill>
              <a:latin typeface="华文行楷"/>
              <a:ea typeface="华文行楷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1482840" y="262080"/>
            <a:ext cx="593496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        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人的主观认识本身不能证明，认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对象本身也不会“自言其明”。黄鼠狼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会说“我不是专门偷鸡吃的”，鸡也不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说“我常常被黄鼠狼吃。”。那么，谁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检验这些认识正确与否呢？——实践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为什么只有实践才能检验认识正确与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呢？——因为实践具备将主观和客观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系起来的特性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860200" y="5411880"/>
            <a:ext cx="4204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实践是如何检验认识的呢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10" name=""/>
          <p:cNvSpPr/>
          <p:nvPr/>
        </p:nvSpPr>
        <p:spPr>
          <a:xfrm>
            <a:off x="1535040" y="30492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正确认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49400" y="236232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认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68440" y="434340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错误认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595120" y="304920"/>
            <a:ext cx="2314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主观与客观相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921640" y="144792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成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270040" y="2362320"/>
            <a:ext cx="197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实践‥‥结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921640" y="327672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失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66520" y="4343400"/>
            <a:ext cx="2314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主观与客观相悖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121280" y="5486400"/>
            <a:ext cx="63792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009999"/>
                </a:solidFill>
                <a:uFillTx/>
                <a:latin typeface="Times New Roman"/>
                <a:ea typeface="华文细黑"/>
              </a:rPr>
              <a:t>说明实践是检验真理正确与否的唯一标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201840" y="0"/>
            <a:ext cx="18572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590920" y="1981080"/>
            <a:ext cx="2819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—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049560" y="4038480"/>
            <a:ext cx="18572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095880" y="4145040"/>
            <a:ext cx="61128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72200" y="914400"/>
            <a:ext cx="228600" cy="747720"/>
          </a:xfrm>
          <a:prstGeom prst="downArrow">
            <a:avLst>
              <a:gd name="adj1" fmla="val 50000"/>
              <a:gd name="adj2" fmla="val 81772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72200" y="2819520"/>
            <a:ext cx="228600" cy="747720"/>
          </a:xfrm>
          <a:prstGeom prst="downArrow">
            <a:avLst>
              <a:gd name="adj1" fmla="val 50000"/>
              <a:gd name="adj2" fmla="val 81772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133720" y="2895480"/>
            <a:ext cx="304560" cy="1509840"/>
          </a:xfrm>
          <a:prstGeom prst="downArrow">
            <a:avLst>
              <a:gd name="adj1" fmla="val 50000"/>
              <a:gd name="adj2" fmla="val 123936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838080"/>
            <a:ext cx="304560" cy="1676520"/>
          </a:xfrm>
          <a:prstGeom prst="upArrow">
            <a:avLst>
              <a:gd name="adj1" fmla="val 50000"/>
              <a:gd name="adj2" fmla="val 137618"/>
            </a:avLst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172200" y="1981080"/>
            <a:ext cx="228600" cy="609840"/>
          </a:xfrm>
          <a:prstGeom prst="upArrow">
            <a:avLst>
              <a:gd name="adj1" fmla="val 50000"/>
              <a:gd name="adj2" fmla="val 66693"/>
            </a:avLst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172200" y="3809880"/>
            <a:ext cx="228600" cy="685800"/>
          </a:xfrm>
          <a:prstGeom prst="upArrow">
            <a:avLst>
              <a:gd name="adj1" fmla="val 50000"/>
              <a:gd name="adj2" fmla="val 75000"/>
            </a:avLst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1632240" y="914400"/>
            <a:ext cx="6122160" cy="452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世纪，人们经过多次航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的摸索，航海的认识已基本成熟；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时，由于西欧生产力的发展，天文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地理知识的进步，航海造船技术的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达，为新航路的开辟准备了必要的客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观条件→</a:t>
            </a:r>
            <a:r>
              <a:rPr b="0" lang="zh-CN" sz="4000" spc="-1" strike="noStrike" u="sng">
                <a:solidFill>
                  <a:srgbClr val="009999"/>
                </a:solidFill>
                <a:uFillTx/>
                <a:latin typeface="Times New Roman"/>
              </a:rPr>
              <a:t>实践的发展提供了新的认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009999"/>
                </a:solidFill>
                <a:uFillTx/>
                <a:latin typeface="Times New Roman"/>
              </a:rPr>
              <a:t>工具和认识课题，是认识发展的动力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5791320" y="3048120"/>
            <a:ext cx="976320" cy="304560"/>
          </a:xfrm>
          <a:prstGeom prst="rightArrow">
            <a:avLst>
              <a:gd name="adj1" fmla="val 50000"/>
              <a:gd name="adj2" fmla="val 80142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551960" y="380880"/>
            <a:ext cx="5641200" cy="39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西欧人开始相信地圆学说，掌握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更多的天文、地理知识。其目的何在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去寻找黄金、去通商、去殖民掠夺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去扩大经济和文化交往，发展商品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济，加速资本主义的发展         </a:t>
            </a:r>
            <a:r>
              <a:rPr b="0" lang="zh-CN" sz="4000" spc="-1" strike="noStrike" u="sng">
                <a:solidFill>
                  <a:srgbClr val="009999"/>
                </a:solidFill>
                <a:uFillTx/>
                <a:latin typeface="Times New Roman"/>
              </a:rPr>
              <a:t>说明认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009999"/>
                </a:solidFill>
                <a:uFillTx/>
                <a:latin typeface="Times New Roman"/>
              </a:rPr>
              <a:t>识的最终目的是实践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477440" y="4522680"/>
            <a:ext cx="5752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马克思主义的哲学认为十分重要的问题，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在于懂得了客观世界的规律性，因而能够解释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界，而在于拿了这种客观规律的认识去能动地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造世界。       ——毛泽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909440" y="38088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哥伦布、麦哲伦开辟新航路的一个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要的影响就是证明了地圆学说，那么我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能否通过书本知识来证明这一学说的正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性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769840" y="3962520"/>
            <a:ext cx="4615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、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在今天，我们还可以通过哪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办法证明“地圆学说”的正确性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928520" y="2438280"/>
            <a:ext cx="5020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只有新航路的开辟才能证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这一学说的正确性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470480" y="5438880"/>
            <a:ext cx="166500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、黄鼠狼是偷鸡专家吗？</a:t>
            </a:r>
            <a:r>
              <a:rPr b="0" lang="zh-CN" sz="3600" spc="-1" strike="noStrike" u="sng">
                <a:solidFill>
                  <a:srgbClr val="009999"/>
                </a:solidFill>
                <a:uFillTx/>
                <a:latin typeface="Times New Roman"/>
              </a:rPr>
              <a:t>（答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8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2165400" y="1143000"/>
            <a:ext cx="50576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《 本草纲目》记载：“砒，大毒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也。”这说明前人已尝过，肯定有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因此付出生命的代价，才获得这样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认识，这种认识并不否定实践是认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的来源，而是从实践中产生的。实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出真知，实践是一切科学的来源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430080" y="5835600"/>
            <a:ext cx="6073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9999"/>
                </a:solidFill>
                <a:uFillTx/>
                <a:latin typeface="Times New Roman"/>
              </a:rPr>
              <a:t>返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2590920" y="2209680"/>
            <a:ext cx="4572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Times New Roman"/>
              </a:rPr>
              <a:t>认识是适应实践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Times New Roman"/>
              </a:rPr>
              <a:t>展的需要而产生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69280" cy="68580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2268360" y="2492280"/>
            <a:ext cx="456264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Times New Roman"/>
              </a:rPr>
              <a:t>认识是适应实践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Times New Roman"/>
              </a:rPr>
              <a:t>展的需要而产生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468480" y="304920"/>
            <a:ext cx="6073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9999"/>
                </a:solidFill>
                <a:uFillTx/>
                <a:latin typeface="Times New Roman"/>
              </a:rPr>
              <a:t>返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69280" cy="685800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4563000" y="1773360"/>
            <a:ext cx="164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Times New Roman"/>
              </a:rPr>
              <a:t>认识是适应实践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Times New Roman"/>
              </a:rPr>
              <a:t>展的需要而产生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491360" y="3357720"/>
            <a:ext cx="164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Times New Roman"/>
              </a:rPr>
              <a:t>认识是在变革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Times New Roman"/>
              </a:rPr>
              <a:t>象的实践中产生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780000" y="2133720"/>
            <a:ext cx="304560" cy="1523880"/>
          </a:xfrm>
          <a:custGeom>
            <a:avLst/>
            <a:gdLst>
              <a:gd name="textAreaLeft" fmla="*/ 194760 w 304560"/>
              <a:gd name="textAreaRight" fmla="*/ 304920 w 30456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486440" y="2060640"/>
            <a:ext cx="127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实践是认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识的来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793560" y="1066680"/>
            <a:ext cx="66852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9999"/>
                </a:solidFill>
                <a:uFillTx/>
                <a:latin typeface="Times New Roman"/>
              </a:rPr>
              <a:t>返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69280" cy="685800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001040" y="0"/>
            <a:ext cx="164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Times New Roman"/>
              </a:rPr>
              <a:t>认识是适应实践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Times New Roman"/>
              </a:rPr>
              <a:t>展的需要而产生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007160" y="914400"/>
            <a:ext cx="164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Times New Roman"/>
              </a:rPr>
              <a:t>认识是在变革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Times New Roman"/>
              </a:rPr>
              <a:t>象的实践中产生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124080" y="228600"/>
            <a:ext cx="304920" cy="1295280"/>
          </a:xfrm>
          <a:custGeom>
            <a:avLst/>
            <a:gdLst>
              <a:gd name="textAreaLeft" fmla="*/ 194760 w 304920"/>
              <a:gd name="textAreaRight" fmla="*/ 305280 w 30492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53120" y="228600"/>
            <a:ext cx="127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实践是认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识的来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790080" y="1752480"/>
            <a:ext cx="1247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实践的发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提出了新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认识课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714120" y="3124080"/>
            <a:ext cx="1247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实践的发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提出了新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认识工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124080" y="2057400"/>
            <a:ext cx="152640" cy="2286000"/>
          </a:xfrm>
          <a:custGeom>
            <a:avLst/>
            <a:gdLst>
              <a:gd name="textAreaLeft" fmla="*/ 97560 w 152640"/>
              <a:gd name="textAreaRight" fmla="*/ 153000 w 15264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16680" y="2286000"/>
            <a:ext cx="1278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实践是认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识发展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根本动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862240" y="3581280"/>
            <a:ext cx="6073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9999"/>
                </a:solidFill>
                <a:uFillTx/>
                <a:latin typeface="Times New Roman"/>
              </a:rPr>
              <a:t>返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69280" cy="685800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4001040" y="0"/>
            <a:ext cx="164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Times New Roman"/>
              </a:rPr>
              <a:t>认识是适应实践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Times New Roman"/>
              </a:rPr>
              <a:t>展的需要而产生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007160" y="914400"/>
            <a:ext cx="164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Times New Roman"/>
              </a:rPr>
              <a:t>认识是在变革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Times New Roman"/>
              </a:rPr>
              <a:t>象的实践中产生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124080" y="228600"/>
            <a:ext cx="304920" cy="1295280"/>
          </a:xfrm>
          <a:custGeom>
            <a:avLst/>
            <a:gdLst>
              <a:gd name="textAreaLeft" fmla="*/ 194760 w 304920"/>
              <a:gd name="textAreaRight" fmla="*/ 305280 w 30492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653120" y="228600"/>
            <a:ext cx="127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实践是认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识的来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790080" y="1752480"/>
            <a:ext cx="1247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实践的发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提出了新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认识课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714120" y="3124080"/>
            <a:ext cx="1247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实践的发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提出了新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认识工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124080" y="2057400"/>
            <a:ext cx="152640" cy="2286000"/>
          </a:xfrm>
          <a:custGeom>
            <a:avLst/>
            <a:gdLst>
              <a:gd name="textAreaLeft" fmla="*/ 97560 w 152640"/>
              <a:gd name="textAreaRight" fmla="*/ 153000 w 15264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516680" y="2286000"/>
            <a:ext cx="1278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实践是认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识发展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根本动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677960" y="4876920"/>
            <a:ext cx="1552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实践是认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的最终目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878000" y="5454720"/>
            <a:ext cx="6073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9999"/>
                </a:solidFill>
                <a:uFillTx/>
                <a:latin typeface="Times New Roman"/>
              </a:rPr>
              <a:t>返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380880"/>
            <a:ext cx="8839080" cy="264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【教学目标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知识目标：从认识的来源、认识发展的动力，认识   的目的和检验认识正确与否的标准等方面，列举事例说明实践对认识的决定作用。            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    </a:t>
            </a:r>
            <a:r>
              <a:rPr b="0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能力目标：重点学会分析和综合的思维方法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    </a:t>
            </a:r>
            <a:r>
              <a:rPr b="0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觉悟目标：树立实践第一的观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4114800"/>
            <a:ext cx="8763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【教学重点】</a:t>
            </a:r>
            <a:r>
              <a:rPr b="0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认识的来源和认识发展的动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4952880"/>
            <a:ext cx="8458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【教学难点】</a:t>
            </a:r>
            <a:r>
              <a:rPr b="0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实践是检验认识正确与否的唯一标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6928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4001040" y="0"/>
            <a:ext cx="164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Times New Roman"/>
              </a:rPr>
              <a:t>认识是适应实践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Times New Roman"/>
              </a:rPr>
              <a:t>展的需要而产生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007160" y="914400"/>
            <a:ext cx="164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Times New Roman"/>
              </a:rPr>
              <a:t>认识是在变革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Times New Roman"/>
              </a:rPr>
              <a:t>象的实践中产生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124080" y="228600"/>
            <a:ext cx="304920" cy="1295280"/>
          </a:xfrm>
          <a:custGeom>
            <a:avLst/>
            <a:gdLst>
              <a:gd name="textAreaLeft" fmla="*/ 194760 w 304920"/>
              <a:gd name="textAreaRight" fmla="*/ 305280 w 30492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653120" y="228600"/>
            <a:ext cx="127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实践是认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识的来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790080" y="1752480"/>
            <a:ext cx="1247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实践的发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提出了新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认识课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714120" y="3124080"/>
            <a:ext cx="1247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实践的发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提出了新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认识工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124080" y="2057400"/>
            <a:ext cx="152640" cy="2286000"/>
          </a:xfrm>
          <a:custGeom>
            <a:avLst/>
            <a:gdLst>
              <a:gd name="textAreaLeft" fmla="*/ 97560 w 152640"/>
              <a:gd name="textAreaRight" fmla="*/ 153000 w 15264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516680" y="2286000"/>
            <a:ext cx="1278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实践是认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识发展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根本动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7960" y="4876920"/>
            <a:ext cx="1552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实践是认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的最终目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410080" y="1981080"/>
            <a:ext cx="228600" cy="3810240"/>
          </a:xfrm>
          <a:custGeom>
            <a:avLst/>
            <a:gdLst>
              <a:gd name="textAreaLeft" fmla="*/ 0 w 228600"/>
              <a:gd name="textAreaRight" fmla="*/ 82440 w 228600"/>
              <a:gd name="textAreaTop" fmla="*/ 99360 h 3810240"/>
              <a:gd name="textAreaBottom" fmla="*/ 3710880 h 3810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785920" y="2209680"/>
            <a:ext cx="6073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实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是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验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理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正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与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唯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标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990720" y="990720"/>
            <a:ext cx="304560" cy="4800600"/>
          </a:xfrm>
          <a:custGeom>
            <a:avLst/>
            <a:gdLst>
              <a:gd name="textAreaLeft" fmla="*/ 194760 w 304560"/>
              <a:gd name="textAreaRight" fmla="*/ 304920 w 304560"/>
              <a:gd name="textAreaTop" fmla="*/ 124920 h 4800600"/>
              <a:gd name="textAreaBottom" fmla="*/ 4675680 h 4800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960" y="-114120"/>
            <a:ext cx="789840" cy="70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实践对认识的决定作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781680" y="380880"/>
            <a:ext cx="533520" cy="5410440"/>
          </a:xfrm>
          <a:custGeom>
            <a:avLst/>
            <a:gdLst>
              <a:gd name="textAreaLeft" fmla="*/ 0 w 533520"/>
              <a:gd name="textAreaRight" fmla="*/ 192600 w 533520"/>
              <a:gd name="textAreaTop" fmla="*/ 140760 h 5410440"/>
              <a:gd name="textAreaBottom" fmla="*/ 5269680 h 5410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543800" y="0"/>
            <a:ext cx="12762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实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是认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识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基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实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的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点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认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论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要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基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观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372600" y="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练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871640" y="609480"/>
            <a:ext cx="52034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世纪，加利略通过在比萨斜塔所做的自由落体试验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推翻了亚里士多德关于物体的降落速度与物体的重力成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比的说法。这件事说明（         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感性认识只有上升到理性认识才能把握事物的本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实践是检验认识正确与否的唯一标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实践是认识发展的动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真理是对事物及其规律的正确反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910520" y="3429000"/>
            <a:ext cx="49766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苏轼在《石钟山记》中就士大夫和渔工师没有正确认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到“钟声”产生的原因时指出：“士大夫终不肯以小舟停泊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壁之下，故莫不能知；而渔工师虽知而不能言。”这句话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含的哲学道理包括（      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实践是认识发展的动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实践是认识的来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认识正确与否只能通过实践来检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感性认识必须上升到理性认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116600" y="129528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278520" y="44197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624600" y="2286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小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518120" y="914400"/>
            <a:ext cx="59522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这堂课我们从四方面论证了实践对认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具有决定作用，换句话说，即实践是认识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基础，认识依赖于实践，实践的观点是辩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唯物主义认识论的首要的基本的观点。我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的人民教育家陶行知的原名叫陶知行，后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为陶行知，他为什么要改呢？对我们学生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什么启发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 txBox="1"/>
          <p:nvPr/>
        </p:nvSpPr>
        <p:spPr>
          <a:xfrm rot="21564000">
            <a:off x="987120" y="1445760"/>
            <a:ext cx="6953040" cy="1112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华文行楷"/>
              </a:rPr>
              <a:t>本课到此结束谢谢大家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华文行楷"/>
              <a:ea typeface="华文行楷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4"/>
          <a:stretch/>
        </p:blipFill>
        <p:spPr>
          <a:xfrm>
            <a:off x="685800" y="58672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 txBox="1"/>
          <p:nvPr/>
        </p:nvSpPr>
        <p:spPr>
          <a:xfrm>
            <a:off x="3352680" y="3205080"/>
            <a:ext cx="2457720" cy="121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latin typeface="华文行楷"/>
              </a:rPr>
              <a:t>再见</a:t>
            </a:r>
            <a:endParaRPr b="1" lang="en-US" sz="66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0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8" dur="1" fill="hold"/>
                                        <p:tgtEl>
                                          <p:spTgt spid="2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3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09680" y="457200"/>
            <a:ext cx="8525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问：开辟新航路的认识是怎样产生的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676520"/>
            <a:ext cx="1905120" cy="10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9999"/>
                </a:solidFill>
                <a:uFillTx/>
                <a:latin typeface="Times New Roman"/>
              </a:rPr>
              <a:t>新航路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9999"/>
                </a:solidFill>
                <a:uFillTx/>
                <a:latin typeface="Times New Roman"/>
              </a:rPr>
              <a:t>辟的经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256200" y="1600200"/>
            <a:ext cx="4234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问：为什么达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·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伽马、哥伦布、麦哲伦都要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过艰难的海上探险才能认识和开辟新航路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97240" y="3048120"/>
            <a:ext cx="103428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9999"/>
                </a:solidFill>
                <a:uFillTx/>
                <a:latin typeface="Times New Roman"/>
              </a:rPr>
              <a:t>客观条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063960" y="2962440"/>
            <a:ext cx="4812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问：为什么只有到了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15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16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世纪，人们才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去寻找新航路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0400" y="4419720"/>
            <a:ext cx="6073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9999"/>
                </a:solidFill>
                <a:uFillTx/>
                <a:latin typeface="Times New Roman"/>
              </a:rPr>
              <a:t>后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4419720"/>
            <a:ext cx="701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问：在当时，人们认识新航路的目的是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19600" y="5638680"/>
            <a:ext cx="476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问：在当时，怎样才能证明“地圆说”的正确性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1200" y="5638680"/>
            <a:ext cx="6073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9999"/>
                </a:solidFill>
                <a:uFillTx/>
                <a:latin typeface="Times New Roman"/>
              </a:rPr>
              <a:t>验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81400" y="349200"/>
            <a:ext cx="1034280" cy="10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9999"/>
                </a:solidFill>
                <a:uFillTx/>
                <a:latin typeface="Times New Roman"/>
              </a:rPr>
              <a:t>新航路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9999"/>
                </a:solidFill>
                <a:uFillTx/>
                <a:latin typeface="Times New Roman"/>
              </a:rPr>
              <a:t>辟路线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219320" y="457200"/>
            <a:ext cx="746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经济根源－－商品经济的发展要求增加商业资     本，扩大对外市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219320" y="152388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社会根源－－欧洲人狂想追求货币和黄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213372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商业危机－－奥斯曼土耳其帝国控制了东西方的通商要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85800" y="609480"/>
            <a:ext cx="380880" cy="2210040"/>
          </a:xfrm>
          <a:custGeom>
            <a:avLst/>
            <a:gdLst>
              <a:gd name="textAreaLeft" fmla="*/ 243360 w 380880"/>
              <a:gd name="textAreaRight" fmla="*/ 381240 w 380880"/>
              <a:gd name="textAreaTop" fmla="*/ 57600 h 2210040"/>
              <a:gd name="textAreaBottom" fmla="*/ 2152440 h 221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28600" y="3809880"/>
            <a:ext cx="976320" cy="228600"/>
          </a:xfrm>
          <a:prstGeom prst="rightArrow">
            <a:avLst>
              <a:gd name="adj1" fmla="val 50000"/>
              <a:gd name="adj2" fmla="val 106772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747880" y="3200400"/>
            <a:ext cx="4661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开辟新航路的认识是适应当时实践的需要而产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的，人类的认识活动和科学研究都为社会实践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需要服务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65080" y="454032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农牧业生产－－天文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0" y="518148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战争－－孙子兵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801360" y="5791320"/>
            <a:ext cx="252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改革开放－－邓小平理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75040" y="6329520"/>
            <a:ext cx="274104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9999"/>
                </a:solidFill>
                <a:uFillTx/>
                <a:latin typeface="Times New Roman"/>
              </a:rPr>
              <a:t>莫泊桑买踢－－被踢的感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029200" y="4419720"/>
            <a:ext cx="762120" cy="2209680"/>
          </a:xfrm>
          <a:custGeom>
            <a:avLst/>
            <a:gdLst>
              <a:gd name="textAreaLeft" fmla="*/ 0 w 762120"/>
              <a:gd name="textAreaRight" fmla="*/ 275040 w 762120"/>
              <a:gd name="textAreaTop" fmla="*/ 57600 h 2209680"/>
              <a:gd name="textAreaBottom" fmla="*/ 215208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715000" y="5029200"/>
            <a:ext cx="3002040" cy="8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009999"/>
                </a:solidFill>
                <a:uFillTx/>
                <a:latin typeface="Times New Roman"/>
              </a:rPr>
              <a:t>实践需要－－认识产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"/>
          <p:cNvGraphicFramePr/>
          <p:nvPr/>
        </p:nvGraphicFramePr>
        <p:xfrm>
          <a:off x="304920" y="228600"/>
          <a:ext cx="8458200" cy="5729400"/>
        </p:xfrm>
        <a:graphic>
          <a:graphicData uri="http://schemas.openxmlformats.org/drawingml/2006/table">
            <a:tbl>
              <a:tblPr/>
              <a:tblGrid>
                <a:gridCol w="1268280"/>
                <a:gridCol w="1665360"/>
                <a:gridCol w="2324160"/>
                <a:gridCol w="320040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时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率领船队的航海家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开辟的新航路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备注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97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－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9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葡萄牙人达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·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伽马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欧洲直通印度的新航路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48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年葡萄牙人迪亚士抵达非洲的最南端；达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·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伽马绕过好望角到达印度，他们远航的支持者是葡萄牙王室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9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意大利人哥伦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开辟通往美洲的新航路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哥伦布发现新大陆，他进行远航的支持者是西班牙王室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19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－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2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葡萄牙人麦哲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完成了穿越大西洋、印度洋回欧洲的环球旅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麦哲伦远航的支持者是西班牙王室；证明了地圆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1" name=""/>
          <p:cNvSpPr/>
          <p:nvPr/>
        </p:nvSpPr>
        <p:spPr>
          <a:xfrm>
            <a:off x="517680" y="621648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0" y="5911920"/>
            <a:ext cx="11445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问：为什么达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·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伽马、哥伦布、麦哲伦都要经过艰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的海上探险才能认识和开辟新航路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8600" y="228600"/>
            <a:ext cx="89154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俗话说“不打不相识”，“不入虎穴，焉得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子”。认识是人脑对客观事物的反映，人们只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在实践中同客观事物反复作用，变革客观对象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使客观对象的各种特性充分暴露出来，才能透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纷繁复杂的现象，深入到事物内部认识事物的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质和规律，“纸上得来终觉浅，绝知此事要躬行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0" y="5791320"/>
            <a:ext cx="990720" cy="304560"/>
          </a:xfrm>
          <a:prstGeom prst="rightArrow">
            <a:avLst>
              <a:gd name="adj1" fmla="val 50000"/>
              <a:gd name="adj2" fmla="val 81324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510280" y="5562720"/>
            <a:ext cx="484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Times New Roman"/>
              </a:rPr>
              <a:t>认识是在变革对象的实践过程中发生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510280" y="6189840"/>
            <a:ext cx="363420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009999"/>
                </a:solidFill>
                <a:uFillTx/>
                <a:latin typeface="Times New Roman"/>
              </a:rPr>
              <a:t>实践过程</a:t>
            </a:r>
            <a:r>
              <a:rPr b="0" lang="zh-CN" sz="4000" spc="-1" strike="noStrike" u="sng">
                <a:solidFill>
                  <a:srgbClr val="009999"/>
                </a:solidFill>
                <a:uFillTx/>
                <a:latin typeface="Times New Roman"/>
              </a:rPr>
              <a:t>——</a:t>
            </a:r>
            <a:r>
              <a:rPr b="0" lang="zh-CN" sz="4000" spc="-1" strike="noStrike" u="sng">
                <a:solidFill>
                  <a:srgbClr val="009999"/>
                </a:solidFill>
                <a:uFillTx/>
                <a:latin typeface="Times New Roman"/>
              </a:rPr>
              <a:t>认识产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17680" y="476892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092600" y="3352680"/>
            <a:ext cx="7101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你要有知识，你就得参加变革现实的实践。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要知道梨子的滋味，你就得变革梨子，亲口吃一吃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——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毛泽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46280" y="454032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09480" y="4572000"/>
            <a:ext cx="792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如果你要知道砒霜是否有毒，你就得亲口尝一尝。这种说法是否正确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533520" y="4343400"/>
            <a:ext cx="523800" cy="67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隶书"/>
              </a:rPr>
              <a:t>？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隶书"/>
              <a:ea typeface="隶书"/>
            </a:endParaRPr>
          </a:p>
        </p:txBody>
      </p:sp>
      <p:sp>
        <p:nvSpPr>
          <p:cNvPr id="82" name=""/>
          <p:cNvSpPr/>
          <p:nvPr/>
        </p:nvSpPr>
        <p:spPr>
          <a:xfrm>
            <a:off x="6996600" y="5181480"/>
            <a:ext cx="8208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9999"/>
                </a:solidFill>
                <a:uFillTx/>
                <a:latin typeface="Times New Roman"/>
              </a:rPr>
              <a:t>（答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19692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莫泊桑在一篇小说中需要细致地描写一个被踢过的感觉，但他本人没有这种体验，实在是难以下笔，于是，他走到街上，迎面正好走来了一个乞丐。莫泊桑走上前去，言辞恳切的说：“喂，请踢我几脚吧？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那乞丐被说得莫名其妙，愣住了，以为他神经失常。莫泊桑继续赔笑，又从口袋里掏出钱来说：“你踢，我给你钱。”那乞丐见钱一把抓了过去，伸脚猛踢莫泊桑的屁股一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莫泊桑忍痛揉着屁股，忙跑会屋子，飞快地记下这一真实的被踢的感受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8381880" y="61722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4995" y="10800"/>
                </a:moveTo>
                <a:lnTo>
                  <a:pt x="19008" y="3794"/>
                </a:lnTo>
                <a:lnTo>
                  <a:pt x="19008" y="17806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6928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3960" y="-114120"/>
            <a:ext cx="789840" cy="70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实践对认识的决定作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38080" y="990720"/>
            <a:ext cx="457200" cy="4800600"/>
          </a:xfrm>
          <a:custGeom>
            <a:avLst/>
            <a:gdLst>
              <a:gd name="textAreaLeft" fmla="*/ 292320 w 457200"/>
              <a:gd name="textAreaRight" fmla="*/ 457560 w 457200"/>
              <a:gd name="textAreaTop" fmla="*/ 124920 h 4800600"/>
              <a:gd name="textAreaBottom" fmla="*/ 4675680 h 4800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653120" y="228600"/>
            <a:ext cx="127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实践是认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识的来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516680" y="2286000"/>
            <a:ext cx="1278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实践是认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识发展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根本动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677960" y="4876920"/>
            <a:ext cx="1552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实践是认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的最终目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007160" y="914400"/>
            <a:ext cx="164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Times New Roman"/>
              </a:rPr>
              <a:t>认识是在变革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Times New Roman"/>
              </a:rPr>
              <a:t>象的实践中产生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01040" y="0"/>
            <a:ext cx="164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Times New Roman"/>
              </a:rPr>
              <a:t>认识是适应实践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Times New Roman"/>
              </a:rPr>
              <a:t>展的需要而产生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790080" y="1752480"/>
            <a:ext cx="1247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实践的发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提出了新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认识课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714120" y="3124080"/>
            <a:ext cx="1247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实践的发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提出了新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认识工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785920" y="1981080"/>
            <a:ext cx="6073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实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是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验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理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正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与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唯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标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781680" y="380880"/>
            <a:ext cx="533520" cy="5410440"/>
          </a:xfrm>
          <a:custGeom>
            <a:avLst/>
            <a:gdLst>
              <a:gd name="textAreaLeft" fmla="*/ 0 w 533520"/>
              <a:gd name="textAreaRight" fmla="*/ 192600 w 533520"/>
              <a:gd name="textAreaTop" fmla="*/ 140760 h 5410440"/>
              <a:gd name="textAreaBottom" fmla="*/ 5269680 h 5410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543800" y="0"/>
            <a:ext cx="12762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实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是认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识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基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实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的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点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认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论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要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基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观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24080" y="2057400"/>
            <a:ext cx="152640" cy="2286000"/>
          </a:xfrm>
          <a:custGeom>
            <a:avLst/>
            <a:gdLst>
              <a:gd name="textAreaLeft" fmla="*/ 97560 w 152640"/>
              <a:gd name="textAreaRight" fmla="*/ 153000 w 15264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124080" y="228600"/>
            <a:ext cx="304920" cy="1295280"/>
          </a:xfrm>
          <a:custGeom>
            <a:avLst/>
            <a:gdLst>
              <a:gd name="textAreaLeft" fmla="*/ 194760 w 304920"/>
              <a:gd name="textAreaRight" fmla="*/ 305280 w 30492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10080" y="1981080"/>
            <a:ext cx="228600" cy="3810240"/>
          </a:xfrm>
          <a:custGeom>
            <a:avLst/>
            <a:gdLst>
              <a:gd name="textAreaLeft" fmla="*/ 0 w 228600"/>
              <a:gd name="textAreaRight" fmla="*/ 82440 w 228600"/>
              <a:gd name="textAreaTop" fmla="*/ 99360 h 3810240"/>
              <a:gd name="textAreaBottom" fmla="*/ 3710880 h 3810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6172200" y="457200"/>
          <a:ext cx="166680" cy="272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172200" y="457200"/>
                    <a:ext cx="166680" cy="27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380880" y="228600"/>
            <a:ext cx="8763120" cy="12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黄鼠狼不是偷鸡“专家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华东师范大学生物系的几位教师，用了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20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年的时间，作了一番调查研究，先后解剖了近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5000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只黄鼠狼，发现只有两只黄鼠狼吃了鸡。他们还做了实验：第一天，在关黄鼠狼的笼子里放进活鸡三只、带鱼一段，黄鼠狼只吃了带鱼。第二天，放进鸡、鸽子和老鼠，结果，黄鼠狼吃了老鼠。只到第五天，仅仅放进活鸡，黄鼠狼没有别的东西可吃，才拿鸡来充饥。这几位教师又进一步了解到，黄鼠狼原来是消灭老鼠的“能手”，一只黄鼠狼至少能吃三四百只老鼠，还要吞食大量害虫。通过长期实验，他们不但为黄鼠狼洗刷了专门偷鸡的恶名声，而且逐步深入地认识了黄鼠狼的生活习性和对人类的许多益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934280" y="6207120"/>
            <a:ext cx="4021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如何证明黄鼠狼不是偷鸡专家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>实践 决定 认识 作用</cp:keywords>
  <dc:language>en-US</dc:language>
  <cp:lastModifiedBy/>
  <cp:revision>0</cp:revision>
  <dc:subject/>
  <dc:title/>
</cp:coreProperties>
</file>