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A2AE-DF7D-4786-AC86-431E0890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5CE-007F-4B7A-9D10-9446F2C5BF24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B7B0-F5B9-42FD-8BCF-31E8066986A0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C21-8EF1-4A23-B731-8B979B56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6BE-88B8-4228-8119-377DA5AA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07D48-044D-4582-A0B8-62F4A2F5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129FE-E7E3-4509-AA9E-39C0C47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92860-F281-4A60-8C94-BCB29095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359E8-9CEA-4B5B-9ADA-329558A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0DE3B-CEE2-497F-ACEC-6FBB02C5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A604D-23BD-4812-B056-57868BDB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F766C-A487-4EB0-AC3E-DDD3823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FF8D7-A035-45B0-B54C-DCD28109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98B87-1F9A-4E1F-9222-17FBCD4C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358BB-5944-4E33-9FA7-060C6D43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D48-322B-403E-8A6D-673FAE3C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5EBD6-E6D7-401A-8809-977547A7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CBCF5-ED30-4487-84AD-4500DE06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81D25-6EF2-4CBD-854C-4341E620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D1218-753A-4977-9B91-F7AF3473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5BC2D-A5C1-4927-B1D5-C511EAD1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8F734-499E-4637-A6C3-1F4E1770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95F02-0A0A-4B4C-B2B4-EC4A2B1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F48DD-7955-4817-8E3D-E30247D4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04069-B3B7-4B35-BE4E-C0E22B54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C261B-5874-4545-AB1D-605E7D6C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3F0-2C1E-44AC-AB21-37868C53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29BAA-F21F-4D9D-9223-760DCE06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B8101-6DB7-4D9F-9C10-40CD9A12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EF3FD-9FE3-4222-A8EE-492739F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141F4-9846-4CE6-B29E-242C7FEF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15DF6-7301-454D-B153-2268DCC3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22ED8-A7AC-454C-B3F5-07F0546E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D0A98-4235-47EE-86F7-AA2112B4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498BF-EB5D-4C6D-A2FC-D8AE8FE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0370A-5A34-480D-A467-A3427563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0D001-8A03-46C4-8964-25242D77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35A1-B31E-4C1D-8D80-4F429EE0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A65C8-64D2-4FBF-8D31-FD254452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53EDB-A1A6-4F36-B758-B132A779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1A748-2088-41BF-AAEB-772FE47F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745C8-BFD5-4F2C-A9D3-89429C9C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B28D1-D8C4-48FB-825D-38BD594A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ECE42-81E4-4C9B-835D-F756A820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D9E4F-CC7B-4C4C-B450-047786F2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48890-125E-42F3-987F-B240253D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8EF6C-BC10-4458-BBFE-6C03F9E9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33F37-44D9-4E0F-A427-6655358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BB8E-5F7A-4D34-A4D5-8A75BADC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BCA67-B2D4-499C-826C-776D1AE7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5EC00-F365-41A0-8B75-AEE59B02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F2E47-4E12-4845-B5F2-49227F88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F70AC-2FD6-4B7C-83B6-C791BBFD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9D64B-43E3-48E2-9219-01AF91DA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DC364-BA2E-4332-A3A2-B36B1211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45D94-67E0-4930-A3FA-F5749993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07D87-6BB0-48F0-BC55-DA3DD188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ABD93-F47B-48DC-AA0B-EA7AA1C7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E79F5-31FC-4573-B87F-0467ECB6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0309-781B-41F2-B8F9-B9E44883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65DF8-F22E-4302-94A4-D7F9F8CC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630B5-A39C-4FDE-A580-62F0BCFF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FD9E7-554A-409F-8064-B975FD32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00A4B-7D3D-4895-A24E-E4BE04C2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74AB2-BB38-4342-B382-6AFC7F4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D18FF-E3D0-4FB8-83F7-3C175100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960B6-59DB-4E94-8C9C-BE150014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A6876-5459-455F-8E9E-6B3F6546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F1D2C-8A34-4B3A-924B-8AC1A4DB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A497F-F22E-41A6-8125-AA28FB83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0CA2-3775-4BF5-8CF2-E4EBC609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4EA3C-C7BC-4082-9B48-5BEB23E2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A7569-CEDA-4D00-853F-72CFE65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1D4FB-8E29-4B5A-82AF-7BA9843D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9387E-F0B8-4CBF-9D4E-9527ED2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BA0B4-363D-4D16-9B58-ACBEBAD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9A852-0D3E-467B-AFD9-B211598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C07D8-2DBD-4DB1-AF76-0A63FB25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75303-8D09-484F-85BC-894E3C48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1510E-4E1D-4BB8-8E2D-FCCDD375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4D92-D9DC-423B-851B-DA14E06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21A5-B807-48E3-BA5A-5F21D227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261A-D557-43E2-8396-84B70BEB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378-45C0-4784-B509-EB32C74B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808D-AF91-4D02-8ED6-5A48C95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440-FC44-4EE2-9B72-6EF48074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9EB9-0601-4AA0-AE12-3BD6E703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231A-D514-4A2F-930B-136B5E6E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53BE-E22E-4C13-AF18-D24CABE6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3DA2-86D2-4095-BC98-A2BFE497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5701-336D-4197-B000-270FF2E1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E1E2-3F17-4EA9-A811-4ABDCD55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278C-E820-47D1-BE93-08C926F9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E36D-5F4C-4E02-8437-34B14EFE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7B8-A065-43E2-A9BB-E2349F0A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8F65-1CDC-4AE3-A4CE-73AD3DB7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D12D-3182-4C4F-8790-F358854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1613-350A-4305-9810-AF221AC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4035-3A0F-4C95-BE85-6522CE5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9B82-DFC9-4B9C-B517-5298A53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0E03-9B52-4ACD-B33E-89DA6A69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C3BB-47D8-4551-A5B5-A81FAA37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D873-29B7-4A31-8748-5FE2A038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A1F38-14DB-473D-BFF8-C7299B87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19D0-1DBC-40DD-A34F-D76B171C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D23-4797-4EA7-B054-F6DF69CE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C1D4-8922-40B7-B4B0-8EED98DB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ACADF-E338-41A8-87F6-70A4E3C2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8FBD-D767-4C7D-A025-033E6E22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F212-9314-4E2B-9F32-0A6F71D1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6DBD-C0F7-462B-A226-C2B5D338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ABF2-3103-4D80-9495-C68A325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F586-4920-412B-9497-1A2E0EFA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54B5E-E6C5-46CB-A983-72B1B559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59863-061A-4C37-BA0F-B7ED6205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3D86-B6A9-4846-8F81-67F10116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48D-16DB-434B-BF55-EF6D7163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1378-5742-42B0-A8D0-18F6029E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03CD6-CD42-45DC-92C1-AB67FB99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4CAEC-92C8-42BB-A6B8-C5A1A08C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FE3D5-DADA-47AE-9F86-4A15ECD6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A2243-1BAF-4605-94C7-64096319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0AEA-E844-47AD-B6EA-7D518E1D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5C358-24A1-43F7-8100-38FFE308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8F84-2A31-487B-B774-E5F8E9C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FB34F-E1A7-4B11-9D82-3894F394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62F50-37C0-476F-8D50-A541A3A1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B98-1E46-4F6D-B500-039265CB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7A837-8E75-4798-B5C8-1951116B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E6A8-A48C-4246-9746-0639763C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80511-A552-4E8E-A9F9-92DE93E8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557F-1DDB-46E8-BC3E-93784895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70B1D-606A-41E8-A02A-22214014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D4D09-AD55-4036-8B11-5D05FED2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9E0A-E3D9-44A5-991B-502A10B2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DCA98-7AD6-4B01-91F1-99A8785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C99C4-B672-4866-AD91-84D2E1A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5643-3054-44C0-BF4B-A4EAFB2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3AA-DBA8-42C6-A8A7-2D17CB3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9520A-8A7A-453A-9D78-89E54494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1A164-876A-4E38-A7A7-46AF06D2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99CD1-3694-44B1-9A4F-8992615A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CB240-E7C6-4C89-9ED5-1A2BA789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26B15-5B47-4AE8-BB5D-BACD9DB0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5B5E2-08D4-477F-8155-5EABD45D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E73C4-D3AF-419E-962F-DD6F4F88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FBE4-FE09-4707-9A36-01B68865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449FF-B422-40A3-A2C8-E4852846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488E2-3C6F-49A4-A31F-EF916273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086-85F0-499B-ABAC-F6718F5B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9212-A148-4936-AC36-F4AC1663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58E58-3688-486B-88AE-FF8D420C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B38D-0F01-4F39-931D-D7645FE0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84397-DBE3-4399-9BD3-0B78B852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9B9F1-37AF-4AAA-A493-971D6D34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EFE00-9BE7-4798-A757-382435A5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40C0D-F182-4D59-A94A-566F1ED4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E2BBB-A7A4-41DB-9B56-B06D7D93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21435-E73F-4909-81A8-0D0A5EB4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CEA62-69E8-4D91-9DD2-33F84B4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9A7-7D80-475D-97BD-1CFDFE11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23CAF-BFF6-403F-9B71-EEA05A3F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8B31-7558-4E37-8103-42C8D872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ECB22-8971-4926-BE20-371551A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4EAD5-B9B9-47D1-89A6-082B85E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1606D-5F43-4F76-88C6-AD71A01E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62B89-84A2-4201-AFCC-35E35648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883B2-3F8C-4577-9801-0749DE7F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3F6E6-57A4-493B-9A26-B6563DE1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8D125-CD73-42E4-9CCE-B5507508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E6370-79A3-45A5-A00F-6CA67963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CEB1-B231-4528-BA5F-67C0B108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FF3E-9D26-4157-8F38-788088F197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BF91-8224-45CB-9251-A22D30B56F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FFB9-8DFB-4109-BF1B-8A23EA8550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1DBA-BF7C-4A43-A206-53BD052345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72EF-7105-4A26-A5CB-AC75895C06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64BF-9B13-445D-94B0-0D204DDB7B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57C-92F0-4061-9906-94528FDA6B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F8A3-4E8B-419A-9E3E-85C7347CC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1779-0895-450D-8D5A-35F3493A5F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A078-E150-457E-A075-1274F08CA0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8C53-B50B-4A77-A177-A65CBAF11E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1ADE-C73E-4E52-8410-B2DB9598D9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570E-AA01-4D0C-9A44-27FD727B4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44E5-83A2-47EB-8240-F18576E96C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88BC-E7C7-44AC-BC33-46C9BD23DD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FB3C-7095-4AD9-89B2-69DF064E30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31D9-BDC4-41AC-B406-7B3FE77907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4DFB-8E3E-4FC6-A746-21FCBBDB36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9AC4-3B5E-4802-BB3E-367C0E7A9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7DA8-CDB2-454E-971D-F405143F54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4DEC-1A0D-4586-B535-AF98B7D14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30A-5B52-4081-B206-D857D6B4B6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A33F-D113-42B9-AF5F-42D6374E44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CE1-6B73-4F02-B5EF-A08BC4CC68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DE5-FEDE-4D17-87EA-7CCDA9C08C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200511216864"/>
          <p:cNvPicPr/>
          <p:nvPr/>
        </p:nvPicPr>
        <p:blipFill>
          <a:blip r:embed="rId1"/>
          <a:stretch/>
        </p:blipFill>
        <p:spPr>
          <a:xfrm>
            <a:off x="611280" y="485640"/>
            <a:ext cx="7705800" cy="595008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三  峡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北魏   郦道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-162072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发挥想象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Picture 10" descr="75791a8b5bd9d8e8973e8acee1e1d6ff_m"/>
          <p:cNvPicPr/>
          <p:nvPr/>
        </p:nvPicPr>
        <p:blipFill>
          <a:blip r:embed="rId1"/>
          <a:stretch/>
        </p:blipFill>
        <p:spPr>
          <a:xfrm>
            <a:off x="684360" y="1052640"/>
            <a:ext cx="3892320" cy="2616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1"/>
          <p:cNvPicPr/>
          <p:nvPr/>
        </p:nvPicPr>
        <p:blipFill>
          <a:blip r:embed="rId2"/>
          <a:stretch/>
        </p:blipFill>
        <p:spPr>
          <a:xfrm>
            <a:off x="5076720" y="1125360"/>
            <a:ext cx="3456000" cy="2592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g2005032815414884"/>
          <p:cNvPicPr/>
          <p:nvPr/>
        </p:nvPicPr>
        <p:blipFill>
          <a:blip r:embed="rId3"/>
          <a:stretch/>
        </p:blipFill>
        <p:spPr>
          <a:xfrm>
            <a:off x="5003640" y="4005360"/>
            <a:ext cx="3816360" cy="2496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5" descr="2005813222235295"/>
          <p:cNvPicPr/>
          <p:nvPr/>
        </p:nvPicPr>
        <p:blipFill>
          <a:blip r:embed="rId4"/>
          <a:stretch/>
        </p:blipFill>
        <p:spPr>
          <a:xfrm>
            <a:off x="755640" y="3860640"/>
            <a:ext cx="3665520" cy="2749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发现美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用你欣赏的眼光来审视课文的美吧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可以从结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景的角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语言等方面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2053080" y="620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背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积累语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61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1765800" y="1412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410920" y="266400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 读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整体感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二 练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落实基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三 说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涵咏品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四 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积累语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6" descr="96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87" name="c8126.MP3" descr=""/>
          <p:cNvPicPr/>
          <p:nvPr/>
        </p:nvPicPr>
        <p:blipFill>
          <a:blip r:embed="rId2"/>
          <a:stretch/>
        </p:blipFill>
        <p:spPr>
          <a:xfrm>
            <a:off x="395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6"/>
          <p:cNvSpPr/>
          <p:nvPr/>
        </p:nvSpPr>
        <p:spPr>
          <a:xfrm>
            <a:off x="395280" y="404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春冬之时，则素湍绿潭，回清倒影，绝山献多生怪柏，悬泉瀑布，飞漱其间，清荣峻茂，良多趣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324000" y="1268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ed49b6"/>
                </a:solidFill>
                <a:latin typeface="Arial"/>
                <a:ea typeface="楷体_GB2312"/>
              </a:rPr>
              <a:t>每至晴初霜旦，林寒涧肃，常有高猿长啸，属引凄异，，空谷传响，哀转久绝。故渔者歌曰：“巴东三峡巫峡长，猿鸣三声泪沾裳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-21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练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落实基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834920" y="2205000"/>
            <a:ext cx="46083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实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略无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阙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处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夏水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陵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乘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御风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飞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其间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晴初霜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7640" y="2205000"/>
            <a:ext cx="460692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通</a:t>
            </a:r>
            <a:r>
              <a:rPr b="1" lang="en-US" sz="2800" spc="-1" strike="noStrike">
                <a:solidFill>
                  <a:srgbClr val="4629d9"/>
                </a:solidFill>
                <a:latin typeface="Arial"/>
                <a:ea typeface="Arial"/>
              </a:rPr>
              <a:t>"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缺</a:t>
            </a:r>
            <a:r>
              <a:rPr b="1" lang="en-US" sz="2800" spc="-1" strike="noStrike">
                <a:solidFill>
                  <a:srgbClr val="4629d9"/>
                </a:solidFill>
                <a:latin typeface="Arial"/>
                <a:ea typeface="Arial"/>
              </a:rPr>
              <a:t>"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中断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飞奔的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冲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早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词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三峡七百里中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自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非亭午夜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沿溯阻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y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Arial"/>
              </a:rPr>
              <a:t>ặ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多生怪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哀转久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绝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(zh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Arial"/>
              </a:rPr>
              <a:t>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引凄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有良田美池桑竹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76720" y="2060640"/>
            <a:ext cx="46101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如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阻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极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消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连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29d9"/>
                </a:solidFill>
                <a:latin typeface="Arial"/>
              </a:rPr>
              <a:t>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翻译句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重岩叠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隐天蔽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自非亭午夜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见曦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虽乘奔御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以疾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荣峻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良多趣味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4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常有高猿长啸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属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zh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Arial"/>
              </a:rPr>
              <a:t>ǔ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引凄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空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传响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哀转久绝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1405440" y="764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说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品味意境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找出文中写景的句子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组内探究写景的角度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分析语言的特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按照示例用一句完整的话表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示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中写景的句子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　　　），写出了（　　　　　　）（景物）的（　　　　）（特点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山：连绵不断　遮天蔽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夏水：襄、阻绝、朝、暮、疾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湍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冬之景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素、绿、清、影、清荣峻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清幽秀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秋景：寒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肃、凄异、哀转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凄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0:32:12Z</dcterms:created>
  <dc:creator>qq</dc:creator>
  <dc:description/>
  <dc:language>en-US</dc:language>
  <cp:lastModifiedBy>a</cp:lastModifiedBy>
  <dcterms:modified xsi:type="dcterms:W3CDTF">2015-02-10T11:20:24Z</dcterms:modified>
  <cp:revision>33</cp:revision>
  <dc:subject/>
  <dc:title>三  峡</dc:title>
</cp:coreProperties>
</file>