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E3AC-B553-40F1-B4AC-DD659E4CF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7DAB-8993-48C2-A7CD-4DFA801A9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BC56-DCB1-440B-A57F-2DA01B3D5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C6B6-B526-4CE5-B9BC-A1858515D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6C3D9-1018-4365-8583-28542108B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B5FDD-A6AA-4440-A535-C78841200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A0514-95E2-482D-B17D-CDD849A29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EE8C6-CE7C-4AD2-A08B-7061D1409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FF40C-B5F8-4A53-9E83-CE9B97A6C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D5ADA-0473-4A08-8507-1E5F3F794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572C4-5869-4B1B-803A-CA00CA126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CAE9-187B-4431-AEB8-7547F76E6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37AB1-E2AE-4B97-A834-DBF25BFEA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BA69C-64F5-48D0-81B1-3F7F6DB4C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BC44C-38F7-46CB-BFD0-E44906007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6E35F-FD0E-4CAB-B706-27F8E43F7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5331E-906F-4429-8E18-B95318D54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1588-CC21-4C0A-9C3B-E4751F98D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0F6A-BCF0-4EB1-B8AA-CBA66A155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8591-070F-4C7F-B091-F1EC53D35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2E89-83ED-4D54-8389-E60317898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C9E3-1192-4E73-AF31-4C5078342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0085-8EDD-41DF-B5B8-C910588DE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F7CA-F271-4726-B294-7B99F10E3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35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02E62-AB6C-41BE-AB3E-9B67E70EDE25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A5807-E2E6-46C8-B08C-F295B254A264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         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个别差异与发展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个别差异的研究途径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个别差异研究中的变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实验主题与研究范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从问题到实验：基本内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第十三章个别差异与发展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D7DF-9442-4C4C-9E9B-E5F6014E16F4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实验心理学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1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、测量信度（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1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）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信度：是指对某一事物多次测量的一致性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测量工具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被测量的事物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第十三章个别差异与发展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5F68-E386-46C7-8F42-9DAE8C980DA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实验心理学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1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、测量信度（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2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）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智力的概念并没有从理论上被很好地定义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Guilford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1967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）认为，目前有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多种关于智力的定义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有些理论家认为，存在一个基本的心理能力和其它被分离出来的许多具体能力。基本能力被描述为“一种抽象推理和问题解决的能力”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第十三章个别差异与发展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B598-B4D8-4282-8B80-C7822838590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实验心理学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2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、智力测量的稳定性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现在普遍使用的智力测验都具有较高的重测信度（大约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0.95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）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如果我们认为智力测验是有信度的，那么我们就可以考虑：个体被测量到的智力在其一生的发展中的稳定性如何？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第十三章个别差异与发展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6339-7067-4F3E-9CE5-BD46018CF57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实验心理学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纵向研究（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1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）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Kangas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和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Bradway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1971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）在不同时间对同一组被试进行测验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被试：旧金山弯区的儿童，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138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人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1931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年，被试的平均年龄只有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岁，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138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人：斯坦福——比柰测验；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1941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年，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138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人：重测；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1956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年，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111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人：重测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+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韦氏智力测验；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1969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年，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人：重测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+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韦氏智力测验；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第十三章个别差异与发展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44DD-70A7-4123-BBB3-5DE8BA41660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实验心理学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纵向研究（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2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）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结果表明，不同年龄时的重测的相关系数都具有统计上的显著性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说明：儿童在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岁时测出的分数能够在某种程度上预测他们的未来。即智力在大部分人生（从儿童早期到中年）中保持相对稳定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第十三章个别差异与发展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B482-77B5-4E88-A2DB-86C9A55DDF6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实验心理学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3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、用作变量的年龄（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1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）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最典型的变化年龄的实验设计称为横断法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但是，在这种设计中许多其他的因素可能会与年龄混淆。例如，与年轻被试相比，年长被试可能在教养方式、所受教育等方面都有所不同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这种混淆称为“同辈效应”（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cohort effect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）：是指横断研究中当两个不同年龄组具有不同经历时产生的混淆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在许多智力测验研究中的另一个关键差异是，年长者可能比年轻人有更短的正规教育时间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第十三章个别差异与发展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BB1F-226E-487C-A59F-55B4120AED9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实验心理学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3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、用作变量的年龄（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2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）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使用横断法研究的结果表明：智力在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25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岁以前是稳步增长的，之后直到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60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岁左右是逐渐降低的，再之后，降低的速度加快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存在的问题，导致对结果的争议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纵向研究：当时社会环境的影响。由于两次测验间的经验变化引起所研究行为的变化，所以，一般而言，纵向设计不能得出年龄改变行为的可靠结论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第十三章个别差异与发展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4F77-F839-45E2-AFBE-B00A32C19E5A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实验心理学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3203640" y="3645000"/>
            <a:ext cx="3456000" cy="288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276720" y="3429000"/>
            <a:ext cx="431640" cy="19447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3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、用作变量的年龄（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3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）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6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时间迟滞研究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"/>
          <p:cNvSpPr/>
          <p:nvPr/>
        </p:nvSpPr>
        <p:spPr>
          <a:xfrm rot="1506000">
            <a:off x="2919240" y="4260960"/>
            <a:ext cx="3868920" cy="426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1187280" y="2637000"/>
          <a:ext cx="5654880" cy="2736720"/>
        </p:xfrm>
        <a:graphic>
          <a:graphicData uri="http://schemas.openxmlformats.org/drawingml/2006/table">
            <a:tbl>
              <a:tblPr/>
              <a:tblGrid>
                <a:gridCol w="685800"/>
                <a:gridCol w="1152720"/>
                <a:gridCol w="863640"/>
                <a:gridCol w="863640"/>
                <a:gridCol w="936360"/>
                <a:gridCol w="1152720"/>
              </a:tblGrid>
              <a:tr h="45216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测试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9520"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9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0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7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1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7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0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7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2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6" name=""/>
          <p:cNvSpPr/>
          <p:nvPr/>
        </p:nvSpPr>
        <p:spPr>
          <a:xfrm>
            <a:off x="2987640" y="602136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横断研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3492360" y="5444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164360" y="551664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时间迟滞研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 flipV="1">
            <a:off x="6659640" y="5373360"/>
            <a:ext cx="4334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596360" y="3716280"/>
            <a:ext cx="122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667640" y="350028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纵向研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6732360" y="378936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第十三章个别差异与发展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B348-3C14-4FE2-A690-847570EFDA6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实验心理学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四、从问题到实验：基本内容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问题：动机与情绪在智力作业中起什么作用？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儿童的动机目标怎样影响他们的智力作业？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第十三章个别差异与发展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EA33-88F9-4B3B-8F73-B2CA75CDAE1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实验心理学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一、个别差异的研究途径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在科学中，尤其是在心理学的个别差异研究中，一个普遍受到关注的问题是，哪些方法和理论能够更好地预测未来事件？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从历史上来看，个别差异的研究始终伴随着方法论方面的争论，即为了理解人们之间的差异和预测他们的将来行为，哪种方法是适宜的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第十三章个别差异与发展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7ACC-8230-43DE-BB27-419EB0F1EC3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实验心理学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55280" y="214200"/>
            <a:ext cx="81882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Tahoma"/>
              </a:rPr>
              <a:t>（一）个别差异的方法学途径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我们讨论的许多问题都涉及到了产生预期的方法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一般解决此类问题的方法有两个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实证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分析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第十三章个别差异与发展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3027-1737-4B38-BDE9-3FBF7A9B77E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实验心理学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Tahoma"/>
              </a:rPr>
              <a:t>（二）引起个别差异的变量（</a:t>
            </a:r>
            <a:r>
              <a:rPr b="0" lang="zh-CN" sz="4000" spc="-1" strike="noStrike">
                <a:solidFill>
                  <a:srgbClr val="333399"/>
                </a:solidFill>
                <a:latin typeface="Tahoma"/>
              </a:rPr>
              <a:t>1</a:t>
            </a:r>
            <a:r>
              <a:rPr b="0" lang="zh-CN" sz="4000" spc="-1" strike="noStrike">
                <a:solidFill>
                  <a:srgbClr val="333399"/>
                </a:solidFill>
                <a:latin typeface="Tahoma"/>
              </a:rPr>
              <a:t>）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个别差异的先天的（自然）基础；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个别差异的经验的（教养）基础；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自然与教养之争是心理学的古老问题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第十三章个别差异与发展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D118-2235-4505-88E3-9FE91D83FA6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实验心理学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Tahoma"/>
              </a:rPr>
              <a:t>（二）引起个别差异的变量（</a:t>
            </a:r>
            <a:r>
              <a:rPr b="0" lang="zh-CN" sz="4000" spc="-1" strike="noStrike">
                <a:solidFill>
                  <a:srgbClr val="333399"/>
                </a:solidFill>
                <a:latin typeface="Tahoma"/>
              </a:rPr>
              <a:t>2</a:t>
            </a:r>
            <a:r>
              <a:rPr b="0" lang="zh-CN" sz="4000" spc="-1" strike="noStrike">
                <a:solidFill>
                  <a:srgbClr val="333399"/>
                </a:solidFill>
                <a:latin typeface="Tahoma"/>
              </a:rPr>
              <a:t>）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因此，当我们探讨机体发展的时候，他建议我们应该考虑几个相互作用的因素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基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出生前的营养环境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出生后的营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与经验和学习相关的因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身体的损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第十三章个别差异与发展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495F-A0BC-4E77-81BA-72BE4EF46EA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实验心理学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Tahoma"/>
              </a:rPr>
              <a:t>二、个别差异研究中的变量（</a:t>
            </a:r>
            <a:r>
              <a:rPr b="0" lang="zh-CN" sz="4000" spc="-1" strike="noStrike">
                <a:solidFill>
                  <a:srgbClr val="333399"/>
                </a:solidFill>
                <a:latin typeface="Tahoma"/>
              </a:rPr>
              <a:t>1</a:t>
            </a:r>
            <a:r>
              <a:rPr b="0" lang="zh-CN" sz="4000" spc="-1" strike="noStrike">
                <a:solidFill>
                  <a:srgbClr val="333399"/>
                </a:solidFill>
                <a:latin typeface="Tahoma"/>
              </a:rPr>
              <a:t>）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因变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智力研究中的因变量是每个研究者使用的智力测验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由于不同的研究者对智力的定义意见不一致，所以很难制订一个能被所有人接受的统一的测量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第十三章个别差异与发展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D592-2A7D-47FF-89AD-5D8E4FAAAC9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实验心理学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Tahoma"/>
              </a:rPr>
              <a:t>二、个别差异研究中的变量（</a:t>
            </a:r>
            <a:r>
              <a:rPr b="0" lang="zh-CN" sz="4000" spc="-1" strike="noStrike">
                <a:solidFill>
                  <a:srgbClr val="333399"/>
                </a:solidFill>
                <a:latin typeface="Tahoma"/>
              </a:rPr>
              <a:t>2</a:t>
            </a:r>
            <a:r>
              <a:rPr b="0" lang="zh-CN" sz="4000" spc="-1" strike="noStrike">
                <a:solidFill>
                  <a:srgbClr val="333399"/>
                </a:solidFill>
                <a:latin typeface="Tahoma"/>
              </a:rPr>
              <a:t>）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自变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所有的个别差异，包括智力，自变量就是被试变量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同卵双生子——异卵双生子——不同儿童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第十三章个别差异与发展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0F42-E22A-4CE6-B4E1-6A91983D85E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实验心理学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Tahoma"/>
              </a:rPr>
              <a:t>二、个别差异研究中的变量（</a:t>
            </a:r>
            <a:r>
              <a:rPr b="0" lang="zh-CN" sz="4000" spc="-1" strike="noStrike">
                <a:solidFill>
                  <a:srgbClr val="333399"/>
                </a:solidFill>
                <a:latin typeface="Tahoma"/>
              </a:rPr>
              <a:t>3</a:t>
            </a:r>
            <a:r>
              <a:rPr b="0" lang="zh-CN" sz="4000" spc="-1" strike="noStrike">
                <a:solidFill>
                  <a:srgbClr val="333399"/>
                </a:solidFill>
                <a:latin typeface="Tahoma"/>
              </a:rPr>
              <a:t>）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控制变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在智力研究中，很难指出存在的控制变量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学习会影响测验结果——文化公平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但是，完全消除学习、语言的运用、动机、文化知识等因素的影响是不可能的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第十三章个别差异与发展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A986-5618-451A-AE75-6E0EF53F492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实验心理学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三、实验主题与研究范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主题：测量信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研究范式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智力与发展的研究设计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测验信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智力测量的稳定性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用作变量的年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第十三章个别差异与发展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9978-A856-46D4-9887-FAF9A2BD282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实验心理学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个别 差异 发展</cp:keywords>
  <dc:language>en-US</dc:language>
  <cp:lastModifiedBy/>
  <cp:revision>0</cp:revision>
  <dc:subject/>
  <dc:title/>
</cp:coreProperties>
</file>