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83B5-C462-4B15-A74B-57E9BFBFF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3E2E7-533F-45B5-BC07-26ED24C0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D8C02-6135-424A-82C5-B84E626AF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5DAE-043D-4F8E-BD34-890F687D0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AFA78-B544-43A7-9BB5-DDCFDED18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AE14-D8F6-4102-98D3-B1CDF958F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98954-1143-4BE1-A714-6C6D9E953F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ABBC6-FF87-40CA-810A-A7D2CA600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BA60D9-28DC-4B3E-BEA1-B113809D9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1E96F-5FE9-4DE3-BCA1-1933DC430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765C3-1481-4FAE-9658-510364BE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2FC3B-B539-4D53-B178-7DA97AD99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9ABA8-FD01-45D4-99E2-AB2763E8D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1A0AD-6BA6-4044-8B49-034E001C2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5DF61-D09A-407B-9950-EEB19E5D6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AD788-30C8-4EAA-9AFD-78D34BFD4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552096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7021440" y="286056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0208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552096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7021440" y="4487400"/>
            <a:ext cx="142848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223C-264E-4622-8512-178306F77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D36A-490B-4CB2-9ECF-10F7AA5C2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E8344-4276-4962-9F4F-3BB1E830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534BF-C23F-424C-8310-B3307F551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779400" y="1094400"/>
            <a:ext cx="7678800" cy="665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491EA-C924-4570-AD6D-8FEE643C3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422B3-01FF-410C-BA06-4C133D436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311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294600" y="448740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3CB05-ACF4-40CD-93A5-3F169A485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02084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6294600" y="2860560"/>
            <a:ext cx="216504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020840" y="4487400"/>
            <a:ext cx="4437000" cy="14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D50D-CA25-4DBC-93E7-2EE4ED9EA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29002-C868-4376-9DD6-19EE0BCCF19A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40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8F6E-E42B-461F-BC1D-7842D021F474}" type="slidenum">
              <a:rPr b="0" lang="zh-CN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611280" y="3933720"/>
            <a:ext cx="8064360" cy="849240"/>
          </a:xfrm>
          <a:prstGeom prst="horizontalScroll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28600" y="974880"/>
            <a:ext cx="8686800" cy="183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cc"/>
                </a:solidFill>
                <a:latin typeface="Verdana"/>
                <a:ea typeface="黑体"/>
              </a:rPr>
              <a:t>网络蠕虫灾害及其应急处理的新特点</a:t>
            </a:r>
            <a:br>
              <a:rPr sz="4800"/>
            </a:br>
            <a:endParaRPr b="0" lang="en-US" sz="48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8CD2-C014-42CF-B180-96AD37F84DE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“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冲击波”蠕虫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启动响应，向各运营商与合作单位与国外组织发送警报和应对措施、交换信息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5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启动针对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DDoS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的数据分析，与各组织保持密切联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8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发现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MSBlast.Remo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到目前发现感染数目超过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20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7784B-C070-40AD-BD64-2C828F7CD03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71200" y="920160"/>
            <a:ext cx="8163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66"/>
                </a:solidFill>
                <a:latin typeface="Verdana"/>
              </a:rPr>
              <a:t>当前网络安全事件的特点</a:t>
            </a:r>
            <a:endParaRPr b="0" lang="en-US" sz="40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病毒、蠕虫和其他攻击行为互相融合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传统病毒的特点：隐蔽性、传染性、破坏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病毒的本质特点：‘寄生’，而不是独立的程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蠕虫的特点：独立存在，自主蔓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更广泛的名称：恶意代码（还包括木马程序等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互联网的发展为各种恶意代码提供了更多的机会，传统的分类界限日渐模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</a:rPr>
              <a:t>传统的方法是否还适用于解决当今恶意代码的问题呢？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a50021"/>
                </a:solidFill>
                <a:latin typeface="Verdana"/>
              </a:rPr>
              <a:t>……………………………………………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825B6-5392-4349-AC67-75C6702C68B0}" type="slidenum">
              <a:t>11</a:t>
            </a:fld>
          </a:p>
        </p:txBody>
      </p:sp>
    </p:spTree>
  </p:cSld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9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9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4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9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存在的主要问题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法律法规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垃圾邮件、恶意代码、扫描、隔离、用户权利和义务、刑法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286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条的局限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组织体系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重要部门和行业尚没有建立专门的应急组织、国家应急体系尚不健全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协调机制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协调处理机制比较欠缺，跨网、跨部门处理难度大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规范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应急处理服务规范亟待建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产品技术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关键性的、高指标要求的专门产品和技术尚不过关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数据收集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缺乏数据汇集渠道与综合分析能力，缺乏各种必要的基础资源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人力资源：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缺乏各种层次的专业队伍，用户安全意识差（漏洞等问题无法根除）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FA2B-73ED-4248-A31A-AE4F929F974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990360" y="835560"/>
            <a:ext cx="78483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网络蠕虫事件和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ARS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的比较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9072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现实世界中的一切问题，都会反映到网络世界中”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SARS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和网络蠕虫具有很大的相似性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传播特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危害性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应对措施（发现异常、初步分析、报警、隔离、分析、治疗；信息共享、统一协调、国际合作）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法律、媒体的作用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不同之处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病人”不自知；隔离缺乏法律依据或技术手段；应急缺乏成熟体系和工作制度…</a:t>
            </a: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感染对象的不确定性中包含确定性因素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177-985F-4697-985F-F2777C51DEEC}" type="slidenum">
              <a:t>13</a:t>
            </a:fld>
          </a:p>
        </p:txBody>
      </p:sp>
    </p:spTree>
  </p:cSld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" dur="500"/>
                                        <p:tgtEl>
                                          <p:spTgt spid="2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" dur="500"/>
                                        <p:tgtEl>
                                          <p:spTgt spid="2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2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2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" dur="500"/>
                                        <p:tgtEl>
                                          <p:spTgt spid="2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0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9" dur="500"/>
                                        <p:tgtEl>
                                          <p:spTgt spid="2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23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500"/>
                                        <p:tgtEl>
                                          <p:spTgt spid="2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23" dur="1" fill="hold"/>
                                  <p:tgtEl>
                                    <p:spTgt spid="2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4" dur="1" fill="hold"/>
                                  <p:tgtEl>
                                    <p:spTgt spid="236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  <p:animClr clrSpc="rgb">
                                <p:cBhvr>
                                  <p:cTn id="125" dur="1" fill="hold"/>
                                  <p:tgtEl>
                                    <p:spTgt spid="2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现状与危机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38" name=""/>
          <p:cNvSpPr/>
          <p:nvPr/>
        </p:nvSpPr>
        <p:spPr>
          <a:xfrm>
            <a:off x="2002680" y="1752480"/>
            <a:ext cx="3655440" cy="459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99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真正知道我国的网络中正在发生什么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043800" y="2895480"/>
            <a:ext cx="347256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掌握国家网络空间安全的真实状态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104640" y="3581280"/>
            <a:ext cx="3655440" cy="459720"/>
          </a:xfrm>
          <a:prstGeom prst="rect">
            <a:avLst/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ahoma"/>
              </a:rPr>
              <a:t>是否掌握国家可能面临什么样的网络危机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347360" y="4724280"/>
            <a:ext cx="3106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国家信息化发展的相关决策缺乏依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470840" y="5410080"/>
            <a:ext cx="347256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信息化及其安全保障的计划可能陷入盲目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347360" y="6095880"/>
            <a:ext cx="3106800" cy="4597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  <a:effectLst>
            <a:outerShdw dist="107932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ahoma"/>
              </a:rPr>
              <a:t>缺乏准备，将来可能导致灾难性损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rot="19208400">
            <a:off x="798480" y="2209320"/>
            <a:ext cx="617400" cy="2186280"/>
          </a:xfrm>
          <a:custGeom>
            <a:avLst/>
            <a:gdLst>
              <a:gd name="textAreaLeft" fmla="*/ 82440 w 617400"/>
              <a:gd name="textAreaRight" fmla="*/ 534960 w 617400"/>
              <a:gd name="textAreaTop" fmla="*/ 382320 h 2186280"/>
              <a:gd name="textAreaBottom" fmla="*/ 1585080 h 2186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rot="19208400">
            <a:off x="1905120" y="4267080"/>
            <a:ext cx="796680" cy="2271960"/>
          </a:xfrm>
          <a:custGeom>
            <a:avLst/>
            <a:gdLst>
              <a:gd name="textAreaLeft" fmla="*/ 106560 w 796680"/>
              <a:gd name="textAreaRight" fmla="*/ 690120 w 796680"/>
              <a:gd name="textAreaTop" fmla="*/ 397440 h 2271960"/>
              <a:gd name="textAreaBottom" fmla="*/ 1647360 h 2271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66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584B9-3FB6-4DAA-A820-257E98E2B41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从宏观的角度看应急处理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subTitle"/>
          </p:nvPr>
        </p:nvSpPr>
        <p:spPr>
          <a:xfrm>
            <a:off x="2842920" y="2852640"/>
            <a:ext cx="583236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应急处理……………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F191D-BD69-4772-B62C-BED0F7D76A6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事件处理的一般阶段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一阶段：准备——让我们严阵以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二阶段：确认——对情况综合判断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三阶段：封锁——制止事态的扩大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四阶段：根除——彻底的补救措施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五阶段：恢复——备份，顶上去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第六阶段：跟踪——还会有第二次吗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F24D9-E120-43B6-9A44-08F5787A739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正确理解应急响应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1332000" y="299736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如何理解应急响应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A354D-7D6E-4E57-9294-8F619B0CDCA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1752480" y="1295280"/>
            <a:ext cx="59436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b072a"/>
                </a:solidFill>
                <a:latin typeface="뿷玜쉔 _x0001_"/>
              </a:rPr>
              <a:t>应急工作的十六字方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2971800" y="4495680"/>
            <a:ext cx="3809880" cy="228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ArchUpPour">
              <a:avLst>
                <a:gd name="adj1" fmla="val 11805157"/>
                <a:gd name="adj2" fmla="val 78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</a:rPr>
              <a:t>积极预防——风险评估，安全等级</a:t>
            </a:r>
            <a:endParaRPr b="0" lang="en-US" sz="2400" spc="1" strike="noStrike">
              <a:ln w="9360">
                <a:solidFill>
                  <a:srgbClr val="ff0000"/>
                </a:solidFill>
                <a:miter/>
              </a:ln>
              <a:solidFill>
                <a:srgbClr val="ff9900"/>
              </a:solidFill>
              <a:latin typeface="宋体"/>
              <a:ea typeface="宋体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2057400" y="3809880"/>
            <a:ext cx="5638680" cy="3200400"/>
            <a:chOff x="2057400" y="3809880"/>
            <a:chExt cx="5638680" cy="3200400"/>
          </a:xfrm>
        </p:grpSpPr>
        <p:sp>
          <p:nvSpPr>
            <p:cNvPr id="255" name=""/>
            <p:cNvSpPr txBox="1"/>
            <p:nvPr/>
          </p:nvSpPr>
          <p:spPr>
            <a:xfrm>
              <a:off x="2743200" y="4419720"/>
              <a:ext cx="4343400" cy="25905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  <p:sp>
          <p:nvSpPr>
            <p:cNvPr id="256" name=""/>
            <p:cNvSpPr txBox="1"/>
            <p:nvPr/>
          </p:nvSpPr>
          <p:spPr>
            <a:xfrm>
              <a:off x="2057400" y="3809880"/>
              <a:ext cx="5638680" cy="30481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1600200" y="2889360"/>
            <a:ext cx="6553080" cy="3962160"/>
            <a:chOff x="1600200" y="2889360"/>
            <a:chExt cx="6553080" cy="3962160"/>
          </a:xfrm>
        </p:grpSpPr>
        <p:sp>
          <p:nvSpPr>
            <p:cNvPr id="258" name=""/>
            <p:cNvSpPr txBox="1"/>
            <p:nvPr/>
          </p:nvSpPr>
          <p:spPr>
            <a:xfrm>
              <a:off x="3048120" y="4108320"/>
              <a:ext cx="3886200" cy="1752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014356"/>
                  <a:gd name="adj2" fmla="val 71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快速反应——迅即救助</a:t>
              </a: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有效反击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1600200" y="2889360"/>
              <a:ext cx="6553080" cy="3352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  <p:sp>
          <p:nvSpPr>
            <p:cNvPr id="260" name=""/>
            <p:cNvSpPr txBox="1"/>
            <p:nvPr/>
          </p:nvSpPr>
          <p:spPr>
            <a:xfrm>
              <a:off x="1981080" y="3498840"/>
              <a:ext cx="5715000" cy="33526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762120" y="2438280"/>
            <a:ext cx="8001000" cy="4567320"/>
            <a:chOff x="762120" y="2438280"/>
            <a:chExt cx="8001000" cy="4567320"/>
          </a:xfrm>
        </p:grpSpPr>
        <p:sp>
          <p:nvSpPr>
            <p:cNvPr id="262" name=""/>
            <p:cNvSpPr txBox="1"/>
            <p:nvPr/>
          </p:nvSpPr>
          <p:spPr>
            <a:xfrm>
              <a:off x="2971800" y="4572000"/>
              <a:ext cx="3962520" cy="1519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0712370"/>
                  <a:gd name="adj2" fmla="val 6212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确保恢复——起死回生</a:t>
              </a:r>
              <a:r>
                <a:rPr b="0" lang="en-US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00ff"/>
                    </a:solidFill>
                    <a:miter/>
                  </a:ln>
                  <a:solidFill>
                    <a:srgbClr val="66ffff"/>
                  </a:solidFill>
                  <a:latin typeface="宋体"/>
                </a:rPr>
                <a:t>系统备份</a:t>
              </a:r>
              <a:endParaRPr b="0" lang="en-US" sz="2400" spc="1" strike="noStrike">
                <a:ln w="9360">
                  <a:solidFill>
                    <a:srgbClr val="0000ff"/>
                  </a:solidFill>
                  <a:miter/>
                </a:ln>
                <a:solidFill>
                  <a:srgbClr val="66ffff"/>
                </a:solidFill>
                <a:latin typeface="宋体"/>
                <a:ea typeface="宋体"/>
              </a:endParaRPr>
            </a:p>
          </p:txBody>
        </p:sp>
        <p:sp>
          <p:nvSpPr>
            <p:cNvPr id="263" name=""/>
            <p:cNvSpPr txBox="1"/>
            <p:nvPr/>
          </p:nvSpPr>
          <p:spPr>
            <a:xfrm>
              <a:off x="762120" y="2438280"/>
              <a:ext cx="8001000" cy="403884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805157"/>
                  <a:gd name="adj2" fmla="val 78991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ff0000"/>
                    </a:solidFill>
                    <a:miter/>
                  </a:ln>
                  <a:solidFill>
                    <a:srgbClr val="ff9900"/>
                  </a:solidFill>
                  <a:latin typeface="宋体"/>
                </a:rPr>
                <a:t>积极预防——风险评估，安全等级</a:t>
              </a:r>
              <a:endParaRPr b="0" lang="en-US" sz="24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9900"/>
                </a:solidFill>
                <a:latin typeface="宋体"/>
                <a:ea typeface="宋体"/>
              </a:endParaRPr>
            </a:p>
          </p:txBody>
        </p:sp>
        <p:sp>
          <p:nvSpPr>
            <p:cNvPr id="264" name=""/>
            <p:cNvSpPr txBox="1"/>
            <p:nvPr/>
          </p:nvSpPr>
          <p:spPr>
            <a:xfrm>
              <a:off x="1447920" y="3119400"/>
              <a:ext cx="6781680" cy="388620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2021950"/>
                  <a:gd name="adj2" fmla="val 7638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800080"/>
                    </a:solidFill>
                    <a:miter/>
                  </a:ln>
                  <a:solidFill>
                    <a:srgbClr val="ff99cc"/>
                  </a:solidFill>
                  <a:latin typeface="宋体"/>
                </a:rPr>
                <a:t>及时发现——入侵检测，通报机制</a:t>
              </a:r>
              <a:endParaRPr b="0" lang="en-US" sz="2400" spc="1" strike="noStrike">
                <a:ln w="9360">
                  <a:solidFill>
                    <a:srgbClr val="800080"/>
                  </a:solidFill>
                  <a:miter/>
                </a:ln>
                <a:solidFill>
                  <a:srgbClr val="ff99cc"/>
                </a:solidFill>
                <a:latin typeface="宋体"/>
                <a:ea typeface="宋体"/>
              </a:endParaRPr>
            </a:p>
          </p:txBody>
        </p:sp>
        <p:sp>
          <p:nvSpPr>
            <p:cNvPr id="265" name=""/>
            <p:cNvSpPr txBox="1"/>
            <p:nvPr/>
          </p:nvSpPr>
          <p:spPr>
            <a:xfrm>
              <a:off x="2514600" y="3886200"/>
              <a:ext cx="4648320" cy="23623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ArchUpPour">
                <a:avLst>
                  <a:gd name="adj1" fmla="val 11014356"/>
                  <a:gd name="adj2" fmla="val 71167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快速反应——迅即救助</a:t>
              </a:r>
              <a:r>
                <a:rPr b="0" lang="en-US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,</a:t>
              </a:r>
              <a:r>
                <a:rPr b="0" lang="zh-CN" sz="2400" spc="1" strike="noStrike">
                  <a:ln w="9360">
                    <a:solidFill>
                      <a:srgbClr val="008000"/>
                    </a:solidFill>
                    <a:miter/>
                  </a:ln>
                  <a:solidFill>
                    <a:srgbClr val="00ff00"/>
                  </a:solidFill>
                  <a:latin typeface="宋体"/>
                </a:rPr>
                <a:t>有效反击</a:t>
              </a:r>
              <a:endParaRPr b="0" lang="en-US" sz="2400" spc="1" strike="noStrike">
                <a:ln w="9360">
                  <a:solidFill>
                    <a:srgbClr val="008000"/>
                  </a:solidFill>
                  <a:miter/>
                </a:ln>
                <a:solidFill>
                  <a:srgbClr val="00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66" name=""/>
          <p:cNvSpPr/>
          <p:nvPr/>
        </p:nvSpPr>
        <p:spPr>
          <a:xfrm>
            <a:off x="914400" y="5410080"/>
            <a:ext cx="7924680" cy="12891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13320" y="5181480"/>
            <a:ext cx="2482560" cy="1447920"/>
          </a:xfrm>
          <a:prstGeom prst="cloudCallout">
            <a:avLst>
              <a:gd name="adj1" fmla="val -12212"/>
              <a:gd name="adj2" fmla="val 4277"/>
            </a:avLst>
          </a:prstGeom>
          <a:solidFill>
            <a:srgbClr val="66ffff"/>
          </a:solidFill>
          <a:ln cap="sq" w="12600">
            <a:solidFill>
              <a:srgbClr val="000000"/>
            </a:solidFill>
            <a:miter/>
          </a:ln>
          <a:effectLst>
            <a:outerShdw dist="107932" dir="13500000" blurRad="0" rotWithShape="0">
              <a:srgbClr val="eaeae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因特网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1"/>
          <a:stretch/>
        </p:blipFill>
        <p:spPr>
          <a:xfrm>
            <a:off x="3962520" y="5943600"/>
            <a:ext cx="1828800" cy="7048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DB25-AFB6-4977-A835-35AF2D518816}" type="slidenum">
              <a:t>18</a:t>
            </a:fld>
          </a:p>
        </p:txBody>
      </p:sp>
    </p:spTree>
  </p:cSld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fill="hold">
                            <p:stCondLst>
                              <p:cond delay="500"/>
                            </p:stCondLst>
                            <p:childTnLst>
                              <p:par>
                                <p:cTn id="13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2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1500"/>
                            </p:stCondLst>
                            <p:childTnLst>
                              <p:par>
                                <p:cTn id="14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6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set>
                                <p:cBhvr>
                                  <p:cTn id="18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7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1" restart="whenNotActive" nodeType="interactiveSeq" fill="hold">
                <p:stCondLst>
                  <p:cond evt="onClick">
                    <p:tgtEl>
                      <p:spTgt spid="268"/>
                    </p:tgtEl>
                  </p:cond>
                </p:stCondLst>
                <p:childTnLst>
                  <p:par>
                    <p:cTn id="182" fill="hold">
                      <p:stCondLst>
                        <p:cond evt="onClick">
                          <p:tgtEl>
                            <p:spTgt spid="268"/>
                          </p:tgtEl>
                        </p:cond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5" dur="1" fill="hold"/>
                                        <p:tgtEl>
                                          <p:spTgt spid="2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779400" y="1096920"/>
            <a:ext cx="76788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国际联动：应急响应组织和体系的建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3141720"/>
            <a:ext cx="5832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响应组织体系…………………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36F9F-1081-4DD8-B7D4-FBA0FFBDA43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内容安排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：日益严重的威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的新特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未来蠕虫的威胁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网络蠕虫灾害的应急处理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07A0-0E2A-4E89-9658-920F2BD2432C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1" name=""/>
          <p:cNvGrpSpPr/>
          <p:nvPr/>
        </p:nvGrpSpPr>
        <p:grpSpPr>
          <a:xfrm>
            <a:off x="1367280" y="502200"/>
            <a:ext cx="7095240" cy="3567240"/>
            <a:chOff x="1367280" y="502200"/>
            <a:chExt cx="7095240" cy="3567240"/>
          </a:xfrm>
        </p:grpSpPr>
        <p:sp>
          <p:nvSpPr>
            <p:cNvPr id="272" name=""/>
            <p:cNvSpPr/>
            <p:nvPr/>
          </p:nvSpPr>
          <p:spPr>
            <a:xfrm rot="21415800">
              <a:off x="1447920" y="685440"/>
              <a:ext cx="6933960" cy="3200400"/>
            </a:xfrm>
            <a:custGeom>
              <a:avLst/>
              <a:gdLst>
                <a:gd name="textAreaLeft" fmla="*/ 0 w 6933960"/>
                <a:gd name="textAreaRight" fmla="*/ 6934320 w 6933960"/>
                <a:gd name="textAreaTop" fmla="*/ 1248120 h 3200400"/>
                <a:gd name="textAreaBottom" fmla="*/ 1952280 h 3200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4212"/>
                  </a:moveTo>
                  <a:cubicBezTo>
                    <a:pt x="7200" y="-10709"/>
                    <a:pt x="14400" y="19133"/>
                    <a:pt x="21600" y="4212"/>
                  </a:cubicBezTo>
                  <a:lnTo>
                    <a:pt x="21600" y="17388"/>
                  </a:lnTo>
                  <a:cubicBezTo>
                    <a:pt x="14400" y="32309"/>
                    <a:pt x="7200" y="2467"/>
                    <a:pt x="0" y="17388"/>
                  </a:cubicBezTo>
                  <a:close/>
                </a:path>
              </a:pathLst>
            </a:custGeom>
            <a:solidFill>
              <a:srgbClr val="0033cc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 txBox="1"/>
            <p:nvPr/>
          </p:nvSpPr>
          <p:spPr>
            <a:xfrm rot="90000">
              <a:off x="1711080" y="1144800"/>
              <a:ext cx="6248160" cy="2284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Wave1">
                <a:avLst>
                  <a:gd name="adj1" fmla="val 20644"/>
                  <a:gd name="adj2" fmla="val 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cap="sq" w="93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积极发展，加强管理，</a:t>
              </a:r>
              <a:endParaRPr b="0" lang="en-US" sz="2400" spc="1" strike="noStrike">
                <a:ln cap="sq"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1" strike="noStrike">
                  <a:ln cap="sq" w="9360">
                    <a:solidFill>
                      <a:srgbClr val="ff9900"/>
                    </a:solidFill>
                    <a:miter/>
                  </a:ln>
                  <a:solidFill>
                    <a:srgbClr val="ffff00"/>
                  </a:solidFill>
                  <a:latin typeface="宋体"/>
                </a:rPr>
                <a:t>趋利避害，为我所用。</a:t>
              </a:r>
              <a:endParaRPr b="0" lang="en-US" sz="2400" spc="1" strike="noStrike">
                <a:ln cap="sq" w="9360">
                  <a:solidFill>
                    <a:srgbClr val="ff9900"/>
                  </a:solidFill>
                  <a:miter/>
                </a:ln>
                <a:solidFill>
                  <a:srgbClr val="ffff00"/>
                </a:solidFill>
                <a:latin typeface="宋体"/>
                <a:ea typeface="宋体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F9EB9-538B-4935-8302-5B8AB9CE2F99}" type="slidenum">
              <a:t>20</a:t>
            </a:fld>
          </a:p>
        </p:txBody>
      </p:sp>
    </p:spTree>
  </p:cSld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0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近年来的网络蠕虫灾害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红色代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II/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尼姆达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SQL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杀手蠕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口令蠕虫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红色代码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变种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MSBLAST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蠕虫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冲击波</a:t>
            </a:r>
            <a:r>
              <a:rPr b="0" lang="zh-CN" sz="3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296A-B0DA-4842-A8F6-7683ED1479AB}" type="slidenum">
              <a:t>3</a:t>
            </a:fld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" dur="500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" dur="500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" dur="500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5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2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  <p:par>
                          <p:cTn id="30" fill="hold">
                            <p:stCondLst>
                              <p:cond delay="2000"/>
                            </p:stCondLst>
                            <p:childTnLst>
                              <p:par>
                                <p:cTn id="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" dur="500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15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37" dur="1" fill="hold"/>
                                  <p:tgtEl>
                                    <p:spTgt spid="215">
                                      <p:txEl>
                                        <p:pRg st="4" end="4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ffff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QL 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杀手蠕虫事件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990720" y="182844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00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5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发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感染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SQL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数据库服务器，在服务器之间主动蔓延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使用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UDP1434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端口攻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造成大面积网络拥塞，部分骨干网络瘫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韩国网络基本处于瘫痪状态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我国境内感染主机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2600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余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具备应急体系和机制之后第一次处理大规模网络安全事件，做到了快速响应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B6719-95CA-46C0-90FC-C36DC41EFCFA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处理过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接到举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核实全网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向全网通报情况，样本分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实施数据监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了解境外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隔离方法分析和确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通报隔离方法，实施隔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恢复故障网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媒体工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跟踪监测与分析报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1627-C961-4935-A18E-B22A4E20A037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SQL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事件总结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召开总结会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技术角度得到的经验：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Verdana"/>
              </a:rPr>
              <a:t>………………………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EDCA-4A46-4BDF-B2E5-3FC0376AC402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口令蠕虫事件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日出现，主要在教育网中蔓延，部分大学校园网络瘫痪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后蔓延到电信、联通、移动、铁通、网通等多个网络，感染服务器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41207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并不利用系统漏洞，而是采用猜口令的方式攻击管理不善的主机（而口令问题由于涉及到每一个用户，始终是最难以解决的问题之一）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植入后门以后和境外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个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RC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器建立联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D23C-D9AE-4AAB-869D-F68C6E5BDD9C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处理过程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接到举报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核实全网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向全网通报情况，样本分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实施数据监测，切断与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IRC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服务器的联系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了解境外情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隔离方法分析和确认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通报隔离方法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媒体工作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Verdana"/>
              </a:rPr>
              <a:t>跟踪监测与分析报告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38AB2-05E9-4308-BCD2-A5D50B8E196F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871200" y="191880"/>
            <a:ext cx="81630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红色代码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F</a:t>
            </a: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变种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发作，在欧洲一些国家造成影响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月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1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至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3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日，检测到此蠕虫在我国网络中扩散次数达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127860</a:t>
            </a: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接到用户举报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监测系统发现最早证据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完全利用原来的漏洞，依然可以形成一定规模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"/>
          <p:cNvSpPr/>
          <p:nvPr/>
        </p:nvSpPr>
        <p:spPr>
          <a:xfrm>
            <a:off x="8001000" y="5867280"/>
            <a:ext cx="762120" cy="685800"/>
          </a:xfrm>
          <a:custGeom>
            <a:avLst/>
            <a:gdLst>
              <a:gd name="textAreaLeft" fmla="*/ 44280 w 762120"/>
              <a:gd name="textAreaRight" fmla="*/ 717840 w 76212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4003" h="21600">
                <a:moveTo>
                  <a:pt x="0" y="0"/>
                </a:moveTo>
                <a:lnTo>
                  <a:pt x="24003" y="0"/>
                </a:lnTo>
                <a:lnTo>
                  <a:pt x="24003" y="21600"/>
                </a:lnTo>
                <a:lnTo>
                  <a:pt x="0" y="21600"/>
                </a:lnTo>
                <a:close/>
              </a:path>
              <a:path fill="lightenLess" w="24003" h="21600">
                <a:moveTo>
                  <a:pt x="0" y="0"/>
                </a:moveTo>
                <a:lnTo>
                  <a:pt x="24003" y="0"/>
                </a:lnTo>
                <a:lnTo>
                  <a:pt x="22603" y="1400"/>
                </a:lnTo>
                <a:lnTo>
                  <a:pt x="1400" y="1400"/>
                </a:lnTo>
                <a:close/>
              </a:path>
              <a:path fill="darken" w="24003" h="21600">
                <a:moveTo>
                  <a:pt x="24003" y="0"/>
                </a:moveTo>
                <a:lnTo>
                  <a:pt x="24003" y="21600"/>
                </a:lnTo>
                <a:lnTo>
                  <a:pt x="22603" y="20200"/>
                </a:lnTo>
                <a:lnTo>
                  <a:pt x="22603" y="1400"/>
                </a:lnTo>
                <a:close/>
              </a:path>
              <a:path fill="darkenLess" w="24003" h="21600">
                <a:moveTo>
                  <a:pt x="240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603" y="20200"/>
                </a:lnTo>
                <a:close/>
              </a:path>
              <a:path fill="lighten" w="240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003" h="21600">
                <a:moveTo>
                  <a:pt x="4995" y="10800"/>
                </a:moveTo>
                <a:lnTo>
                  <a:pt x="19008" y="3794"/>
                </a:lnTo>
                <a:lnTo>
                  <a:pt x="19008" y="17806"/>
                </a:lnTo>
                <a:close/>
              </a:path>
            </a:pathLst>
          </a:custGeom>
          <a:solidFill>
            <a:srgbClr val="ffffff"/>
          </a:solidFill>
          <a:ln w="2844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DAB7E-301B-482F-BA64-56A0DE6D8E64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cp:keywords>蠕虫灾害 应急处理</cp:keywords>
  <dc:language>en-US</dc:language>
  <cp:lastModifiedBy/>
  <cp:revision>0</cp:revision>
  <dc:subject/>
  <dc:title/>
</cp:coreProperties>
</file>