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gif" ContentType="image/gif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64E0-4D76-4D0B-8712-73BE5EAE3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50AF-5B4C-4995-B3FA-7814560FA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FAA974-274E-4358-A37C-2061031C8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57AF9D-CCB0-4126-AEFF-46FF9583A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54931E-3291-44DE-BD42-0AA333977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1B95AA-344E-4342-8867-6F400321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DDC2E6-17EA-4C06-9367-5C13F229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CF4AE6-7025-4EFB-8B90-7CA23CEC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16908C-9904-44B1-800C-AA7B72B44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E5D7C8-60F5-4085-9C83-0F23358C1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6C265C-AB45-4E42-BB47-97A419A35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AF1991-34DE-4184-BCF0-79E135932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A6FB-4BCA-4DB2-BDC4-0A1A9BBB4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455F3A-C350-4756-86F7-EE1902365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89F4D3-951E-4754-A46A-0B3C7E55F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2F701D-322A-4438-848B-BD0CF5A27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7AC42D-1C37-4BA5-A37F-BB6FB2730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1EA16E-4116-406D-BE50-B207EAD5F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1D42AE-19CD-4574-9696-0A78A0C1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861F2E-CC97-475B-8852-6455CCD9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C512D5-3561-44ED-B74A-8D9C2E2C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30351B-99F0-4E7F-B342-E225ED4C1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252181-DC32-4DBC-8F96-BE729F882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915E-D2D1-4359-B3ED-4CE3E8B47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1B327B-D71A-4CA9-8AC8-349DAC300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E860AF-FB1E-49D3-9162-6C8D3795A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B8D115-0115-4209-BC31-1333EF26F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9D291F-D3F6-4C80-A3F8-859C5BC65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7C1BAA-0B8C-48D6-883D-9016B6E27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DD50A6-AC34-4592-BD11-3181322F8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949692-07A7-4F94-B8E4-26E08744A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D059C8-339D-480C-873E-2FFDEAB7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2F89EF-A80A-4431-9FA6-030EADFE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B27DB1-2226-4CCC-AAC1-1046F1CD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D044B-8D2C-42C7-9B9C-2687CC066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E2BDB5-C99A-4FD6-8AE2-446E2AD8F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803656-98EC-4524-AAED-7D2E54822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8FFB87-0F3F-4329-A358-568E5591D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803BFC-867A-44D1-9C69-88B083A26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AD0877-F92F-476D-95B0-3D82CF3AD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3C9E25-F598-495B-877A-5DBFF161E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F9F79F-B900-493B-A6F9-00E536B13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9C4C8A-3BF1-4D71-B9BD-B64EBC053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765C9C-BDAB-4317-A525-6991B6D88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685039-358B-46FE-A597-F9424244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7FCE1-5B70-4022-8836-3E098C7E4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E8690D-77CD-4550-A5E2-7414BA96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77C373-A003-4955-80C8-74A03E5D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767B0E-4654-4133-AFAC-9292F042E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523BAC-C4AA-4582-9695-88E353BAC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A53016-54D4-49C7-83E7-A3E57C05E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925340-B5CD-42B8-9DC5-DD2FB6164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C573F9-1484-4E69-9DC2-3697DFA52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43EB28-D248-437D-9228-6AF12E5EA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878F81-739B-4FE4-9A26-BE5F6FC41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7B7306-29C1-4E7B-A9D3-CE9D49430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B24ED-E9A2-41F1-8DBC-E375DB33B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32F039-786B-4AF8-B05A-E632833A7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FD5BCB-F7F0-442C-A7AB-7CC2B0AA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7DDC16-970A-46EF-ABCE-7C91879A2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CB900C-5F4F-4A60-9E8D-3CA916DE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5B0D3F-2631-4E38-B642-E964B22F5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D8DD41-A133-4774-A90D-2F72E0164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232B05-31B0-4D5E-AC38-F57373C38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9B72D7-19B8-4B20-BC4E-62349882E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9E2919-8649-44DF-A201-3980C4A32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8B67D8-490C-4797-8360-0D2978CBA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61205-6EC1-4D89-9888-F8CF2B5C0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A32964-93C0-415C-8231-162AC670E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D02D93-B7DD-4C32-A17D-6B3DCD011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57BBB0-39C4-449E-B04B-4598520FF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23BC8D-0C97-4365-915F-DFD53103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471F7D-0CF5-482F-A69F-C856B505B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BEBEF0-4397-4D37-8F44-8E9FD69D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169183-CEA2-4321-AB82-52C023E67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1C436D-889C-45FA-8DFD-3CF974206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1C938D-ABF9-4E63-8227-EE1F6C3DB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374DE-A8BD-4E74-BF4D-8E0F9DC3D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6BA39-0BD6-4219-B3BD-DB67DDC73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1BB98-3495-4397-8BEF-62EE3F09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906C-848A-4546-96BA-54013E034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A6556-7CB4-414F-9342-83FF6B60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A9982-A212-4120-978F-46F1CF4B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2B2C5-C017-472C-8C08-3F1D588C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E523D-5DFE-44C0-BA4C-DDBD3B07E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566EE-194F-4C9D-9675-D3605F00E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29E4E-6F57-4470-926A-2DDFC7718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645AA-786E-4B20-A7CE-342E5CA52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39E60-74F0-4E1B-8D51-69A8DB99E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8BDA2-7B32-4A4E-AC75-B0F732A84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12A4C-FFC1-4915-9B5D-88614AF84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CDAF-BA79-4D35-A605-C138FE806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CF55A-4770-4C62-8072-1AE9EA53F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FCB97-84BC-4E00-8356-5CB28DDD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D20E3-7300-4A76-B501-037F53EA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90BA9-E419-4B84-896A-B53971CC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0765F-22F2-4388-94B5-34C55668A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01412-63F3-46DE-B36D-C6F44BE91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32CF9-A61A-425B-A540-50BA86930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8E4A1-E96B-4D91-8CB3-1D6239E51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96F7F-78F2-4133-9BEA-9E7E0CD55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32C01-A162-4AFD-BB1F-102BE0A9D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4397-A5B9-40DA-BC70-55D45B1BA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F3FE2-169F-470F-BA33-B7BD8841D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EA1B6-954B-4813-A452-5A58F8D50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6EB21-FA13-411F-8C7B-361A60ED3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5F24D-BF4D-4189-992F-4579EBC9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D5AB8-029B-4E24-92AC-2C1CE3E8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7D9CF-F274-40F6-B4DD-8A387F13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E31A6-511C-4147-BA31-4AB36C65C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7F6AD-B1BD-44DE-AEB5-A214A8CC4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5DBA6-68CC-4374-843A-44F7134CB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7E46B-8ED3-42EB-817A-6D006896E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E89D-5945-4DC1-9529-497887464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D163E-0C2A-46C3-B51D-333922B0F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AEDA8-0224-4CD7-8A20-093D87583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F530C-DBCB-4310-B9AC-9AEDB5876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E1D08-F4A5-4B96-A2B7-C0E4EDA06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5CB4E-CA52-4CF7-BBE1-63B68D717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64DEA-D362-4100-BD13-49BC46AF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739D6-0B4B-47BF-BDD3-AE193883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E3286-5B02-4234-89F0-1EB1B476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033EE-F72F-4932-82C4-828C91EAF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8A169-921B-4607-82DA-47683A8E4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292F-0A8D-4506-9E81-77237DF0E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A1480-81DA-4955-9E93-403B2474E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6C8047-8407-4164-A84F-1AEFB669E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EFE075-4817-4B4E-8EE5-59B32A313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3780D8-DE44-475E-BCE4-1136C16BE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6E721-C995-44DF-AEE2-7505F2BE6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3D899C-A05F-4480-A37D-5B92DE6C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41FDC-04DB-43CA-BEFC-756A95058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80E890-EE52-4C8D-AF73-5C9550B6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E05B9E-0A71-4AFD-9E9F-478A44DD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86834-BE6A-47E4-87CB-7643B7C0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CCAD-678A-4572-B5F1-AA9A7415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AEDAE8-9E7F-469B-9053-927D55463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54523-4CD1-4227-BA1A-3DE960F3F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2C710-6820-42F3-B8F8-BB37A54FF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C2AF0-6C4A-4AD9-A410-438CE939C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883FB-DE40-41E5-9FCC-3C74B9B47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EB306-6E25-4153-9B46-6BD3E2AC1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3A6C90-37CD-444A-BB4D-B6247EA90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4ECA4-9053-43D9-AFE4-0C43B40B1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0C7C45-C7B4-4705-83EB-7629EB6A4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EDC83-D396-46EC-B798-1B3B21A8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AC5F-F6E4-46AA-B4A3-5851FA22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82577-A4ED-4AD0-8E18-C8EA909D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3B091-6D8F-4F19-BA88-626AC53B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F0CE78-A9B6-49E5-A0E0-C29BBE572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CE1B12-80C3-4EA5-AB1B-C318F18F1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06DA26-EC95-4AEE-83AD-529D4FF17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0A8BD0-29FB-4675-A066-97C080378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701BAB-7E75-49B2-A4E9-09F7270B4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4D0DDA-DC1A-4502-B275-5850139D5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900D53-71F7-49B3-A63B-BDC56A8E1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C61596-9FEF-447A-8801-229CDE56B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FF1B-81A6-4AC4-AFB6-787C4AAF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C9FFB-E44D-4848-9DB1-930B44F47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3264FC-C73C-4301-A9A1-02F5DF78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B0EA09-F4BC-4E25-9D0B-095400C7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012646-AAEC-491C-8716-6985859A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48A45E-ACA1-4DDF-A812-70876CA7E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CE6FCB-46E8-493D-843F-4D8C8030C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E5C25E-F4CA-469E-A7ED-BD3EB466E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DA7B5A-6451-4894-8A34-72D232008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1B55AE-6D24-4D38-9476-0D447D1B1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D29DBE-A676-425F-8A12-488576C16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840042"/>
                </a:gs>
                <a:gs pos="50000">
                  <a:srgbClr val="9c004e"/>
                </a:gs>
                <a:gs pos="100000">
                  <a:srgbClr val="84004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40042"/>
                </a:gs>
                <a:gs pos="50000">
                  <a:srgbClr val="ff0066"/>
                </a:gs>
                <a:gs pos="100000">
                  <a:srgbClr val="84004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840042"/>
                </a:gs>
                <a:gs pos="50000">
                  <a:srgbClr val="ff0066"/>
                </a:gs>
                <a:gs pos="100000">
                  <a:srgbClr val="84004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ff0066"/>
                </a:gs>
                <a:gs pos="50000">
                  <a:srgbClr val="840042"/>
                </a:gs>
                <a:gs pos="100000">
                  <a:srgbClr val="ff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0066"/>
                </a:gs>
                <a:gs pos="50000">
                  <a:srgbClr val="74003a"/>
                </a:gs>
                <a:gs pos="100000">
                  <a:srgbClr val="ff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74003a"/>
                </a:gs>
                <a:gs pos="50000">
                  <a:srgbClr val="ff0066"/>
                </a:gs>
                <a:gs pos="100000">
                  <a:srgbClr val="7400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0066"/>
                </a:gs>
                <a:gs pos="50000">
                  <a:srgbClr val="74003a"/>
                </a:gs>
                <a:gs pos="100000">
                  <a:srgbClr val="ff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74003a"/>
                </a:gs>
                <a:gs pos="50000">
                  <a:srgbClr val="ff0066"/>
                </a:gs>
                <a:gs pos="100000">
                  <a:srgbClr val="7400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0225C-250D-48C2-A453-CBD8EB0E30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E606B-4534-4893-91C3-BB5D9620A5C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ADAFA-F562-4B18-B991-BE7BE6260A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01E88-7057-4051-AE26-8853EA03072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B2FC5-8787-4084-AC78-F93DA79BCB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1B64A-F61D-47A8-8FA1-7061DBD2E24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34F4-883B-493B-A63F-B97BBCD70A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A8640-056A-4446-B2DE-5D4D3A62A60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1FDD9-599E-4C27-85A5-627ACB278D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C8991-B7BC-49B6-AA06-433276D4DB0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89940-1330-46F2-8946-A0C2B14B37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208B1-E1FD-4AA5-8C0B-5A29CB5F023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30A60-7E5F-4647-B490-07BD004F47A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92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840042"/>
                </a:gs>
                <a:gs pos="50000">
                  <a:srgbClr val="9c004e"/>
                </a:gs>
                <a:gs pos="100000">
                  <a:srgbClr val="84004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3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40042"/>
                </a:gs>
                <a:gs pos="50000">
                  <a:srgbClr val="ff0066"/>
                </a:gs>
                <a:gs pos="100000">
                  <a:srgbClr val="84004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4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840042"/>
                </a:gs>
                <a:gs pos="50000">
                  <a:srgbClr val="ff0066"/>
                </a:gs>
                <a:gs pos="100000">
                  <a:srgbClr val="84004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5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ff0066"/>
                </a:gs>
                <a:gs pos="50000">
                  <a:srgbClr val="840042"/>
                </a:gs>
                <a:gs pos="100000">
                  <a:srgbClr val="ff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6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0066"/>
                </a:gs>
                <a:gs pos="50000">
                  <a:srgbClr val="74003a"/>
                </a:gs>
                <a:gs pos="100000">
                  <a:srgbClr val="ff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7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74003a"/>
                </a:gs>
                <a:gs pos="50000">
                  <a:srgbClr val="ff0066"/>
                </a:gs>
                <a:gs pos="100000">
                  <a:srgbClr val="7400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8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0066"/>
                </a:gs>
                <a:gs pos="50000">
                  <a:srgbClr val="74003a"/>
                </a:gs>
                <a:gs pos="100000">
                  <a:srgbClr val="ff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9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74003a"/>
                </a:gs>
                <a:gs pos="50000">
                  <a:srgbClr val="ff0066"/>
                </a:gs>
                <a:gs pos="100000">
                  <a:srgbClr val="7400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0843C-B566-4843-AEE6-67A9A622A6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0BD7-CA74-4F49-B595-422ECF2467D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2B1B6-6F56-484A-B76B-4230A21B7B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FC55B-CEEE-42A7-A062-538E8B26136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0B3A9-FB22-4760-B4F8-02F73D0EE9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2349C-3FFF-4D67-B2C8-927E2014D6C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14C18-9FBE-4E80-899C-A29671C863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39649-78D3-4BA8-9A58-C0153B62C6E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19021-1E53-4DC7-8957-32A44638DF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927B8-6654-439F-9465-4EC9B5A96EA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86B8E-75D0-4C72-927A-8995D4475C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AA054-7EAA-4BAA-96EB-8CDE0FF56EB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1034C-1A57-4085-BBD6-5C1C9C890C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2.xml"/><Relationship Id="rId4" Type="http://schemas.openxmlformats.org/officeDocument/2006/relationships/slide" Target="slide11.xml"/><Relationship Id="rId5" Type="http://schemas.openxmlformats.org/officeDocument/2006/relationships/slide" Target="slide8.xml"/><Relationship Id="rId6" Type="http://schemas.openxmlformats.org/officeDocument/2006/relationships/slide" Target="slide6.xml"/><Relationship Id="rId7" Type="http://schemas.openxmlformats.org/officeDocument/2006/relationships/hyperlink" Target="file:///&#35838;&#25991;&#26391;&#35835;.swf" TargetMode="External"/><Relationship Id="rId8" Type="http://schemas.openxmlformats.org/officeDocument/2006/relationships/slide" Target="slide5.xml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4.xml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" Target="slide10.xml"/><Relationship Id="rId3" Type="http://schemas.openxmlformats.org/officeDocument/2006/relationships/image" Target="../media/image6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7fbff"/>
            </a:gs>
            <a:gs pos="100000">
              <a:srgbClr val="87b8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18" descr="BJ_035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5587920"/>
            <a:ext cx="1905120" cy="127008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44" descr="BJ_035"/>
          <p:cNvPicPr/>
          <p:nvPr/>
        </p:nvPicPr>
        <p:blipFill>
          <a:blip r:embed="rId2"/>
          <a:stretch/>
        </p:blipFill>
        <p:spPr>
          <a:xfrm>
            <a:off x="6477120" y="5079960"/>
            <a:ext cx="2666880" cy="1778040"/>
          </a:xfrm>
          <a:prstGeom prst="rect">
            <a:avLst/>
          </a:prstGeom>
          <a:ln w="0">
            <a:noFill/>
          </a:ln>
        </p:spPr>
      </p:pic>
      <p:sp>
        <p:nvSpPr>
          <p:cNvPr id="594" name="Text Box 20"/>
          <p:cNvSpPr/>
          <p:nvPr/>
        </p:nvSpPr>
        <p:spPr>
          <a:xfrm>
            <a:off x="4721400" y="236520"/>
            <a:ext cx="3166920" cy="56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ff"/>
                </a:solidFill>
                <a:latin typeface="Arial"/>
                <a:ea typeface="隶书"/>
              </a:rPr>
              <a:t>五柳先生传</a:t>
            </a: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隶书"/>
              </a:rPr>
              <a:t>　　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东晋</a:t>
            </a:r>
            <a:r>
              <a:rPr b="1" lang="en-US" sz="6600" spc="-1" strike="noStrike" baseline="-1000">
                <a:solidFill>
                  <a:srgbClr val="0000ff"/>
                </a:solidFill>
                <a:latin typeface="Arial"/>
              </a:rPr>
              <a:t>·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陶渊明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595" name="Group 50"/>
          <p:cNvGrpSpPr/>
          <p:nvPr/>
        </p:nvGrpSpPr>
        <p:grpSpPr>
          <a:xfrm>
            <a:off x="1600200" y="990720"/>
            <a:ext cx="2133720" cy="3688920"/>
            <a:chOff x="1600200" y="990720"/>
            <a:chExt cx="2133720" cy="3688920"/>
          </a:xfrm>
        </p:grpSpPr>
        <p:sp>
          <p:nvSpPr>
            <p:cNvPr id="596" name="Text Box 21"/>
            <p:cNvSpPr/>
            <p:nvPr/>
          </p:nvSpPr>
          <p:spPr>
            <a:xfrm>
              <a:off x="1600200" y="990720"/>
              <a:ext cx="213372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 u="sng">
                  <a:solidFill>
                    <a:srgbClr val="9c004e"/>
                  </a:solidFill>
                  <a:uFillTx/>
                  <a:latin typeface="Arial"/>
                  <a:ea typeface="隶书"/>
                  <a:hlinkClick r:id="rId3" action="ppaction://hlinksldjump"/>
                </a:rPr>
                <a:t>课文导入</a:t>
              </a:r>
              <a:endParaRPr b="0" lang="en-US" sz="36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97" name="Rectangle 33"/>
            <p:cNvSpPr/>
            <p:nvPr/>
          </p:nvSpPr>
          <p:spPr>
            <a:xfrm>
              <a:off x="2043720" y="3962520"/>
              <a:ext cx="127800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 u="sng">
                  <a:solidFill>
                    <a:srgbClr val="9c004e"/>
                  </a:solidFill>
                  <a:uFillTx/>
                  <a:latin typeface="Arial"/>
                  <a:ea typeface="隶书"/>
                  <a:hlinkClick r:id="rId4" action="ppaction://hlinksldjump"/>
                </a:rPr>
                <a:t>拓展延伸</a:t>
              </a:r>
              <a:endParaRPr b="0" lang="en-US" sz="36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98" name="Rectangle 34"/>
            <p:cNvSpPr/>
            <p:nvPr/>
          </p:nvSpPr>
          <p:spPr>
            <a:xfrm>
              <a:off x="2043720" y="3352680"/>
              <a:ext cx="127800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 u="sng">
                  <a:solidFill>
                    <a:srgbClr val="9c004e"/>
                  </a:solidFill>
                  <a:uFillTx/>
                  <a:latin typeface="Arial"/>
                  <a:ea typeface="隶书"/>
                  <a:hlinkClick r:id="rId5" action="ppaction://hlinksldjump"/>
                </a:rPr>
                <a:t>问题研讨</a:t>
              </a:r>
              <a:endParaRPr b="0" lang="en-US" sz="36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99" name="Rectangle 35"/>
            <p:cNvSpPr/>
            <p:nvPr/>
          </p:nvSpPr>
          <p:spPr>
            <a:xfrm>
              <a:off x="2043720" y="2743200"/>
              <a:ext cx="127800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 u="sng">
                  <a:solidFill>
                    <a:srgbClr val="9c004e"/>
                  </a:solidFill>
                  <a:uFillTx/>
                  <a:latin typeface="Arial"/>
                  <a:ea typeface="隶书"/>
                  <a:hlinkClick r:id="rId6" action="ppaction://hlinksldjump"/>
                </a:rPr>
                <a:t>疏通文字</a:t>
              </a:r>
              <a:endParaRPr b="0" lang="en-US" sz="36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00" name="Rectangle 36"/>
            <p:cNvSpPr/>
            <p:nvPr/>
          </p:nvSpPr>
          <p:spPr>
            <a:xfrm>
              <a:off x="2043720" y="2209680"/>
              <a:ext cx="127800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 u="sng">
                  <a:solidFill>
                    <a:srgbClr val="9c004e"/>
                  </a:solidFill>
                  <a:uFillTx/>
                  <a:latin typeface="Arial"/>
                  <a:ea typeface="隶书"/>
                  <a:hlinkClick r:id="rId7"/>
                </a:rPr>
                <a:t>课文朗读</a:t>
              </a:r>
              <a:endParaRPr b="0" lang="en-US" sz="36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01" name="Rectangle 37"/>
            <p:cNvSpPr/>
            <p:nvPr/>
          </p:nvSpPr>
          <p:spPr>
            <a:xfrm>
              <a:off x="2043720" y="1600200"/>
              <a:ext cx="127800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 u="sng">
                  <a:solidFill>
                    <a:srgbClr val="9c004e"/>
                  </a:solidFill>
                  <a:uFillTx/>
                  <a:latin typeface="Arial"/>
                  <a:ea typeface="隶书"/>
                  <a:hlinkClick r:id="rId8" action="ppaction://hlinksldjump"/>
                </a:rPr>
                <a:t>正音正字</a:t>
              </a:r>
              <a:endParaRPr b="0" lang="en-US" sz="36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 Box 3"/>
          <p:cNvSpPr/>
          <p:nvPr/>
        </p:nvSpPr>
        <p:spPr>
          <a:xfrm>
            <a:off x="457200" y="266688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率真放达：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7" name="Text Box 4"/>
          <p:cNvSpPr/>
          <p:nvPr/>
        </p:nvSpPr>
        <p:spPr>
          <a:xfrm>
            <a:off x="2743200" y="76212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imes New Roman"/>
                <a:ea typeface="黑体"/>
              </a:rPr>
              <a:t> </a:t>
            </a:r>
            <a:r>
              <a:rPr b="0" lang="zh-CN" sz="2800" spc="-1" strike="noStrike">
                <a:solidFill>
                  <a:srgbClr val="010000"/>
                </a:solidFill>
                <a:latin typeface="Times New Roman"/>
                <a:ea typeface="黑体"/>
              </a:rPr>
              <a:t>闲静少言，不慕荣利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8" name="Text Box 5"/>
          <p:cNvSpPr/>
          <p:nvPr/>
        </p:nvSpPr>
        <p:spPr>
          <a:xfrm>
            <a:off x="2743200" y="152388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Times New Roman"/>
                <a:ea typeface="黑体"/>
              </a:rPr>
              <a:t> </a:t>
            </a:r>
            <a:r>
              <a:rPr b="0" lang="zh-CN" sz="2800" spc="-1" strike="noStrike">
                <a:solidFill>
                  <a:srgbClr val="010000"/>
                </a:solidFill>
                <a:latin typeface="Times New Roman"/>
                <a:ea typeface="黑体"/>
              </a:rPr>
              <a:t>好读书，不求甚解；每有会意，便欣然忘食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9" name="Text Box 6"/>
          <p:cNvSpPr/>
          <p:nvPr/>
        </p:nvSpPr>
        <p:spPr>
          <a:xfrm>
            <a:off x="2743200" y="27432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性嗜酒，期在必醉，曾不吝情去留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0" name="Text Box 7"/>
          <p:cNvSpPr/>
          <p:nvPr/>
        </p:nvSpPr>
        <p:spPr>
          <a:xfrm>
            <a:off x="2819520" y="358128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10000"/>
                </a:solidFill>
                <a:latin typeface="Times New Roman"/>
                <a:ea typeface="黑体"/>
              </a:rPr>
              <a:t>环堵萧然，不蔽风日；短褐穿结，箪瓢屡空，晏如也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1" name="Text Box 8"/>
          <p:cNvSpPr/>
          <p:nvPr/>
        </p:nvSpPr>
        <p:spPr>
          <a:xfrm>
            <a:off x="4800600" y="48006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10000"/>
                </a:solidFill>
                <a:latin typeface="Times New Roman"/>
                <a:ea typeface="黑体"/>
              </a:rPr>
              <a:t>常著文章自娱，忘怀得失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2" name="Rectangle 10"/>
          <p:cNvSpPr/>
          <p:nvPr/>
        </p:nvSpPr>
        <p:spPr>
          <a:xfrm>
            <a:off x="457200" y="685800"/>
            <a:ext cx="247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隐者风范：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3" name="Rectangle 11"/>
          <p:cNvSpPr/>
          <p:nvPr/>
        </p:nvSpPr>
        <p:spPr>
          <a:xfrm>
            <a:off x="704880" y="3581280"/>
            <a:ext cx="193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安贫乐道：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4" name="Rectangle 12"/>
          <p:cNvSpPr/>
          <p:nvPr/>
        </p:nvSpPr>
        <p:spPr>
          <a:xfrm>
            <a:off x="304920" y="4800600"/>
            <a:ext cx="464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自得其乐</a:t>
            </a:r>
            <a:r>
              <a:rPr b="0" lang="zh-CN" sz="1600" spc="-1" strike="noStrike">
                <a:solidFill>
                  <a:srgbClr val="0000ff"/>
                </a:solidFill>
                <a:latin typeface="Times New Roman"/>
                <a:ea typeface="黑体"/>
              </a:rPr>
              <a:t>、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淡泊名利 ：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5" name="Rectangle 13"/>
          <p:cNvSpPr/>
          <p:nvPr/>
        </p:nvSpPr>
        <p:spPr>
          <a:xfrm>
            <a:off x="704880" y="1523880"/>
            <a:ext cx="193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书中求乐：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66" name="Picture 14" descr="BJ_035"/>
          <p:cNvPicPr/>
          <p:nvPr/>
        </p:nvPicPr>
        <p:blipFill>
          <a:blip r:embed="rId1"/>
          <a:stretch/>
        </p:blipFill>
        <p:spPr>
          <a:xfrm>
            <a:off x="7772400" y="5943600"/>
            <a:ext cx="13716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2"/>
          <p:cNvSpPr/>
          <p:nvPr/>
        </p:nvSpPr>
        <p:spPr>
          <a:xfrm>
            <a:off x="762120" y="533520"/>
            <a:ext cx="8381880" cy="1251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老舍自传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舒舍予，字老舍，现年四十岁，面黄无须。生于北平，三岁失怙，可谓无父。志学之年，帝王不存，可谓无君。无父无君，特别孝爱老母，布尔乔亚之仁未能一扫空也。幼读三百篇，不求甚解。继学师范，遂奠教书匠之基。及壮，糊口四方，教书为业，甚难发财；每购奖券，以得末彩为荣，示甘于寒贱也。二十七岁，发愤著书，科学哲学无所懂，故写小说，博大家一笑，没什么了不得。三十四岁结婚，今已有一女一男，均狡猾可喜。闲时喜养花，不得其法，每每有叶无花，亦不忍弃。书无所不读，全无所获，并不着急。教书作事，均甚认真，往往吃亏，亦不后悔。如是而已，再活四十年也许能有点出息！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8" name="Rectangle 4"/>
          <p:cNvSpPr/>
          <p:nvPr/>
        </p:nvSpPr>
        <p:spPr>
          <a:xfrm>
            <a:off x="3813480" y="27000"/>
            <a:ext cx="8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比较课文与下文，说说传记一般应写哪些内容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69" name="Picture 5" descr="BJ_035"/>
          <p:cNvPicPr/>
          <p:nvPr/>
        </p:nvPicPr>
        <p:blipFill>
          <a:blip r:embed="rId1"/>
          <a:stretch/>
        </p:blipFill>
        <p:spPr>
          <a:xfrm>
            <a:off x="8153280" y="6197760"/>
            <a:ext cx="990720" cy="660240"/>
          </a:xfrm>
          <a:prstGeom prst="rect">
            <a:avLst/>
          </a:prstGeom>
          <a:ln w="0">
            <a:noFill/>
          </a:ln>
        </p:spPr>
      </p:pic>
      <p:sp>
        <p:nvSpPr>
          <p:cNvPr id="670" name="WordArt 6"/>
          <p:cNvSpPr txBox="1"/>
          <p:nvPr/>
        </p:nvSpPr>
        <p:spPr>
          <a:xfrm>
            <a:off x="0" y="1219320"/>
            <a:ext cx="60948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拓</a:t>
            </a:r>
            <a:endParaRPr b="0" lang="en-US" sz="1600" spc="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展</a:t>
            </a:r>
            <a:endParaRPr b="0" lang="en-US" sz="1600" spc="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延</a:t>
            </a:r>
            <a:endParaRPr b="0" lang="en-US" sz="1600" spc="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伸</a:t>
            </a:r>
            <a:endParaRPr b="0" lang="en-US" sz="1600" spc="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4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2"/>
          <p:cNvSpPr/>
          <p:nvPr/>
        </p:nvSpPr>
        <p:spPr>
          <a:xfrm>
            <a:off x="380880" y="1371600"/>
            <a:ext cx="8458200" cy="2867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１、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传记是用来记载人物生平事迹的，所以与　　此相关的内容都要写清楚。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２、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五柳先生传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黑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写了五柳先生的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籍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姓　　字、思想、性格、爱好、生活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等情况。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３、除此之外，还应有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家庭状况、生卒年代、　　主要经历和事迹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等。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４、写传记最重要的是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内容要真实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72" name="Picture 3" descr="BJ_035"/>
          <p:cNvPicPr/>
          <p:nvPr/>
        </p:nvPicPr>
        <p:blipFill>
          <a:blip r:embed="rId1"/>
          <a:stretch/>
        </p:blipFill>
        <p:spPr>
          <a:xfrm>
            <a:off x="8153280" y="6197760"/>
            <a:ext cx="990720" cy="660240"/>
          </a:xfrm>
          <a:prstGeom prst="rect">
            <a:avLst/>
          </a:prstGeom>
          <a:ln w="0">
            <a:noFill/>
          </a:ln>
        </p:spPr>
      </p:pic>
      <p:sp>
        <p:nvSpPr>
          <p:cNvPr id="673" name="WordArt 5"/>
          <p:cNvSpPr txBox="1"/>
          <p:nvPr/>
        </p:nvSpPr>
        <p:spPr>
          <a:xfrm>
            <a:off x="457200" y="228600"/>
            <a:ext cx="5257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传记内容的一般写法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2"/>
          <p:cNvSpPr/>
          <p:nvPr/>
        </p:nvSpPr>
        <p:spPr>
          <a:xfrm>
            <a:off x="762120" y="1523880"/>
            <a:ext cx="8001000" cy="1556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  <a:ea typeface="隶书"/>
              </a:rPr>
              <a:t>　　同学们也来介绍一下自己吧。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  <a:ea typeface="隶书"/>
              </a:rPr>
              <a:t>　　可以是完整的小传，也可以只是抓住某个特点，表现自己的个性。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75" name="Picture 4" descr="BJ_035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6858000" y="5334120"/>
            <a:ext cx="2286000" cy="1523880"/>
          </a:xfrm>
          <a:prstGeom prst="rect">
            <a:avLst/>
          </a:prstGeom>
          <a:ln w="0">
            <a:noFill/>
          </a:ln>
        </p:spPr>
      </p:pic>
      <p:sp>
        <p:nvSpPr>
          <p:cNvPr id="676" name="WordArt 8"/>
          <p:cNvSpPr txBox="1"/>
          <p:nvPr/>
        </p:nvSpPr>
        <p:spPr>
          <a:xfrm>
            <a:off x="1981080" y="304920"/>
            <a:ext cx="2971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课外练一练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677" name="Picture 9" descr="WW_059"/>
          <p:cNvPicPr/>
          <p:nvPr/>
        </p:nvPicPr>
        <p:blipFill>
          <a:blip r:embed="rId2"/>
          <a:stretch/>
        </p:blipFill>
        <p:spPr>
          <a:xfrm>
            <a:off x="0" y="0"/>
            <a:ext cx="1676520" cy="13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7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ffffcc"/>
                </a:solidFill>
                <a:latin typeface="Arial"/>
              </a:endParaRPr>
            </a:p>
          </p:txBody>
        </p:sp>
        <p:pic>
          <p:nvPicPr>
            <p:cNvPr id="680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1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Text Box 2"/>
          <p:cNvSpPr/>
          <p:nvPr/>
        </p:nvSpPr>
        <p:spPr>
          <a:xfrm>
            <a:off x="0" y="16002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一、初中阶段我们已经学过陶渊明写的文章或者有关陶渊明的文章，想想看，有哪些是我们学过的？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3" name="Text Box 3"/>
          <p:cNvSpPr/>
          <p:nvPr/>
        </p:nvSpPr>
        <p:spPr>
          <a:xfrm>
            <a:off x="228600" y="2819520"/>
            <a:ext cx="86104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桃花源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》   </a:t>
            </a:r>
            <a:r>
              <a:rPr b="0" lang="en-US" sz="2800" spc="-1" strike="noStrike" u="sng">
                <a:solidFill>
                  <a:srgbClr val="9c004e"/>
                </a:solidFill>
                <a:uFillTx/>
                <a:latin typeface="Arial"/>
                <a:ea typeface="黑体"/>
                <a:hlinkClick r:id="rId1" action="ppaction://hlinksldjump"/>
              </a:rPr>
              <a:t>《</a:t>
            </a:r>
            <a:r>
              <a:rPr b="0" lang="zh-CN" sz="2800" spc="-1" strike="noStrike" u="sng">
                <a:solidFill>
                  <a:srgbClr val="9c004e"/>
                </a:solidFill>
                <a:uFillTx/>
                <a:latin typeface="Arial"/>
                <a:ea typeface="黑体"/>
                <a:hlinkClick r:id="rId2" action="ppaction://hlinksldjump"/>
              </a:rPr>
              <a:t>归园田居</a:t>
            </a:r>
            <a:r>
              <a:rPr b="0" lang="en-US" sz="2800" spc="-1" strike="noStrike" u="sng">
                <a:solidFill>
                  <a:srgbClr val="9c004e"/>
                </a:solidFill>
                <a:uFillTx/>
                <a:latin typeface="Arial"/>
                <a:ea typeface="黑体"/>
                <a:hlinkClick r:id="rId3" action="ppaction://hlinksldjump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　</a:t>
            </a:r>
            <a:r>
              <a:rPr b="0" lang="en-US" sz="2800" spc="-1" strike="noStrike" u="sng">
                <a:solidFill>
                  <a:srgbClr val="9c004e"/>
                </a:solidFill>
                <a:uFillTx/>
                <a:latin typeface="Arial"/>
                <a:ea typeface="黑体"/>
                <a:hlinkClick r:id="rId4" action="ppaction://hlinksldjump"/>
              </a:rPr>
              <a:t>《</a:t>
            </a:r>
            <a:r>
              <a:rPr b="0" lang="zh-CN" sz="2800" spc="-1" strike="noStrike" u="sng">
                <a:solidFill>
                  <a:srgbClr val="9c004e"/>
                </a:solidFill>
                <a:uFillTx/>
                <a:latin typeface="Arial"/>
                <a:ea typeface="黑体"/>
                <a:hlinkClick r:id="rId5" action="ppaction://hlinksldjump"/>
              </a:rPr>
              <a:t>爱莲说</a:t>
            </a:r>
            <a:r>
              <a:rPr b="0" lang="en-US" sz="2800" spc="-1" strike="noStrike" u="sng">
                <a:solidFill>
                  <a:srgbClr val="9c004e"/>
                </a:solidFill>
                <a:uFillTx/>
                <a:latin typeface="Arial"/>
                <a:ea typeface="黑体"/>
                <a:hlinkClick r:id="rId6" action="ppaction://hlinksldjump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周敦颐）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4" name="Text Box 4"/>
          <p:cNvSpPr/>
          <p:nvPr/>
        </p:nvSpPr>
        <p:spPr>
          <a:xfrm>
            <a:off x="0" y="365760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二、说说你对陶渊明的初步了解。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5" name="Text Box 5"/>
          <p:cNvSpPr/>
          <p:nvPr/>
        </p:nvSpPr>
        <p:spPr>
          <a:xfrm>
            <a:off x="1295280" y="4419720"/>
            <a:ext cx="5410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隐者；安贫乐道；洁身自好；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不慕名利；不为五斗米折腰；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06" name="Picture 6" descr="BJ_035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001000" y="6095880"/>
            <a:ext cx="1143000" cy="762120"/>
          </a:xfrm>
          <a:prstGeom prst="rect">
            <a:avLst/>
          </a:prstGeom>
          <a:ln w="0">
            <a:noFill/>
          </a:ln>
        </p:spPr>
      </p:pic>
      <p:sp>
        <p:nvSpPr>
          <p:cNvPr id="607" name="WordArt 9"/>
          <p:cNvSpPr txBox="1"/>
          <p:nvPr/>
        </p:nvSpPr>
        <p:spPr>
          <a:xfrm>
            <a:off x="457200" y="380880"/>
            <a:ext cx="2362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考考你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2056" descr="BAS0027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9" name="Text Box 2050"/>
          <p:cNvSpPr/>
          <p:nvPr/>
        </p:nvSpPr>
        <p:spPr>
          <a:xfrm>
            <a:off x="2057400" y="304920"/>
            <a:ext cx="5257800" cy="24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归园田居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其三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种豆南山下，草盛豆苗稀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晨兴理荒秽，带月荷锄归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道狭草木长，夕露沾我衣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衣沾不足惜，但使愿无违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0" name="Text Box 2051"/>
          <p:cNvSpPr/>
          <p:nvPr/>
        </p:nvSpPr>
        <p:spPr>
          <a:xfrm>
            <a:off x="1981080" y="33526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　水陆草木之花，可爱者甚蕃。晋陶渊明独爱菊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1" name="Rectangle 2052"/>
          <p:cNvSpPr/>
          <p:nvPr/>
        </p:nvSpPr>
        <p:spPr>
          <a:xfrm>
            <a:off x="4537440" y="441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予谓菊，花之隐逸者也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12" name="Picture 2053" descr="BJ_035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8001000" y="6095880"/>
            <a:ext cx="11430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矩形 5"/>
          <p:cNvSpPr/>
          <p:nvPr/>
        </p:nvSpPr>
        <p:spPr>
          <a:xfrm>
            <a:off x="6948360" y="12682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4" name="Text Box 14338"/>
          <p:cNvSpPr/>
          <p:nvPr/>
        </p:nvSpPr>
        <p:spPr>
          <a:xfrm>
            <a:off x="163440" y="0"/>
            <a:ext cx="56278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陶渊明，又名潜，字元亮，东晋著名诗人、散文家。东晋末年，社会黑暗，风气污浊，很多人不择手段追名逐利，社会上充满着虚伪与欺诈。陶渊明做过几任小官，因对官场不满，就辞官归隐田园，从此过着躬耕隐逸、赋诗饮酒的生活，六十三岁逝世。他是我国文学史上第一位以田园生活为题材写诗的著名诗人。其诗多歌颂优美的自然景色和淳朴的农村生活</a:t>
            </a:r>
            <a:r>
              <a:rPr b="1" lang="zh-CN" sz="2800" spc="-1" strike="noStrike">
                <a:solidFill>
                  <a:srgbClr val="840042"/>
                </a:solidFill>
                <a:latin typeface="Times New Roman"/>
                <a:ea typeface="楷体_GB2312"/>
              </a:rPr>
              <a:t>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615" name="Object 14339"/>
          <p:cNvGraphicFramePr/>
          <p:nvPr/>
        </p:nvGraphicFramePr>
        <p:xfrm>
          <a:off x="5867280" y="692280"/>
          <a:ext cx="3117960" cy="54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6" name="Object 1433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692280"/>
                    <a:ext cx="3117960" cy="54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17" name="Picture 14340" descr="BJ_035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8001000" y="6095880"/>
            <a:ext cx="1143000" cy="7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" dur="1" fill="hold"/>
                                  <p:tgtEl>
                                    <p:spTgt spid="61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8" descr="BAS0027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9" name="Text Box 3"/>
          <p:cNvSpPr/>
          <p:nvPr/>
        </p:nvSpPr>
        <p:spPr>
          <a:xfrm>
            <a:off x="2438280" y="1295280"/>
            <a:ext cx="5791320" cy="4289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000"/>
                </a:solidFill>
                <a:latin typeface="Arial"/>
              </a:rPr>
              <a:t>Shì         zhé       lìn          hè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000"/>
                </a:solidFill>
                <a:latin typeface="Arial"/>
              </a:rPr>
              <a:t>dān         jí       chóu     shāng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000"/>
                </a:solidFill>
                <a:latin typeface="Times New Roman"/>
              </a:rPr>
              <a:t>Piáo         lǚ          lóu           yú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0" name="Rectangle 2"/>
          <p:cNvSpPr/>
          <p:nvPr/>
        </p:nvSpPr>
        <p:spPr>
          <a:xfrm>
            <a:off x="2514600" y="1371600"/>
            <a:ext cx="556272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嗜     辄    吝     褐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箪 　  汲　  俦     觞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瓢　   屡　  娄　   欤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1" name="Text Box 4"/>
          <p:cNvSpPr/>
          <p:nvPr/>
        </p:nvSpPr>
        <p:spPr>
          <a:xfrm>
            <a:off x="3657600" y="27828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3572b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22" name="Picture 6" descr="BJ_035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6095880"/>
            <a:ext cx="1143000" cy="762120"/>
          </a:xfrm>
          <a:prstGeom prst="rect">
            <a:avLst/>
          </a:prstGeom>
          <a:ln w="0">
            <a:noFill/>
          </a:ln>
        </p:spPr>
      </p:pic>
      <p:sp>
        <p:nvSpPr>
          <p:cNvPr id="623" name="WordArt 7"/>
          <p:cNvSpPr txBox="1"/>
          <p:nvPr/>
        </p:nvSpPr>
        <p:spPr>
          <a:xfrm>
            <a:off x="685800" y="457200"/>
            <a:ext cx="25909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正音正字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2"/>
          <p:cNvSpPr/>
          <p:nvPr/>
        </p:nvSpPr>
        <p:spPr>
          <a:xfrm>
            <a:off x="304920" y="923760"/>
            <a:ext cx="281916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何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许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不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详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不求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解：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造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饮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辄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尽：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期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必醉：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短褐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穿结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箪　瓢　屡空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晏如也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不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戚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于贫贱：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不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汲汲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于富贵：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5" name="Text Box 4"/>
          <p:cNvSpPr/>
          <p:nvPr/>
        </p:nvSpPr>
        <p:spPr>
          <a:xfrm>
            <a:off x="1828800" y="914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处所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6" name="Text Box 5"/>
          <p:cNvSpPr/>
          <p:nvPr/>
        </p:nvSpPr>
        <p:spPr>
          <a:xfrm>
            <a:off x="1828800" y="1447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道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7" name="Text Box 6"/>
          <p:cNvSpPr/>
          <p:nvPr/>
        </p:nvSpPr>
        <p:spPr>
          <a:xfrm>
            <a:off x="2286000" y="19810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过分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8" name="Text Box 7"/>
          <p:cNvSpPr/>
          <p:nvPr/>
        </p:nvSpPr>
        <p:spPr>
          <a:xfrm>
            <a:off x="2362320" y="25909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往、到　　　就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9" name="Text Box 8"/>
          <p:cNvSpPr/>
          <p:nvPr/>
        </p:nvSpPr>
        <p:spPr>
          <a:xfrm>
            <a:off x="2362320" y="31240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期望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0" name="Text Box 9"/>
          <p:cNvSpPr/>
          <p:nvPr/>
        </p:nvSpPr>
        <p:spPr>
          <a:xfrm>
            <a:off x="5611680" y="365760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用粗麻布做成的短上衣。指衣服上有洞和补丁。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1" name="Text Box 10"/>
          <p:cNvSpPr/>
          <p:nvPr/>
        </p:nvSpPr>
        <p:spPr>
          <a:xfrm>
            <a:off x="2743200" y="41911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饭篮　　饮水用具　　经常是空的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2" name="Text Box 11"/>
          <p:cNvSpPr/>
          <p:nvPr/>
        </p:nvSpPr>
        <p:spPr>
          <a:xfrm>
            <a:off x="2057400" y="47242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安然自若的样子。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3" name="Text Box 12"/>
          <p:cNvSpPr/>
          <p:nvPr/>
        </p:nvSpPr>
        <p:spPr>
          <a:xfrm>
            <a:off x="2895480" y="53341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忧愁的样子。　　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4" name="Rectangle 13"/>
          <p:cNvSpPr/>
          <p:nvPr/>
        </p:nvSpPr>
        <p:spPr>
          <a:xfrm>
            <a:off x="4118040" y="58672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心情急切的样子。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35" name="Picture 14" descr="BJ_035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001000" y="6095880"/>
            <a:ext cx="1143000" cy="762120"/>
          </a:xfrm>
          <a:prstGeom prst="rect">
            <a:avLst/>
          </a:prstGeom>
          <a:ln w="0">
            <a:noFill/>
          </a:ln>
        </p:spPr>
      </p:pic>
      <p:sp>
        <p:nvSpPr>
          <p:cNvPr id="636" name="WordArt 15"/>
          <p:cNvSpPr txBox="1"/>
          <p:nvPr/>
        </p:nvSpPr>
        <p:spPr>
          <a:xfrm>
            <a:off x="457200" y="0"/>
            <a:ext cx="20574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重点词语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637" name="Text Box 16"/>
          <p:cNvSpPr/>
          <p:nvPr/>
        </p:nvSpPr>
        <p:spPr>
          <a:xfrm>
            <a:off x="2438280" y="0"/>
            <a:ext cx="556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解释蓝色字体的字词）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2"/>
          <p:cNvSpPr/>
          <p:nvPr/>
        </p:nvSpPr>
        <p:spPr>
          <a:xfrm>
            <a:off x="0" y="5335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　　</a:t>
            </a:r>
            <a:r>
              <a:rPr b="0" lang="zh-CN" sz="2600" spc="-1" strike="noStrike">
                <a:solidFill>
                  <a:srgbClr val="010000"/>
                </a:solidFill>
                <a:latin typeface="华文细黑"/>
                <a:ea typeface="华文细黑"/>
              </a:rPr>
              <a:t>五柳先生不知道是什么地方的人，也不知道他的姓名和表字。因为住宅旁边有五棵柳树，就用它做了自己的号。他安安静静的，很少说话，不羡慕荣华利禄。喜欢读书，不在一字一句的解释上过分深究：每当对书中的内容有所领会时，就高兴地连饭都忘了吃。他有嗜酒的天性，家里穷，经常没有酒喝。亲戚朋友知道他有这种嗜好，有时摆了酒叫他来喝。他去喝酒就喝个尽兴，希望一定喝醉。喝醉了就回家去，并不装模作样，说走就走。简陋的居室里空空荡荡，遮不住风和阳光。粗布短衣上面打了很多补丁，饭篮子和水瓢经常是空的，可是他安然自若。经常写文章来消遣时光，从文中也稍微透露出自己的志趣。他从不把得失放在心上，这样过完了自己的一生。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10000"/>
                </a:solidFill>
                <a:latin typeface="华文细黑"/>
                <a:ea typeface="华文细黑"/>
              </a:rPr>
              <a:t>        </a:t>
            </a:r>
            <a:r>
              <a:rPr b="0" lang="zh-CN" sz="2600" spc="-1" strike="noStrike">
                <a:solidFill>
                  <a:srgbClr val="010000"/>
                </a:solidFill>
                <a:latin typeface="华文细黑"/>
                <a:ea typeface="华文细黑"/>
              </a:rPr>
              <a:t>赞曰：黔娄的妻子曾经说过：</a:t>
            </a:r>
            <a:r>
              <a:rPr b="0" lang="zh-CN" sz="2600" spc="-1" strike="noStrike">
                <a:solidFill>
                  <a:srgbClr val="010000"/>
                </a:solidFill>
                <a:latin typeface="Times New Roman"/>
                <a:ea typeface="华文细黑"/>
              </a:rPr>
              <a:t>“</a:t>
            </a:r>
            <a:r>
              <a:rPr b="0" lang="zh-CN" sz="2600" spc="-1" strike="noStrike">
                <a:solidFill>
                  <a:srgbClr val="010000"/>
                </a:solidFill>
                <a:latin typeface="华文细黑"/>
                <a:ea typeface="华文细黑"/>
              </a:rPr>
              <a:t>不为贫贱而忧愁，不热衷于发财做官。</a:t>
            </a:r>
            <a:r>
              <a:rPr b="0" lang="zh-CN" sz="2600" spc="-1" strike="noStrike">
                <a:solidFill>
                  <a:srgbClr val="010000"/>
                </a:solidFill>
                <a:latin typeface="Times New Roman"/>
                <a:ea typeface="华文细黑"/>
              </a:rPr>
              <a:t>”</a:t>
            </a:r>
            <a:r>
              <a:rPr b="0" lang="zh-CN" sz="2600" spc="-1" strike="noStrike">
                <a:solidFill>
                  <a:srgbClr val="010000"/>
                </a:solidFill>
                <a:latin typeface="华文细黑"/>
                <a:ea typeface="华文细黑"/>
              </a:rPr>
              <a:t>这话大概说的是五柳先生一类的人吧？一边喝酒一边做诗，为自己抱定的志向而感到无比快乐。他大概是无怀氏时候的百姓，或者是葛天氏治下的百姓吧？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39" name="Picture 4" descr="BJ_035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01000" y="6095880"/>
            <a:ext cx="1143000" cy="762120"/>
          </a:xfrm>
          <a:prstGeom prst="rect">
            <a:avLst/>
          </a:prstGeom>
          <a:ln w="0">
            <a:noFill/>
          </a:ln>
        </p:spPr>
      </p:pic>
      <p:sp>
        <p:nvSpPr>
          <p:cNvPr id="640" name="WordArt 5"/>
          <p:cNvSpPr txBox="1"/>
          <p:nvPr/>
        </p:nvSpPr>
        <p:spPr>
          <a:xfrm>
            <a:off x="3581280" y="0"/>
            <a:ext cx="19814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参考译文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3"/>
          <p:cNvSpPr/>
          <p:nvPr/>
        </p:nvSpPr>
        <p:spPr>
          <a:xfrm>
            <a:off x="380880" y="2514600"/>
            <a:ext cx="8763120" cy="22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6667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隶书"/>
                <a:ea typeface="隶书"/>
              </a:rPr>
              <a:t>◆</a:t>
            </a:r>
            <a:r>
              <a:rPr b="1" lang="en-US" sz="3600" spc="-1" strike="noStrike">
                <a:solidFill>
                  <a:srgbClr val="0000ff"/>
                </a:solidFill>
                <a:latin typeface="隶书"/>
                <a:ea typeface="隶书"/>
              </a:rPr>
              <a:t>	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本文主要写了哪些方面的内容？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6667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6667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◆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	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本文主要从哪些方面来写五柳先生的？　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	</a:t>
            </a:r>
            <a:r>
              <a:rPr b="1" lang="zh-CN" sz="3200" spc="-1" strike="noStrike">
                <a:solidFill>
                  <a:srgbClr val="ff00ff"/>
                </a:solidFill>
                <a:latin typeface="隶书"/>
                <a:ea typeface="隶书"/>
              </a:rPr>
              <a:t>（分别用四字短语来加以概括）　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　　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	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从哪些句子中可以看得出来？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42" name="Picture 8" descr="ARROW1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543800" y="2743200"/>
            <a:ext cx="609480" cy="29844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10" descr="ARROW1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543800" y="4572000"/>
            <a:ext cx="609480" cy="304920"/>
          </a:xfrm>
          <a:prstGeom prst="rect">
            <a:avLst/>
          </a:prstGeom>
          <a:ln w="0">
            <a:noFill/>
          </a:ln>
        </p:spPr>
      </p:pic>
      <p:sp>
        <p:nvSpPr>
          <p:cNvPr id="644" name="WordArt 11"/>
          <p:cNvSpPr txBox="1"/>
          <p:nvPr/>
        </p:nvSpPr>
        <p:spPr>
          <a:xfrm>
            <a:off x="1219320" y="685800"/>
            <a:ext cx="28191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品读探究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645" name="Picture 12" descr="BJ_035"/>
          <p:cNvPicPr/>
          <p:nvPr/>
        </p:nvPicPr>
        <p:blipFill>
          <a:blip r:embed="rId4"/>
          <a:stretch/>
        </p:blipFill>
        <p:spPr>
          <a:xfrm>
            <a:off x="8001000" y="6095880"/>
            <a:ext cx="11430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6" name=""/>
          <p:cNvGraphicFramePr/>
          <p:nvPr/>
        </p:nvGraphicFramePr>
        <p:xfrm>
          <a:off x="228600" y="1066680"/>
          <a:ext cx="8534520" cy="4267440"/>
        </p:xfrm>
        <a:graphic>
          <a:graphicData uri="http://schemas.openxmlformats.org/drawingml/2006/table">
            <a:tbl>
              <a:tblPr/>
              <a:tblGrid>
                <a:gridCol w="1606680"/>
                <a:gridCol w="6927840"/>
              </a:tblGrid>
              <a:tr h="518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主要方面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相关文字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957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990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7" name="Rectangle 22"/>
          <p:cNvSpPr/>
          <p:nvPr/>
        </p:nvSpPr>
        <p:spPr>
          <a:xfrm>
            <a:off x="2057400" y="152388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10000"/>
                </a:solidFill>
                <a:latin typeface="Times New Roman"/>
                <a:ea typeface="黑体"/>
              </a:rPr>
              <a:t>先生不知何许人也，亦不详其姓字，宅边有五柳树，因以为号焉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8" name="Rectangle 23"/>
          <p:cNvSpPr/>
          <p:nvPr/>
        </p:nvSpPr>
        <p:spPr>
          <a:xfrm>
            <a:off x="3268080" y="2438280"/>
            <a:ext cx="380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10000"/>
                </a:solidFill>
                <a:latin typeface="Times New Roman"/>
                <a:ea typeface="黑体"/>
              </a:rPr>
              <a:t>闲静少言，不慕荣利；曾不吝情去留；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10000"/>
                </a:solidFill>
                <a:latin typeface="Times New Roman"/>
                <a:ea typeface="黑体"/>
              </a:rPr>
              <a:t>忘怀得失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9" name="Rectangle 24"/>
          <p:cNvSpPr/>
          <p:nvPr/>
        </p:nvSpPr>
        <p:spPr>
          <a:xfrm>
            <a:off x="2057400" y="335268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10000"/>
                </a:solidFill>
                <a:latin typeface="Times New Roman"/>
                <a:ea typeface="黑体"/>
              </a:rPr>
              <a:t>好读书，不求甚解；性嗜酒；常著文章自娱。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（三大乐趣：读书、饮酒、写文章）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0" name="Rectangle 25"/>
          <p:cNvSpPr/>
          <p:nvPr/>
        </p:nvSpPr>
        <p:spPr>
          <a:xfrm>
            <a:off x="2846520" y="4343400"/>
            <a:ext cx="231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10000"/>
                </a:solidFill>
                <a:latin typeface="Times New Roman"/>
                <a:ea typeface="黑体"/>
              </a:rPr>
              <a:t>环堵萧然，不蔽风日；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10000"/>
                </a:solidFill>
                <a:latin typeface="Times New Roman"/>
                <a:ea typeface="黑体"/>
              </a:rPr>
              <a:t>短褐穿结，箪瓢屡空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51" name="Picture 26" descr="BJ_035"/>
          <p:cNvPicPr/>
          <p:nvPr/>
        </p:nvPicPr>
        <p:blipFill>
          <a:blip r:embed="rId1"/>
          <a:stretch/>
        </p:blipFill>
        <p:spPr>
          <a:xfrm>
            <a:off x="8001000" y="6095880"/>
            <a:ext cx="1143000" cy="762120"/>
          </a:xfrm>
          <a:prstGeom prst="rect">
            <a:avLst/>
          </a:prstGeom>
          <a:ln w="0">
            <a:noFill/>
          </a:ln>
        </p:spPr>
      </p:pic>
      <p:sp>
        <p:nvSpPr>
          <p:cNvPr id="652" name="Rectangle 566"/>
          <p:cNvSpPr/>
          <p:nvPr/>
        </p:nvSpPr>
        <p:spPr>
          <a:xfrm>
            <a:off x="514800" y="17524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籍贯姓字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3" name="Rectangle 567"/>
          <p:cNvSpPr/>
          <p:nvPr/>
        </p:nvSpPr>
        <p:spPr>
          <a:xfrm>
            <a:off x="514800" y="2666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思想性格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4" name="Rectangle 568"/>
          <p:cNvSpPr/>
          <p:nvPr/>
        </p:nvSpPr>
        <p:spPr>
          <a:xfrm>
            <a:off x="228600" y="3581280"/>
            <a:ext cx="160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乐趣爱好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5" name="Rectangle 569"/>
          <p:cNvSpPr/>
          <p:nvPr/>
        </p:nvSpPr>
        <p:spPr>
          <a:xfrm>
            <a:off x="514800" y="44956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生活状况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6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9T06:07:09Z</dcterms:created>
  <dc:creator>第一PPT模板网-WWW.1PPT.COM</dc:creator>
  <dc:description>第一PPT模板网-WWW.1PPT.COM
</dc:description>
  <cp:keywords>第一PPT模板网-WWW.1PPT.COM</cp:keywords>
  <dc:language>en-US</dc:language>
  <cp:lastModifiedBy>a</cp:lastModifiedBy>
  <dcterms:modified xsi:type="dcterms:W3CDTF">2015-02-09T02:24:13Z</dcterms:modified>
  <cp:revision>21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用途">
    <vt:bool>1</vt:bool>
  </property>
</Properties>
</file>