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6ED-E281-404D-B5FA-47B8EBB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412-7B3A-4CDE-BC36-A91130C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75FA3-28F3-42C7-B8BF-F2A1D3B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B21CB-3E65-4C4D-974E-65869CD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4EA7B-B651-46E4-A15C-DAB97850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EC615-6B24-4BC3-AEDC-51B48FD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5BACC-3164-48A0-83E6-ED4CFE6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C18A2-D16A-4EDA-911D-2272D75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34DC5-DCA3-4040-8C0F-E5C41AC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50DB0-DA87-4E96-9CE0-4CA9013C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94AC9-04A8-45CF-8272-9CFF48F2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6D0A-9F9D-4675-B955-E09A8F2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D58-F947-4105-B758-9BD88D7E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A54B6-8991-4AA6-9A14-4D1F49B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68349-54BF-418D-801F-F1F1B54D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51E87-A7A0-46FF-87A6-B158653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4788C-030F-4C5F-AC6E-F224E064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E1FC-32CB-4518-8B80-529F11EC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CE1F2-A023-4055-905E-FDD115B7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A4DEC-2097-4468-8FA8-BECB72E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4106C-8C22-4730-8882-BD27F56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E0CD7-EDC3-4A17-8258-D3A8D93C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96AF6-F175-4BA3-B7AD-58CBF98A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FC0-8823-4B92-ADC4-60FB77F4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862EB-9ADF-4FB0-891A-C08E2E8D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582D-51B5-4F33-9C0A-041C15AD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9B9D-F1A5-4109-9375-D71F6142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23863-2D60-449F-9244-C5B625E3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93B7A-09BE-43B6-B902-4DF7BA23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CF82C-EF94-43AA-BFC3-94AC4085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2EFA7-EEEB-47BD-9B6A-1EDC6D8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B103-BF8D-424D-9FBB-F0B6076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16CD9-349F-4A00-97A2-B3853A7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C011-AEAF-422F-9EDB-59E8F1F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227D-868F-4A16-8A3B-984857F7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F48C3-CCFC-41B3-800E-9016B9E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0D349-91BB-417B-BC25-670C2B70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E3F2C-70BA-46FC-A4D3-C8DC0389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11097-1486-46C5-BAED-9466B269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8EBA6-C5A3-47EF-9D38-5432BEB5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67679-B3DF-4ABA-804F-8841314D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EEA9D-817A-41C4-9B94-9C05738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E9F4F-EFE5-4FA5-8589-D314C69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6772E-B163-4D3B-9732-BD1C378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7A7F0-2120-4B3B-BFA8-D79D81D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B604-F80E-42C6-8BFC-0245839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30C03-55FD-4BFE-8657-B1220A1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5C405-A4AF-4422-8D74-D771AD7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92FAB-00D0-4F3E-A6C7-AE4A5D93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4D44E-6A72-49F0-BBEA-BD384C55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D1E2A-5EEF-4776-BF6E-3F214038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8F5D-74FE-43D7-BECE-A11743BA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26A56-C518-46AD-BA4C-54E7C3F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AB7D5-A8AD-471E-AC60-815A925B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07244-BE16-4289-A43D-2158EEF2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52CB1-CBF2-4B58-B806-5A56FD8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BDF-040C-4D32-A29E-632BBAA7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83476-902A-42D6-9339-5BDD0F7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A4377-6772-472A-9DE8-49008CA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27878-B259-496D-B50E-E7F42EF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2ADEB-3F32-4F40-9A7B-FE87EE4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74D0F-4CDB-481C-99A9-4AAC1012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C9451-BD18-4CC3-B2CA-78EA5B9C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2B2A-6D2E-4E6B-A32D-234D76A0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03CC-D66C-4F10-8EAB-DD6A0A7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37C-010E-4407-BB70-0348B22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743B-A010-4F9E-9A04-FF58C94B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408-8226-4F51-9A9B-F9186C7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2F3-4645-45A5-856B-98B5167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8DD-7999-4217-8EF0-0A60749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6E5-1A75-434D-8D01-2266457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ACD5-654C-4284-8906-90C283DA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2513-6D8B-45F5-A477-A780393D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F145-7BC2-4DB7-8AF7-5B3A49B4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B7D9-53D4-4EA2-A1EE-8FD63E1A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9BD1-B83D-4DCB-A7CA-56A4F7C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6316-D7F6-4BA2-B387-BC6AB8DC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78DE-9F1D-4601-A288-454F7EA4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380D9-2122-4D29-BCE8-3E85D485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061-7DBD-4C07-99B3-DB8BBAD5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1476-EC20-4370-9F64-2DC6FD3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8C76-D356-4481-995B-1922CB2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E256-3953-4826-B53E-07F9524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BF84-EC33-4B4C-B864-5B334806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477B-6C01-4EF2-8580-D8470B6B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6B13-9546-47D9-953F-A956E68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10D5-B094-4BF0-B501-BD6478A1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02C1-40BF-453E-975C-7B350C0E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31725-ADA5-454C-945B-1CF75CD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24B08-87DB-449F-BFF1-D3F3770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A94-F38B-4620-BDF9-C3078FFE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7BED-2964-43B1-BE27-F1516EB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D18E-D7D2-4A3E-BF9B-4EA3910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22CE-6BC4-4898-826F-3CE01984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3A19-DF4F-4FD2-A2D7-36BD3C2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01FF-1E79-4F9E-8770-7BD653C9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A667-BF03-4FBF-AC02-B583346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EFC8-E937-4F5B-8D64-B2B90A4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E14E-3B43-4D0C-80AB-5F0202A4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4088-DFB9-457D-8841-FFCEC2F5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7A18-9C54-4BC7-809D-9F3F3F88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AA1-287C-444D-85BC-A147C28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37AB-EBAB-462B-BBBD-C4DB74F4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E1803-3B6F-478A-8388-40013029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67ADE-B49E-40E3-A3FD-81B3C003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8121-293F-4A5E-A2AD-B737FBD6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E468-E8D7-4CA5-A553-EB217D5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1CF2-3F97-4C38-91B8-BA95918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A390-ECC1-4129-B90D-BBB33D1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8193-8E27-4368-99D2-8A79021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46CF-17F2-4FE8-AB17-3186422D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879E-26EE-4530-8AEC-7196B11A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39C-BD51-439C-9E70-01484E0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DAD9-12B5-464D-86D0-5CCB3985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A9B9-916A-4248-996F-8A2E827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C3826-9188-407D-BA6F-809EE9E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977A0-7A62-4122-B2FA-BE31800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08EF7-93EB-41AA-837F-98AE8886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9347-3203-4B0E-9FBF-6839AD29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C7B35-7206-4D32-8E95-0F0E19E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7C9E-4C7E-4A13-8848-2351D40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F6769-0D73-4109-9F6C-E5F14F6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35C4-3C9C-40F0-8E73-626AE95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680-0B8F-4DD9-9CC2-DA81B06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FBCC0-4ABC-45B5-B839-26FFB2D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5A77-5B7A-46C5-A5A3-81ADF9D6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94E3-896E-43B9-863A-E3546404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58693-A4CA-4FD0-A9AF-E7DEEE19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CE30-6C69-4F80-BA75-D58DA3BD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7AA84-14D8-4457-8D1B-65404E4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C6DF-351A-482A-8B63-FA470947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852E-1EE5-44AE-B7C6-E46F20A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BAA0-D71A-434E-98CB-BADC640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28F1-0ED6-4084-B38C-E41E5B9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FE7-65D3-4CF5-8DA2-582765D3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8D80-00F7-474A-B3FE-A7D64C6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5D8E-70F9-4FC0-B311-E21AC70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D116-D022-4ABC-87BA-91CBB2E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5EEC-95C0-451D-84ED-67799B56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F9D1-134B-4B9F-8E95-97C666C2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9BA8-77D2-48D4-9CEC-C0959C7A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CBE5-B907-4BBD-A068-F5F607B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F1D6D-CBD9-48DB-A2EC-F063474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07C5-7BCE-47DE-90AD-589F05F2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1268D-91A1-4EDE-A870-93CB571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16B-30B7-40B3-8C58-1F70B94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B81D-97F1-4734-99CB-69432C40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B2DFC-146E-47C1-AF7E-4098B9AA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20E4-FACF-4D47-81AA-C118C7E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3728-EF1F-4ED9-8B48-0A065873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B44CD-4EBD-4BC9-A54C-67A3803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128E-9EFF-47EF-B546-D1FD8125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BA5C-B31E-4A90-9CB7-C598FA40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DEAB9-46B7-44A5-BC9B-B67D8DBF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2447-C81B-4CBB-9D0C-0D60A0D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AE269-CA38-4484-B11B-8EB447FD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5DF8-85B2-4BC7-97A0-2D52FAEF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689-7FC5-4187-9742-C9858D7F1B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DC27-093A-49D4-8B79-A0848E8F0B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97C-3BC0-4228-A7B8-8AD2E78992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F6B8-BA7D-4A5D-8197-4D567E512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294-F889-4260-B8A4-9B957851E6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CF0-32FA-4444-A267-7F4A07E8A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EE0-A35E-4268-BF2C-72A7124487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44E-82B9-4251-9B7F-53555DE8A8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4512-667C-48C0-A2E9-3602A8ACEF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451F-6D38-4060-A61F-12A070347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C604-E62E-4499-B4EF-E4E01300E0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4DF-7E72-4914-8DD1-F92E3912D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7E2-AE02-49EC-B53C-783BB38DEA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B57-909A-458F-882E-B582568EB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981-0898-4102-A714-6B626B949D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D5A2-BD1D-4AF7-A316-99670FB29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BFDE-9DD6-4454-BD57-48D938EE39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D11B-DB5C-48FE-BC0A-902B4C3DB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21D-0A6C-4976-9F24-0EDEBBE727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7D4D-03F1-4769-A291-25D32EBE67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2E2C-9263-42AA-A56D-1797FDDA74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33F-F104-4B4D-9F8E-31C729EB1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4754-B9FC-406B-949C-E9ED16F97D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7B5-D755-4BE2-BA98-61E4612CB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show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6"/>
          <p:cNvSpPr txBox="1"/>
          <p:nvPr/>
        </p:nvSpPr>
        <p:spPr>
          <a:xfrm>
            <a:off x="1908000" y="2205000"/>
            <a:ext cx="496908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万年牢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show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showimg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5"/>
          <p:cNvSpPr/>
          <p:nvPr/>
        </p:nvSpPr>
        <p:spPr>
          <a:xfrm>
            <a:off x="0" y="184464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走街串巷　天津　　损伤　晾晒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竹签　　　耽误　　甩出　赚钱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嫌弃　　　掺假　　削好　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PTW_015"/>
          <p:cNvPicPr/>
          <p:nvPr/>
        </p:nvPicPr>
        <p:blipFill>
          <a:blip r:embed="rId1"/>
          <a:stretch/>
        </p:blipFill>
        <p:spPr>
          <a:xfrm>
            <a:off x="0" y="0"/>
            <a:ext cx="1440000" cy="201600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7"/>
          <p:cNvSpPr/>
          <p:nvPr/>
        </p:nvSpPr>
        <p:spPr>
          <a:xfrm rot="442800">
            <a:off x="1547280" y="0"/>
            <a:ext cx="5473800" cy="1700280"/>
          </a:xfrm>
          <a:prstGeom prst="cloudCallout">
            <a:avLst>
              <a:gd name="adj1" fmla="val -52814"/>
              <a:gd name="adj2" fmla="val 4467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2195640" y="0"/>
            <a:ext cx="48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嗨！同学们，你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正确地读出这些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1571040" y="189000"/>
            <a:ext cx="575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的糖葫芦蘸得均匀，越薄越见功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吃一口让人叫好，蘸出的糖葫芦不怕冷不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热不怕潮，这叫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569600" y="2637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公平买卖走正道，顾客点头说声好，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头再来这是宝，做生意讲实在是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569600" y="4653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父亲教导我做万年牢，就是要做个可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人，实实在在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pic_141411"/>
          <p:cNvPicPr/>
          <p:nvPr/>
        </p:nvPicPr>
        <p:blipFill>
          <a:blip r:embed="rId1"/>
          <a:srcRect l="0" t="0" r="0" b="49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4"/>
          <p:cNvSpPr/>
          <p:nvPr/>
        </p:nvSpPr>
        <p:spPr>
          <a:xfrm>
            <a:off x="0" y="907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    读下面的句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要求选择正确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父亲的教导使我一生受益”这句中的“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思是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加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公平买卖走正道，顾客点头说声好，回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来这是宝，做生意讲实在是万年牢。”的理解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让顾客回头来，这是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说明了讲信誉对生意人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979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547640" y="4292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0" y="189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选择合适的关联词，将每组中的两句话连接成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的节奏掌握得正好，一点也不耽误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很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的成绩不怎么好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12720" y="24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的节奏掌握得正好，一点也不耽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父亲很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539640" y="49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他的成绩不怎么好，    但是他乐于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7:51:17Z</dcterms:created>
  <dc:creator>user</dc:creator>
  <dc:description/>
  <dc:language>en-US</dc:language>
  <cp:lastModifiedBy>a</cp:lastModifiedBy>
  <dcterms:modified xsi:type="dcterms:W3CDTF">2015-03-16T08:58:20Z</dcterms:modified>
  <cp:revision>5</cp:revision>
  <dc:subject/>
  <dc:title>幻灯片 1</dc:title>
</cp:coreProperties>
</file>