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2D3-3847-452C-AAB9-4D2562A8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83E-0497-44B0-9FF0-0B267DD3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742F5-95E9-40BB-8888-4B362D74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D3FD5-1B4D-4F13-9077-C986182A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2F16A-3CB9-4123-8150-FD419052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C2B44-BE29-4326-8AE0-C7CD103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3D768-9F49-471C-9548-470DB1F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DB0D6-E0B9-4B31-8BD2-4C5E492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37DA4-4095-4514-B5AB-0043218E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D5665-BFAC-4B96-9202-634F298F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8B0DB-D748-4AA1-B5D9-B681DF34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8654A-F3E5-4BA1-ADF9-1F824FA9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B7A-47AC-4458-9803-82D0E2BC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3E55E-B041-427B-A5C9-98427A5D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EF3E1-9297-4108-A094-6D658A8A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40321-901E-462A-94D3-CC0DEAE4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F6E3B-8E0E-427B-8100-16F701D4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D73BA-B5A2-4B0E-94F8-1DCD56A3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F720E-688F-4F2C-9AB9-1624914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C5E37-B7AB-4C66-B369-1A04D247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0D766-9183-41D3-8C1B-6A99641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BAACE-D748-41E5-A0C6-9E963C0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963FC-6579-4DEE-9443-C26A4385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5E2-E17C-4C04-8C03-8326824F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BC5E1-8AE3-41E2-890B-407C4084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E624F-FB4E-4E20-922B-D60CAEA1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6C17C-B763-40EE-AF6A-B4C7CBDA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DDF24-F176-4F23-8A1D-C660D696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66030-0849-4433-B857-17B6B7DC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653DE-69F1-4AF9-ADE8-182DD48F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652B8-5373-45A3-9AED-998ABD75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EF99B-0ABC-415B-B37F-7FE167F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2C8A7-22D4-4476-B1BC-C60625E2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ED833-D785-43EC-8522-AE676FA9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421B-EB0A-4E0B-BD4F-1FB144D0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2E658-61F5-4CE9-AB75-4E7B4A33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201AB-BE1B-4E0F-8B8C-A5677260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AFACE-388C-4DCD-BD90-A84ED9C3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CB9C8-D5C0-4879-9D11-3EAFE295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0E99D-FE3D-4D1C-AB3C-D1BA1CDC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50C7B-0234-4342-97CA-B714AFE5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79860-A793-4F7A-A8FB-940047E8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1A739-2112-4A11-833B-F362F885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62B3A-FAEF-4236-ABE8-3BD3404E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769A1-CF59-4FF5-81D4-291AE21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76A1-8697-4121-8E17-A344FDAE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4BF5D-76B2-4219-A557-0E05EAB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03403-B911-43A6-9E9D-EEB0AC7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0C1E4-1623-4820-80B1-A00B1D15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24AB9-7E7C-436E-86F1-924C6BC9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FF28D-FCBC-41F9-BB67-049558D5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F353B-C4F8-4CEE-8C6B-270140DB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0CA73-AFB1-4640-8371-679FBB03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9E754-AB4D-44A5-98CE-B0083246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795F6-5CF6-4660-9688-B6B21A50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0F00F-6AAB-468F-840D-35A37DE6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3982-D051-4D29-961E-7C7B0D63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D7A28-CEAE-4470-B42E-6C3D1AF8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D218C-82D3-42A4-8150-95B8411F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02311-4D91-47F2-A48C-D3C6894F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9D0EE-F2B7-4DE7-B52A-676CE238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E006E-3803-44E1-9B71-0E4F61A5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3E4AB-1B1C-4CAA-A589-4A8378EA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117E2-3BA7-4119-8E19-20584D79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DA64E-719C-4C59-B59F-AE2A026A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8DA44-87C4-4126-803D-0E0E3ABA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C9D62-9AFB-47A1-8AB4-3B8F3CC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1785-1973-4A5D-99CF-76F6A305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C772B-446E-4D5D-AD54-7A693DBD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24CF3-8F8B-4E0E-AFDE-8EDBF6B2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43866-9064-4B60-8786-49A5A175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C29CA-2760-43B7-887C-34923872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DB1A7-856B-44C4-BC52-51F72F48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14555-518D-4599-9B9A-A466E42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DEAD0-99C6-49AA-BE51-342DA440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0EBB1-80B1-480A-8FC4-155F9FA0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16BED-C652-48E2-AA06-3774BF3C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942F-F5EB-469C-B325-6AF1E4FD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A2A4-88DF-4A3A-935D-904AF4B6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A165-6134-4925-981B-F8B0C00A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FA3-3161-493A-B9F8-DC5E88B1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36D2-D96C-4CC0-A08A-3F2AC71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56E6-5239-4825-AB78-B032100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58B1-0EB6-4092-95DE-856F78CC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9B22-97AB-427B-87EB-DD67B538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03EC-2871-428A-A82C-276CAE2A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B960-B377-486E-94AB-79CAA1B6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3E0D-D851-4C4D-B635-8B765867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EBD9-370C-4416-BC4D-AE23B79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7701-1851-42EC-9FFA-66354F73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06F5-8AA3-405A-9FE4-5D108B66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0C5-707B-476B-BD02-4B78261F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1D1A-2305-48E8-9147-AB6B5023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B91F-4A3C-46ED-8523-95DA436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CEA1-1AF6-4D9F-8249-64CAE341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68EC-DA2E-47EF-9C22-65D0ED4E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3F11-8C54-413F-8B65-876C1827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CBF1-DD61-4CC8-92E4-D5DB3540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ECF9-4A9F-4559-AB9B-0A8936BA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C446-4087-41B0-A78B-A2AB8E18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96FE-0F8E-4FE9-A8A7-C17A158E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AA058-B6C8-42BE-AFB3-992325BA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B20-D937-4C42-A473-CC5846C1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0BF00-F544-483C-B2EF-14A53F8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2E671-4C1E-46C9-A67C-ACE4D24A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3919C-8B0D-4DCD-86BB-FA2AC98B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DB20-F859-44D2-9409-90A45A7A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B9D9-A3D5-4524-B4E7-95CFA4F3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37FB-69B1-4315-BF04-7B10F8B1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6D02C-D683-4066-8CF6-CB17C0CA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FFB2-491F-4B9F-A7B8-3B8DFA29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5551C-4658-4229-8C5F-FFB995AD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7D80F-D6DF-4253-A30C-BB964288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829-C694-415B-94A9-6DBAA6FF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94FC-A075-4829-83AA-08D1F94D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43653-A047-4DBB-A0C1-C76759E6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A068-91C9-421D-B58D-47B01231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10D5-3048-4944-A971-A1D754F7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49450-2B65-4F07-B8BF-54F4FBCC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2F0F4-F2F8-44F0-B33B-B28414B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CF0EF-5F20-47A4-B3A6-12330E03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EB4E-A92F-4F05-B984-C03AC6E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E295-C67B-462F-8E26-36BF0931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85904-9C05-45E4-93F8-FA82DE2F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429-F4BB-461A-ACA2-5BE49E0C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A9E26-065C-4F44-B9C5-FA8907DE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6FA3F-66BB-4F77-A7DC-5C65BC23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2CCD1-7B38-4D6B-AD2A-22034142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5650A-9B89-4A74-A900-9B742D72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E931F-57B1-4C28-ACCE-B1566930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9340-792D-4958-B6CE-93365F91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3E155-4D23-4A52-965F-5939A58D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4387C-8AF7-43E6-89CF-9D6F2E1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07D77-73B4-4C88-A04D-C71AF1F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0A964-EBB9-44B7-A1F1-755700A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210-4DA9-4FC0-A661-05F0746A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26D7A-2B62-4FF5-B01A-E96CAFF2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04CB-7366-42DA-A7C7-6A636681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21CD7-0A96-47CD-AE5C-2A9A82A7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F5C12-2A87-4373-B662-2B95F8ED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FDB1-0F66-45C0-A7FF-986B60C9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D01BC-BB0B-42EC-BA86-7AFA0FF4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76904-932F-4C2F-90C7-79A8DCFA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E033F-67E5-4FC8-BF60-615E949A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25A0-1FFC-4EBC-8B0E-E196BFB5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8171-2FCE-4346-BF87-36A230EF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FC9-0C59-47A9-B50C-48F7211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0DEA1-4E9A-4141-9CB0-2FF4D1F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51CFC-5163-4228-B773-CCCE089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6B923-C060-4A2F-9FD2-1A68D5FD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A8C6E-6FA8-480D-B7C3-218E10E7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EF09E-DE13-4FCB-BAC8-AE702503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14E56-CD82-43E7-9CEA-21F2B6AD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CDEEF-F027-4E19-82EB-247E6059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C25CA-5FD7-4A7B-AEDD-BA4E071F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EEDA-3EBD-4505-96F9-E33344FC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7BEE7-F597-4873-8E37-EB3C5941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4F9-6CAB-4649-8117-57B1B3D4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96110-6FA6-418E-B44B-643B7E36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B4D1-3A26-463D-A417-DCF54523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F1244-1337-4547-82D8-E0410E6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E3A6C-5822-4B23-A26D-91D5D3F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138CA-1026-4CD8-BB40-BA23861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CBC31-880A-4BFE-B31A-4D8163EF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D0E14-4893-40A7-BFC5-70E6190E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F9744-E98B-4C7C-834C-2D4CE851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317B7-5240-4C86-A9A4-70D2699C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CD0C3-5956-4679-A698-6FC88255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50EE-F069-433E-94EF-028B74FF97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474-0E11-4B50-8BFB-0975697611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B409-4B6F-47C4-98AC-1E7356D4B8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0E0F-2DD8-4464-94C2-16A2F33DF9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0192-EC5D-4749-8237-1438422EC4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35B0-6565-48C8-9BA0-9CD79A03A9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7BB4-A311-4557-9DAC-F67781462F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CDD-DD68-46F3-AEFB-567ADEBDD1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7BBB-CB57-404F-AC89-FB0EB5E65E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AA31-80D0-4831-BE76-52CD63D7B3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0DD3-180E-40A9-9402-6144B3D8E7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F498-FA53-481B-A44F-C301EAC58F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46E7-7B50-47E7-852C-4C893C269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D5AC-4DAD-4C4F-A014-3A1965BB00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CEBB-9687-441B-A723-1241B8BB1B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3442-4809-4CCF-A71E-316B336743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F072-671D-4FEC-8BF7-5AE7B000C8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AAB9-0017-4187-BC88-738F96222A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E6F5-E697-4657-B06D-035E0D77C2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004B-90C5-4CEA-A8CC-D5997FE1CE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A630-B902-4E5F-B8A5-41338A846A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6CB6-B47C-41A1-A36F-9A905D5677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3B8B-2682-4A01-B29C-EB508D8435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8DC7-1E97-45F0-A129-F2516595A7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94FD-E466-49D4-8B92-E6C1FD24A5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6396-2314-4AD6-B10B-C03924222D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8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892760" y="992160"/>
            <a:ext cx="39272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00"/>
                </a:solidFill>
                <a:latin typeface="华文琥珀"/>
                <a:ea typeface="华文琥珀"/>
              </a:rPr>
              <a:t>乌塔</a:t>
            </a:r>
            <a:endParaRPr b="0" lang="en-US" sz="1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028"/>
          <p:cNvSpPr/>
          <p:nvPr/>
        </p:nvSpPr>
        <p:spPr>
          <a:xfrm>
            <a:off x="1066680" y="6094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读读下列词语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029"/>
          <p:cNvSpPr/>
          <p:nvPr/>
        </p:nvSpPr>
        <p:spPr>
          <a:xfrm>
            <a:off x="1066680" y="1386000"/>
            <a:ext cx="768204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洗漱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u)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u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享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x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受          一册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c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逻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u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辑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j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书籍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j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反驳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b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语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qi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意             解释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惠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u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1033"/>
          <p:cNvSpPr/>
          <p:nvPr/>
        </p:nvSpPr>
        <p:spPr>
          <a:xfrm>
            <a:off x="1066680" y="4648320"/>
            <a:ext cx="2819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4"/>
          <p:cNvSpPr/>
          <p:nvPr/>
        </p:nvSpPr>
        <p:spPr>
          <a:xfrm>
            <a:off x="1447920" y="1143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梵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f2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蒂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d@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冈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g1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欧（</a:t>
            </a:r>
            <a:r>
              <a:rPr b="1" lang="zh-CN" sz="3600" spc="-1" strike="noStrike">
                <a:solidFill>
                  <a:srgbClr val="ffffff"/>
                </a:solidFill>
                <a:latin typeface="zypyyb"/>
                <a:ea typeface="zypyyb"/>
              </a:rPr>
              <a:t>#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447920" y="3060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恤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x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447920" y="4006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冰淇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q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4724280" y="3048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ru@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1447920" y="210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佛罗伦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*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萨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24280" y="4006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希腊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762120" y="1724040"/>
            <a:ext cx="754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读读课文，想一想课文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了一些什么事，对这些事你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什么看法和见解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乌塔.MP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4"/>
          <p:cNvSpPr txBox="1"/>
          <p:nvPr/>
        </p:nvSpPr>
        <p:spPr>
          <a:xfrm>
            <a:off x="1905120" y="99072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设计好旅行路线和日程</a:t>
            </a:r>
            <a:endParaRPr b="1" lang="en-US" sz="2400" spc="1" strike="noStrike">
              <a:ln w="19080">
                <a:solidFill>
                  <a:srgbClr val="ff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1905120" y="22860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查警察局的电话号码</a:t>
            </a:r>
            <a:endParaRPr b="1" lang="en-US" sz="2400" spc="1" strike="noStrike">
              <a:ln w="19080">
                <a:solidFill>
                  <a:srgbClr val="96969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0" name="WordArt 6"/>
          <p:cNvSpPr txBox="1"/>
          <p:nvPr/>
        </p:nvSpPr>
        <p:spPr>
          <a:xfrm>
            <a:off x="1905120" y="350532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给家里打电话或寄明信片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91" name="WordArt 7" descr=""/>
          <p:cNvPicPr/>
          <p:nvPr/>
        </p:nvPicPr>
        <p:blipFill>
          <a:blip r:embed="rId1"/>
          <a:stretch/>
        </p:blipFill>
        <p:spPr>
          <a:xfrm>
            <a:off x="1895400" y="4791240"/>
            <a:ext cx="5456160" cy="11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5:03:45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10T03:06:04Z</dcterms:modified>
  <cp:revision>10</cp:revision>
  <dc:subject/>
  <dc:title>第一PPT模板网-WWW.1PPT.COM</dc:title>
</cp:coreProperties>
</file>