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30D-D2CE-48F1-93C7-A45087D4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119-6BF7-4B4A-B9E1-AD3DC519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8D7-B21D-4C93-AAF8-6AE545A6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FB5-3B56-4614-A166-F2798323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2BFB-B96D-4A8A-90E3-7DF18B6E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F27C-FD46-4C63-B254-9BC506F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4769-A278-45CC-BD87-B5CBEE7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266C-D0CE-4920-8BF4-F9D2A1F6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A1A-378D-45B8-B527-C97DED9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09E-B146-4933-B7EF-8B18D800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1581-4581-48CC-AC71-2A9E380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802-1D57-4687-80E8-476382F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EBCA-2C74-4169-BDC8-C5A6B04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4B76-09D4-4361-A284-A8541C6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470E-FC79-464F-8149-62B92190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92FA-C147-44BE-AC09-6064B9F0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DC88-5689-4BD2-8D32-AFB749A4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917-7324-41E4-B171-8E0E52B8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FBB-5542-4391-B648-CD5DD73B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EE3-5D7E-45F0-96EE-9B8DFF8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CA2-D63D-40AD-8DC1-6D30F352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8A9-6CD5-41DD-88FF-C52F16A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3D1-F8F7-4AF6-B3AC-FEB74A1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F8A-600E-4BB4-A425-F45536F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6810-2FDE-429E-8AD7-6F1A61B47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8720" y="1460520"/>
            <a:ext cx="16902360" cy="10794600"/>
            <a:chOff x="-7758720" y="1460520"/>
            <a:chExt cx="16902360" cy="10794600"/>
          </a:xfrm>
        </p:grpSpPr>
        <p:sp>
          <p:nvSpPr>
            <p:cNvPr id="45" name=""/>
            <p:cNvSpPr/>
            <p:nvPr/>
          </p:nvSpPr>
          <p:spPr>
            <a:xfrm>
              <a:off x="3272760" y="2710080"/>
              <a:ext cx="5870880" cy="41479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8720" y="1460520"/>
              <a:ext cx="1344996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0D50-07C0-47BF-96C5-02D593DFD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消费税法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一）概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法：是指国家制定的用以调整消费税征收与缴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之间的权利及义务关系的法律规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消费税：是以特定消费品为课税对象所征收的一种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为；直接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消费者在购买消费品时直接征收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间接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生产或销售消费品的经营者征税，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者间接负担。（有利于源泉控制，减少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人及税款收取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5CA-B76B-49E5-B529-75461D134B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第三节 应纳税额的计算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一般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从价定率计算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           　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销售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包括向购买方收取的全部价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价外费用，含消费税，但不含增值税，销售税为价内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日化厂（一般纳税人）生产的化妆品对外零售价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（增值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消费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税消费品的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7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×30% = 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00×17% = 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D94-5504-46FD-BE0D-CF645BED1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李文向某汽车制造厂（一般纳税人）定购自用小汽车一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支付货款（含税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另付设计、改装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该辆小汽车计征消费税的销售额为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435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40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0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733920"/>
            <a:ext cx="85345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应税消费品的销售额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50800+3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= 24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CC5-F66E-4BE9-867C-A723C8812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化妆品生产企业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向某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型商场销售化妆品一批，开具增值税发票，取得不含增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向某单位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售化妆品一批，开具普通发票，取得含增值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化妆品适用消费税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计算该化妆品生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企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应缴纳的消费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0384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化妆品的应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0+4.68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缴纳的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4×30%=10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03D-A7BC-4687-960A-E5C290223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从量定额计算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注：指啤酒、黄酒、汽油、柴油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销售数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包括销售者销售应税消费品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数量；自产自用者的应税消费品的移送使用数量；委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加工者收回的应税消费品数量；进口商品的海关核定的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的征税数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：计量单位的换算标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啤酒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8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               黄酒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6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汽油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38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             柴油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7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872-04E7-41B8-B2CF-394C96C79D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啤酒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销售啤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95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，每吨出厂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每吨售价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以下的，适用单位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9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升）。计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应纳消费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3526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份应纳消费税额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95200÷988=4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400 ×220=88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5DF-02E6-433C-BDEA-28B12F2CE6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从价定率和从量定额复合计税方法 （粮食白酒、薯类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酒、 卷烟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例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酒厂销售自产特制粮食白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斤，产品售价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斤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508640"/>
            <a:ext cx="8839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000×0.5 + 20×2000× 25%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0× 2000×17%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A9D-FFC9-4545-A04B-48FCC03B0E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其他具体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纳税人用外购或委托加工的已税消费品连续生产的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，计税时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可以扣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已经缴纳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已售出的应税消费品因质量等问题被买方退货，经主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务机关审核批准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可以退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经缴纳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564-2E43-4E65-9D9B-6FA62667A0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自产自用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谓自产自用：是指纳税人生产应税消费品后，不是用于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对外销售，而是用于自己连续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品或用于其他方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生产者自产自用的应税消费品，用于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连续生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不纳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用于其他方面的，在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移送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纳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般按照纳税人生产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同类消费品的销售价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算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卷烟、小汽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职工福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没有同类消费品的销售价格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按组成计税价格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利润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13D-0D2A-4FF6-8AAF-CC383DE80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610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汽车制造厂生产的小汽车应按自产自用缴纳消费税的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用于本厂研究所作碰撞试验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赠送给贫困地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移送改装分厂改装加长型豪华小轿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供上级单位长期使用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648320"/>
            <a:ext cx="4572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【答案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099-0D13-4B63-A586-819D7AD960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化妆品公司将一批自产的护肤品用职工福利，这批护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的成本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成本利润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无同类消费品的销售价格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97180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60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00×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847.8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47.83×8%=547.8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6847.83×17%=1164.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D8D-0C39-43B5-9EB9-D94951DE5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历史沿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颁布的《税政实施要则》中有特种消费行为税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取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8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开征特别消费税，对彩电、小汽车征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199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税制改革，扩大增值税的征收范围，取消产品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改征增值税，对原产品税税率高的产品再征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道消费税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发布《消费税暂行条例》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起实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前，世界上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个国家开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398-1470-4F30-9A53-5C9D3642F7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委托加工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委托方提供原料和主要材料，受托方只收取加工费和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垫部分辅助材料而加工的应税消费品。这类消费税应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受托方在向委托方交货时代收代缴，一般按受托方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应税消费品的销售价格计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没有同类消费品销售价格的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按组成计税价格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材料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加工费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税额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：纳税人用委托加工收回的已税珠宝玉石生产的改在零售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节征收消费税的金银首饰，在计税时一律不得扣除委托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工收回的珠宝玉石的已纳消费税税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D71-8A10-4467-BBD5-37928F4829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企业委托酒厂加工其他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，该酒无同类产品销售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格，已知委托方提供的原料成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受托方垫付辅料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另收取的加工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则该酒厂代收的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税为（　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3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8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343400"/>
            <a:ext cx="83822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酒厂代收消费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+0.15+0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83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119-CCCD-4E6D-B872-CC37B0814F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进口应税消费品应纳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计税价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关税完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税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公司进口一批摩托车，海关应征进口关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关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假定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，则进口环节还需缴纳（         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0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105520"/>
            <a:ext cx="8686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关税完税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5÷30%=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口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+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0%=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口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+15+7.2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17%=12.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8E0-84FC-4440-BEBF-7F26E05213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五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依据的特殊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的核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税消费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明显偏低又无正当理由，税务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有权核定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：卷烟的计税依据为调拨价格或核定价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国家税务机关核定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： 实际销售价格 〉调拨价格或核定价格，按前者计税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实际销售价格〈 调拨价格或核定价格，按后者计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卷烟实际销售价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调拨价格（或核定价格）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按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征收消费税。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E39-11CC-4FCA-AF0E-15B045AB6C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拨价格：是指卷烟生产企业通过卷烟交易市场与购货方签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卷烟交易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定价格：是指由税务机关按其零售价倒算一定比例的办法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计税价格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自设非独立核算门市部销售自产的应税消费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按门市部对外销售额或销售数量征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            摩托车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设门市部（非独立核算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厂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          对外零售价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16380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应按对外售价计税。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380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4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1A3-AE48-4259-A215-E5345301C6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对应税消费品用于其他方面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税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纳税人用于换取生产资料和消费资料，投资入股和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偿债务等方面的应税消费品，应当以纳税人同类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的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最高销售价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为计税依据计算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                 甲厂      ←→       乙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汽车    ←换→     钢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）     ←→    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吨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若同一型号小汽车售价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什么售价计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791320"/>
            <a:ext cx="693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应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计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0AF-E175-457F-8E27-5AA3FF0C3F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 应纳税额中扣除已纳消费税的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纳消费税税款是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委托加工的应税消费品由受托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收代缴的消费税，当期准予扣除的外购或委托加工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应税消费品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纳消费税税款，应按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当期生产领用数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烟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外购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得增值税专用发票上注明税款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期初尚有库存的外购烟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期末库存烟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该企业本月应纳消费税中可扣除的消费税是（    ）（烟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。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  本月外购烟丝的买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8.5÷17%=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领用部分买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+50-12=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准予扣除的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40×30%=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7C6-EC17-4536-8B94-77DB9E095B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兼营不同税率应税消费品的计税依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兼营不同税率的应税消费品，应当分别核算不同税率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消费品的销售额和销售数量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分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算，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分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税；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未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别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核算或将不同税率应税消费品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组成成套消费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销售的，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中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最高税率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计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①化妆品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和护肤护发品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组成成套礼盒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售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粮食白酒和其他酒（药酒等）组成盒装酒出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9F4-C605-45BE-965C-9A4232CA5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六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税额减征的规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生产销售达到低污染排放值的小轿车、越野车和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客车减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法定税率计算的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- 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：某汽车制造厂本月生产达到低污染排放值的越野车（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，当月售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辆，每辆不含税价格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，下列处理方法正确的有（    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应纳消费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  。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应纳消费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 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2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 。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 应纳增值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5.68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 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181480"/>
            <a:ext cx="87631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应纳消费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60×12×5%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25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60×12×17% = 122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42B-5A16-4636-99EB-098558A87D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七、 酒类关联企业间关联交易消费税问题的处理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纳税人与关联企业之间的购销业务，不按照独立企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之间的业务往来作价的，税务机关可以按照下列方法调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计税收入额或者所得额，核定其应纳税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独立企业之间进行相同或类似业务活动的价格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再销售给无关联关系的第三者的价格所收取的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利润水平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成本加合理的费用和利润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按照其他合理的方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AF7-3207-41D4-9E71-6C6F9758A5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以特定消费品为征税对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单一环节征收（消费品生产、流通或消费环节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税率、税额的差别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收方法的多样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税负的转嫁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作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取得财政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调节消费（消费结构、消费方向、消费水平、限制消费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7FC-7358-40CD-A81D-88D74D7C8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八、消费税的出口退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了鼓励应税消费品的出口，对出口应税消费品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征消费税或退还已征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退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的退税率（额），就是该应税消费品的征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额）。  企业出口不同税率的应税消费品，须分别核算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申报，按各自适用税率计算退税额；否则，只能从低适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率计算退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47D-6617-47EF-BAC4-45B9EDD47A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出口应税消费品退免税政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免税并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免又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出口经营权的外贸企业购进应税消费品直接出口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及外贸企业受其他外贸企业委托代理出口应税消费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免税但不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免不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出口经营权的生产企业自营出口或委托外贸企业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理出口自产应税消费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不免税也不退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免不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生产企业、外贸企业外的一般商贸企业委托外贸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业代理出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882-20FC-4AB7-B5EF-3E88194989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533520"/>
            <a:ext cx="86104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出口应税消费品退税额的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有外贸企业出口应税消费品，才有退采购环节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退税款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应税消费品工厂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适用税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出口应税消费品数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位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出口退免税后管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外贸企业出口应税消费品后发生退关或退货： 必须及时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已退消费税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生产企业直接出口应税消费品发生退关或退货： 暂不补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，待转做内销后再补交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964-25E7-43C3-8E77-F05AAA6BEB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第四节  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消费税</a:t>
            </a:r>
            <a:r>
              <a:rPr b="1" lang="zh-CN" sz="3200" spc="-1" strike="noStrike">
                <a:solidFill>
                  <a:srgbClr val="ffcc66"/>
                </a:solidFill>
                <a:latin typeface="宋体"/>
              </a:rPr>
              <a:t>征收管理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消费税的纳税义务发生时间、纳税期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增值税原理一致，内容也基本相同，不再重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注意：委托加工的应税消费品，纳税义务发生时间为纳税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人提货的当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D64-61F3-4C04-AD71-1999D95FD2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380880"/>
            <a:ext cx="84582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纳税地点（属地原则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销售的应税消费品以及自产自用的应税消费品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国家另有规定外，应向纳税人核算地主管税务机关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报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委托加工应税消费品，由受托方向所在地主管税务机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收代缴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进口应税消费品，由进口人或者其代理人向报关地海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申报纳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到外县（市）销售或委托外县（市）代销自产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消费品的， 回纳税人核算地或在销售地缴纳所得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7C6-BF13-455F-8D81-566FD0E861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总分支机构不在同一县（市）的，应在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费品的分支机构所在地缴纳消费税；经国家税务总局或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属省级国家税务局批准，也可由总机构汇总向总机构所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主管税务机关缴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纳税人销售的应税消费品，如因质量等原因由购买者退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经所在地主管税务机关审核批准后，可退还已征收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。但不能自行直接抵减应纳税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B8C-E422-4B60-AE0E-6DA9D750FB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日用化工厂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初购进原材料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专用发票注明税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材料已验收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库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中旬发生火灾，上述原材料受损，损失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当月销售化妆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，每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（不含税）。为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新年将同类化妆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箱分给本厂职工。该厂申报纳税如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化妆品消费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00×17%-17=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纳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00×30%=6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指出该厂纳税的错误之处，并简要说明理由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计算应补缴的增值税和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A07-001B-45A8-AD0E-4947558DBA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解：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非正常损失的进项税额不允许抵扣，企业将其抵扣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错误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自产的货物用于集体福利视同销售，应纳税，企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给本厂职工的化妆品没有计税是错误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应补缴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0×1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2×1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3.7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万元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应补缴消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2×1×30%=0.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万元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754-729F-4363-8A7C-58159DD460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某汽车轮胎生产商本月以直接收款方式销售了一批轿车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胎，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货尚未发出；与某专业赛车队达成协议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赠送价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自产赛车轮胎；又售出一批轿车轮胎，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普通发票上注明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另收包装费和运输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元。本月购进原材料取得增值税专用发票上注明税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9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，上月购入的价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元的轮胎加工零件被盗。请根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资料计算该企业当月应纳的增值税和消费税（以上售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均为不含税价、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8862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解：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期销项税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220+ 3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+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×17% =118.9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进项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59.50-30×17% =54.4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月应纳增值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 118.91-54.40=64.5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当月应纳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[220+300+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+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+17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×10% =69.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万元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990-63A6-4CF8-BF3F-C0CF4D968A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下列各项中，与我国现行出口应税消费品的退（免）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政策不符的是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单选题）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免税但不退税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不免税也不退税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不免税但退税。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免税并退税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某汽车轮胎厂为增值税一般纳税人，下设一非独立核算的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市部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该厂将生产的一批汽车轮胎交门市部，计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门市部将其零售，取得含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7.2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轮胎的消费税税率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该项业务应缴纳的消费税额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单选题）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5.1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6.6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 7.7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4F6-9132-49B2-A63E-BAB0BFAFC3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 、消费税与增值税的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一）区别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税范围不同：增值税是对所有的有形动产来征收的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而消费税的征税范围是具有选择性的，目前只选择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种应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来征收消费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与价格的关系不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消费税是价内税，是包含在商品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价格当中；而增值税是价外税，也就是计算增值税的销售额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含增值税税款，而计算消费税的价格里面是包含消费税税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EE5-FD10-4581-9073-5587DFEC2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下列各项中，可按委托加工应税消费品的规定征收消费税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多选题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受托方代垫原料，委托方提供辅助材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委托方提供原料和主要材料，受托方代垫部分辅助材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受托方负责采购委托方所需原材料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委托方提供原料、材料和全部辅助材料的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从其他工、商企业购进的已税消费品，用于继续生产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品销售的，在计征消费税时，生产耗用的外购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品的已纳消费税税款准予扣除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判断题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纳税人除委托个体经营者加工应税消费品一律于委托方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后在委托方所在地缴纳消费税外，其余的委托加工应税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品均由受托方在向委托方交货时代收代缴消费税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判断题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0B4-0135-46B1-B075-9BFF784E22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某企业为增值税一般纳税人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月发生以下业务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从农业生产者手中收购玉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吨，每吨收购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共计支付收购价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企业将收购的玉米从收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地直接运往异地的某洒厂生产加工药酒，酒厂在加工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程中代垫辅助材料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药酒加工完毕，企业收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药酒时取得酒厂开具的增值税专用发票，注明加工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、增值税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加工的药酒当地无同类产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市场价格。本月内企业将收回的药酒批发售出，取得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含税销售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0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。另外支付给运输单位的销货运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费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元，取得普通发票。（药酒的消费税税率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求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计算酒厂应代收代缴的消费税。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X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年节选）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3C9-892C-482D-9F78-A35DC46752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征税环节不同：增值税是在货物的流转环节来征收；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税是在指定的环节一次性征收。总之，消费税是一次性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征，而增值税是道道征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计税方法不完全一样：增值税对一般纳税人采用的是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进扣税法；而消费税有根据价格来征收的，有根据数量来征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，还有根据价格和数量来征收的，所以计税方法是多样性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5E6-4460-4258-9FA2-B6756F0E41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0880"/>
            <a:ext cx="86868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二）联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都是对货物的征收：增值税对所有的货物征收，消费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指定的货物征收。所以在某一个特定的环节上，对特定的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就出现了增值税和消费税交叉征收的情况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都是流转税，税收都具有转嫁性：谁购买这种应税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品，谁就会负担增值税同时负担消费税。两税都是由购买者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负担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对于应税消费品如果采用的是从价定率征收，计算消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税的价格和计算增值税的价格是完全一样的。两个税的税基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致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FA3-3AF9-4CE3-87D2-572A04CA8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第一节  纳税义务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 纳税义务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我国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境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、委托加工和进口应税消费品的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和个人（包括各类企业、且内外统一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征税范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为五大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对人类健康、生态环境造成危害的特殊消费品，如烟、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奢侈品，如贵重首饰、化妆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高能耗 、高档消费品，如小汽车、摩托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不可再生和替代的石油类消费品，如汽油、柴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具有财政意义的消费品，征收广泛，对纳税人影响不大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消费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。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FEB-0B98-40D2-8CA4-183CDF567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53920"/>
            <a:ext cx="9144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税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前应税消费品被定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货物，即消费税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税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烟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酒及酒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化妆品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护肤护发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贵重首饰及珠宝玉石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鞭炮、焰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汽油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柴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 汽车轮胎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摩托车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 小汽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类应税消费品中，除金银首饰（含镶嵌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饰）于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起， 钻石及钻石饰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起，由生产、进口环节改在零售环节缴纳消费税外，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它的都是在生产销售、委托加工和进口环节一次性缴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以后的批发、零售环节不再缴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第二节  税目、税率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309-4400-423E-9B37-C838FCCC9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68580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税率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种税率形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比例税率：适用于大多数应税消费品，税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%~4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定额税率：只适用于四种液体应税消费品，它们是啤酒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黄酒、汽油、柴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自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对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粮食白酒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、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薯类白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 u="sng">
                <a:solidFill>
                  <a:srgbClr val="ffcc66"/>
                </a:solidFill>
                <a:uFillTx/>
                <a:latin typeface="Times New Roman"/>
              </a:rPr>
              <a:t>卷烟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种应税消费品实行定额税率与比例税率相结合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复合计税办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19C-8508-4950-8DC4-0A1151C77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消费 税法</cp:keywords>
  <dc:language>en-US</dc:language>
  <cp:lastModifiedBy/>
  <cp:revision>0</cp:revision>
  <dc:subject/>
  <dc:title/>
</cp:coreProperties>
</file>