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2825" cy="6858000"/>
  <p:notesSz cx="9831388" cy="6664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53128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457800"/>
            <a:ext cx="853128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45780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7280" y="345780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0480" y="190512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4800" y="190512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45780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0480" y="345780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4800" y="345780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853128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397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53128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440" y="1066680"/>
            <a:ext cx="85345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45780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853128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397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57280" y="345780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457800"/>
            <a:ext cx="853128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53128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457800"/>
            <a:ext cx="853128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45780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57280" y="345780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70480" y="190512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54800" y="190512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45780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70480" y="345780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54800" y="345780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53128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1066680"/>
            <a:ext cx="85345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45780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7280" y="345780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457800"/>
            <a:ext cx="853128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32320" y="6705720"/>
            <a:ext cx="103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5327E553-EAEE-4350-8CD8-1708FEEC28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853128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79440">
              <a:lnSpc>
                <a:spcPts val="18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417600">
              <a:lnSpc>
                <a:spcPts val="18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379440">
              <a:lnSpc>
                <a:spcPts val="18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328680">
              <a:lnSpc>
                <a:spcPts val="18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328680">
              <a:lnSpc>
                <a:spcPts val="18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328680">
              <a:lnSpc>
                <a:spcPts val="18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981480" y="6705000"/>
            <a:ext cx="22352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85312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18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432320" y="6705720"/>
            <a:ext cx="103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5767B3A2-5265-40F2-87CC-AAD4AB10AB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6981480" y="6705000"/>
            <a:ext cx="22352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  <a:p>
            <a:pPr lvl="1" marL="1440" algn="ctr">
              <a:lnSpc>
                <a:spcPts val="18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82680" algn="ctr">
              <a:lnSpc>
                <a:spcPts val="18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01720" algn="ctr">
              <a:lnSpc>
                <a:spcPts val="18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82600" algn="ctr">
              <a:lnSpc>
                <a:spcPct val="105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82600">
              <a:spcBef>
                <a:spcPts val="400"/>
              </a:spcBef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82600">
              <a:spcBef>
                <a:spcPts val="400"/>
              </a:spcBef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06640" y="1766880"/>
            <a:ext cx="497844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整体管理咨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— 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公司战略、组织结构、业务流程以及考核激励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–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项目建议书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＊＊＊＊股份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0240" y="6667560"/>
            <a:ext cx="457200" cy="17784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r" pos="852948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设计新的薪酬体系，做到公司有承受力，市场上有竞争力，员工中有吸引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6160" y="2138400"/>
            <a:ext cx="4202280" cy="3618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阶段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8200" y="2617920"/>
            <a:ext cx="4176720" cy="359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040" y="1758960"/>
            <a:ext cx="8534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模块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考核激励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49320" y="2709720"/>
            <a:ext cx="390384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lnSpc>
                <a:spcPct val="1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定具有竞争力的报酬体系（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收入构成＼各部分的比例和数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总体薪酬规模估算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公司可以承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高级管理人员和业务骨干对考核激励的意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考核激励的主要指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业绩考核的组织和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过渡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1880" y="2131920"/>
            <a:ext cx="4202280" cy="3621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项目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75360" y="2611440"/>
            <a:ext cx="4146480" cy="357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91280" y="2671920"/>
            <a:ext cx="39034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外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薪酬调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案例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研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桌面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964640" y="582480"/>
            <a:ext cx="291960" cy="416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91520" y="588960"/>
            <a:ext cx="291960" cy="41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16960" y="585720"/>
            <a:ext cx="291960" cy="416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945640" y="582480"/>
            <a:ext cx="291960" cy="416160"/>
          </a:xfrm>
          <a:prstGeom prst="rect">
            <a:avLst/>
          </a:prstGeom>
          <a:solidFill>
            <a:srgbClr val="77777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964640" y="404640"/>
            <a:ext cx="291960" cy="149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91520" y="411120"/>
            <a:ext cx="291960" cy="149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616960" y="407880"/>
            <a:ext cx="291960" cy="149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945640" y="404640"/>
            <a:ext cx="291960" cy="149400"/>
          </a:xfrm>
          <a:prstGeom prst="rect">
            <a:avLst/>
          </a:prstGeom>
          <a:solidFill>
            <a:srgbClr val="77777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3657600"/>
            <a:ext cx="8531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3.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项目时间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90480" y="2405160"/>
            <a:ext cx="8696520" cy="488880"/>
          </a:xfrm>
          <a:custGeom>
            <a:avLst/>
            <a:gdLst>
              <a:gd name="textAreaLeft" fmla="*/ 0 w 8696520"/>
              <a:gd name="textAreaRight" fmla="*/ 8696880 w 86965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70" y="0"/>
                </a:lnTo>
                <a:lnTo>
                  <a:pt x="21600" y="10800"/>
                </a:lnTo>
                <a:lnTo>
                  <a:pt x="21170" y="21600"/>
                </a:ln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7004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5912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4784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836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2744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179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0704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957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8628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753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6588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5460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4368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292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1344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0252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9124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8176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7084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613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5044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9409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994200" y="2403000"/>
            <a:ext cx="0" cy="348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5756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6256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5784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5492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6784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9720" y="244620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38560" y="269064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为整个项目期限为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个多月（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0720" y="1893960"/>
            <a:ext cx="855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项目时间框架 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8640" y="2995560"/>
            <a:ext cx="1825560" cy="27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项目启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模块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：现状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外部分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内部分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模块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：战略规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公司核心能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公司发展方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战略要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战略制定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执行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调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90480" y="2374560"/>
            <a:ext cx="8513640" cy="3524400"/>
            <a:chOff x="690480" y="2374560"/>
            <a:chExt cx="8513640" cy="3524400"/>
          </a:xfrm>
        </p:grpSpPr>
        <p:sp>
          <p:nvSpPr>
            <p:cNvPr id="211" name=""/>
            <p:cNvSpPr/>
            <p:nvPr/>
          </p:nvSpPr>
          <p:spPr>
            <a:xfrm>
              <a:off x="284688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3704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2576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1412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9300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8172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044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4932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2640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476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9400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8236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7108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4996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3832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704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1720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0480" y="2385720"/>
              <a:ext cx="1868040" cy="3513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764480" y="2374560"/>
              <a:ext cx="0" cy="351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606720" y="2374560"/>
              <a:ext cx="0" cy="351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5155920" y="2374560"/>
              <a:ext cx="0" cy="351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56720" y="2891880"/>
              <a:ext cx="6647400" cy="30070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549520" y="3668760"/>
            <a:ext cx="1370160" cy="11916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2501640" y="3027240"/>
            <a:ext cx="226800" cy="968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96520" y="6107040"/>
            <a:ext cx="61020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中期讨论会或报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720" y="389412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1120" y="323064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3440" y="355608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1120" y="419256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1120" y="446580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1120" y="472752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1120" y="495612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1120" y="521820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9560" y="551196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717120" y="6122880"/>
            <a:ext cx="226800" cy="968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29960" y="6107040"/>
            <a:ext cx="2293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启动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9120" y="6107040"/>
            <a:ext cx="30564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最终报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5200" y="6107040"/>
            <a:ext cx="119160" cy="128520"/>
          </a:xfrm>
          <a:prstGeom prst="ellipse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49520" y="4011480"/>
            <a:ext cx="1370160" cy="11916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62360" y="4786200"/>
            <a:ext cx="1407960" cy="11916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81440" y="5321160"/>
            <a:ext cx="1384200" cy="12888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86440" y="5351400"/>
            <a:ext cx="226800" cy="968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5280" y="6119640"/>
            <a:ext cx="226800" cy="968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43280" y="4545000"/>
            <a:ext cx="1408320" cy="11916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79720" y="4037040"/>
            <a:ext cx="227160" cy="968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74960" y="5037120"/>
            <a:ext cx="1408320" cy="11916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5160" y="2390760"/>
            <a:ext cx="1866960" cy="495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0960" y="2697120"/>
            <a:ext cx="15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1120" y="2414520"/>
            <a:ext cx="8696160" cy="530280"/>
          </a:xfrm>
          <a:custGeom>
            <a:avLst/>
            <a:gdLst>
              <a:gd name="textAreaLeft" fmla="*/ 0 w 8696160"/>
              <a:gd name="textAreaRight" fmla="*/ 8696520 w 869616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70" y="0"/>
                </a:lnTo>
                <a:lnTo>
                  <a:pt x="21600" y="10800"/>
                </a:lnTo>
                <a:lnTo>
                  <a:pt x="21170" y="21600"/>
                </a:ln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7004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912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4784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3836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2744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179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704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957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8628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753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6588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5460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4368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3420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2292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1344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0252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9124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8176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07084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613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65044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9409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5756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6256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5784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5492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6784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51160" y="246528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30640" y="271944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为整个项目期限为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个多月（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0720" y="1893960"/>
            <a:ext cx="855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项目时间框架 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8640" y="2952720"/>
            <a:ext cx="19782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模块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：组织结构和流程设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公司组织原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公司组织结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所属单位结构建议例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关键流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模块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：考核激励方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薪酬体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考核方案的制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过渡方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81120" y="3259080"/>
            <a:ext cx="8508960" cy="2020680"/>
            <a:chOff x="681120" y="3259080"/>
            <a:chExt cx="8508960" cy="2020680"/>
          </a:xfrm>
        </p:grpSpPr>
        <p:sp>
          <p:nvSpPr>
            <p:cNvPr id="295" name=""/>
            <p:cNvSpPr/>
            <p:nvPr/>
          </p:nvSpPr>
          <p:spPr>
            <a:xfrm>
              <a:off x="681120" y="3594240"/>
              <a:ext cx="850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1120" y="3259080"/>
              <a:ext cx="850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1120" y="3931200"/>
              <a:ext cx="850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1120" y="4268160"/>
              <a:ext cx="850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1120" y="4605120"/>
              <a:ext cx="850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1120" y="4942800"/>
              <a:ext cx="850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1120" y="5279760"/>
              <a:ext cx="850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1120" y="2403360"/>
            <a:ext cx="8523360" cy="3422160"/>
            <a:chOff x="681120" y="2403360"/>
            <a:chExt cx="8523360" cy="3422160"/>
          </a:xfrm>
        </p:grpSpPr>
        <p:grpSp>
          <p:nvGrpSpPr>
            <p:cNvPr id="303" name=""/>
            <p:cNvGrpSpPr/>
            <p:nvPr/>
          </p:nvGrpSpPr>
          <p:grpSpPr>
            <a:xfrm>
              <a:off x="681120" y="2413080"/>
              <a:ext cx="8523360" cy="3412440"/>
              <a:chOff x="681120" y="2413080"/>
              <a:chExt cx="8523360" cy="3412440"/>
            </a:xfrm>
          </p:grpSpPr>
          <p:sp>
            <p:nvSpPr>
              <p:cNvPr id="304" name=""/>
              <p:cNvSpPr/>
              <p:nvPr/>
            </p:nvSpPr>
            <p:spPr>
              <a:xfrm>
                <a:off x="681120" y="2413080"/>
                <a:ext cx="1870200" cy="3412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549520" y="2965320"/>
                <a:ext cx="6654960" cy="28443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840040" y="2403360"/>
              <a:ext cx="6076800" cy="3410640"/>
              <a:chOff x="2840040" y="2403360"/>
              <a:chExt cx="6076800" cy="3410640"/>
            </a:xfrm>
          </p:grpSpPr>
          <p:sp>
            <p:nvSpPr>
              <p:cNvPr id="307" name=""/>
              <p:cNvSpPr/>
              <p:nvPr/>
            </p:nvSpPr>
            <p:spPr>
              <a:xfrm flipV="1">
                <a:off x="3997440" y="2403360"/>
                <a:ext cx="0" cy="340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4004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13056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1964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0836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8796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668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6576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4500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73408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2280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1188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89148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8020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46928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04852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33760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62632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91684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7763040" y="2403360"/>
                <a:ext cx="0" cy="340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603840" y="2403360"/>
                <a:ext cx="0" cy="340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5129280" y="2403360"/>
                <a:ext cx="0" cy="340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2385720" y="5829480"/>
            <a:ext cx="61020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中期讨论会或报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705960" y="5844960"/>
            <a:ext cx="226800" cy="968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18800" y="5829480"/>
            <a:ext cx="2293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启动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07960" y="5829480"/>
            <a:ext cx="30564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最终报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70280" y="5811840"/>
            <a:ext cx="119160" cy="128520"/>
          </a:xfrm>
          <a:prstGeom prst="ellipse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71880" y="3405240"/>
            <a:ext cx="851040" cy="11268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65760" y="4062240"/>
            <a:ext cx="844560" cy="12888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52920" y="4417920"/>
            <a:ext cx="1175040" cy="12852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578640" y="4414680"/>
            <a:ext cx="226800" cy="968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47880" y="5827680"/>
            <a:ext cx="227160" cy="968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71880" y="3747960"/>
            <a:ext cx="838440" cy="12564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98880" y="5062680"/>
            <a:ext cx="1146240" cy="11592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62520" y="5367240"/>
            <a:ext cx="1158840" cy="11592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0960" y="2697120"/>
            <a:ext cx="15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6440" y="2400480"/>
            <a:ext cx="1876320" cy="542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5537160"/>
            <a:ext cx="8559720" cy="2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72000" y="5621400"/>
            <a:ext cx="1158840" cy="11592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43800" y="5614920"/>
            <a:ext cx="118800" cy="128520"/>
          </a:xfrm>
          <a:prstGeom prst="ellipse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3657600"/>
            <a:ext cx="8531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4.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项目的组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5800" y="3657600"/>
            <a:ext cx="8531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5.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项目的价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r" pos="852948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将为＊＊公司制订一个成功的公司管理方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9640" y="2465280"/>
            <a:ext cx="789624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16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为＊＊解决战略定位（纵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横向），即做什么，在哪些领域做，在此过程中，为＊＊将来自行制定战略，提供方法和流程的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为＊＊提供清晰的、可以执行的组织结构方案，落实到具体的人事岗位上。相关的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解决困扰企业的管理幅度和管理层次（扁平化）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部和事业部协调（如市场策划、研发）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域部门的作用和设置（北京办事处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1908000"/>
            <a:ext cx="8534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项目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r" pos="852948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将为＊＊公司制订一个成功的公司管理方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9640" y="2465280"/>
            <a:ext cx="789624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17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优化＊＊的管理流程，提高工作效率和协调程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部功能和事业部对接（如财务、市场策划、研发、生产、人事管理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质量控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售后服务服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7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7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为＊＊提供有竞争力的，又能够促进业绩目标达成的薪酬激励方案和完善的绩效考核制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薪酬制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绩效考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908000"/>
            <a:ext cx="8534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项目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r" pos="852948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目录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页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0560" y="1863720"/>
            <a:ext cx="8531280" cy="38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80880"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１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访谈摘要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项目的内容、方法和阶段结果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项目时间框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4.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项目组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5.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项目的价值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附录：项目成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360" y="3314520"/>
            <a:ext cx="57150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18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1.   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访谈摘要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179880" y="7048440"/>
            <a:ext cx="38224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1397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r" pos="852948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过访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XXX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加深了对＊＊公司项目的理解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38240" y="2379600"/>
            <a:ext cx="78962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14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问题的表现形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战略方面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纵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横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定位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流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部门设置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流程设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激励机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问题产生的原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没有相应的经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没有很好的总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没有主次的辨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对本次咨询的要求各有侧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高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员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12880" y="2997360"/>
            <a:ext cx="853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2.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项目的内容、方法和阶段成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922480" y="2460600"/>
            <a:ext cx="1990800" cy="466920"/>
          </a:xfrm>
          <a:custGeom>
            <a:avLst/>
            <a:gdLst>
              <a:gd name="textAreaLeft" fmla="*/ 0 w 1990800"/>
              <a:gd name="textAreaRight" fmla="*/ 1991160 w 19908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战略规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过沟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我们对项目模块和内容进行了调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主要是单独列出内外分析模快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并明确战略规划模块的侧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905120"/>
            <a:ext cx="8534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项目概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4960" y="3021120"/>
            <a:ext cx="1992240" cy="314640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1720" y="2452680"/>
            <a:ext cx="1990800" cy="466560"/>
          </a:xfrm>
          <a:custGeom>
            <a:avLst/>
            <a:gdLst>
              <a:gd name="textAreaLeft" fmla="*/ 0 w 1990800"/>
              <a:gd name="textAreaRight" fmla="*/ 1991160 w 19908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外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92320" y="2305080"/>
            <a:ext cx="265320" cy="2379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8320" y="2347920"/>
            <a:ext cx="265320" cy="2379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54760" y="2446200"/>
            <a:ext cx="1990440" cy="466920"/>
          </a:xfrm>
          <a:custGeom>
            <a:avLst/>
            <a:gdLst>
              <a:gd name="textAreaLeft" fmla="*/ 0 w 1990440"/>
              <a:gd name="textAreaRight" fmla="*/ 1990800 w 199044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组织结构和关键流程设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37200" y="2303640"/>
            <a:ext cx="264960" cy="2379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92800" y="2446200"/>
            <a:ext cx="1990800" cy="466920"/>
          </a:xfrm>
          <a:custGeom>
            <a:avLst/>
            <a:gdLst>
              <a:gd name="textAreaLeft" fmla="*/ 0 w 1990800"/>
              <a:gd name="textAreaRight" fmla="*/ 1991160 w 19908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考核激励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08720" y="2311560"/>
            <a:ext cx="265320" cy="2379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35440" y="3014640"/>
            <a:ext cx="1992240" cy="314640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64120" y="3036960"/>
            <a:ext cx="1992240" cy="314640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94600" y="3046320"/>
            <a:ext cx="1992240" cy="3146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23760" y="3449520"/>
            <a:ext cx="175896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特定行业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投资项目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市场的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竞争对手的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发展历史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整体财务状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专有技术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竞争优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组织结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资源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存在问题调查和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6320" y="3449520"/>
            <a:ext cx="17719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核心能力的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特定细分市场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投资项目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的评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战略的构成要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战略管理的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60960" y="3459240"/>
            <a:ext cx="17715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组织模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总部职能部门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内部集分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所属单位的组织结构建议（举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关键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5840" y="3454560"/>
            <a:ext cx="1771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4040" y="3422520"/>
            <a:ext cx="17715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内外部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薪酬体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考核方案的制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实施计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r" pos="852948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内外分析是为了建立双方对公司理解的共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为项目的下一步发展奠定基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81560" y="2087640"/>
            <a:ext cx="3952800" cy="3618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项目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2320" y="2604960"/>
            <a:ext cx="3895920" cy="359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2040" y="1758960"/>
            <a:ext cx="8534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模块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：内外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35720" y="2603520"/>
            <a:ext cx="378936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部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公司管理层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事业部负责人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职能部门领导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外部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行业主管部门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行业专家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国外案例基准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问卷调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数据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桌面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SWO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基准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9480" y="2081160"/>
            <a:ext cx="3914640" cy="3621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阶段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8840" y="2598840"/>
            <a:ext cx="3895920" cy="357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64640" y="582480"/>
            <a:ext cx="291960" cy="41616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91520" y="588960"/>
            <a:ext cx="291960" cy="41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16960" y="585720"/>
            <a:ext cx="291960" cy="41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945640" y="582480"/>
            <a:ext cx="291960" cy="41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64640" y="404640"/>
            <a:ext cx="291960" cy="14940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91520" y="411120"/>
            <a:ext cx="291960" cy="149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16960" y="407880"/>
            <a:ext cx="291960" cy="149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945640" y="404640"/>
            <a:ext cx="291960" cy="149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6320" y="2728800"/>
            <a:ext cx="39196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加深对公司的了解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得出对公司的诊断结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进一步确定项目内容的侧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为后续内容的展开奠定基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r" pos="852948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战略模块的重点是培养＊＊自己的能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并在明确核心能力的前提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明确将来的发展方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42000" y="2151000"/>
            <a:ext cx="4091040" cy="3621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项目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03920" y="2630520"/>
            <a:ext cx="4035240" cy="359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2040" y="1758960"/>
            <a:ext cx="8534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模块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战略规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97600" y="2938320"/>
            <a:ext cx="379872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lnSpc>
                <a:spcPct val="13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专题培训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研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专题指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头脑风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桌面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960" y="2131920"/>
            <a:ext cx="4091040" cy="3621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阶段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0440" y="2611440"/>
            <a:ext cx="4035240" cy="357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3800" y="2946240"/>
            <a:ext cx="393084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明确公司的成功因素和核心能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未来公司的远景和发展方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包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对公司投资项目的意见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横向发展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延伸发展的定位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纵向发展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战略要素的组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战略的制定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执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调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64640" y="582480"/>
            <a:ext cx="291960" cy="41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91520" y="588960"/>
            <a:ext cx="291960" cy="415800"/>
          </a:xfrm>
          <a:prstGeom prst="rect">
            <a:avLst/>
          </a:prstGeom>
          <a:solidFill>
            <a:srgbClr val="77777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616960" y="585720"/>
            <a:ext cx="291960" cy="41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945640" y="582480"/>
            <a:ext cx="291960" cy="41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64640" y="404640"/>
            <a:ext cx="291960" cy="149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91520" y="411120"/>
            <a:ext cx="291960" cy="149400"/>
          </a:xfrm>
          <a:prstGeom prst="rect">
            <a:avLst/>
          </a:prstGeom>
          <a:solidFill>
            <a:srgbClr val="77777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16960" y="407880"/>
            <a:ext cx="291960" cy="149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45640" y="404640"/>
            <a:ext cx="291960" cy="149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07928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r" pos="852948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组织结构和关键流程的设计是为了更好地实现公司战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明确做事的职责和程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提高效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6520" y="2138400"/>
            <a:ext cx="3797280" cy="3618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项目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9800" y="2630520"/>
            <a:ext cx="3840120" cy="359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2040" y="1771560"/>
            <a:ext cx="8534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模块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组织结构和关键流程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8920" y="2743200"/>
            <a:ext cx="3205440" cy="16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研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重点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部讨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4320" y="2144880"/>
            <a:ext cx="3792600" cy="3618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阶段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46000" y="2611440"/>
            <a:ext cx="3726000" cy="357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64640" y="595440"/>
            <a:ext cx="291960" cy="41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616960" y="598320"/>
            <a:ext cx="291960" cy="41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945640" y="595440"/>
            <a:ext cx="291960" cy="41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64640" y="417600"/>
            <a:ext cx="291960" cy="149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616960" y="420840"/>
            <a:ext cx="291960" cy="149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45640" y="417600"/>
            <a:ext cx="291960" cy="149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3600" y="2793960"/>
            <a:ext cx="356256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总部与业务单元的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结构设置原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总部与特定业务单元的组织结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部门职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岗位设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主要业务活动的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预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财务管理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91520" y="588960"/>
            <a:ext cx="291960" cy="41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616960" y="585720"/>
            <a:ext cx="291960" cy="416160"/>
          </a:xfrm>
          <a:prstGeom prst="rect">
            <a:avLst/>
          </a:prstGeom>
          <a:solidFill>
            <a:srgbClr val="77777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91520" y="411120"/>
            <a:ext cx="291960" cy="149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16960" y="407880"/>
            <a:ext cx="291960" cy="149400"/>
          </a:xfrm>
          <a:prstGeom prst="rect">
            <a:avLst/>
          </a:prstGeom>
          <a:solidFill>
            <a:srgbClr val="77777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管理咨询 项目建议书</cp:keywords>
  <dc:language>en-US</dc:language>
  <cp:lastModifiedBy/>
  <cp:revision>0</cp:revision>
  <dc:subject/>
  <dc:title/>
</cp:coreProperties>
</file>