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B2E-5A4F-4577-AFEE-2B3F0DC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F97-7922-4974-8EAB-EC01FDA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ED0-9059-4F26-90EF-2DDB60B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976-1907-4213-BA16-46896C4F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D0B8-07FF-4B9E-B8EA-C9A59A6F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7251-1643-4113-8128-6B7C71A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A60-82EB-49C8-BB33-DCDFDE2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0A82-4DE7-4DB5-97F3-1F8CD20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7493-B513-4141-9CE1-D5CFBEB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7B67-96DA-4D90-B503-135CCB8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DF2-3161-4E31-AF6E-AE3C1C0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D5C-044A-4869-AF97-AEC44D5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C643-B792-443A-94E3-EABB2E4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5F9-3731-44BD-8440-35BD477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8AB6-0B57-43B3-84E0-1B72898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D186-2015-4B5A-8A46-BCB2C192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DBA-DBF3-4B80-A392-D92A6ED2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819-A1B4-457A-A92B-9A07112F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EEA-BAE2-4E48-8866-CD8977C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B85-006A-4E3D-8B3C-B841441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2A3-6FFA-4762-91B5-05FC369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006-DBA2-4C96-8B3D-ADC901C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85B-6BF9-4DD6-BF48-078FF3B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C92-7915-4D5A-98F4-3075880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1FC-7343-4E37-8CD1-FB9C6312D0CD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632-5252-49D7-8A25-CEE5BFE8D920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22720" y="1736640"/>
            <a:ext cx="5025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的上、下两个面怎么样？叫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做什么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用手摸一摸圆柱周围的面，你发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现什么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一共有几个面？是哪几个面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④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两个底面之间的距离叫做什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么？在哪里？有几条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8000" y="4572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仔细观察，边看书边思考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2160" y="1676520"/>
            <a:ext cx="53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将圆柱两底面分别画在纸上，剪下重叠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比较大小，你发现什么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把罐头盒或饮料罐等的商标纸用小刀沿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着它们的一条高切开，再打开，看看商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标纸是什么形状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用直尺量一量罐头盒的高，你发现什么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④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玩一玩你手中的圆柱体，你还发现了什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么？或还有什么疑问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4280" y="4572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组合作，动手动脑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71800" y="2362320"/>
            <a:ext cx="3429000" cy="1828800"/>
            <a:chOff x="2971800" y="2362320"/>
            <a:chExt cx="3429000" cy="1828800"/>
          </a:xfrm>
        </p:grpSpPr>
        <p:sp>
          <p:nvSpPr>
            <p:cNvPr id="114" name=""/>
            <p:cNvSpPr/>
            <p:nvPr/>
          </p:nvSpPr>
          <p:spPr>
            <a:xfrm>
              <a:off x="2971800" y="2571840"/>
              <a:ext cx="3429000" cy="1409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2362320"/>
              <a:ext cx="3429000" cy="417240"/>
            </a:xfrm>
            <a:prstGeom prst="ellipse">
              <a:avLst/>
            </a:prstGeom>
            <a:solidFill>
              <a:srgbClr val="00cc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3773520"/>
              <a:ext cx="3429000" cy="4176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0320" y="1989360"/>
            <a:ext cx="3717720" cy="3717720"/>
            <a:chOff x="2560320" y="1989360"/>
            <a:chExt cx="3717720" cy="3717720"/>
          </a:xfrm>
        </p:grpSpPr>
        <p:sp>
          <p:nvSpPr>
            <p:cNvPr id="119" name=""/>
            <p:cNvSpPr/>
            <p:nvPr/>
          </p:nvSpPr>
          <p:spPr>
            <a:xfrm rot="2700000">
              <a:off x="3314160" y="2671920"/>
              <a:ext cx="2209680" cy="23526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700000">
              <a:off x="4145400" y="2668320"/>
              <a:ext cx="2209680" cy="696960"/>
            </a:xfrm>
            <a:prstGeom prst="ellipse">
              <a:avLst/>
            </a:prstGeom>
            <a:solidFill>
              <a:srgbClr val="00cc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700000">
              <a:off x="2482920" y="4330800"/>
              <a:ext cx="2209680" cy="69696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31560" y="2552760"/>
            <a:ext cx="4457880" cy="2019240"/>
            <a:chOff x="2131560" y="2552760"/>
            <a:chExt cx="4457880" cy="2019240"/>
          </a:xfrm>
        </p:grpSpPr>
        <p:sp>
          <p:nvSpPr>
            <p:cNvPr id="124" name=""/>
            <p:cNvSpPr/>
            <p:nvPr/>
          </p:nvSpPr>
          <p:spPr>
            <a:xfrm rot="5400000">
              <a:off x="3377880" y="1841040"/>
              <a:ext cx="2019240" cy="3441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5108040" y="3051000"/>
              <a:ext cx="1943280" cy="1019160"/>
            </a:xfrm>
            <a:prstGeom prst="ellipse">
              <a:avLst/>
            </a:prstGeom>
            <a:solidFill>
              <a:srgbClr val="6699ff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669320" y="3051000"/>
              <a:ext cx="1943280" cy="101916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8840" y="5335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画圆柱体的步骤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6320" y="1600200"/>
            <a:ext cx="2484720" cy="2209680"/>
            <a:chOff x="526320" y="1600200"/>
            <a:chExt cx="2484720" cy="2209680"/>
          </a:xfrm>
        </p:grpSpPr>
        <p:sp>
          <p:nvSpPr>
            <p:cNvPr id="129" name=""/>
            <p:cNvSpPr/>
            <p:nvPr/>
          </p:nvSpPr>
          <p:spPr>
            <a:xfrm>
              <a:off x="533520" y="2971800"/>
              <a:ext cx="2438280" cy="838080"/>
            </a:xfrm>
            <a:prstGeom prst="ellipse">
              <a:avLst/>
            </a:prstGeom>
            <a:noFill/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320" y="1600200"/>
              <a:ext cx="248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一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上底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76720" y="1523880"/>
            <a:ext cx="2438280" cy="4114800"/>
            <a:chOff x="3276720" y="1523880"/>
            <a:chExt cx="2438280" cy="4114800"/>
          </a:xfrm>
        </p:grpSpPr>
        <p:sp>
          <p:nvSpPr>
            <p:cNvPr id="132" name=""/>
            <p:cNvSpPr/>
            <p:nvPr/>
          </p:nvSpPr>
          <p:spPr>
            <a:xfrm>
              <a:off x="3450960" y="1523880"/>
              <a:ext cx="221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二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侧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76720" y="2971800"/>
              <a:ext cx="2438280" cy="2666880"/>
              <a:chOff x="3276720" y="2971800"/>
              <a:chExt cx="2438280" cy="2666880"/>
            </a:xfrm>
          </p:grpSpPr>
          <p:sp>
            <p:nvSpPr>
              <p:cNvPr id="134" name=""/>
              <p:cNvSpPr/>
              <p:nvPr/>
            </p:nvSpPr>
            <p:spPr>
              <a:xfrm>
                <a:off x="3276720" y="2971800"/>
                <a:ext cx="2438280" cy="838080"/>
              </a:xfrm>
              <a:prstGeom prst="ellipse">
                <a:avLst/>
              </a:prstGeom>
              <a:noFill/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76720" y="3352680"/>
                <a:ext cx="0" cy="2286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15000" y="3352680"/>
                <a:ext cx="0" cy="2286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6095880" y="1523880"/>
            <a:ext cx="2630160" cy="4496040"/>
            <a:chOff x="6095880" y="1523880"/>
            <a:chExt cx="2630160" cy="4496040"/>
          </a:xfrm>
        </p:grpSpPr>
        <p:sp>
          <p:nvSpPr>
            <p:cNvPr id="138" name=""/>
            <p:cNvSpPr/>
            <p:nvPr/>
          </p:nvSpPr>
          <p:spPr>
            <a:xfrm>
              <a:off x="6241320" y="1523880"/>
              <a:ext cx="248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三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下底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095880" y="2971800"/>
              <a:ext cx="2590920" cy="3048120"/>
              <a:chOff x="6095880" y="2971800"/>
              <a:chExt cx="2590920" cy="3048120"/>
            </a:xfrm>
          </p:grpSpPr>
          <p:sp>
            <p:nvSpPr>
              <p:cNvPr id="140" name=""/>
              <p:cNvSpPr/>
              <p:nvPr/>
            </p:nvSpPr>
            <p:spPr>
              <a:xfrm>
                <a:off x="6172200" y="5181480"/>
                <a:ext cx="2438280" cy="838440"/>
              </a:xfrm>
              <a:prstGeom prst="ellipse">
                <a:avLst/>
              </a:prstGeom>
              <a:noFill/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95880" y="4952880"/>
                <a:ext cx="2590920" cy="609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172200" y="2971800"/>
                <a:ext cx="2438280" cy="2666880"/>
                <a:chOff x="6172200" y="2971800"/>
                <a:chExt cx="2438280" cy="2666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172200" y="2971800"/>
                  <a:ext cx="2438280" cy="838080"/>
                </a:xfrm>
                <a:prstGeom prst="ellipse">
                  <a:avLst/>
                </a:prstGeom>
                <a:noFill/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72200" y="33526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10480" y="33526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19240" y="4572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、指出下面图形中哪些是圆柱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4800" y="1355760"/>
            <a:ext cx="2560320" cy="1692360"/>
            <a:chOff x="334800" y="1355760"/>
            <a:chExt cx="2560320" cy="1692360"/>
          </a:xfrm>
        </p:grpSpPr>
        <p:grpSp>
          <p:nvGrpSpPr>
            <p:cNvPr id="148" name=""/>
            <p:cNvGrpSpPr/>
            <p:nvPr/>
          </p:nvGrpSpPr>
          <p:grpSpPr>
            <a:xfrm>
              <a:off x="456840" y="1523880"/>
              <a:ext cx="2438280" cy="1524240"/>
              <a:chOff x="456840" y="1523880"/>
              <a:chExt cx="2438280" cy="1524240"/>
            </a:xfrm>
          </p:grpSpPr>
          <p:sp>
            <p:nvSpPr>
              <p:cNvPr id="149" name=""/>
              <p:cNvSpPr/>
              <p:nvPr/>
            </p:nvSpPr>
            <p:spPr>
              <a:xfrm rot="10800000">
                <a:off x="456840" y="1649520"/>
                <a:ext cx="2438280" cy="122292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268920 h 1222920"/>
                  <a:gd name="textAreaBottom" fmla="*/ 954000 h 12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0320" y="1523880"/>
                <a:ext cx="1291320" cy="3369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1200" y="2711160"/>
                <a:ext cx="2365920" cy="33696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4800" y="1355760"/>
              <a:ext cx="6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①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1371600"/>
            <a:ext cx="5104800" cy="1447920"/>
            <a:chOff x="3276720" y="1371600"/>
            <a:chExt cx="5104800" cy="1447920"/>
          </a:xfrm>
        </p:grpSpPr>
        <p:grpSp>
          <p:nvGrpSpPr>
            <p:cNvPr id="154" name=""/>
            <p:cNvGrpSpPr/>
            <p:nvPr/>
          </p:nvGrpSpPr>
          <p:grpSpPr>
            <a:xfrm>
              <a:off x="3962520" y="1600200"/>
              <a:ext cx="4419000" cy="1219320"/>
              <a:chOff x="3962520" y="1600200"/>
              <a:chExt cx="4419000" cy="1219320"/>
            </a:xfrm>
          </p:grpSpPr>
          <p:sp>
            <p:nvSpPr>
              <p:cNvPr id="155" name=""/>
              <p:cNvSpPr/>
              <p:nvPr/>
            </p:nvSpPr>
            <p:spPr>
              <a:xfrm rot="5400000">
                <a:off x="5589000" y="503640"/>
                <a:ext cx="1219320" cy="341208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400000">
                <a:off x="7289640" y="1703160"/>
                <a:ext cx="1173240" cy="1010160"/>
              </a:xfrm>
              <a:prstGeom prst="ellipse">
                <a:avLst/>
              </a:prstGeom>
              <a:solidFill>
                <a:srgbClr val="6699ff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3880800" y="1703160"/>
                <a:ext cx="1173240" cy="10101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276720" y="13716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②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600" y="3413160"/>
            <a:ext cx="2095920" cy="2225160"/>
            <a:chOff x="570600" y="3413160"/>
            <a:chExt cx="2095920" cy="2225160"/>
          </a:xfrm>
        </p:grpSpPr>
        <p:grpSp>
          <p:nvGrpSpPr>
            <p:cNvPr id="160" name=""/>
            <p:cNvGrpSpPr/>
            <p:nvPr/>
          </p:nvGrpSpPr>
          <p:grpSpPr>
            <a:xfrm>
              <a:off x="914400" y="3886200"/>
              <a:ext cx="1752120" cy="1752120"/>
              <a:chOff x="914400" y="3886200"/>
              <a:chExt cx="1752120" cy="1752120"/>
            </a:xfrm>
          </p:grpSpPr>
          <p:sp>
            <p:nvSpPr>
              <p:cNvPr id="161" name=""/>
              <p:cNvSpPr/>
              <p:nvPr/>
            </p:nvSpPr>
            <p:spPr>
              <a:xfrm>
                <a:off x="914400" y="3886200"/>
                <a:ext cx="1752120" cy="17521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53080" y="388620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53080" y="511272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70600" y="341316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③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921400" y="3413160"/>
            <a:ext cx="2488680" cy="2454120"/>
            <a:chOff x="2921400" y="3413160"/>
            <a:chExt cx="2488680" cy="2454120"/>
          </a:xfrm>
        </p:grpSpPr>
        <p:grpSp>
          <p:nvGrpSpPr>
            <p:cNvPr id="166" name=""/>
            <p:cNvGrpSpPr/>
            <p:nvPr/>
          </p:nvGrpSpPr>
          <p:grpSpPr>
            <a:xfrm>
              <a:off x="3505320" y="3581280"/>
              <a:ext cx="1904760" cy="2286000"/>
              <a:chOff x="3505320" y="3581280"/>
              <a:chExt cx="1904760" cy="2286000"/>
            </a:xfrm>
          </p:grpSpPr>
          <p:sp>
            <p:nvSpPr>
              <p:cNvPr id="167" name=""/>
              <p:cNvSpPr/>
              <p:nvPr/>
            </p:nvSpPr>
            <p:spPr>
              <a:xfrm>
                <a:off x="3505320" y="3843360"/>
                <a:ext cx="1904760" cy="176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05320" y="3581280"/>
                <a:ext cx="1904760" cy="52236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5345280"/>
                <a:ext cx="1904760" cy="52200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921400" y="341316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④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45840" y="3475080"/>
            <a:ext cx="2142360" cy="2332080"/>
            <a:chOff x="6045840" y="3475080"/>
            <a:chExt cx="2142360" cy="2332080"/>
          </a:xfrm>
        </p:grpSpPr>
        <p:sp>
          <p:nvSpPr>
            <p:cNvPr id="172" name=""/>
            <p:cNvSpPr/>
            <p:nvPr/>
          </p:nvSpPr>
          <p:spPr>
            <a:xfrm>
              <a:off x="6045840" y="348948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⑤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607440" y="3475080"/>
              <a:ext cx="1580760" cy="2332080"/>
              <a:chOff x="6607440" y="3475080"/>
              <a:chExt cx="1580760" cy="2332080"/>
            </a:xfrm>
          </p:grpSpPr>
          <p:sp>
            <p:nvSpPr>
              <p:cNvPr id="174" name=""/>
              <p:cNvSpPr/>
              <p:nvPr/>
            </p:nvSpPr>
            <p:spPr>
              <a:xfrm>
                <a:off x="6740640" y="3783240"/>
                <a:ext cx="1230120" cy="176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40640" y="5285160"/>
                <a:ext cx="1230120" cy="52200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50120" y="3733920"/>
                <a:ext cx="838080" cy="68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100000">
                <a:off x="6629400" y="3841920"/>
                <a:ext cx="1447920" cy="5335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02120" y="1905120"/>
            <a:ext cx="502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体的高只有一条。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上下两个底面相等的圆形物体一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定是圆柱体。        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体底面周长和高相等时，沿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着它的一条高剪开，侧面是一个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正方形。            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88560" y="595440"/>
            <a:ext cx="39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、判断：对的打“√”，错的打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×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6320" y="4876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4800" y="30193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8480" y="180036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08480" y="492120"/>
            <a:ext cx="628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、读出下面各圆柱的有关数据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（图中单位：厘米）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2697120"/>
            <a:ext cx="1981440" cy="2636640"/>
            <a:chOff x="838080" y="2697120"/>
            <a:chExt cx="1981440" cy="2636640"/>
          </a:xfrm>
        </p:grpSpPr>
        <p:grpSp>
          <p:nvGrpSpPr>
            <p:cNvPr id="185" name=""/>
            <p:cNvGrpSpPr/>
            <p:nvPr/>
          </p:nvGrpSpPr>
          <p:grpSpPr>
            <a:xfrm>
              <a:off x="838080" y="2895480"/>
              <a:ext cx="1371600" cy="2438280"/>
              <a:chOff x="838080" y="2895480"/>
              <a:chExt cx="1371600" cy="2438280"/>
            </a:xfrm>
          </p:grpSpPr>
          <p:sp>
            <p:nvSpPr>
              <p:cNvPr id="186" name=""/>
              <p:cNvSpPr/>
              <p:nvPr/>
            </p:nvSpPr>
            <p:spPr>
              <a:xfrm>
                <a:off x="838080" y="2895480"/>
                <a:ext cx="1371600" cy="24382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38080" y="3200400"/>
                <a:ext cx="137160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295280" y="2697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124080" y="3505320"/>
            <a:ext cx="2590920" cy="1419480"/>
            <a:chOff x="3124080" y="3505320"/>
            <a:chExt cx="2590920" cy="1419480"/>
          </a:xfrm>
        </p:grpSpPr>
        <p:grpSp>
          <p:nvGrpSpPr>
            <p:cNvPr id="191" name=""/>
            <p:cNvGrpSpPr/>
            <p:nvPr/>
          </p:nvGrpSpPr>
          <p:grpSpPr>
            <a:xfrm>
              <a:off x="3200400" y="3505320"/>
              <a:ext cx="2514600" cy="914400"/>
              <a:chOff x="3200400" y="3505320"/>
              <a:chExt cx="2514600" cy="914400"/>
            </a:xfrm>
          </p:grpSpPr>
          <p:sp>
            <p:nvSpPr>
              <p:cNvPr id="192" name=""/>
              <p:cNvSpPr/>
              <p:nvPr/>
            </p:nvSpPr>
            <p:spPr>
              <a:xfrm rot="16200000">
                <a:off x="4000320" y="2705040"/>
                <a:ext cx="914400" cy="25146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05320" y="3505320"/>
                <a:ext cx="0" cy="91440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240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343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819520"/>
            <a:ext cx="3048120" cy="2133360"/>
            <a:chOff x="5943600" y="2819520"/>
            <a:chExt cx="3048120" cy="2133360"/>
          </a:xfrm>
        </p:grpSpPr>
        <p:grpSp>
          <p:nvGrpSpPr>
            <p:cNvPr id="197" name=""/>
            <p:cNvGrpSpPr/>
            <p:nvPr/>
          </p:nvGrpSpPr>
          <p:grpSpPr>
            <a:xfrm>
              <a:off x="5943600" y="3124080"/>
              <a:ext cx="2438280" cy="1828800"/>
              <a:chOff x="5943600" y="3124080"/>
              <a:chExt cx="2438280" cy="1828800"/>
            </a:xfrm>
          </p:grpSpPr>
          <p:sp>
            <p:nvSpPr>
              <p:cNvPr id="198" name=""/>
              <p:cNvSpPr/>
              <p:nvPr/>
            </p:nvSpPr>
            <p:spPr>
              <a:xfrm>
                <a:off x="5943600" y="3124080"/>
                <a:ext cx="2438280" cy="1828800"/>
              </a:xfrm>
              <a:prstGeom prst="can">
                <a:avLst>
                  <a:gd name="adj" fmla="val 25000"/>
                </a:avLst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43600" y="3352680"/>
                <a:ext cx="243828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629400" y="2819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59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小学教育 圆柱体</cp:keywords>
  <dc:language>en-US</dc:language>
  <cp:lastModifiedBy/>
  <cp:revision>0</cp:revision>
  <dc:subject/>
  <dc:title/>
</cp:coreProperties>
</file>