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C51-5EB7-489E-BD36-772C13BF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E9A-68D3-40EE-A7FF-CB1EF6AB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E47-A012-4F37-BEB2-54FC559A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69E-4A03-45FD-A91A-ABDDE582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353D-20FE-4D1C-BAB2-4BD142A7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AD77-43F6-4FE5-892B-ED9F6F4F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54B7-DB33-4080-AF9B-E1D78B12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6971-4B4F-4C48-81A4-0D1756E3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A000-DBA4-4CF8-8E1C-A6AF13AD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C9D4-0B5D-47AF-8EF9-BFF15029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CEE8-489A-44E2-9C35-AF0058F2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50F-0465-442C-8C1E-1F645E45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2C95-ABCD-474C-B5C3-FF813C7F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688C-006F-43E1-B381-D4EDC983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9541-50CB-4DE2-8403-0AFA41CE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1EA7-B094-4DFE-AD9D-DDC61A0D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4EEB-56D4-4E2B-89CF-D49B267B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690-B732-4C50-9B41-86ABB3B6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95E-A370-40C4-83D4-4BE61E7D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D5F-6883-42FE-8CD7-7C5852CC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78E-F4BF-4EF4-82E2-FEEF6872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82D-39D5-4523-8A53-79EA4A41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004-B6EB-44B2-916A-6F9C0ECE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B37-69FA-4E2F-A399-0AC616CE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8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BA2F-5799-4789-941C-E4F129BEBCD6}" type="slidenum"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1465200" cy="68565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1573200"/>
              <a:ext cx="14605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0" y="2376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360" y="331308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501660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576440" y="3079800"/>
              <a:ext cx="7566120" cy="189000"/>
              <a:chOff x="1576440" y="3079800"/>
              <a:chExt cx="7566120" cy="189000"/>
            </a:xfrm>
          </p:grpSpPr>
          <p:sp>
            <p:nvSpPr>
              <p:cNvPr id="62" name=""/>
              <p:cNvSpPr/>
              <p:nvPr/>
            </p:nvSpPr>
            <p:spPr>
              <a:xfrm>
                <a:off x="1581120" y="309096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585800" y="32655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585800" y="32274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585800" y="3179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85800" y="3125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76440" y="307980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AC45-CAB7-44EF-B49B-C7E943E265D6}" type="slidenum"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3200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6600"/>
                </a:solidFill>
                <a:latin typeface="Times New Roman"/>
                <a:ea typeface="標楷體"/>
              </a:rPr>
              <a:t>藝術教育課程架構 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43200" y="304920"/>
            <a:ext cx="3962520" cy="457200"/>
          </a:xfrm>
          <a:prstGeom prst="flowChartAlternateProcess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ccff"/>
                </a:solidFill>
                <a:latin typeface="Times New Roman"/>
                <a:ea typeface="標楷體"/>
              </a:rPr>
              <a:t>藝術課程宗旨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666880"/>
            <a:ext cx="4876920" cy="2743200"/>
          </a:xfrm>
          <a:prstGeom prst="flowChartAlternate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5050"/>
                </a:solidFill>
                <a:latin typeface="Times New Roman"/>
                <a:ea typeface="標楷體"/>
              </a:rPr>
              <a:t>學習重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從學習活動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學生通過有效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學與敎及評估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發展技能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知識和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09480" y="990720"/>
            <a:ext cx="8153640" cy="1143000"/>
            <a:chOff x="609480" y="990720"/>
            <a:chExt cx="8153640" cy="1143000"/>
          </a:xfrm>
        </p:grpSpPr>
        <p:sp>
          <p:nvSpPr>
            <p:cNvPr id="112" name=""/>
            <p:cNvSpPr/>
            <p:nvPr/>
          </p:nvSpPr>
          <p:spPr>
            <a:xfrm>
              <a:off x="609480" y="990720"/>
              <a:ext cx="1752840" cy="114300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培養創意及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想像力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990720"/>
              <a:ext cx="1752480" cy="114300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發展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技能與過程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52880" y="990720"/>
              <a:ext cx="1752840" cy="114300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培養評賞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藝術的能力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990720"/>
              <a:ext cx="1752840" cy="114300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認識藝術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的情境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33520" y="5867280"/>
            <a:ext cx="8153280" cy="703800"/>
          </a:xfrm>
          <a:prstGeom prst="rect">
            <a:avLst/>
          </a:prstGeom>
          <a:solidFill>
            <a:srgbClr val="ccff66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5050"/>
                </a:solidFill>
                <a:latin typeface="Times New Roman"/>
                <a:ea typeface="標楷體"/>
              </a:rPr>
              <a:t>視覺藝術        媒體藝術</a:t>
            </a:r>
            <a:r>
              <a:rPr b="0" lang="zh-TW" sz="2000" spc="-1" strike="noStrike">
                <a:solidFill>
                  <a:srgbClr val="ff5050"/>
                </a:solidFill>
                <a:latin typeface="Times New Roman"/>
                <a:ea typeface="標楷體"/>
              </a:rPr>
              <a:t>	</a:t>
            </a:r>
            <a:r>
              <a:rPr b="0" lang="zh-TW" sz="2000" spc="-1" strike="noStrike">
                <a:solidFill>
                  <a:srgbClr val="ff5050"/>
                </a:solidFill>
                <a:latin typeface="Times New Roman"/>
                <a:ea typeface="標楷體"/>
              </a:rPr>
              <a:t>      舞蹈         戲劇        音樂      其他藝術形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352680"/>
            <a:ext cx="838080" cy="1981440"/>
          </a:xfrm>
          <a:prstGeom prst="flowChartAlternate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ccff"/>
                </a:solidFill>
                <a:latin typeface="Times New Roman"/>
                <a:ea typeface="標楷體"/>
              </a:rPr>
              <a:t>共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ccff"/>
                </a:solidFill>
                <a:latin typeface="Times New Roman"/>
                <a:ea typeface="標楷體"/>
              </a:rPr>
              <a:t>能力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3505320"/>
            <a:ext cx="838080" cy="1981080"/>
          </a:xfrm>
          <a:prstGeom prst="flowChartAlternate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ccff"/>
                </a:solidFill>
                <a:latin typeface="Times New Roman"/>
                <a:ea typeface="標楷體"/>
              </a:rPr>
              <a:t>價值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ccff"/>
                </a:solidFill>
                <a:latin typeface="Times New Roman"/>
                <a:ea typeface="標楷體"/>
              </a:rPr>
              <a:t>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ccff"/>
                </a:solidFill>
                <a:latin typeface="Times New Roman"/>
                <a:ea typeface="標楷體"/>
              </a:rPr>
              <a:t>態度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724280" y="5486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24280" y="2133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724280" y="762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599840" y="4191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086240" y="4267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360" y="60912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  <a:ea typeface="標楷體"/>
              </a:rPr>
              <a:t>藝術教育課程宗旨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6120" y="2120400"/>
            <a:ext cx="7010640" cy="369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發展創造力及批判性思考能力，培養美感、建立文化認知及有效的溝通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發展藝術創作的技能、建構知識及培養正確的價值觀和態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從參與藝術創作活動獲得愉悅、享受及滿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培養對藝術的終身興趣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6600"/>
                </a:solidFill>
                <a:latin typeface="Times New Roman"/>
                <a:ea typeface="標楷體"/>
              </a:rPr>
              <a:t>藝術課程的推行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708516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根據中央課程，學校辦學宗旨和學校特色，訂立校本藝術政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設計各藝術科目的校本課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委任一位藝術教育課程領袖，統籌及推行藝術課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根據個別課程指引，儘快分階段編寫及推行新的藝術課程，以期於</a:t>
            </a: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2006-7</a:t>
            </a: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至</a:t>
            </a: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2010-11</a:t>
            </a: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年間全面實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5050"/>
                </a:solidFill>
                <a:latin typeface="標楷體"/>
                <a:ea typeface="標楷體"/>
              </a:rPr>
              <a:t>校本藝術課程設計的考慮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49600" y="1981080"/>
            <a:ext cx="678312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標楷體"/>
                <a:ea typeface="標楷體"/>
              </a:rPr>
              <a:t>均衡及多元化的藝術課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標楷體"/>
                <a:ea typeface="標楷體"/>
              </a:rPr>
              <a:t>跨藝術形式學習及與其他學習領域的連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標楷體"/>
                <a:ea typeface="標楷體"/>
              </a:rPr>
              <a:t>學習時間的分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3366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在初中的正規課程提供</a:t>
            </a: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8-10% </a:t>
            </a: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作為藝術課堂時間</a:t>
            </a:r>
            <a:r>
              <a:rPr b="0" lang="zh-TW" sz="3200" spc="-1" strike="noStrike">
                <a:solidFill>
                  <a:srgbClr val="9933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運用全方位學習，豐富學生的學習經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善用校內及社區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學與教的轉變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27000" y="1904760"/>
            <a:ext cx="70102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藝術教師作為學習的輔導者及促進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不拘泥於對或錯，讓學生在一個開放的環境下大膽地探索和嘗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發展不同的教學策略，如藝術的綜合學習、 從閱讀中學習、專題研習</a:t>
            </a:r>
            <a:r>
              <a:rPr b="0" lang="en-US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、</a:t>
            </a: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運用資訊科技進行互動學習及照顧學習差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融合德育及公民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著重促進學習的評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5050"/>
                </a:solidFill>
                <a:latin typeface="Times New Roman"/>
                <a:ea typeface="標楷體"/>
              </a:rPr>
              <a:t>科目組織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993366"/>
                </a:solidFill>
                <a:uFillTx/>
                <a:latin typeface="標楷體"/>
                <a:ea typeface="標楷體"/>
              </a:rPr>
              <a:t>錯誤的觀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要推行一個綜合藝術科，教師要兼教其他藝術科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要推行五個藝術科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993366"/>
                </a:solidFill>
                <a:uFillTx/>
                <a:latin typeface="標楷體"/>
                <a:ea typeface="標楷體"/>
              </a:rPr>
              <a:t>正確的觀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仍以本科為基礎，提倡藝術的綜合學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五個藝術形式不一定要以獨立的科目推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各種藝術形式可以在非正規課程裡面推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35049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993366"/>
                </a:solidFill>
                <a:latin typeface="標楷體"/>
                <a:ea typeface="標楷體"/>
              </a:rPr>
              <a:t>謝謝</a:t>
            </a:r>
            <a:r>
              <a:rPr b="1" lang="zh-TW" sz="7200" spc="-1" strike="noStrike">
                <a:solidFill>
                  <a:srgbClr val="993366"/>
                </a:solidFill>
                <a:latin typeface="新細明體"/>
              </a:rPr>
              <a:t>！</a:t>
            </a:r>
            <a:r>
              <a:rPr b="1" lang="zh-TW" sz="7200" spc="-1" strike="noStrike">
                <a:solidFill>
                  <a:srgbClr val="99ff33"/>
                </a:solidFill>
                <a:latin typeface="標楷體"/>
                <a:ea typeface="標楷體"/>
              </a:rPr>
              <a:t> </a:t>
            </a:r>
            <a:br>
              <a:rPr sz="7200"/>
            </a:br>
            <a:br>
              <a:rPr sz="6000"/>
            </a:br>
            <a:endParaRPr b="0" i="1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藝術 教育 課程 架構</cp:keywords>
  <dc:language>en-US</dc:language>
  <cp:lastModifiedBy/>
  <cp:revision>0</cp:revision>
  <dc:subject/>
  <dc:title/>
</cp:coreProperties>
</file>