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8270-EF68-40B0-A8A5-A1E878FB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1F9-7AE1-4387-ACC7-5CC421B2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5F8-2DF0-45FD-8A68-12793965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31D2-386E-4045-A011-6E6123F6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429-E747-44B0-B820-3D84BDC5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A98-3517-4E95-A6A9-D8534063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647-2EEA-4939-BE26-9E217B36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D361-AD08-4D8A-9A86-AF5003BA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FFED-69DD-4F98-9175-2A78C600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80E-5362-4525-9E44-ED9C5B3C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8C3-69EC-4A73-A3C3-A5815808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0A0-8F98-4CBF-82A1-E2D9149E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C6A2-A745-4B43-B3BC-F032B75975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000080" y="421488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职场、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071720" y="471492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41929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69789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5"/>
          <p:cNvSpPr/>
          <p:nvPr/>
        </p:nvSpPr>
        <p:spPr>
          <a:xfrm>
            <a:off x="11926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折角形 9"/>
          <p:cNvSpPr/>
          <p:nvPr/>
        </p:nvSpPr>
        <p:spPr>
          <a:xfrm>
            <a:off x="480960" y="1928880"/>
            <a:ext cx="2448000" cy="1465200"/>
          </a:xfrm>
          <a:prstGeom prst="foldedCorner">
            <a:avLst>
              <a:gd name="adj" fmla="val 16666"/>
            </a:avLst>
          </a:pr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折角形 10"/>
          <p:cNvSpPr/>
          <p:nvPr/>
        </p:nvSpPr>
        <p:spPr>
          <a:xfrm>
            <a:off x="6338880" y="1928880"/>
            <a:ext cx="2448000" cy="1465200"/>
          </a:xfrm>
          <a:prstGeom prst="foldedCorner">
            <a:avLst>
              <a:gd name="adj" fmla="val 16666"/>
            </a:avLst>
          </a:pr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折角形 11"/>
          <p:cNvSpPr/>
          <p:nvPr/>
        </p:nvSpPr>
        <p:spPr>
          <a:xfrm>
            <a:off x="3409920" y="1928880"/>
            <a:ext cx="2448000" cy="1465200"/>
          </a:xfrm>
          <a:prstGeom prst="foldedCorner">
            <a:avLst>
              <a:gd name="adj" fmla="val 16666"/>
            </a:avLst>
          </a:pr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2"/>
          <p:cNvSpPr/>
          <p:nvPr/>
        </p:nvSpPr>
        <p:spPr>
          <a:xfrm flipH="1">
            <a:off x="3122640" y="3502080"/>
            <a:ext cx="1440" cy="1857240"/>
          </a:xfrm>
          <a:prstGeom prst="line">
            <a:avLst/>
          </a:prstGeom>
          <a:ln w="9360">
            <a:solidFill>
              <a:srgbClr val="434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13"/>
          <p:cNvSpPr/>
          <p:nvPr/>
        </p:nvSpPr>
        <p:spPr>
          <a:xfrm flipH="1">
            <a:off x="6122520" y="3571920"/>
            <a:ext cx="1800" cy="1857240"/>
          </a:xfrm>
          <a:prstGeom prst="line">
            <a:avLst/>
          </a:prstGeom>
          <a:ln w="9360">
            <a:solidFill>
              <a:srgbClr val="434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双大括号 15"/>
          <p:cNvSpPr/>
          <p:nvPr/>
        </p:nvSpPr>
        <p:spPr>
          <a:xfrm>
            <a:off x="1285920" y="1857240"/>
            <a:ext cx="1214280" cy="3143520"/>
          </a:xfrm>
          <a:prstGeom prst="bracePair">
            <a:avLst>
              <a:gd name="adj" fmla="val 8333"/>
            </a:avLst>
          </a:prstGeom>
          <a:noFill/>
          <a:ln w="73080">
            <a:solidFill>
              <a:srgbClr val="b5c4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双大括号 16"/>
          <p:cNvSpPr/>
          <p:nvPr/>
        </p:nvSpPr>
        <p:spPr>
          <a:xfrm>
            <a:off x="3143160" y="1857240"/>
            <a:ext cx="1214640" cy="3143520"/>
          </a:xfrm>
          <a:prstGeom prst="bracePair">
            <a:avLst>
              <a:gd name="adj" fmla="val 8333"/>
            </a:avLst>
          </a:prstGeom>
          <a:noFill/>
          <a:ln w="73080">
            <a:solidFill>
              <a:srgbClr val="434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双大括号 17"/>
          <p:cNvSpPr/>
          <p:nvPr/>
        </p:nvSpPr>
        <p:spPr>
          <a:xfrm>
            <a:off x="4786200" y="1857240"/>
            <a:ext cx="1214640" cy="3143520"/>
          </a:xfrm>
          <a:prstGeom prst="bracePair">
            <a:avLst>
              <a:gd name="adj" fmla="val 8333"/>
            </a:avLst>
          </a:prstGeom>
          <a:noFill/>
          <a:ln w="73080">
            <a:solidFill>
              <a:srgbClr val="b5c4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双大括号 18"/>
          <p:cNvSpPr/>
          <p:nvPr/>
        </p:nvSpPr>
        <p:spPr>
          <a:xfrm>
            <a:off x="6643800" y="1857240"/>
            <a:ext cx="1214280" cy="3143520"/>
          </a:xfrm>
          <a:prstGeom prst="bracePair">
            <a:avLst>
              <a:gd name="adj" fmla="val 8333"/>
            </a:avLst>
          </a:prstGeom>
          <a:noFill/>
          <a:ln w="73080">
            <a:solidFill>
              <a:srgbClr val="434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3500280" y="2714760"/>
            <a:ext cx="42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7072200" y="2714760"/>
            <a:ext cx="21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5214960" y="2714760"/>
            <a:ext cx="28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5"/>
          <p:cNvSpPr/>
          <p:nvPr/>
        </p:nvSpPr>
        <p:spPr>
          <a:xfrm>
            <a:off x="1571760" y="26431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左右箭头 10"/>
          <p:cNvSpPr/>
          <p:nvPr/>
        </p:nvSpPr>
        <p:spPr>
          <a:xfrm>
            <a:off x="2786040" y="2558880"/>
            <a:ext cx="4108320" cy="1370160"/>
          </a:xfrm>
          <a:prstGeom prst="leftRightArrow">
            <a:avLst>
              <a:gd name="adj1" fmla="val 87213"/>
              <a:gd name="adj2" fmla="val 49988"/>
            </a:avLst>
          </a:pr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左右箭头 11"/>
          <p:cNvSpPr/>
          <p:nvPr/>
        </p:nvSpPr>
        <p:spPr>
          <a:xfrm>
            <a:off x="2786040" y="1201680"/>
            <a:ext cx="4108320" cy="1370160"/>
          </a:xfrm>
          <a:prstGeom prst="leftRightArrow">
            <a:avLst>
              <a:gd name="adj1" fmla="val 87213"/>
              <a:gd name="adj2" fmla="val 49988"/>
            </a:avLst>
          </a:pr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左右箭头 12"/>
          <p:cNvSpPr/>
          <p:nvPr/>
        </p:nvSpPr>
        <p:spPr>
          <a:xfrm>
            <a:off x="2786040" y="3916440"/>
            <a:ext cx="4108320" cy="1369800"/>
          </a:xfrm>
          <a:prstGeom prst="leftRightArrow">
            <a:avLst>
              <a:gd name="adj1" fmla="val 87213"/>
              <a:gd name="adj2" fmla="val 50001"/>
            </a:avLst>
          </a:pr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44978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4497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44978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流程图: 库存数据 6"/>
          <p:cNvSpPr/>
          <p:nvPr/>
        </p:nvSpPr>
        <p:spPr>
          <a:xfrm>
            <a:off x="2714760" y="2857680"/>
            <a:ext cx="1857240" cy="785520"/>
          </a:xfrm>
          <a:prstGeom prst="flowChartOnlineStorage">
            <a:avLst/>
          </a:pr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流程图: 库存数据 7"/>
          <p:cNvSpPr/>
          <p:nvPr/>
        </p:nvSpPr>
        <p:spPr>
          <a:xfrm flipH="1">
            <a:off x="5357160" y="2857680"/>
            <a:ext cx="1857240" cy="785520"/>
          </a:xfrm>
          <a:prstGeom prst="flowChartOnlineStorage">
            <a:avLst/>
          </a:pr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流程图: 库存数据 8"/>
          <p:cNvSpPr/>
          <p:nvPr/>
        </p:nvSpPr>
        <p:spPr>
          <a:xfrm rot="5400000">
            <a:off x="4035960" y="1607400"/>
            <a:ext cx="1857240" cy="785880"/>
          </a:xfrm>
          <a:prstGeom prst="flowChartOnlineStorage">
            <a:avLst/>
          </a:pr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流程图: 库存数据 9"/>
          <p:cNvSpPr/>
          <p:nvPr/>
        </p:nvSpPr>
        <p:spPr>
          <a:xfrm flipH="1" rot="5400000">
            <a:off x="4035600" y="4107240"/>
            <a:ext cx="1857240" cy="785880"/>
          </a:xfrm>
          <a:prstGeom prst="flowChartOnlineStorage">
            <a:avLst/>
          </a:pr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44265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6140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27835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44978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泪滴形 6"/>
          <p:cNvSpPr/>
          <p:nvPr/>
        </p:nvSpPr>
        <p:spPr>
          <a:xfrm>
            <a:off x="2714760" y="3929040"/>
            <a:ext cx="1652400" cy="1652760"/>
          </a:xfrm>
          <a:custGeom>
            <a:avLst/>
            <a:gdLst/>
            <a:ahLst/>
            <a:rect l="l" t="t" r="r" b="b"/>
            <a:pathLst>
              <a:path w="1652588" h="1652587">
                <a:moveTo>
                  <a:pt x="0" y="826294"/>
                </a:moveTo>
                <a:cubicBezTo>
                  <a:pt x="0" y="369944"/>
                  <a:pt x="369944" y="0"/>
                  <a:pt x="826294" y="0"/>
                </a:cubicBezTo>
                <a:cubicBezTo>
                  <a:pt x="1189723" y="0"/>
                  <a:pt x="1553152" y="-87998"/>
                  <a:pt x="1916581" y="-263993"/>
                </a:cubicBezTo>
                <a:cubicBezTo>
                  <a:pt x="1740586" y="99436"/>
                  <a:pt x="1652588" y="462865"/>
                  <a:pt x="1652588" y="826294"/>
                </a:cubicBezTo>
                <a:cubicBezTo>
                  <a:pt x="1652588" y="1282644"/>
                  <a:pt x="1282644" y="1652588"/>
                  <a:pt x="826294" y="1652588"/>
                </a:cubicBezTo>
                <a:cubicBezTo>
                  <a:pt x="369944" y="1652588"/>
                  <a:pt x="0" y="1282644"/>
                  <a:pt x="0" y="826294"/>
                </a:cubicBezTo>
                <a:close/>
              </a:path>
            </a:pathLst>
          </a:cu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泪滴形 7"/>
          <p:cNvSpPr/>
          <p:nvPr/>
        </p:nvSpPr>
        <p:spPr>
          <a:xfrm flipH="1">
            <a:off x="5428440" y="3929040"/>
            <a:ext cx="1652760" cy="1652760"/>
          </a:xfrm>
          <a:custGeom>
            <a:avLst/>
            <a:gdLst/>
            <a:ahLst/>
            <a:rect l="l" t="t" r="r" b="b"/>
            <a:pathLst>
              <a:path w="1652588" h="1652587">
                <a:moveTo>
                  <a:pt x="0" y="826294"/>
                </a:moveTo>
                <a:cubicBezTo>
                  <a:pt x="0" y="369944"/>
                  <a:pt x="369944" y="0"/>
                  <a:pt x="826294" y="0"/>
                </a:cubicBezTo>
                <a:cubicBezTo>
                  <a:pt x="1189723" y="0"/>
                  <a:pt x="1553152" y="-87998"/>
                  <a:pt x="1916581" y="-263993"/>
                </a:cubicBezTo>
                <a:cubicBezTo>
                  <a:pt x="1740586" y="99436"/>
                  <a:pt x="1652588" y="462865"/>
                  <a:pt x="1652588" y="826294"/>
                </a:cubicBezTo>
                <a:cubicBezTo>
                  <a:pt x="1652588" y="1282644"/>
                  <a:pt x="1282644" y="1652588"/>
                  <a:pt x="826294" y="1652588"/>
                </a:cubicBezTo>
                <a:cubicBezTo>
                  <a:pt x="369944" y="1652588"/>
                  <a:pt x="0" y="1282644"/>
                  <a:pt x="0" y="826294"/>
                </a:cubicBezTo>
                <a:close/>
              </a:path>
            </a:pathLst>
          </a:cu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泪滴形 8"/>
          <p:cNvSpPr/>
          <p:nvPr/>
        </p:nvSpPr>
        <p:spPr>
          <a:xfrm flipH="1" flipV="1">
            <a:off x="5428440" y="1213560"/>
            <a:ext cx="1652760" cy="1652760"/>
          </a:xfrm>
          <a:custGeom>
            <a:avLst/>
            <a:gdLst/>
            <a:ahLst/>
            <a:rect l="l" t="t" r="r" b="b"/>
            <a:pathLst>
              <a:path w="1652588" h="1652587">
                <a:moveTo>
                  <a:pt x="0" y="826294"/>
                </a:moveTo>
                <a:cubicBezTo>
                  <a:pt x="0" y="369944"/>
                  <a:pt x="369944" y="0"/>
                  <a:pt x="826294" y="0"/>
                </a:cubicBezTo>
                <a:cubicBezTo>
                  <a:pt x="1189723" y="0"/>
                  <a:pt x="1553152" y="-87998"/>
                  <a:pt x="1916581" y="-263993"/>
                </a:cubicBezTo>
                <a:cubicBezTo>
                  <a:pt x="1740586" y="99436"/>
                  <a:pt x="1652588" y="462865"/>
                  <a:pt x="1652588" y="826294"/>
                </a:cubicBezTo>
                <a:cubicBezTo>
                  <a:pt x="1652588" y="1282644"/>
                  <a:pt x="1282644" y="1652588"/>
                  <a:pt x="826294" y="1652588"/>
                </a:cubicBezTo>
                <a:cubicBezTo>
                  <a:pt x="369944" y="1652588"/>
                  <a:pt x="0" y="1282644"/>
                  <a:pt x="0" y="826294"/>
                </a:cubicBezTo>
                <a:close/>
              </a:path>
            </a:pathLst>
          </a:cu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泪滴形 9"/>
          <p:cNvSpPr/>
          <p:nvPr/>
        </p:nvSpPr>
        <p:spPr>
          <a:xfrm flipV="1">
            <a:off x="2714760" y="1213200"/>
            <a:ext cx="1652400" cy="1652760"/>
          </a:xfrm>
          <a:custGeom>
            <a:avLst/>
            <a:gdLst/>
            <a:ahLst/>
            <a:rect l="l" t="t" r="r" b="b"/>
            <a:pathLst>
              <a:path w="1652588" h="1652587">
                <a:moveTo>
                  <a:pt x="0" y="826294"/>
                </a:moveTo>
                <a:cubicBezTo>
                  <a:pt x="0" y="369944"/>
                  <a:pt x="369944" y="0"/>
                  <a:pt x="826294" y="0"/>
                </a:cubicBezTo>
                <a:cubicBezTo>
                  <a:pt x="1189723" y="0"/>
                  <a:pt x="1553152" y="-87998"/>
                  <a:pt x="1916581" y="-263993"/>
                </a:cubicBezTo>
                <a:cubicBezTo>
                  <a:pt x="1740586" y="99436"/>
                  <a:pt x="1652588" y="462865"/>
                  <a:pt x="1652588" y="826294"/>
                </a:cubicBezTo>
                <a:cubicBezTo>
                  <a:pt x="1652588" y="1282644"/>
                  <a:pt x="1282644" y="1652588"/>
                  <a:pt x="826294" y="1652588"/>
                </a:cubicBezTo>
                <a:cubicBezTo>
                  <a:pt x="369944" y="1652588"/>
                  <a:pt x="0" y="1282644"/>
                  <a:pt x="0" y="826294"/>
                </a:cubicBezTo>
                <a:close/>
              </a:path>
            </a:pathLst>
          </a:cu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32119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57121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3140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57121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泪滴形 6"/>
          <p:cNvSpPr/>
          <p:nvPr/>
        </p:nvSpPr>
        <p:spPr>
          <a:xfrm rot="673800">
            <a:off x="2571480" y="3285720"/>
            <a:ext cx="2357280" cy="2357640"/>
          </a:xfrm>
          <a:custGeom>
            <a:avLst/>
            <a:gdLst/>
            <a:ahLst/>
            <a:rect l="l" t="t" r="r" b="b"/>
            <a:pathLst>
              <a:path w="2357438" h="2357438">
                <a:moveTo>
                  <a:pt x="0" y="1178719"/>
                </a:moveTo>
                <a:cubicBezTo>
                  <a:pt x="0" y="527730"/>
                  <a:pt x="527730" y="0"/>
                  <a:pt x="1178719" y="0"/>
                </a:cubicBezTo>
                <a:lnTo>
                  <a:pt x="2357438" y="0"/>
                </a:lnTo>
                <a:lnTo>
                  <a:pt x="2357438" y="1178719"/>
                </a:lnTo>
                <a:cubicBezTo>
                  <a:pt x="2357438" y="1829708"/>
                  <a:pt x="1829708" y="2357438"/>
                  <a:pt x="1178719" y="2357438"/>
                </a:cubicBezTo>
                <a:cubicBezTo>
                  <a:pt x="527730" y="2357438"/>
                  <a:pt x="0" y="1829708"/>
                  <a:pt x="0" y="1178719"/>
                </a:cubicBezTo>
                <a:close/>
              </a:path>
            </a:pathLst>
          </a:cu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泪滴形 7"/>
          <p:cNvSpPr/>
          <p:nvPr/>
        </p:nvSpPr>
        <p:spPr>
          <a:xfrm flipH="1" flipV="1" rot="673800">
            <a:off x="4928040" y="928800"/>
            <a:ext cx="2357640" cy="2357280"/>
          </a:xfrm>
          <a:custGeom>
            <a:avLst/>
            <a:gdLst/>
            <a:ahLst/>
            <a:rect l="l" t="t" r="r" b="b"/>
            <a:pathLst>
              <a:path w="2357437" h="2357437">
                <a:moveTo>
                  <a:pt x="0" y="1178719"/>
                </a:moveTo>
                <a:cubicBezTo>
                  <a:pt x="0" y="527730"/>
                  <a:pt x="527730" y="0"/>
                  <a:pt x="1178719" y="0"/>
                </a:cubicBezTo>
                <a:lnTo>
                  <a:pt x="2357437" y="0"/>
                </a:lnTo>
                <a:lnTo>
                  <a:pt x="2357437" y="1178719"/>
                </a:lnTo>
                <a:cubicBezTo>
                  <a:pt x="2357437" y="1829708"/>
                  <a:pt x="1829707" y="2357438"/>
                  <a:pt x="1178718" y="2357438"/>
                </a:cubicBezTo>
                <a:cubicBezTo>
                  <a:pt x="527729" y="2357438"/>
                  <a:pt x="-1" y="1829708"/>
                  <a:pt x="-1" y="1178719"/>
                </a:cubicBezTo>
                <a:lnTo>
                  <a:pt x="0" y="1178719"/>
                </a:lnTo>
                <a:close/>
              </a:path>
            </a:pathLst>
          </a:cu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泪滴形 8"/>
          <p:cNvSpPr/>
          <p:nvPr/>
        </p:nvSpPr>
        <p:spPr>
          <a:xfrm flipH="1" rot="674400">
            <a:off x="4929120" y="3285720"/>
            <a:ext cx="2357640" cy="2358000"/>
          </a:xfrm>
          <a:custGeom>
            <a:avLst/>
            <a:gdLst/>
            <a:ahLst/>
            <a:rect l="l" t="t" r="r" b="b"/>
            <a:pathLst>
              <a:path w="2357437" h="2357438">
                <a:moveTo>
                  <a:pt x="0" y="1178719"/>
                </a:moveTo>
                <a:cubicBezTo>
                  <a:pt x="0" y="527730"/>
                  <a:pt x="527730" y="0"/>
                  <a:pt x="1178719" y="0"/>
                </a:cubicBezTo>
                <a:lnTo>
                  <a:pt x="2357437" y="0"/>
                </a:lnTo>
                <a:lnTo>
                  <a:pt x="2357437" y="1178719"/>
                </a:lnTo>
                <a:cubicBezTo>
                  <a:pt x="2357437" y="1829708"/>
                  <a:pt x="1829707" y="2357438"/>
                  <a:pt x="1178718" y="2357438"/>
                </a:cubicBezTo>
                <a:cubicBezTo>
                  <a:pt x="527729" y="2357438"/>
                  <a:pt x="-1" y="1829708"/>
                  <a:pt x="-1" y="1178719"/>
                </a:cubicBezTo>
                <a:lnTo>
                  <a:pt x="0" y="1178719"/>
                </a:lnTo>
                <a:close/>
              </a:path>
            </a:pathLst>
          </a:cu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泪滴形 9"/>
          <p:cNvSpPr/>
          <p:nvPr/>
        </p:nvSpPr>
        <p:spPr>
          <a:xfrm flipV="1" rot="674400">
            <a:off x="2571840" y="928080"/>
            <a:ext cx="2357280" cy="2357280"/>
          </a:xfrm>
          <a:custGeom>
            <a:avLst/>
            <a:gdLst/>
            <a:ahLst/>
            <a:rect l="l" t="t" r="r" b="b"/>
            <a:pathLst>
              <a:path w="2357438" h="2357437">
                <a:moveTo>
                  <a:pt x="0" y="1178719"/>
                </a:moveTo>
                <a:cubicBezTo>
                  <a:pt x="0" y="527730"/>
                  <a:pt x="527730" y="0"/>
                  <a:pt x="1178719" y="0"/>
                </a:cubicBezTo>
                <a:lnTo>
                  <a:pt x="2357438" y="0"/>
                </a:lnTo>
                <a:lnTo>
                  <a:pt x="2357438" y="1178719"/>
                </a:lnTo>
                <a:cubicBezTo>
                  <a:pt x="2357438" y="1829708"/>
                  <a:pt x="1829708" y="2357438"/>
                  <a:pt x="1178719" y="2357438"/>
                </a:cubicBezTo>
                <a:cubicBezTo>
                  <a:pt x="527730" y="2357438"/>
                  <a:pt x="0" y="1829708"/>
                  <a:pt x="0" y="1178719"/>
                </a:cubicBezTo>
                <a:close/>
              </a:path>
            </a:pathLst>
          </a:cu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3140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5712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54979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30690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下箭头 6"/>
          <p:cNvSpPr/>
          <p:nvPr/>
        </p:nvSpPr>
        <p:spPr>
          <a:xfrm>
            <a:off x="2571840" y="642960"/>
            <a:ext cx="4498920" cy="2878200"/>
          </a:xfrm>
          <a:prstGeom prst="downArrow">
            <a:avLst>
              <a:gd name="adj1" fmla="val 0"/>
              <a:gd name="adj2" fmla="val 58106"/>
            </a:avLst>
          </a:prstGeom>
          <a:solidFill>
            <a:srgbClr val="b5c4c7"/>
          </a:solidFill>
          <a:ln w="25560">
            <a:solidFill>
              <a:srgbClr val="b5c4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下箭头 7"/>
          <p:cNvSpPr/>
          <p:nvPr/>
        </p:nvSpPr>
        <p:spPr>
          <a:xfrm flipV="1">
            <a:off x="2585880" y="3551400"/>
            <a:ext cx="4499280" cy="2877840"/>
          </a:xfrm>
          <a:prstGeom prst="downArrow">
            <a:avLst>
              <a:gd name="adj1" fmla="val 0"/>
              <a:gd name="adj2" fmla="val 58106"/>
            </a:avLst>
          </a:prstGeom>
          <a:solidFill>
            <a:srgbClr val="434456"/>
          </a:solidFill>
          <a:ln w="25560">
            <a:solidFill>
              <a:srgbClr val="434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4569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4"/>
          <p:cNvSpPr/>
          <p:nvPr/>
        </p:nvSpPr>
        <p:spPr>
          <a:xfrm>
            <a:off x="44265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虚尾箭头 6"/>
          <p:cNvSpPr/>
          <p:nvPr/>
        </p:nvSpPr>
        <p:spPr>
          <a:xfrm>
            <a:off x="4689360" y="2286000"/>
            <a:ext cx="2997360" cy="1785960"/>
          </a:xfrm>
          <a:custGeom>
            <a:avLst/>
            <a:gdLst/>
            <a:ahLst/>
            <a:rect l="l" t="t" r="r" b="b"/>
            <a:pathLst>
              <a:path w="2997200" h="1785938">
                <a:moveTo>
                  <a:pt x="0" y="281848"/>
                </a:moveTo>
                <a:lnTo>
                  <a:pt x="55811" y="281848"/>
                </a:lnTo>
                <a:lnTo>
                  <a:pt x="55811" y="1504090"/>
                </a:lnTo>
                <a:lnTo>
                  <a:pt x="0" y="1504090"/>
                </a:lnTo>
                <a:lnTo>
                  <a:pt x="0" y="281848"/>
                </a:lnTo>
                <a:close/>
                <a:moveTo>
                  <a:pt x="111621" y="281848"/>
                </a:moveTo>
                <a:lnTo>
                  <a:pt x="223242" y="281848"/>
                </a:lnTo>
                <a:lnTo>
                  <a:pt x="223242" y="1504090"/>
                </a:lnTo>
                <a:lnTo>
                  <a:pt x="111621" y="1504090"/>
                </a:lnTo>
                <a:lnTo>
                  <a:pt x="111621" y="281848"/>
                </a:lnTo>
                <a:close/>
                <a:moveTo>
                  <a:pt x="279053" y="281848"/>
                </a:moveTo>
                <a:lnTo>
                  <a:pt x="2104231" y="281848"/>
                </a:lnTo>
                <a:lnTo>
                  <a:pt x="2104231" y="0"/>
                </a:lnTo>
                <a:lnTo>
                  <a:pt x="2997200" y="892969"/>
                </a:lnTo>
                <a:lnTo>
                  <a:pt x="2104231" y="1785938"/>
                </a:lnTo>
                <a:lnTo>
                  <a:pt x="2104231" y="1504090"/>
                </a:lnTo>
                <a:lnTo>
                  <a:pt x="279053" y="1504090"/>
                </a:lnTo>
                <a:lnTo>
                  <a:pt x="279053" y="281848"/>
                </a:lnTo>
                <a:close/>
              </a:path>
            </a:pathLst>
          </a:cu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虚尾箭头 7"/>
          <p:cNvSpPr/>
          <p:nvPr/>
        </p:nvSpPr>
        <p:spPr>
          <a:xfrm flipH="1">
            <a:off x="1643040" y="2286000"/>
            <a:ext cx="2997360" cy="1785960"/>
          </a:xfrm>
          <a:custGeom>
            <a:avLst/>
            <a:gdLst/>
            <a:ahLst/>
            <a:rect l="l" t="t" r="r" b="b"/>
            <a:pathLst>
              <a:path w="2997200" h="1785938">
                <a:moveTo>
                  <a:pt x="0" y="281848"/>
                </a:moveTo>
                <a:lnTo>
                  <a:pt x="55811" y="281848"/>
                </a:lnTo>
                <a:lnTo>
                  <a:pt x="55811" y="1504090"/>
                </a:lnTo>
                <a:lnTo>
                  <a:pt x="0" y="1504090"/>
                </a:lnTo>
                <a:lnTo>
                  <a:pt x="0" y="281848"/>
                </a:lnTo>
                <a:close/>
                <a:moveTo>
                  <a:pt x="111621" y="281848"/>
                </a:moveTo>
                <a:lnTo>
                  <a:pt x="223242" y="281848"/>
                </a:lnTo>
                <a:lnTo>
                  <a:pt x="223242" y="1504090"/>
                </a:lnTo>
                <a:lnTo>
                  <a:pt x="111621" y="1504090"/>
                </a:lnTo>
                <a:lnTo>
                  <a:pt x="111621" y="281848"/>
                </a:lnTo>
                <a:close/>
                <a:moveTo>
                  <a:pt x="279053" y="281848"/>
                </a:moveTo>
                <a:lnTo>
                  <a:pt x="2104231" y="281848"/>
                </a:lnTo>
                <a:lnTo>
                  <a:pt x="2104231" y="0"/>
                </a:lnTo>
                <a:lnTo>
                  <a:pt x="2997200" y="892969"/>
                </a:lnTo>
                <a:lnTo>
                  <a:pt x="2104231" y="1785938"/>
                </a:lnTo>
                <a:lnTo>
                  <a:pt x="2104231" y="1504090"/>
                </a:lnTo>
                <a:lnTo>
                  <a:pt x="279053" y="1504090"/>
                </a:lnTo>
                <a:lnTo>
                  <a:pt x="279053" y="281848"/>
                </a:lnTo>
                <a:close/>
              </a:path>
            </a:pathLst>
          </a:cu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2854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4"/>
          <p:cNvSpPr/>
          <p:nvPr/>
        </p:nvSpPr>
        <p:spPr>
          <a:xfrm>
            <a:off x="5426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右箭头标注 6"/>
          <p:cNvSpPr/>
          <p:nvPr/>
        </p:nvSpPr>
        <p:spPr>
          <a:xfrm rot="5400000">
            <a:off x="3019680" y="3944160"/>
            <a:ext cx="2567160" cy="1955880"/>
          </a:xfrm>
          <a:prstGeom prst="rightArrowCallout">
            <a:avLst>
              <a:gd name="adj1" fmla="val 13455"/>
              <a:gd name="adj2" fmla="val 15375"/>
              <a:gd name="adj3" fmla="val 19250"/>
              <a:gd name="adj4" fmla="val 64977"/>
            </a:avLst>
          </a:pr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右箭头标注 7"/>
          <p:cNvSpPr/>
          <p:nvPr/>
        </p:nvSpPr>
        <p:spPr>
          <a:xfrm>
            <a:off x="5281560" y="3638520"/>
            <a:ext cx="2629080" cy="1649520"/>
          </a:xfrm>
          <a:prstGeom prst="rightArrowCallout">
            <a:avLst>
              <a:gd name="adj1" fmla="val 13455"/>
              <a:gd name="adj2" fmla="val 15375"/>
              <a:gd name="adj3" fmla="val 19252"/>
              <a:gd name="adj4" fmla="val 64977"/>
            </a:avLst>
          </a:pr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右箭头标注 8"/>
          <p:cNvSpPr/>
          <p:nvPr/>
        </p:nvSpPr>
        <p:spPr>
          <a:xfrm rot="10800000">
            <a:off x="2285640" y="1681920"/>
            <a:ext cx="2995560" cy="1955880"/>
          </a:xfrm>
          <a:prstGeom prst="rightArrowCallout">
            <a:avLst>
              <a:gd name="adj1" fmla="val 13455"/>
              <a:gd name="adj2" fmla="val 15375"/>
              <a:gd name="adj3" fmla="val 19244"/>
              <a:gd name="adj4" fmla="val 64977"/>
            </a:avLst>
          </a:pr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右箭头标注 9"/>
          <p:cNvSpPr/>
          <p:nvPr/>
        </p:nvSpPr>
        <p:spPr>
          <a:xfrm flipV="1" rot="16200000">
            <a:off x="4639320" y="1284120"/>
            <a:ext cx="2995560" cy="1711440"/>
          </a:xfrm>
          <a:prstGeom prst="rightArrowCallout">
            <a:avLst>
              <a:gd name="adj1" fmla="val 13455"/>
              <a:gd name="adj2" fmla="val 15375"/>
              <a:gd name="adj3" fmla="val 19245"/>
              <a:gd name="adj4" fmla="val 64977"/>
            </a:avLst>
          </a:prstGeom>
          <a:solidFill>
            <a:srgbClr val="43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3862080" y="247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5634360" y="4309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3862080" y="4309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5634360" y="2538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Hong .</cp:lastModifiedBy>
  <dcterms:modified xsi:type="dcterms:W3CDTF">2015-09-04T14:38:59Z</dcterms:modified>
  <cp:revision>29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