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519-3FB8-4F9B-8D2A-C62A34D2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105-A4B4-4C06-B1AA-9E0FE28A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486-8FE2-4216-AA8D-BB76D661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536-3BAC-4AE9-AF37-03516ABF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DECF-2D4F-4B6C-A6A6-5AB4A3B1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BC17-ABF1-4907-AF13-5E9A2A27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1E74-B421-4AFD-B4A1-4FB8283A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D404-75CB-418F-BC50-392EF253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A230-F348-4AB5-BEE0-577FDEF1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D5F8-F59C-4586-BA45-CAF46D90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D7FF-EBC5-44AF-87E3-E7C985E2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616-3C08-4F5F-B09B-6D077ABF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837B-F9FB-4637-BC7D-DFD03B51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2435-C297-4BA2-9D10-7DAC19A6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BA2A-2C33-4127-9108-2F0B25FF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582D-6896-4775-AE50-F74F6652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4E77-EF4B-4788-91CF-77411DC5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241-D5F3-41F0-9A94-930D07CB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574-F7C3-43A4-89F9-C50D99D4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331-1DB7-4EB3-9E7D-67DAAF9E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290-8878-4B50-ABAB-D76B291D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BCB-78C7-4E18-BF4F-0597A65D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475-9395-4EA6-95D7-C7F59BD1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8F3-26AF-4FCA-BC31-58B9D878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75C3-4492-4FEA-9D96-2D042D9AA618}" type="slidenum">
              <a:rPr b="0" lang="zh-TW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50760"/>
            <a:ext cx="8926200" cy="6743520"/>
            <a:chOff x="0" y="50760"/>
            <a:chExt cx="8926200" cy="6743520"/>
          </a:xfrm>
        </p:grpSpPr>
        <p:sp>
          <p:nvSpPr>
            <p:cNvPr id="71" name=""/>
            <p:cNvSpPr/>
            <p:nvPr/>
          </p:nvSpPr>
          <p:spPr>
            <a:xfrm>
              <a:off x="528840" y="201960"/>
              <a:ext cx="8397360" cy="6466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0" y="50760"/>
              <a:ext cx="11811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96880" y="4129920"/>
              <a:ext cx="1041120" cy="456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5"/>
            <a:srcRect l="0" t="40000" r="0" b="0"/>
            <a:stretch/>
          </p:blipFill>
          <p:spPr>
            <a:xfrm>
              <a:off x="0" y="4222800"/>
              <a:ext cx="1181160" cy="25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9E62-84E9-4068-BD66-3E4832A122DF}" type="slidenum">
              <a:rPr b="0" lang="zh-TW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方正準圓"/>
              </a:rPr>
              <a:t>XXXXX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  <a:ea typeface="方正準圓"/>
              </a:rPr>
              <a:t>專題研究報告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828800" y="28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準圓"/>
                <a:ea typeface="方正準圓"/>
              </a:rPr>
              <a:t>XX P.E.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方正準圓"/>
                <a:ea typeface="方正準圓"/>
              </a:rPr>
              <a:t>佔考試</a:t>
            </a:r>
            <a:r>
              <a:rPr b="1" lang="zh-TW" sz="4000" spc="-1" strike="noStrike">
                <a:solidFill>
                  <a:srgbClr val="000000"/>
                </a:solidFill>
                <a:latin typeface="方正準圓"/>
                <a:ea typeface="方正準圓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311560" y="8668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Times New Roman"/>
                <a:ea typeface="方正準圓"/>
              </a:rPr>
              <a:t>體育科專題報告學習理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92920" y="2003400"/>
            <a:ext cx="36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1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培養對體育活動</a:t>
            </a:r>
            <a:r>
              <a:rPr b="0" lang="zh-TW" sz="3200" spc="-1" strike="noStrike">
                <a:solidFill>
                  <a:srgbClr val="a1bd69"/>
                </a:solidFill>
                <a:latin typeface="方正準圓"/>
                <a:ea typeface="方正準圓"/>
              </a:rPr>
              <a:t>更多的認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4400" y="2746440"/>
            <a:ext cx="37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2) </a:t>
            </a:r>
            <a:r>
              <a:rPr b="0" lang="zh-TW" sz="3200" spc="-1" strike="noStrike">
                <a:solidFill>
                  <a:srgbClr val="a1bd69"/>
                </a:solidFill>
                <a:latin typeface="方正準圓"/>
                <a:ea typeface="方正準圓"/>
              </a:rPr>
              <a:t>彌補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平日體育科的不足之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59360" y="3451320"/>
            <a:ext cx="41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3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建立鄧中體育圖書館</a:t>
            </a:r>
            <a:r>
              <a:rPr b="0" lang="zh-TW" sz="3200" spc="-1" strike="noStrike">
                <a:solidFill>
                  <a:srgbClr val="a1bd69"/>
                </a:solidFill>
                <a:latin typeface="方正準圓"/>
                <a:ea typeface="方正準圓"/>
              </a:rPr>
              <a:t>(</a:t>
            </a:r>
            <a:r>
              <a:rPr b="0" lang="zh-TW" sz="3200" spc="-1" strike="noStrike">
                <a:solidFill>
                  <a:srgbClr val="a1bd69"/>
                </a:solidFill>
                <a:latin typeface="方正準圓"/>
                <a:ea typeface="方正準圓"/>
              </a:rPr>
              <a:t>資料庫</a:t>
            </a:r>
            <a:r>
              <a:rPr b="0" lang="zh-TW" sz="3200" spc="-1" strike="noStrike">
                <a:solidFill>
                  <a:srgbClr val="a1bd69"/>
                </a:solidFill>
                <a:latin typeface="方正準圓"/>
                <a:ea typeface="方正準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8560" y="4270320"/>
            <a:ext cx="37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4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與同學</a:t>
            </a:r>
            <a:r>
              <a:rPr b="0" lang="zh-TW" sz="3200" spc="-1" strike="noStrike">
                <a:solidFill>
                  <a:srgbClr val="a1bd69"/>
                </a:solidFill>
                <a:latin typeface="方正準圓"/>
                <a:ea typeface="方正準圓"/>
              </a:rPr>
              <a:t>分享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體育活動之資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1360" y="5051520"/>
            <a:ext cx="39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5) </a:t>
            </a:r>
            <a:r>
              <a:rPr b="0" lang="zh-TW" sz="3200" spc="-1" strike="noStrike">
                <a:solidFill>
                  <a:srgbClr val="a1bd69"/>
                </a:solidFill>
                <a:latin typeface="方正準圓"/>
                <a:ea typeface="方正準圓"/>
              </a:rPr>
              <a:t>學習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分工、合作、討論的</a:t>
            </a:r>
            <a:r>
              <a:rPr b="0" lang="zh-TW" sz="3200" spc="-1" strike="noStrike">
                <a:solidFill>
                  <a:srgbClr val="a1bd69"/>
                </a:solidFill>
                <a:latin typeface="方正準圓"/>
                <a:ea typeface="方正準圓"/>
              </a:rPr>
              <a:t>經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397320" y="1892160"/>
            <a:ext cx="3171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1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人數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: </a:t>
            </a:r>
            <a:r>
              <a:rPr b="0" lang="zh-TW" sz="3200" spc="-1" strike="noStrike">
                <a:solidFill>
                  <a:srgbClr val="a1bd69"/>
                </a:solidFill>
                <a:latin typeface="方正準圓"/>
                <a:ea typeface="方正準圓"/>
              </a:rPr>
              <a:t>四至五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位同學一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2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研究題目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每組需訂出專題研究題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3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各報告必須包括封面、題目名稱、目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、組員名稱、分工及感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2000" y="762120"/>
            <a:ext cx="15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方正準圓"/>
                <a:ea typeface="方正準圓"/>
              </a:rPr>
              <a:t>報告形式</a:t>
            </a:r>
            <a:r>
              <a:rPr b="1" lang="zh-TW" sz="3600" spc="-1" strike="noStrike">
                <a:solidFill>
                  <a:srgbClr val="ff3300"/>
                </a:solidFill>
                <a:latin typeface="方正準圓"/>
                <a:ea typeface="方正準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07160" y="838080"/>
            <a:ext cx="39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方正準圓"/>
                <a:ea typeface="方正準圓"/>
              </a:rPr>
              <a:t>中四級</a:t>
            </a:r>
            <a:r>
              <a:rPr b="1" lang="zh-TW" sz="3600" spc="-1" strike="noStrike">
                <a:solidFill>
                  <a:srgbClr val="ff3300"/>
                </a:solidFill>
                <a:latin typeface="方正準圓"/>
                <a:ea typeface="方正準圓"/>
              </a:rPr>
              <a:t>: </a:t>
            </a:r>
            <a:r>
              <a:rPr b="1" lang="zh-TW" sz="3600" spc="-1" strike="noStrike">
                <a:solidFill>
                  <a:srgbClr val="ff3300"/>
                </a:solidFill>
                <a:latin typeface="方正準圓"/>
                <a:ea typeface="方正準圓"/>
              </a:rPr>
              <a:t>運動創傷專題報告</a:t>
            </a:r>
            <a:r>
              <a:rPr b="1" lang="zh-TW" sz="3600" spc="-1" strike="noStrike">
                <a:solidFill>
                  <a:srgbClr val="ff3300"/>
                </a:solidFill>
                <a:latin typeface="方正準圓"/>
                <a:ea typeface="方正準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08040" y="1697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06080" y="2133720"/>
            <a:ext cx="4700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1.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簡介運動創傷的種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2.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試舉一或兩項運動項目常有的創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3.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應如何處理該項目的創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4.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做運動前，應注意什麼事地方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如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地、天氣、人數、器材等，才可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少受傷意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5.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組員在運動時有沒有受傷的經歷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若有，亦可作分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6.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其他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有關新聞等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9000" y="146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方正準圓"/>
              </a:rPr>
              <a:t>內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73160" y="2343240"/>
            <a:ext cx="528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1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設計問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2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訪問人數、對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3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報告統計數字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可利用統計圖表去表達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4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研究心得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總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4960" y="103968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方正準圓"/>
                <a:ea typeface="方正準圓"/>
              </a:rPr>
              <a:t>問卷調查</a:t>
            </a:r>
            <a:r>
              <a:rPr b="1" lang="zh-TW" sz="3600" spc="-1" strike="noStrike">
                <a:solidFill>
                  <a:srgbClr val="ff3300"/>
                </a:solidFill>
                <a:latin typeface="方正準圓"/>
                <a:ea typeface="方正準圓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52560" y="2343240"/>
            <a:ext cx="5141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1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當然要大家寫出 </a:t>
            </a:r>
            <a:r>
              <a:rPr b="0" lang="zh-TW" sz="3200" spc="-1" strike="noStrike">
                <a:solidFill>
                  <a:srgbClr val="ff3300"/>
                </a:solidFill>
                <a:latin typeface="方正準圓"/>
                <a:ea typeface="方正準圓"/>
              </a:rPr>
              <a:t>研究後感想 </a:t>
            </a:r>
            <a:r>
              <a:rPr b="0" lang="zh-TW" sz="3200" spc="-1" strike="noStrike">
                <a:solidFill>
                  <a:srgbClr val="ff3300"/>
                </a:solidFill>
                <a:latin typeface="方正準圓"/>
                <a:ea typeface="方正準圓"/>
              </a:rPr>
              <a:t>(</a:t>
            </a:r>
            <a:r>
              <a:rPr b="0" lang="zh-TW" sz="3200" spc="-1" strike="noStrike">
                <a:solidFill>
                  <a:srgbClr val="ff3300"/>
                </a:solidFill>
                <a:latin typeface="方正準圓"/>
                <a:ea typeface="方正準圓"/>
              </a:rPr>
              <a:t>各組員</a:t>
            </a:r>
            <a:r>
              <a:rPr b="0" lang="zh-TW" sz="3200" spc="-1" strike="noStrike">
                <a:solidFill>
                  <a:srgbClr val="cc9864"/>
                </a:solidFill>
                <a:latin typeface="方正準圓"/>
                <a:ea typeface="方正準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2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組員名稱及分工細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3) 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鳴謝及列出資料來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8800" y="96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方正準圓"/>
                <a:ea typeface="方正準圓"/>
              </a:rPr>
              <a:t>最後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9600" y="99072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方正準圓"/>
                <a:ea typeface="方正準圓"/>
              </a:rPr>
              <a:t>繳交日期</a:t>
            </a:r>
            <a:r>
              <a:rPr b="0" lang="zh-TW" sz="3600" spc="-1" strike="noStrike">
                <a:solidFill>
                  <a:srgbClr val="ff3300"/>
                </a:solidFill>
                <a:latin typeface="方正準圓"/>
                <a:ea typeface="方正準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133720"/>
            <a:ext cx="7086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21304"/>
                </a:solidFill>
                <a:latin typeface="Arial"/>
              </a:rPr>
              <a:t>X/X/XXX</a:t>
            </a:r>
            <a:r>
              <a:rPr b="1" lang="en-US" sz="4400" spc="-1" strike="noStrike">
                <a:solidFill>
                  <a:srgbClr val="221304"/>
                </a:solidFill>
                <a:latin typeface="方正準圓"/>
                <a:ea typeface="方正準圓"/>
              </a:rPr>
              <a:t>(</a:t>
            </a:r>
            <a:r>
              <a:rPr b="1" lang="zh-TW" sz="4400" spc="-1" strike="noStrike">
                <a:solidFill>
                  <a:srgbClr val="221304"/>
                </a:solidFill>
                <a:latin typeface="方正準圓"/>
                <a:ea typeface="方正準圓"/>
              </a:rPr>
              <a:t>星期二</a:t>
            </a:r>
            <a:r>
              <a:rPr b="1" lang="zh-TW" sz="4400" spc="-1" strike="noStrike">
                <a:solidFill>
                  <a:srgbClr val="221304"/>
                </a:solidFill>
                <a:latin typeface="方正準圓"/>
                <a:ea typeface="方正準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方正準圓"/>
              </a:rPr>
              <a:t>遲交者，可被</a:t>
            </a:r>
            <a:r>
              <a:rPr b="0" lang="zh-TW" sz="4400" spc="-1" strike="noStrike">
                <a:solidFill>
                  <a:srgbClr val="ff3300"/>
                </a:solidFill>
                <a:latin typeface="Times New Roman"/>
                <a:ea typeface="方正準圓"/>
              </a:rPr>
              <a:t>扣減分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4840" y="4692600"/>
            <a:ext cx="15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a1bd69"/>
                </a:solidFill>
                <a:latin typeface="方正準圓"/>
                <a:ea typeface="方正準圓"/>
              </a:rPr>
              <a:t>繳交方法</a:t>
            </a:r>
            <a:r>
              <a:rPr b="1" lang="zh-TW" sz="3600" spc="-1" strike="noStrike">
                <a:solidFill>
                  <a:srgbClr val="a1bd69"/>
                </a:solidFill>
                <a:latin typeface="方正準圓"/>
                <a:ea typeface="方正準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15840" y="5546880"/>
            <a:ext cx="653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利用體育科網頁上載</a:t>
            </a:r>
            <a:r>
              <a:rPr b="0" lang="zh-TW" sz="3200" spc="-1" strike="noStrike">
                <a:solidFill>
                  <a:srgbClr val="000000"/>
                </a:solidFill>
                <a:latin typeface="方正準圓"/>
                <a:ea typeface="方正準圓"/>
              </a:rPr>
              <a:t>: </a:t>
            </a:r>
            <a:r>
              <a:rPr b="0" lang="zh-TW" sz="4000" spc="-1" strike="noStrike">
                <a:solidFill>
                  <a:srgbClr val="cc9864"/>
                </a:solidFill>
                <a:latin typeface="方正準圓"/>
                <a:ea typeface="方正準圓"/>
              </a:rPr>
              <a:t>網頁</a:t>
            </a:r>
            <a:r>
              <a:rPr b="0" lang="zh-TW" sz="2400" spc="-1" strike="noStrike">
                <a:solidFill>
                  <a:srgbClr val="000000"/>
                </a:solidFill>
                <a:latin typeface="方正準圓"/>
                <a:ea typeface="方正準圓"/>
              </a:rPr>
              <a:t>或</a:t>
            </a:r>
            <a:r>
              <a:rPr b="0" lang="zh-TW" sz="4000" spc="-1" strike="noStrike">
                <a:solidFill>
                  <a:srgbClr val="cc9864"/>
                </a:solidFill>
                <a:latin typeface="方正準圓"/>
                <a:ea typeface="方正準圓"/>
              </a:rPr>
              <a:t>Power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706840" y="2895480"/>
            <a:ext cx="403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方正準圓"/>
                <a:ea typeface="方正準圓"/>
              </a:rPr>
              <a:t>各位努力</a:t>
            </a:r>
            <a:r>
              <a:rPr b="0" lang="zh-TW" sz="8800" spc="-1" strike="noStrike">
                <a:solidFill>
                  <a:srgbClr val="000000"/>
                </a:solidFill>
                <a:latin typeface="方正準圓"/>
                <a:ea typeface="方正準圓"/>
              </a:rPr>
              <a:t>!!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專題研究 報告</cp:keywords>
  <dc:language>en-US</dc:language>
  <cp:lastModifiedBy/>
  <cp:revision>0</cp:revision>
  <dc:subject/>
  <dc:title/>
</cp:coreProperties>
</file>