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52F-A956-4029-AD38-19CF8D58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C5D-1469-4E14-94EF-9E85905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234-E0B0-4227-B34E-75022567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9F2-2CA8-4DBB-9495-920201E0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F31-3688-43EF-9401-BE64BFA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559-2ECF-44B3-988A-7860458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7C5-A20A-4726-8E84-3F7D811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5E8-FBF0-4B86-80D8-648993EF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E60-7218-4775-97BE-B88C339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9EE-5D5F-4011-95FE-7565BD1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B43-33AF-4B94-9569-BD95A35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9A5-14A5-4946-91CF-509AAAD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96148-7CD1-4D3B-9E17-FEA1984D54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9640" y="4316760"/>
            <a:ext cx="806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爱心折页温馨浪漫动态</a:t>
            </a:r>
            <a:r>
              <a:rPr b="0" lang="en-US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PPT</a:t>
            </a:r>
            <a:r>
              <a:rPr b="0" lang="zh-CN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3"/>
          <p:cNvCxnSpPr/>
          <p:nvPr/>
        </p:nvCxnSpPr>
        <p:spPr>
          <a:xfrm>
            <a:off x="1187280" y="5024160"/>
            <a:ext cx="6625440" cy="360"/>
          </a:xfrm>
          <a:prstGeom prst="straightConnector1">
            <a:avLst/>
          </a:prstGeom>
          <a:ln w="38100">
            <a:solidFill>
              <a:srgbClr val="7030a0"/>
            </a:solidFill>
            <a:round/>
          </a:ln>
        </p:spPr>
      </p:cxnSp>
      <p:sp>
        <p:nvSpPr>
          <p:cNvPr id="43" name="矩形 8"/>
          <p:cNvSpPr/>
          <p:nvPr/>
        </p:nvSpPr>
        <p:spPr>
          <a:xfrm>
            <a:off x="2843640" y="126864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  <Words>7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6T08:53:2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