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A8B-2D9A-46BA-AD14-47429EE7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BBF-3B7E-45AC-B747-1134C441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9F9-BD75-442E-BC10-1A61ECCD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51B-BBEE-4FB8-A0D2-7A6B15E7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13EC-7409-4815-8AE6-1D21F0B3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592-B63B-43AF-94D4-1BFBF912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5123-DE06-417A-9FE6-FDC467FD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E2A4-0E4F-4184-A6DF-3E4C1B2B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29B-A591-4810-84E2-4096161E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3FF5-80B5-4CCF-B372-146724C6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485D-C6EE-4B33-BC60-77ED78CA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418-49D0-42C1-AC23-2423D8C4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c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0EEF-2A58-4CA4-92EE-CFFC836C728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1093-C872-4A78-8243-191DDC23F09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25"/>
          <p:cNvGrpSpPr/>
          <p:nvPr/>
        </p:nvGrpSpPr>
        <p:grpSpPr>
          <a:xfrm>
            <a:off x="-1916640" y="-2459520"/>
            <a:ext cx="12652200" cy="9320040"/>
            <a:chOff x="-1916640" y="-2459520"/>
            <a:chExt cx="12652200" cy="9320040"/>
          </a:xfrm>
        </p:grpSpPr>
        <p:sp>
          <p:nvSpPr>
            <p:cNvPr id="42" name="椭圆 5"/>
            <p:cNvSpPr/>
            <p:nvPr/>
          </p:nvSpPr>
          <p:spPr>
            <a:xfrm rot="17654400">
              <a:off x="891360" y="-1769760"/>
              <a:ext cx="1821600" cy="6040440"/>
            </a:xfrm>
            <a:custGeom>
              <a:avLst/>
              <a:gdLst>
                <a:gd name="textAreaLeft" fmla="*/ 0 w 1821600"/>
                <a:gd name="textAreaRight" fmla="*/ 1821960 w 1821600"/>
                <a:gd name="textAreaTop" fmla="*/ 0 h 6040440"/>
                <a:gd name="textAreaBottom" fmla="*/ 6040800 h 60404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椭圆 5"/>
            <p:cNvSpPr/>
            <p:nvPr/>
          </p:nvSpPr>
          <p:spPr>
            <a:xfrm rot="17654400">
              <a:off x="6364440" y="606600"/>
              <a:ext cx="1821600" cy="6040440"/>
            </a:xfrm>
            <a:custGeom>
              <a:avLst/>
              <a:gdLst>
                <a:gd name="textAreaLeft" fmla="*/ 0 w 1821600"/>
                <a:gd name="textAreaRight" fmla="*/ 1821960 w 1821600"/>
                <a:gd name="textAreaTop" fmla="*/ 0 h 6040440"/>
                <a:gd name="textAreaBottom" fmla="*/ 6040800 h 60404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5"/>
            <p:cNvSpPr/>
            <p:nvPr/>
          </p:nvSpPr>
          <p:spPr>
            <a:xfrm rot="5568600">
              <a:off x="525960" y="-899640"/>
              <a:ext cx="1680840" cy="6492240"/>
            </a:xfrm>
            <a:custGeom>
              <a:avLst/>
              <a:gdLst>
                <a:gd name="textAreaLeft" fmla="*/ 0 w 1680840"/>
                <a:gd name="textAreaRight" fmla="*/ 1681200 w 1680840"/>
                <a:gd name="textAreaTop" fmla="*/ 0 h 6492240"/>
                <a:gd name="textAreaBottom" fmla="*/ 6492600 h 64922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5"/>
            <p:cNvSpPr/>
            <p:nvPr/>
          </p:nvSpPr>
          <p:spPr>
            <a:xfrm rot="16441200">
              <a:off x="6648120" y="-424440"/>
              <a:ext cx="1830240" cy="6044040"/>
            </a:xfrm>
            <a:custGeom>
              <a:avLst/>
              <a:gdLst>
                <a:gd name="textAreaLeft" fmla="*/ 0 w 1830240"/>
                <a:gd name="textAreaRight" fmla="*/ 1830600 w 1830240"/>
                <a:gd name="textAreaTop" fmla="*/ 0 h 6044040"/>
                <a:gd name="textAreaBottom" fmla="*/ 6044400 h 6044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5"/>
            <p:cNvSpPr/>
            <p:nvPr/>
          </p:nvSpPr>
          <p:spPr>
            <a:xfrm rot="14856600">
              <a:off x="497880" y="482400"/>
              <a:ext cx="2172960" cy="6553440"/>
            </a:xfrm>
            <a:custGeom>
              <a:avLst/>
              <a:gdLst>
                <a:gd name="textAreaLeft" fmla="*/ 0 w 2172960"/>
                <a:gd name="textAreaRight" fmla="*/ 2173320 w 2172960"/>
                <a:gd name="textAreaTop" fmla="*/ 0 h 6553440"/>
                <a:gd name="textAreaBottom" fmla="*/ 6553800 h 65534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5"/>
            <p:cNvSpPr/>
            <p:nvPr/>
          </p:nvSpPr>
          <p:spPr>
            <a:xfrm rot="4071600">
              <a:off x="6404400" y="-1888560"/>
              <a:ext cx="2130480" cy="618516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6185160"/>
                <a:gd name="textAreaBottom" fmla="*/ 6185520 h 61851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椭圆 5"/>
            <p:cNvSpPr/>
            <p:nvPr/>
          </p:nvSpPr>
          <p:spPr>
            <a:xfrm rot="13127400">
              <a:off x="2312280" y="1856160"/>
              <a:ext cx="1636200" cy="4837320"/>
            </a:xfrm>
            <a:custGeom>
              <a:avLst/>
              <a:gdLst>
                <a:gd name="textAreaLeft" fmla="*/ 0 w 1636200"/>
                <a:gd name="textAreaRight" fmla="*/ 1636560 w 1636200"/>
                <a:gd name="textAreaTop" fmla="*/ 0 h 4837320"/>
                <a:gd name="textAreaBottom" fmla="*/ 4837320 h 48373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5"/>
            <p:cNvSpPr/>
            <p:nvPr/>
          </p:nvSpPr>
          <p:spPr>
            <a:xfrm rot="13314000">
              <a:off x="5159520" y="-1460880"/>
              <a:ext cx="1645560" cy="4300920"/>
            </a:xfrm>
            <a:custGeom>
              <a:avLst/>
              <a:gdLst>
                <a:gd name="textAreaLeft" fmla="*/ 0 w 1645560"/>
                <a:gd name="textAreaRight" fmla="*/ 1645920 w 1645560"/>
                <a:gd name="textAreaTop" fmla="*/ 0 h 4300920"/>
                <a:gd name="textAreaBottom" fmla="*/ 4301280 h 43009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5"/>
            <p:cNvSpPr/>
            <p:nvPr/>
          </p:nvSpPr>
          <p:spPr>
            <a:xfrm rot="352200">
              <a:off x="3922200" y="-2381040"/>
              <a:ext cx="1772280" cy="4753080"/>
            </a:xfrm>
            <a:custGeom>
              <a:avLst/>
              <a:gdLst>
                <a:gd name="textAreaLeft" fmla="*/ 0 w 1772280"/>
                <a:gd name="textAreaRight" fmla="*/ 1772640 w 1772280"/>
                <a:gd name="textAreaTop" fmla="*/ 0 h 4753080"/>
                <a:gd name="textAreaBottom" fmla="*/ 4753080 h 475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5"/>
            <p:cNvSpPr/>
            <p:nvPr/>
          </p:nvSpPr>
          <p:spPr>
            <a:xfrm>
              <a:off x="3664440" y="2340360"/>
              <a:ext cx="2060280" cy="4520160"/>
            </a:xfrm>
            <a:custGeom>
              <a:avLst/>
              <a:gdLst>
                <a:gd name="textAreaLeft" fmla="*/ 0 w 2060280"/>
                <a:gd name="textAreaRight" fmla="*/ 2060640 w 2060280"/>
                <a:gd name="textAreaTop" fmla="*/ 0 h 4520160"/>
                <a:gd name="textAreaBottom" fmla="*/ 4520520 h 45201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5"/>
            <p:cNvSpPr/>
            <p:nvPr/>
          </p:nvSpPr>
          <p:spPr>
            <a:xfrm rot="19231800">
              <a:off x="1936080" y="-2221560"/>
              <a:ext cx="1909440" cy="5282280"/>
            </a:xfrm>
            <a:custGeom>
              <a:avLst/>
              <a:gdLst>
                <a:gd name="textAreaLeft" fmla="*/ 0 w 1909440"/>
                <a:gd name="textAreaRight" fmla="*/ 1909800 w 1909440"/>
                <a:gd name="textAreaTop" fmla="*/ 0 h 5282280"/>
                <a:gd name="textAreaBottom" fmla="*/ 5282280 h 5282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5"/>
            <p:cNvSpPr/>
            <p:nvPr/>
          </p:nvSpPr>
          <p:spPr>
            <a:xfrm rot="8213400">
              <a:off x="5468400" y="1650600"/>
              <a:ext cx="1912680" cy="5248440"/>
            </a:xfrm>
            <a:custGeom>
              <a:avLst/>
              <a:gdLst>
                <a:gd name="textAreaLeft" fmla="*/ 0 w 1912680"/>
                <a:gd name="textAreaRight" fmla="*/ 1913040 w 1912680"/>
                <a:gd name="textAreaTop" fmla="*/ 0 h 5248440"/>
                <a:gd name="textAreaBottom" fmla="*/ 5248800 h 52484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椭圆 20"/>
          <p:cNvSpPr/>
          <p:nvPr/>
        </p:nvSpPr>
        <p:spPr>
          <a:xfrm>
            <a:off x="2800440" y="631800"/>
            <a:ext cx="3697200" cy="3697200"/>
          </a:xfrm>
          <a:prstGeom prst="ellipse">
            <a:avLst/>
          </a:prstGeom>
          <a:solidFill>
            <a:srgbClr val="000000">
              <a:alpha val="58000"/>
            </a:srgbClr>
          </a:solidFill>
          <a:ln w="25560">
            <a:solidFill>
              <a:srgbClr val="498d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同心圆 22"/>
          <p:cNvSpPr/>
          <p:nvPr/>
        </p:nvSpPr>
        <p:spPr>
          <a:xfrm>
            <a:off x="3051000" y="882720"/>
            <a:ext cx="3197520" cy="3197160"/>
          </a:xfrm>
          <a:custGeom>
            <a:avLst/>
            <a:gdLst>
              <a:gd name="textAreaLeft" fmla="*/ 468000 w 3197520"/>
              <a:gd name="textAreaRight" fmla="*/ 2729520 w 3197520"/>
              <a:gd name="textAreaTop" fmla="*/ 468000 h 3197160"/>
              <a:gd name="textAreaBottom" fmla="*/ 2729160 h 319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637" y="10800"/>
                </a:moveTo>
                <a:cubicBezTo>
                  <a:pt x="637" y="16413"/>
                  <a:pt x="5187" y="20963"/>
                  <a:pt x="10800" y="20963"/>
                </a:cubicBezTo>
                <a:cubicBezTo>
                  <a:pt x="16413" y="20963"/>
                  <a:pt x="20963" y="16413"/>
                  <a:pt x="20963" y="10800"/>
                </a:cubicBezTo>
                <a:cubicBezTo>
                  <a:pt x="20963" y="5187"/>
                  <a:pt x="16413" y="637"/>
                  <a:pt x="10800" y="637"/>
                </a:cubicBezTo>
                <a:cubicBezTo>
                  <a:pt x="5187" y="637"/>
                  <a:pt x="637" y="5187"/>
                  <a:pt x="637" y="10800"/>
                </a:cubicBezTo>
                <a:close/>
              </a:path>
            </a:pathLst>
          </a:custGeom>
          <a:gradFill rotWithShape="0">
            <a:gsLst>
              <a:gs pos="0">
                <a:srgbClr val="bf638a"/>
              </a:gs>
              <a:gs pos="100000">
                <a:srgbClr val="db96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"/>
          <p:cNvSpPr/>
          <p:nvPr/>
        </p:nvSpPr>
        <p:spPr>
          <a:xfrm>
            <a:off x="1907280" y="13827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彩色花瓣动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2"/>
          <p:cNvSpPr/>
          <p:nvPr/>
        </p:nvSpPr>
        <p:spPr>
          <a:xfrm>
            <a:off x="507960" y="44067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253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2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16"/>
          <p:cNvSpPr/>
          <p:nvPr/>
        </p:nvSpPr>
        <p:spPr>
          <a:xfrm>
            <a:off x="1025640" y="1349280"/>
            <a:ext cx="801720" cy="80172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17"/>
          <p:cNvSpPr/>
          <p:nvPr/>
        </p:nvSpPr>
        <p:spPr>
          <a:xfrm>
            <a:off x="2540160" y="1349280"/>
            <a:ext cx="801360" cy="80172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椭圆 18"/>
          <p:cNvSpPr/>
          <p:nvPr/>
        </p:nvSpPr>
        <p:spPr>
          <a:xfrm>
            <a:off x="4054320" y="1349280"/>
            <a:ext cx="801720" cy="80172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19"/>
          <p:cNvSpPr/>
          <p:nvPr/>
        </p:nvSpPr>
        <p:spPr>
          <a:xfrm>
            <a:off x="5568840" y="1349280"/>
            <a:ext cx="800280" cy="80172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椭圆 20"/>
          <p:cNvSpPr/>
          <p:nvPr/>
        </p:nvSpPr>
        <p:spPr>
          <a:xfrm>
            <a:off x="7083360" y="1349280"/>
            <a:ext cx="800280" cy="80172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等腰三角形 21"/>
          <p:cNvSpPr/>
          <p:nvPr/>
        </p:nvSpPr>
        <p:spPr>
          <a:xfrm rot="5400000">
            <a:off x="2051280" y="1534320"/>
            <a:ext cx="287280" cy="431640"/>
          </a:xfrm>
          <a:prstGeom prst="triangle">
            <a:avLst>
              <a:gd name="adj" fmla="val 50000"/>
            </a:avLst>
          </a:prstGeom>
          <a:solidFill>
            <a:srgbClr val="498da4"/>
          </a:solidFill>
          <a:ln w="25560">
            <a:solidFill>
              <a:srgbClr val="498d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等腰三角形 22"/>
          <p:cNvSpPr/>
          <p:nvPr/>
        </p:nvSpPr>
        <p:spPr>
          <a:xfrm rot="5400000">
            <a:off x="3597480" y="1534320"/>
            <a:ext cx="287280" cy="431640"/>
          </a:xfrm>
          <a:prstGeom prst="triangle">
            <a:avLst>
              <a:gd name="adj" fmla="val 50000"/>
            </a:avLst>
          </a:prstGeom>
          <a:solidFill>
            <a:srgbClr val="498da4"/>
          </a:solidFill>
          <a:ln w="25560">
            <a:solidFill>
              <a:srgbClr val="498d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等腰三角形 23"/>
          <p:cNvSpPr/>
          <p:nvPr/>
        </p:nvSpPr>
        <p:spPr>
          <a:xfrm rot="5400000">
            <a:off x="5076000" y="1534320"/>
            <a:ext cx="287280" cy="432000"/>
          </a:xfrm>
          <a:prstGeom prst="triangle">
            <a:avLst>
              <a:gd name="adj" fmla="val 50000"/>
            </a:avLst>
          </a:prstGeom>
          <a:solidFill>
            <a:srgbClr val="498da4"/>
          </a:solidFill>
          <a:ln w="25560">
            <a:solidFill>
              <a:srgbClr val="498d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等腰三角形 24"/>
          <p:cNvSpPr/>
          <p:nvPr/>
        </p:nvSpPr>
        <p:spPr>
          <a:xfrm rot="5400000">
            <a:off x="6587640" y="1539720"/>
            <a:ext cx="288720" cy="431640"/>
          </a:xfrm>
          <a:prstGeom prst="triangle">
            <a:avLst>
              <a:gd name="adj" fmla="val 50000"/>
            </a:avLst>
          </a:prstGeom>
          <a:solidFill>
            <a:srgbClr val="498da4"/>
          </a:solidFill>
          <a:ln w="25560">
            <a:solidFill>
              <a:srgbClr val="498d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5"/>
          <p:cNvSpPr/>
          <p:nvPr/>
        </p:nvSpPr>
        <p:spPr>
          <a:xfrm>
            <a:off x="539640" y="280980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6"/>
          <p:cNvSpPr/>
          <p:nvPr/>
        </p:nvSpPr>
        <p:spPr>
          <a:xfrm>
            <a:off x="2252520" y="280980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7"/>
          <p:cNvSpPr/>
          <p:nvPr/>
        </p:nvSpPr>
        <p:spPr>
          <a:xfrm>
            <a:off x="3965400" y="2809800"/>
            <a:ext cx="13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8"/>
          <p:cNvSpPr/>
          <p:nvPr/>
        </p:nvSpPr>
        <p:spPr>
          <a:xfrm>
            <a:off x="5676840" y="280980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9"/>
          <p:cNvSpPr/>
          <p:nvPr/>
        </p:nvSpPr>
        <p:spPr>
          <a:xfrm>
            <a:off x="7389720" y="280980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30" descr=""/>
          <p:cNvPicPr/>
          <p:nvPr/>
        </p:nvPicPr>
        <p:blipFill>
          <a:blip r:embed="rId1"/>
          <a:stretch/>
        </p:blipFill>
        <p:spPr>
          <a:xfrm>
            <a:off x="7229520" y="149544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31" descr=""/>
          <p:cNvPicPr/>
          <p:nvPr/>
        </p:nvPicPr>
        <p:blipFill>
          <a:blip r:embed="rId2"/>
          <a:stretch/>
        </p:blipFill>
        <p:spPr>
          <a:xfrm>
            <a:off x="5715000" y="149544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32" descr=""/>
          <p:cNvPicPr/>
          <p:nvPr/>
        </p:nvPicPr>
        <p:blipFill>
          <a:blip r:embed="rId3"/>
          <a:stretch/>
        </p:blipFill>
        <p:spPr>
          <a:xfrm>
            <a:off x="4200480" y="149544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33" descr=""/>
          <p:cNvPicPr/>
          <p:nvPr/>
        </p:nvPicPr>
        <p:blipFill>
          <a:blip r:embed="rId4"/>
          <a:stretch/>
        </p:blipFill>
        <p:spPr>
          <a:xfrm>
            <a:off x="2685960" y="149544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34" descr=""/>
          <p:cNvPicPr/>
          <p:nvPr/>
        </p:nvPicPr>
        <p:blipFill>
          <a:blip r:embed="rId5"/>
          <a:stretch/>
        </p:blipFill>
        <p:spPr>
          <a:xfrm>
            <a:off x="1173240" y="1495440"/>
            <a:ext cx="507960" cy="507960"/>
          </a:xfrm>
          <a:prstGeom prst="rect">
            <a:avLst/>
          </a:prstGeom>
          <a:ln w="0">
            <a:noFill/>
          </a:ln>
        </p:spPr>
      </p:pic>
      <p:sp>
        <p:nvSpPr>
          <p:cNvPr id="286" name="TextBox 35"/>
          <p:cNvSpPr/>
          <p:nvPr/>
        </p:nvSpPr>
        <p:spPr>
          <a:xfrm>
            <a:off x="544680" y="3363840"/>
            <a:ext cx="1485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36"/>
          <p:cNvSpPr/>
          <p:nvPr/>
        </p:nvSpPr>
        <p:spPr>
          <a:xfrm>
            <a:off x="2233440" y="3362400"/>
            <a:ext cx="1484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7"/>
          <p:cNvSpPr/>
          <p:nvPr/>
        </p:nvSpPr>
        <p:spPr>
          <a:xfrm>
            <a:off x="3921120" y="3362400"/>
            <a:ext cx="1486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8"/>
          <p:cNvSpPr/>
          <p:nvPr/>
        </p:nvSpPr>
        <p:spPr>
          <a:xfrm>
            <a:off x="5610240" y="3362400"/>
            <a:ext cx="1484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39"/>
          <p:cNvSpPr/>
          <p:nvPr/>
        </p:nvSpPr>
        <p:spPr>
          <a:xfrm>
            <a:off x="7297560" y="3362400"/>
            <a:ext cx="1486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292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2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流程图: 决策 16"/>
          <p:cNvSpPr/>
          <p:nvPr/>
        </p:nvSpPr>
        <p:spPr>
          <a:xfrm>
            <a:off x="1025640" y="1203480"/>
            <a:ext cx="1400040" cy="1239840"/>
          </a:xfrm>
          <a:prstGeom prst="flowChartDecision">
            <a:avLst/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流程图: 决策 17"/>
          <p:cNvSpPr/>
          <p:nvPr/>
        </p:nvSpPr>
        <p:spPr>
          <a:xfrm>
            <a:off x="2416320" y="1203480"/>
            <a:ext cx="1401480" cy="1239840"/>
          </a:xfrm>
          <a:prstGeom prst="flowChartDecision">
            <a:avLst/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流程图: 决策 18"/>
          <p:cNvSpPr/>
          <p:nvPr/>
        </p:nvSpPr>
        <p:spPr>
          <a:xfrm>
            <a:off x="3809880" y="1081080"/>
            <a:ext cx="1676520" cy="1484280"/>
          </a:xfrm>
          <a:prstGeom prst="flowChartDecision">
            <a:avLst/>
          </a:prstGeom>
          <a:solidFill>
            <a:srgbClr val="cc0066"/>
          </a:solidFill>
          <a:ln w="25560">
            <a:solidFill>
              <a:srgbClr val="cc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流程图: 决策 19"/>
          <p:cNvSpPr/>
          <p:nvPr/>
        </p:nvSpPr>
        <p:spPr>
          <a:xfrm>
            <a:off x="6869160" y="1203480"/>
            <a:ext cx="1401840" cy="1239840"/>
          </a:xfrm>
          <a:prstGeom prst="flowChartDecision">
            <a:avLst/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流程图: 决策 20"/>
          <p:cNvSpPr/>
          <p:nvPr/>
        </p:nvSpPr>
        <p:spPr>
          <a:xfrm>
            <a:off x="5495760" y="1203480"/>
            <a:ext cx="1400400" cy="1239840"/>
          </a:xfrm>
          <a:prstGeom prst="flowChartDecision">
            <a:avLst/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2"/>
          <p:cNvSpPr/>
          <p:nvPr/>
        </p:nvSpPr>
        <p:spPr>
          <a:xfrm>
            <a:off x="2679840" y="159228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3"/>
          <p:cNvSpPr/>
          <p:nvPr/>
        </p:nvSpPr>
        <p:spPr>
          <a:xfrm>
            <a:off x="1287360" y="159228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4"/>
          <p:cNvSpPr/>
          <p:nvPr/>
        </p:nvSpPr>
        <p:spPr>
          <a:xfrm>
            <a:off x="4249800" y="1816200"/>
            <a:ext cx="7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7"/>
          <p:cNvSpPr/>
          <p:nvPr/>
        </p:nvSpPr>
        <p:spPr>
          <a:xfrm>
            <a:off x="5757840" y="163836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8"/>
          <p:cNvSpPr/>
          <p:nvPr/>
        </p:nvSpPr>
        <p:spPr>
          <a:xfrm>
            <a:off x="7130880" y="1612800"/>
            <a:ext cx="8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图片 29" descr=""/>
          <p:cNvPicPr/>
          <p:nvPr/>
        </p:nvPicPr>
        <p:blipFill>
          <a:blip r:embed="rId1"/>
          <a:stretch/>
        </p:blipFill>
        <p:spPr>
          <a:xfrm>
            <a:off x="4394160" y="1314360"/>
            <a:ext cx="507960" cy="5079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30"/>
          <p:cNvSpPr/>
          <p:nvPr/>
        </p:nvSpPr>
        <p:spPr>
          <a:xfrm>
            <a:off x="933480" y="287172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31"/>
          <p:cNvSpPr/>
          <p:nvPr/>
        </p:nvSpPr>
        <p:spPr>
          <a:xfrm>
            <a:off x="2482920" y="2871720"/>
            <a:ext cx="131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32"/>
          <p:cNvSpPr/>
          <p:nvPr/>
        </p:nvSpPr>
        <p:spPr>
          <a:xfrm>
            <a:off x="4032360" y="2871720"/>
            <a:ext cx="131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3"/>
          <p:cNvSpPr/>
          <p:nvPr/>
        </p:nvSpPr>
        <p:spPr>
          <a:xfrm>
            <a:off x="5581800" y="2871720"/>
            <a:ext cx="131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34"/>
          <p:cNvSpPr/>
          <p:nvPr/>
        </p:nvSpPr>
        <p:spPr>
          <a:xfrm>
            <a:off x="7130880" y="287172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35"/>
          <p:cNvSpPr/>
          <p:nvPr/>
        </p:nvSpPr>
        <p:spPr>
          <a:xfrm>
            <a:off x="822240" y="3362400"/>
            <a:ext cx="1486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6"/>
          <p:cNvSpPr/>
          <p:nvPr/>
        </p:nvSpPr>
        <p:spPr>
          <a:xfrm>
            <a:off x="2411280" y="3362400"/>
            <a:ext cx="1486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7"/>
          <p:cNvSpPr/>
          <p:nvPr/>
        </p:nvSpPr>
        <p:spPr>
          <a:xfrm>
            <a:off x="4000680" y="3362400"/>
            <a:ext cx="1484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8"/>
          <p:cNvSpPr/>
          <p:nvPr/>
        </p:nvSpPr>
        <p:spPr>
          <a:xfrm>
            <a:off x="5587920" y="3362400"/>
            <a:ext cx="1486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39"/>
          <p:cNvSpPr/>
          <p:nvPr/>
        </p:nvSpPr>
        <p:spPr>
          <a:xfrm>
            <a:off x="7176960" y="3362400"/>
            <a:ext cx="1486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328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2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22"/>
          <p:cNvGrpSpPr/>
          <p:nvPr/>
        </p:nvGrpSpPr>
        <p:grpSpPr>
          <a:xfrm>
            <a:off x="1468440" y="1779480"/>
            <a:ext cx="598320" cy="598680"/>
            <a:chOff x="1468440" y="1779480"/>
            <a:chExt cx="598320" cy="598680"/>
          </a:xfrm>
        </p:grpSpPr>
        <p:sp>
          <p:nvSpPr>
            <p:cNvPr id="343" name="椭圆 16"/>
            <p:cNvSpPr/>
            <p:nvPr/>
          </p:nvSpPr>
          <p:spPr>
            <a:xfrm>
              <a:off x="1468440" y="1779480"/>
              <a:ext cx="598320" cy="59868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椭圆 17"/>
            <p:cNvSpPr/>
            <p:nvPr/>
          </p:nvSpPr>
          <p:spPr>
            <a:xfrm>
              <a:off x="1606680" y="195552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椭圆 18"/>
            <p:cNvSpPr/>
            <p:nvPr/>
          </p:nvSpPr>
          <p:spPr>
            <a:xfrm>
              <a:off x="1871640" y="195552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空心弧 20"/>
            <p:cNvSpPr/>
            <p:nvPr/>
          </p:nvSpPr>
          <p:spPr>
            <a:xfrm rot="10800000">
              <a:off x="1653480" y="202572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23"/>
          <p:cNvGrpSpPr/>
          <p:nvPr/>
        </p:nvGrpSpPr>
        <p:grpSpPr>
          <a:xfrm>
            <a:off x="826920" y="1779480"/>
            <a:ext cx="598680" cy="598680"/>
            <a:chOff x="826920" y="1779480"/>
            <a:chExt cx="598680" cy="598680"/>
          </a:xfrm>
        </p:grpSpPr>
        <p:sp>
          <p:nvSpPr>
            <p:cNvPr id="348" name="椭圆 24"/>
            <p:cNvSpPr/>
            <p:nvPr/>
          </p:nvSpPr>
          <p:spPr>
            <a:xfrm>
              <a:off x="826920" y="1779480"/>
              <a:ext cx="598680" cy="59868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椭圆 25"/>
            <p:cNvSpPr/>
            <p:nvPr/>
          </p:nvSpPr>
          <p:spPr>
            <a:xfrm>
              <a:off x="965160" y="195552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椭圆 26"/>
            <p:cNvSpPr/>
            <p:nvPr/>
          </p:nvSpPr>
          <p:spPr>
            <a:xfrm>
              <a:off x="1230480" y="195552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空心弧 27"/>
            <p:cNvSpPr/>
            <p:nvPr/>
          </p:nvSpPr>
          <p:spPr>
            <a:xfrm rot="10800000">
              <a:off x="1012320" y="202572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28"/>
          <p:cNvGrpSpPr/>
          <p:nvPr/>
        </p:nvGrpSpPr>
        <p:grpSpPr>
          <a:xfrm>
            <a:off x="2109960" y="1779480"/>
            <a:ext cx="598320" cy="598680"/>
            <a:chOff x="2109960" y="1779480"/>
            <a:chExt cx="598320" cy="598680"/>
          </a:xfrm>
        </p:grpSpPr>
        <p:sp>
          <p:nvSpPr>
            <p:cNvPr id="353" name="椭圆 29"/>
            <p:cNvSpPr/>
            <p:nvPr/>
          </p:nvSpPr>
          <p:spPr>
            <a:xfrm>
              <a:off x="2109960" y="1779480"/>
              <a:ext cx="598320" cy="59868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30"/>
            <p:cNvSpPr/>
            <p:nvPr/>
          </p:nvSpPr>
          <p:spPr>
            <a:xfrm>
              <a:off x="2248200" y="195552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31"/>
            <p:cNvSpPr/>
            <p:nvPr/>
          </p:nvSpPr>
          <p:spPr>
            <a:xfrm>
              <a:off x="2513160" y="195552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空心弧 32"/>
            <p:cNvSpPr/>
            <p:nvPr/>
          </p:nvSpPr>
          <p:spPr>
            <a:xfrm rot="10800000">
              <a:off x="2295000" y="202572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33"/>
          <p:cNvGrpSpPr/>
          <p:nvPr/>
        </p:nvGrpSpPr>
        <p:grpSpPr>
          <a:xfrm>
            <a:off x="2751120" y="1779480"/>
            <a:ext cx="598680" cy="598680"/>
            <a:chOff x="2751120" y="1779480"/>
            <a:chExt cx="598680" cy="598680"/>
          </a:xfrm>
        </p:grpSpPr>
        <p:sp>
          <p:nvSpPr>
            <p:cNvPr id="358" name="椭圆 34"/>
            <p:cNvSpPr/>
            <p:nvPr/>
          </p:nvSpPr>
          <p:spPr>
            <a:xfrm>
              <a:off x="2751120" y="1779480"/>
              <a:ext cx="598680" cy="59868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椭圆 35"/>
            <p:cNvSpPr/>
            <p:nvPr/>
          </p:nvSpPr>
          <p:spPr>
            <a:xfrm>
              <a:off x="2889360" y="195552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椭圆 36"/>
            <p:cNvSpPr/>
            <p:nvPr/>
          </p:nvSpPr>
          <p:spPr>
            <a:xfrm>
              <a:off x="3154680" y="195552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空心弧 37"/>
            <p:cNvSpPr/>
            <p:nvPr/>
          </p:nvSpPr>
          <p:spPr>
            <a:xfrm rot="10800000">
              <a:off x="2936520" y="202572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38"/>
          <p:cNvGrpSpPr/>
          <p:nvPr/>
        </p:nvGrpSpPr>
        <p:grpSpPr>
          <a:xfrm>
            <a:off x="3392640" y="1779480"/>
            <a:ext cx="598320" cy="598680"/>
            <a:chOff x="3392640" y="1779480"/>
            <a:chExt cx="598320" cy="598680"/>
          </a:xfrm>
        </p:grpSpPr>
        <p:sp>
          <p:nvSpPr>
            <p:cNvPr id="363" name="椭圆 39"/>
            <p:cNvSpPr/>
            <p:nvPr/>
          </p:nvSpPr>
          <p:spPr>
            <a:xfrm>
              <a:off x="3392640" y="1779480"/>
              <a:ext cx="598320" cy="59868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40"/>
            <p:cNvSpPr/>
            <p:nvPr/>
          </p:nvSpPr>
          <p:spPr>
            <a:xfrm>
              <a:off x="3530880" y="195552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椭圆 41"/>
            <p:cNvSpPr/>
            <p:nvPr/>
          </p:nvSpPr>
          <p:spPr>
            <a:xfrm>
              <a:off x="3795840" y="195552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空心弧 42"/>
            <p:cNvSpPr/>
            <p:nvPr/>
          </p:nvSpPr>
          <p:spPr>
            <a:xfrm rot="10800000">
              <a:off x="3577680" y="202572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43"/>
          <p:cNvGrpSpPr/>
          <p:nvPr/>
        </p:nvGrpSpPr>
        <p:grpSpPr>
          <a:xfrm>
            <a:off x="1473120" y="2405160"/>
            <a:ext cx="598680" cy="598320"/>
            <a:chOff x="1473120" y="2405160"/>
            <a:chExt cx="598680" cy="598320"/>
          </a:xfrm>
        </p:grpSpPr>
        <p:sp>
          <p:nvSpPr>
            <p:cNvPr id="368" name="椭圆 44"/>
            <p:cNvSpPr/>
            <p:nvPr/>
          </p:nvSpPr>
          <p:spPr>
            <a:xfrm>
              <a:off x="1473120" y="2405160"/>
              <a:ext cx="598680" cy="59832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45"/>
            <p:cNvSpPr/>
            <p:nvPr/>
          </p:nvSpPr>
          <p:spPr>
            <a:xfrm>
              <a:off x="1611360" y="258120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46"/>
            <p:cNvSpPr/>
            <p:nvPr/>
          </p:nvSpPr>
          <p:spPr>
            <a:xfrm>
              <a:off x="1876680" y="258120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空心弧 47"/>
            <p:cNvSpPr/>
            <p:nvPr/>
          </p:nvSpPr>
          <p:spPr>
            <a:xfrm rot="10800000">
              <a:off x="1658520" y="265104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48"/>
          <p:cNvGrpSpPr/>
          <p:nvPr/>
        </p:nvGrpSpPr>
        <p:grpSpPr>
          <a:xfrm>
            <a:off x="831960" y="2405160"/>
            <a:ext cx="598320" cy="598320"/>
            <a:chOff x="831960" y="2405160"/>
            <a:chExt cx="598320" cy="598320"/>
          </a:xfrm>
        </p:grpSpPr>
        <p:sp>
          <p:nvSpPr>
            <p:cNvPr id="373" name="椭圆 49"/>
            <p:cNvSpPr/>
            <p:nvPr/>
          </p:nvSpPr>
          <p:spPr>
            <a:xfrm>
              <a:off x="831960" y="2405160"/>
              <a:ext cx="598320" cy="59832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椭圆 50"/>
            <p:cNvSpPr/>
            <p:nvPr/>
          </p:nvSpPr>
          <p:spPr>
            <a:xfrm>
              <a:off x="970200" y="258120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椭圆 51"/>
            <p:cNvSpPr/>
            <p:nvPr/>
          </p:nvSpPr>
          <p:spPr>
            <a:xfrm>
              <a:off x="1235160" y="258120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空心弧 52"/>
            <p:cNvSpPr/>
            <p:nvPr/>
          </p:nvSpPr>
          <p:spPr>
            <a:xfrm rot="10800000">
              <a:off x="1017000" y="265104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53"/>
          <p:cNvGrpSpPr/>
          <p:nvPr/>
        </p:nvGrpSpPr>
        <p:grpSpPr>
          <a:xfrm>
            <a:off x="2114640" y="2405160"/>
            <a:ext cx="598320" cy="598320"/>
            <a:chOff x="2114640" y="2405160"/>
            <a:chExt cx="598320" cy="598320"/>
          </a:xfrm>
        </p:grpSpPr>
        <p:sp>
          <p:nvSpPr>
            <p:cNvPr id="378" name="椭圆 54"/>
            <p:cNvSpPr/>
            <p:nvPr/>
          </p:nvSpPr>
          <p:spPr>
            <a:xfrm>
              <a:off x="2114640" y="2405160"/>
              <a:ext cx="598320" cy="59832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椭圆 55"/>
            <p:cNvSpPr/>
            <p:nvPr/>
          </p:nvSpPr>
          <p:spPr>
            <a:xfrm>
              <a:off x="2252880" y="258120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椭圆 56"/>
            <p:cNvSpPr/>
            <p:nvPr/>
          </p:nvSpPr>
          <p:spPr>
            <a:xfrm>
              <a:off x="2517840" y="258120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空心弧 57"/>
            <p:cNvSpPr/>
            <p:nvPr/>
          </p:nvSpPr>
          <p:spPr>
            <a:xfrm rot="10800000">
              <a:off x="2299680" y="265104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58"/>
          <p:cNvGrpSpPr/>
          <p:nvPr/>
        </p:nvGrpSpPr>
        <p:grpSpPr>
          <a:xfrm>
            <a:off x="2755800" y="2405160"/>
            <a:ext cx="598680" cy="598320"/>
            <a:chOff x="2755800" y="2405160"/>
            <a:chExt cx="598680" cy="598320"/>
          </a:xfrm>
        </p:grpSpPr>
        <p:sp>
          <p:nvSpPr>
            <p:cNvPr id="383" name="椭圆 59"/>
            <p:cNvSpPr/>
            <p:nvPr/>
          </p:nvSpPr>
          <p:spPr>
            <a:xfrm>
              <a:off x="2755800" y="2405160"/>
              <a:ext cx="598680" cy="59832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椭圆 60"/>
            <p:cNvSpPr/>
            <p:nvPr/>
          </p:nvSpPr>
          <p:spPr>
            <a:xfrm>
              <a:off x="2894040" y="258120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椭圆 61"/>
            <p:cNvSpPr/>
            <p:nvPr/>
          </p:nvSpPr>
          <p:spPr>
            <a:xfrm>
              <a:off x="3159360" y="258120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空心弧 62"/>
            <p:cNvSpPr/>
            <p:nvPr/>
          </p:nvSpPr>
          <p:spPr>
            <a:xfrm rot="10800000">
              <a:off x="2941200" y="265104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组合 63"/>
          <p:cNvGrpSpPr/>
          <p:nvPr/>
        </p:nvGrpSpPr>
        <p:grpSpPr>
          <a:xfrm>
            <a:off x="3397320" y="2405160"/>
            <a:ext cx="598320" cy="598320"/>
            <a:chOff x="3397320" y="2405160"/>
            <a:chExt cx="598320" cy="598320"/>
          </a:xfrm>
        </p:grpSpPr>
        <p:sp>
          <p:nvSpPr>
            <p:cNvPr id="388" name="椭圆 64"/>
            <p:cNvSpPr/>
            <p:nvPr/>
          </p:nvSpPr>
          <p:spPr>
            <a:xfrm>
              <a:off x="3397320" y="2405160"/>
              <a:ext cx="598320" cy="59832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椭圆 65"/>
            <p:cNvSpPr/>
            <p:nvPr/>
          </p:nvSpPr>
          <p:spPr>
            <a:xfrm>
              <a:off x="3535560" y="258120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椭圆 66"/>
            <p:cNvSpPr/>
            <p:nvPr/>
          </p:nvSpPr>
          <p:spPr>
            <a:xfrm>
              <a:off x="3800520" y="258120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空心弧 67"/>
            <p:cNvSpPr/>
            <p:nvPr/>
          </p:nvSpPr>
          <p:spPr>
            <a:xfrm rot="10800000">
              <a:off x="3582360" y="265104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68"/>
          <p:cNvGrpSpPr/>
          <p:nvPr/>
        </p:nvGrpSpPr>
        <p:grpSpPr>
          <a:xfrm>
            <a:off x="1450800" y="3052800"/>
            <a:ext cx="598680" cy="598320"/>
            <a:chOff x="1450800" y="3052800"/>
            <a:chExt cx="598680" cy="598320"/>
          </a:xfrm>
        </p:grpSpPr>
        <p:sp>
          <p:nvSpPr>
            <p:cNvPr id="393" name="椭圆 69"/>
            <p:cNvSpPr/>
            <p:nvPr/>
          </p:nvSpPr>
          <p:spPr>
            <a:xfrm>
              <a:off x="1450800" y="3052800"/>
              <a:ext cx="598680" cy="59832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椭圆 70"/>
            <p:cNvSpPr/>
            <p:nvPr/>
          </p:nvSpPr>
          <p:spPr>
            <a:xfrm>
              <a:off x="1589040" y="322884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椭圆 71"/>
            <p:cNvSpPr/>
            <p:nvPr/>
          </p:nvSpPr>
          <p:spPr>
            <a:xfrm>
              <a:off x="1854360" y="322884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空心弧 72"/>
            <p:cNvSpPr/>
            <p:nvPr/>
          </p:nvSpPr>
          <p:spPr>
            <a:xfrm rot="10800000">
              <a:off x="1636200" y="329868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73"/>
          <p:cNvGrpSpPr/>
          <p:nvPr/>
        </p:nvGrpSpPr>
        <p:grpSpPr>
          <a:xfrm>
            <a:off x="809640" y="3052800"/>
            <a:ext cx="598320" cy="598320"/>
            <a:chOff x="809640" y="3052800"/>
            <a:chExt cx="598320" cy="598320"/>
          </a:xfrm>
        </p:grpSpPr>
        <p:sp>
          <p:nvSpPr>
            <p:cNvPr id="398" name="椭圆 74"/>
            <p:cNvSpPr/>
            <p:nvPr/>
          </p:nvSpPr>
          <p:spPr>
            <a:xfrm>
              <a:off x="809640" y="3052800"/>
              <a:ext cx="598320" cy="59832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椭圆 75"/>
            <p:cNvSpPr/>
            <p:nvPr/>
          </p:nvSpPr>
          <p:spPr>
            <a:xfrm>
              <a:off x="947880" y="322884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椭圆 76"/>
            <p:cNvSpPr/>
            <p:nvPr/>
          </p:nvSpPr>
          <p:spPr>
            <a:xfrm>
              <a:off x="1212840" y="322884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空心弧 77"/>
            <p:cNvSpPr/>
            <p:nvPr/>
          </p:nvSpPr>
          <p:spPr>
            <a:xfrm rot="10800000">
              <a:off x="994680" y="329868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椭圆 94"/>
          <p:cNvSpPr/>
          <p:nvPr/>
        </p:nvSpPr>
        <p:spPr>
          <a:xfrm>
            <a:off x="1438200" y="3692520"/>
            <a:ext cx="598680" cy="598320"/>
          </a:xfrm>
          <a:prstGeom prst="ellipse">
            <a:avLst/>
          </a:prstGeom>
          <a:noFill/>
          <a:ln w="28440">
            <a:solidFill>
              <a:srgbClr val="cc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95"/>
          <p:cNvSpPr/>
          <p:nvPr/>
        </p:nvSpPr>
        <p:spPr>
          <a:xfrm>
            <a:off x="1576440" y="3868560"/>
            <a:ext cx="71280" cy="7020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96"/>
          <p:cNvSpPr/>
          <p:nvPr/>
        </p:nvSpPr>
        <p:spPr>
          <a:xfrm>
            <a:off x="1841400" y="3868560"/>
            <a:ext cx="69840" cy="7020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空心弧 97"/>
          <p:cNvSpPr/>
          <p:nvPr/>
        </p:nvSpPr>
        <p:spPr>
          <a:xfrm rot="10800000">
            <a:off x="1623600" y="3938760"/>
            <a:ext cx="227160" cy="226800"/>
          </a:xfrm>
          <a:custGeom>
            <a:avLst/>
            <a:gdLst>
              <a:gd name="textAreaLeft" fmla="*/ 0 w 227160"/>
              <a:gd name="textAreaRight" fmla="*/ 227520 w 227160"/>
              <a:gd name="textAreaTop" fmla="*/ 0 h 226800"/>
              <a:gd name="textAreaBottom" fmla="*/ 81000 h 226800"/>
            </a:gdLst>
            <a:ahLst/>
            <a:rect l="textAreaLeft" t="textAreaTop" r="textAreaRight" b="textAreaBottom"/>
            <a:pathLst>
              <a:path w="21600" h="21600">
                <a:moveTo>
                  <a:pt x="1411" y="10800"/>
                </a:moveTo>
                <a:cubicBezTo>
                  <a:pt x="1411" y="5614"/>
                  <a:pt x="5614" y="1411"/>
                  <a:pt x="10800" y="1411"/>
                </a:cubicBezTo>
                <a:cubicBezTo>
                  <a:pt x="15985" y="1410"/>
                  <a:pt x="20188" y="5614"/>
                  <a:pt x="20189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411" y="10800"/>
                </a:lnTo>
                <a:close/>
              </a:path>
            </a:pathLst>
          </a:cu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98"/>
          <p:cNvGrpSpPr/>
          <p:nvPr/>
        </p:nvGrpSpPr>
        <p:grpSpPr>
          <a:xfrm>
            <a:off x="797040" y="3692520"/>
            <a:ext cx="598320" cy="598320"/>
            <a:chOff x="797040" y="3692520"/>
            <a:chExt cx="598320" cy="598320"/>
          </a:xfrm>
        </p:grpSpPr>
        <p:sp>
          <p:nvSpPr>
            <p:cNvPr id="407" name="椭圆 99"/>
            <p:cNvSpPr/>
            <p:nvPr/>
          </p:nvSpPr>
          <p:spPr>
            <a:xfrm>
              <a:off x="797040" y="3692520"/>
              <a:ext cx="598320" cy="598320"/>
            </a:xfrm>
            <a:prstGeom prst="ellipse">
              <a:avLst/>
            </a:prstGeom>
            <a:noFill/>
            <a:ln w="28440">
              <a:solidFill>
                <a:srgbClr val="cc00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椭圆 100"/>
            <p:cNvSpPr/>
            <p:nvPr/>
          </p:nvSpPr>
          <p:spPr>
            <a:xfrm>
              <a:off x="935280" y="386856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椭圆 101"/>
            <p:cNvSpPr/>
            <p:nvPr/>
          </p:nvSpPr>
          <p:spPr>
            <a:xfrm>
              <a:off x="1200240" y="3868560"/>
              <a:ext cx="70200" cy="7020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空心弧 102"/>
            <p:cNvSpPr/>
            <p:nvPr/>
          </p:nvSpPr>
          <p:spPr>
            <a:xfrm rot="10800000">
              <a:off x="982080" y="3938400"/>
              <a:ext cx="227160" cy="22716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227160"/>
                <a:gd name="textAreaBottom" fmla="*/ 8100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矩形 118"/>
          <p:cNvSpPr/>
          <p:nvPr/>
        </p:nvSpPr>
        <p:spPr>
          <a:xfrm>
            <a:off x="4716360" y="1276200"/>
            <a:ext cx="1728720" cy="127476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728192" h="1275420">
                <a:moveTo>
                  <a:pt x="0" y="0"/>
                </a:moveTo>
                <a:lnTo>
                  <a:pt x="1728192" y="0"/>
                </a:lnTo>
                <a:lnTo>
                  <a:pt x="1728192" y="815007"/>
                </a:lnTo>
                <a:lnTo>
                  <a:pt x="1024679" y="815007"/>
                </a:lnTo>
                <a:lnTo>
                  <a:pt x="864096" y="1275420"/>
                </a:lnTo>
                <a:lnTo>
                  <a:pt x="703513" y="815007"/>
                </a:lnTo>
                <a:lnTo>
                  <a:pt x="0" y="815007"/>
                </a:lnTo>
                <a:lnTo>
                  <a:pt x="0" y="0"/>
                </a:lnTo>
                <a:close/>
              </a:path>
            </a:pathLst>
          </a:cu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119"/>
          <p:cNvSpPr/>
          <p:nvPr/>
        </p:nvSpPr>
        <p:spPr>
          <a:xfrm>
            <a:off x="6877080" y="1276200"/>
            <a:ext cx="1727280" cy="127476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728192" h="1275420">
                <a:moveTo>
                  <a:pt x="0" y="0"/>
                </a:moveTo>
                <a:lnTo>
                  <a:pt x="1728192" y="0"/>
                </a:lnTo>
                <a:lnTo>
                  <a:pt x="1728192" y="815007"/>
                </a:lnTo>
                <a:lnTo>
                  <a:pt x="1024679" y="815007"/>
                </a:lnTo>
                <a:lnTo>
                  <a:pt x="864096" y="1275420"/>
                </a:lnTo>
                <a:lnTo>
                  <a:pt x="703513" y="815007"/>
                </a:lnTo>
                <a:lnTo>
                  <a:pt x="0" y="815007"/>
                </a:lnTo>
                <a:lnTo>
                  <a:pt x="0" y="0"/>
                </a:lnTo>
                <a:close/>
              </a:path>
            </a:pathLst>
          </a:cu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22"/>
          <p:cNvSpPr/>
          <p:nvPr/>
        </p:nvSpPr>
        <p:spPr>
          <a:xfrm>
            <a:off x="7083360" y="2651040"/>
            <a:ext cx="13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23"/>
          <p:cNvSpPr/>
          <p:nvPr/>
        </p:nvSpPr>
        <p:spPr>
          <a:xfrm>
            <a:off x="4923000" y="2651040"/>
            <a:ext cx="131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24"/>
          <p:cNvSpPr/>
          <p:nvPr/>
        </p:nvSpPr>
        <p:spPr>
          <a:xfrm>
            <a:off x="5070600" y="1346040"/>
            <a:ext cx="10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25"/>
          <p:cNvSpPr/>
          <p:nvPr/>
        </p:nvSpPr>
        <p:spPr>
          <a:xfrm>
            <a:off x="7230960" y="1332000"/>
            <a:ext cx="10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128"/>
          <p:cNvGrpSpPr/>
          <p:nvPr/>
        </p:nvGrpSpPr>
        <p:grpSpPr>
          <a:xfrm>
            <a:off x="2090880" y="3057480"/>
            <a:ext cx="598320" cy="598680"/>
            <a:chOff x="2090880" y="3057480"/>
            <a:chExt cx="598320" cy="598680"/>
          </a:xfrm>
        </p:grpSpPr>
        <p:sp>
          <p:nvSpPr>
            <p:cNvPr id="418" name="椭圆 79"/>
            <p:cNvSpPr/>
            <p:nvPr/>
          </p:nvSpPr>
          <p:spPr>
            <a:xfrm>
              <a:off x="2090880" y="3057480"/>
              <a:ext cx="598320" cy="598680"/>
            </a:xfrm>
            <a:prstGeom prst="ellipse">
              <a:avLst/>
            </a:prstGeom>
            <a:noFill/>
            <a:ln w="28440">
              <a:solidFill>
                <a:srgbClr val="498d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空心弧 82"/>
            <p:cNvSpPr/>
            <p:nvPr/>
          </p:nvSpPr>
          <p:spPr>
            <a:xfrm flipV="1" rot="10800000">
              <a:off x="2266920" y="3417840"/>
              <a:ext cx="274320" cy="1652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-360 h 165240"/>
                <a:gd name="textAreaBottom" fmla="*/ 58680 h 1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椭圆 126"/>
            <p:cNvSpPr/>
            <p:nvPr/>
          </p:nvSpPr>
          <p:spPr>
            <a:xfrm>
              <a:off x="2226600" y="323352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椭圆 127"/>
            <p:cNvSpPr/>
            <p:nvPr/>
          </p:nvSpPr>
          <p:spPr>
            <a:xfrm>
              <a:off x="2491560" y="323352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组合 129"/>
          <p:cNvGrpSpPr/>
          <p:nvPr/>
        </p:nvGrpSpPr>
        <p:grpSpPr>
          <a:xfrm>
            <a:off x="2741760" y="3057480"/>
            <a:ext cx="598320" cy="598680"/>
            <a:chOff x="2741760" y="3057480"/>
            <a:chExt cx="598320" cy="598680"/>
          </a:xfrm>
        </p:grpSpPr>
        <p:sp>
          <p:nvSpPr>
            <p:cNvPr id="423" name="椭圆 130"/>
            <p:cNvSpPr/>
            <p:nvPr/>
          </p:nvSpPr>
          <p:spPr>
            <a:xfrm>
              <a:off x="2741760" y="3057480"/>
              <a:ext cx="598320" cy="598680"/>
            </a:xfrm>
            <a:prstGeom prst="ellipse">
              <a:avLst/>
            </a:prstGeom>
            <a:noFill/>
            <a:ln w="28440">
              <a:solidFill>
                <a:srgbClr val="498d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131"/>
            <p:cNvSpPr/>
            <p:nvPr/>
          </p:nvSpPr>
          <p:spPr>
            <a:xfrm flipV="1" rot="10800000">
              <a:off x="2917800" y="3417840"/>
              <a:ext cx="274320" cy="1652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-360 h 165240"/>
                <a:gd name="textAreaBottom" fmla="*/ 58680 h 1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132"/>
            <p:cNvSpPr/>
            <p:nvPr/>
          </p:nvSpPr>
          <p:spPr>
            <a:xfrm>
              <a:off x="2877480" y="323352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椭圆 133"/>
            <p:cNvSpPr/>
            <p:nvPr/>
          </p:nvSpPr>
          <p:spPr>
            <a:xfrm>
              <a:off x="3142440" y="323352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组合 134"/>
          <p:cNvGrpSpPr/>
          <p:nvPr/>
        </p:nvGrpSpPr>
        <p:grpSpPr>
          <a:xfrm>
            <a:off x="3392640" y="3057480"/>
            <a:ext cx="598320" cy="598680"/>
            <a:chOff x="3392640" y="3057480"/>
            <a:chExt cx="598320" cy="598680"/>
          </a:xfrm>
        </p:grpSpPr>
        <p:sp>
          <p:nvSpPr>
            <p:cNvPr id="428" name="椭圆 135"/>
            <p:cNvSpPr/>
            <p:nvPr/>
          </p:nvSpPr>
          <p:spPr>
            <a:xfrm>
              <a:off x="3392640" y="3057480"/>
              <a:ext cx="598320" cy="598680"/>
            </a:xfrm>
            <a:prstGeom prst="ellipse">
              <a:avLst/>
            </a:prstGeom>
            <a:noFill/>
            <a:ln w="28440">
              <a:solidFill>
                <a:srgbClr val="498d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空心弧 136"/>
            <p:cNvSpPr/>
            <p:nvPr/>
          </p:nvSpPr>
          <p:spPr>
            <a:xfrm flipV="1" rot="10800000">
              <a:off x="3568680" y="3417840"/>
              <a:ext cx="274320" cy="1652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-360 h 165240"/>
                <a:gd name="textAreaBottom" fmla="*/ 58680 h 1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椭圆 137"/>
            <p:cNvSpPr/>
            <p:nvPr/>
          </p:nvSpPr>
          <p:spPr>
            <a:xfrm>
              <a:off x="3528360" y="323352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椭圆 138"/>
            <p:cNvSpPr/>
            <p:nvPr/>
          </p:nvSpPr>
          <p:spPr>
            <a:xfrm>
              <a:off x="3793320" y="323352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组合 139"/>
          <p:cNvGrpSpPr/>
          <p:nvPr/>
        </p:nvGrpSpPr>
        <p:grpSpPr>
          <a:xfrm>
            <a:off x="2095560" y="3700440"/>
            <a:ext cx="598320" cy="598680"/>
            <a:chOff x="2095560" y="3700440"/>
            <a:chExt cx="598320" cy="598680"/>
          </a:xfrm>
        </p:grpSpPr>
        <p:sp>
          <p:nvSpPr>
            <p:cNvPr id="433" name="椭圆 140"/>
            <p:cNvSpPr/>
            <p:nvPr/>
          </p:nvSpPr>
          <p:spPr>
            <a:xfrm>
              <a:off x="2095560" y="3700440"/>
              <a:ext cx="598320" cy="598680"/>
            </a:xfrm>
            <a:prstGeom prst="ellipse">
              <a:avLst/>
            </a:prstGeom>
            <a:noFill/>
            <a:ln w="28440">
              <a:solidFill>
                <a:srgbClr val="498d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空心弧 141"/>
            <p:cNvSpPr/>
            <p:nvPr/>
          </p:nvSpPr>
          <p:spPr>
            <a:xfrm flipV="1" rot="10800000">
              <a:off x="2271600" y="4060800"/>
              <a:ext cx="274320" cy="1652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-360 h 165240"/>
                <a:gd name="textAreaBottom" fmla="*/ 58680 h 1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椭圆 142"/>
            <p:cNvSpPr/>
            <p:nvPr/>
          </p:nvSpPr>
          <p:spPr>
            <a:xfrm>
              <a:off x="2231280" y="387648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椭圆 143"/>
            <p:cNvSpPr/>
            <p:nvPr/>
          </p:nvSpPr>
          <p:spPr>
            <a:xfrm>
              <a:off x="2496240" y="387648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组合 144"/>
          <p:cNvGrpSpPr/>
          <p:nvPr/>
        </p:nvGrpSpPr>
        <p:grpSpPr>
          <a:xfrm>
            <a:off x="2746440" y="3700440"/>
            <a:ext cx="598320" cy="598680"/>
            <a:chOff x="2746440" y="3700440"/>
            <a:chExt cx="598320" cy="598680"/>
          </a:xfrm>
        </p:grpSpPr>
        <p:sp>
          <p:nvSpPr>
            <p:cNvPr id="438" name="椭圆 145"/>
            <p:cNvSpPr/>
            <p:nvPr/>
          </p:nvSpPr>
          <p:spPr>
            <a:xfrm>
              <a:off x="2746440" y="3700440"/>
              <a:ext cx="598320" cy="598680"/>
            </a:xfrm>
            <a:prstGeom prst="ellipse">
              <a:avLst/>
            </a:prstGeom>
            <a:noFill/>
            <a:ln w="28440">
              <a:solidFill>
                <a:srgbClr val="498d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空心弧 146"/>
            <p:cNvSpPr/>
            <p:nvPr/>
          </p:nvSpPr>
          <p:spPr>
            <a:xfrm flipV="1" rot="10800000">
              <a:off x="2922480" y="4060800"/>
              <a:ext cx="274320" cy="1652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-360 h 165240"/>
                <a:gd name="textAreaBottom" fmla="*/ 58680 h 1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椭圆 147"/>
            <p:cNvSpPr/>
            <p:nvPr/>
          </p:nvSpPr>
          <p:spPr>
            <a:xfrm>
              <a:off x="2882160" y="387648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椭圆 148"/>
            <p:cNvSpPr/>
            <p:nvPr/>
          </p:nvSpPr>
          <p:spPr>
            <a:xfrm>
              <a:off x="3147120" y="387648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组合 149"/>
          <p:cNvGrpSpPr/>
          <p:nvPr/>
        </p:nvGrpSpPr>
        <p:grpSpPr>
          <a:xfrm>
            <a:off x="3397320" y="3700440"/>
            <a:ext cx="598320" cy="598680"/>
            <a:chOff x="3397320" y="3700440"/>
            <a:chExt cx="598320" cy="598680"/>
          </a:xfrm>
        </p:grpSpPr>
        <p:sp>
          <p:nvSpPr>
            <p:cNvPr id="443" name="椭圆 150"/>
            <p:cNvSpPr/>
            <p:nvPr/>
          </p:nvSpPr>
          <p:spPr>
            <a:xfrm>
              <a:off x="3397320" y="3700440"/>
              <a:ext cx="598320" cy="598680"/>
            </a:xfrm>
            <a:prstGeom prst="ellipse">
              <a:avLst/>
            </a:prstGeom>
            <a:noFill/>
            <a:ln w="28440">
              <a:solidFill>
                <a:srgbClr val="498d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空心弧 151"/>
            <p:cNvSpPr/>
            <p:nvPr/>
          </p:nvSpPr>
          <p:spPr>
            <a:xfrm flipV="1" rot="10800000">
              <a:off x="3573360" y="4060800"/>
              <a:ext cx="274320" cy="1652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-360 h 165240"/>
                <a:gd name="textAreaBottom" fmla="*/ 58680 h 1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11" y="10800"/>
                  </a:moveTo>
                  <a:cubicBezTo>
                    <a:pt x="1411" y="5614"/>
                    <a:pt x="5614" y="1411"/>
                    <a:pt x="10800" y="1411"/>
                  </a:cubicBezTo>
                  <a:cubicBezTo>
                    <a:pt x="15985" y="1410"/>
                    <a:pt x="20188" y="5614"/>
                    <a:pt x="20189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1411" y="10800"/>
                  </a:lnTo>
                  <a:close/>
                </a:path>
              </a:pathLst>
            </a:cu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椭圆 152"/>
            <p:cNvSpPr/>
            <p:nvPr/>
          </p:nvSpPr>
          <p:spPr>
            <a:xfrm>
              <a:off x="3533040" y="387648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椭圆 153"/>
            <p:cNvSpPr/>
            <p:nvPr/>
          </p:nvSpPr>
          <p:spPr>
            <a:xfrm>
              <a:off x="3798000" y="3876480"/>
              <a:ext cx="70200" cy="70200"/>
            </a:xfrm>
            <a:prstGeom prst="ellipse">
              <a:avLst/>
            </a:prstGeom>
            <a:solidFill>
              <a:srgbClr val="498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TextBox 121"/>
          <p:cNvSpPr/>
          <p:nvPr/>
        </p:nvSpPr>
        <p:spPr>
          <a:xfrm>
            <a:off x="4932360" y="3362400"/>
            <a:ext cx="1484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54"/>
          <p:cNvSpPr/>
          <p:nvPr/>
        </p:nvSpPr>
        <p:spPr>
          <a:xfrm>
            <a:off x="7047000" y="3362400"/>
            <a:ext cx="1485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8da4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12"/>
          <p:cNvSpPr/>
          <p:nvPr/>
        </p:nvSpPr>
        <p:spPr>
          <a:xfrm>
            <a:off x="264960" y="48657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组合 1"/>
          <p:cNvGrpSpPr/>
          <p:nvPr/>
        </p:nvGrpSpPr>
        <p:grpSpPr>
          <a:xfrm>
            <a:off x="-2673000" y="-1576800"/>
            <a:ext cx="7728480" cy="8303040"/>
            <a:chOff x="-2673000" y="-1576800"/>
            <a:chExt cx="7728480" cy="8303040"/>
          </a:xfrm>
        </p:grpSpPr>
        <p:sp>
          <p:nvSpPr>
            <p:cNvPr id="451" name="椭圆 5"/>
            <p:cNvSpPr/>
            <p:nvPr/>
          </p:nvSpPr>
          <p:spPr>
            <a:xfrm rot="14447400">
              <a:off x="-704160" y="-2054160"/>
              <a:ext cx="2365920" cy="5898960"/>
            </a:xfrm>
            <a:custGeom>
              <a:avLst/>
              <a:gdLst>
                <a:gd name="textAreaLeft" fmla="*/ 0 w 2365920"/>
                <a:gd name="textAreaRight" fmla="*/ 2366280 w 2365920"/>
                <a:gd name="textAreaTop" fmla="*/ 0 h 5898960"/>
                <a:gd name="textAreaBottom" fmla="*/ 5899320 h 5898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椭圆 5"/>
            <p:cNvSpPr/>
            <p:nvPr/>
          </p:nvSpPr>
          <p:spPr>
            <a:xfrm rot="15591600">
              <a:off x="612360" y="-1191240"/>
              <a:ext cx="2550960" cy="5940720"/>
            </a:xfrm>
            <a:custGeom>
              <a:avLst/>
              <a:gdLst>
                <a:gd name="textAreaLeft" fmla="*/ 0 w 2550960"/>
                <a:gd name="textAreaRight" fmla="*/ 2551320 w 2550960"/>
                <a:gd name="textAreaTop" fmla="*/ 0 h 5940720"/>
                <a:gd name="textAreaBottom" fmla="*/ 5941080 h 5940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椭圆 5"/>
            <p:cNvSpPr/>
            <p:nvPr/>
          </p:nvSpPr>
          <p:spPr>
            <a:xfrm rot="16935000">
              <a:off x="595800" y="31680"/>
              <a:ext cx="2496600" cy="6030360"/>
            </a:xfrm>
            <a:custGeom>
              <a:avLst/>
              <a:gdLst>
                <a:gd name="textAreaLeft" fmla="*/ 0 w 2496600"/>
                <a:gd name="textAreaRight" fmla="*/ 2496960 w 2496600"/>
                <a:gd name="textAreaTop" fmla="*/ 0 h 6030360"/>
                <a:gd name="textAreaBottom" fmla="*/ 6030720 h 6030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椭圆 5"/>
            <p:cNvSpPr/>
            <p:nvPr/>
          </p:nvSpPr>
          <p:spPr>
            <a:xfrm rot="7251600">
              <a:off x="-553680" y="1082880"/>
              <a:ext cx="2271240" cy="6170760"/>
            </a:xfrm>
            <a:custGeom>
              <a:avLst/>
              <a:gdLst>
                <a:gd name="textAreaLeft" fmla="*/ 0 w 2271240"/>
                <a:gd name="textAreaRight" fmla="*/ 2271600 w 2271240"/>
                <a:gd name="textAreaTop" fmla="*/ 0 h 6170760"/>
                <a:gd name="textAreaBottom" fmla="*/ 6171120 h 61707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Box 6"/>
          <p:cNvSpPr/>
          <p:nvPr/>
        </p:nvSpPr>
        <p:spPr>
          <a:xfrm>
            <a:off x="5867280" y="1108080"/>
            <a:ext cx="223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Calibri"/>
              </a:rPr>
              <a:t>P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Calibri"/>
              </a:rPr>
              <a:t>THR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7"/>
          <p:cNvSpPr/>
          <p:nvPr/>
        </p:nvSpPr>
        <p:spPr>
          <a:xfrm>
            <a:off x="5203800" y="3205080"/>
            <a:ext cx="31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组合 8"/>
          <p:cNvGrpSpPr/>
          <p:nvPr/>
        </p:nvGrpSpPr>
        <p:grpSpPr>
          <a:xfrm>
            <a:off x="7525800" y="3531600"/>
            <a:ext cx="1973520" cy="1951560"/>
            <a:chOff x="7525800" y="3531600"/>
            <a:chExt cx="1973520" cy="1951560"/>
          </a:xfrm>
        </p:grpSpPr>
        <p:sp>
          <p:nvSpPr>
            <p:cNvPr id="458" name="椭圆 5"/>
            <p:cNvSpPr/>
            <p:nvPr/>
          </p:nvSpPr>
          <p:spPr>
            <a:xfrm rot="6279600">
              <a:off x="8141400" y="4240080"/>
              <a:ext cx="607680" cy="1514520"/>
            </a:xfrm>
            <a:custGeom>
              <a:avLst/>
              <a:gdLst>
                <a:gd name="textAreaLeft" fmla="*/ 0 w 607680"/>
                <a:gd name="textAreaRight" fmla="*/ 608040 w 607680"/>
                <a:gd name="textAreaTop" fmla="*/ 0 h 1514520"/>
                <a:gd name="textAreaBottom" fmla="*/ 1514880 h 1514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椭圆 5"/>
            <p:cNvSpPr/>
            <p:nvPr/>
          </p:nvSpPr>
          <p:spPr>
            <a:xfrm rot="7423800">
              <a:off x="8013960" y="3819960"/>
              <a:ext cx="655200" cy="1525320"/>
            </a:xfrm>
            <a:custGeom>
              <a:avLst/>
              <a:gdLst>
                <a:gd name="textAreaLeft" fmla="*/ 0 w 655200"/>
                <a:gd name="textAreaRight" fmla="*/ 655560 w 65520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椭圆 5"/>
            <p:cNvSpPr/>
            <p:nvPr/>
          </p:nvSpPr>
          <p:spPr>
            <a:xfrm rot="8767200">
              <a:off x="8254800" y="3581280"/>
              <a:ext cx="641520" cy="1548360"/>
            </a:xfrm>
            <a:custGeom>
              <a:avLst/>
              <a:gdLst>
                <a:gd name="textAreaLeft" fmla="*/ 0 w 641520"/>
                <a:gd name="textAreaRight" fmla="*/ 641880 w 641520"/>
                <a:gd name="textAreaTop" fmla="*/ 0 h 1548360"/>
                <a:gd name="textAreaBottom" fmla="*/ 1548720 h 1548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椭圆 5"/>
            <p:cNvSpPr/>
            <p:nvPr/>
          </p:nvSpPr>
          <p:spPr>
            <a:xfrm rot="20684400">
              <a:off x="8717400" y="3580560"/>
              <a:ext cx="583560" cy="158436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463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3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452520" y="125100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7"/>
          <p:cNvSpPr/>
          <p:nvPr/>
        </p:nvSpPr>
        <p:spPr>
          <a:xfrm>
            <a:off x="452520" y="214632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8"/>
          <p:cNvSpPr/>
          <p:nvPr/>
        </p:nvSpPr>
        <p:spPr>
          <a:xfrm>
            <a:off x="452520" y="304020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9"/>
          <p:cNvSpPr/>
          <p:nvPr/>
        </p:nvSpPr>
        <p:spPr>
          <a:xfrm>
            <a:off x="452520" y="393552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椭圆 20"/>
          <p:cNvSpPr/>
          <p:nvPr/>
        </p:nvSpPr>
        <p:spPr>
          <a:xfrm>
            <a:off x="5189400" y="1193760"/>
            <a:ext cx="3095640" cy="3097080"/>
          </a:xfrm>
          <a:prstGeom prst="ellipse">
            <a:avLst/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组合 29"/>
          <p:cNvGrpSpPr/>
          <p:nvPr/>
        </p:nvGrpSpPr>
        <p:grpSpPr>
          <a:xfrm>
            <a:off x="6254640" y="696960"/>
            <a:ext cx="997200" cy="998640"/>
            <a:chOff x="6254640" y="696960"/>
            <a:chExt cx="997200" cy="998640"/>
          </a:xfrm>
        </p:grpSpPr>
        <p:sp>
          <p:nvSpPr>
            <p:cNvPr id="483" name="椭圆 24"/>
            <p:cNvSpPr/>
            <p:nvPr/>
          </p:nvSpPr>
          <p:spPr>
            <a:xfrm>
              <a:off x="6254640" y="696960"/>
              <a:ext cx="997200" cy="99864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4" name="图片 25" descr=""/>
            <p:cNvPicPr/>
            <p:nvPr/>
          </p:nvPicPr>
          <p:blipFill>
            <a:blip r:embed="rId1"/>
            <a:stretch/>
          </p:blipFill>
          <p:spPr>
            <a:xfrm>
              <a:off x="6436800" y="879480"/>
              <a:ext cx="632520" cy="633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5" name="组合 30"/>
          <p:cNvGrpSpPr/>
          <p:nvPr/>
        </p:nvGrpSpPr>
        <p:grpSpPr>
          <a:xfrm>
            <a:off x="5091120" y="1427040"/>
            <a:ext cx="998640" cy="998640"/>
            <a:chOff x="5091120" y="1427040"/>
            <a:chExt cx="998640" cy="998640"/>
          </a:xfrm>
        </p:grpSpPr>
        <p:sp>
          <p:nvSpPr>
            <p:cNvPr id="486" name="椭圆 23"/>
            <p:cNvSpPr/>
            <p:nvPr/>
          </p:nvSpPr>
          <p:spPr>
            <a:xfrm>
              <a:off x="5091120" y="1427040"/>
              <a:ext cx="998640" cy="99864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7" name="图片 26" descr=""/>
            <p:cNvPicPr/>
            <p:nvPr/>
          </p:nvPicPr>
          <p:blipFill>
            <a:blip r:embed="rId2"/>
            <a:stretch/>
          </p:blipFill>
          <p:spPr>
            <a:xfrm>
              <a:off x="5273640" y="1609560"/>
              <a:ext cx="633600" cy="633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8" name="组合 32"/>
          <p:cNvGrpSpPr/>
          <p:nvPr/>
        </p:nvGrpSpPr>
        <p:grpSpPr>
          <a:xfrm>
            <a:off x="4908600" y="2743200"/>
            <a:ext cx="998640" cy="998640"/>
            <a:chOff x="4908600" y="2743200"/>
            <a:chExt cx="998640" cy="998640"/>
          </a:xfrm>
        </p:grpSpPr>
        <p:sp>
          <p:nvSpPr>
            <p:cNvPr id="489" name="椭圆 22"/>
            <p:cNvSpPr/>
            <p:nvPr/>
          </p:nvSpPr>
          <p:spPr>
            <a:xfrm>
              <a:off x="4908600" y="2743200"/>
              <a:ext cx="998640" cy="99864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0" name="图片 27" descr=""/>
            <p:cNvPicPr/>
            <p:nvPr/>
          </p:nvPicPr>
          <p:blipFill>
            <a:blip r:embed="rId3"/>
            <a:stretch/>
          </p:blipFill>
          <p:spPr>
            <a:xfrm>
              <a:off x="5091120" y="2925720"/>
              <a:ext cx="633600" cy="633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1" name="组合 31"/>
          <p:cNvGrpSpPr/>
          <p:nvPr/>
        </p:nvGrpSpPr>
        <p:grpSpPr>
          <a:xfrm>
            <a:off x="5924520" y="3637080"/>
            <a:ext cx="998640" cy="998280"/>
            <a:chOff x="5924520" y="3637080"/>
            <a:chExt cx="998640" cy="998280"/>
          </a:xfrm>
        </p:grpSpPr>
        <p:sp>
          <p:nvSpPr>
            <p:cNvPr id="492" name="椭圆 21"/>
            <p:cNvSpPr/>
            <p:nvPr/>
          </p:nvSpPr>
          <p:spPr>
            <a:xfrm>
              <a:off x="5924520" y="3637080"/>
              <a:ext cx="998640" cy="998280"/>
            </a:xfrm>
            <a:prstGeom prst="ellipse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3" name="图片 28" descr=""/>
            <p:cNvPicPr/>
            <p:nvPr/>
          </p:nvPicPr>
          <p:blipFill>
            <a:blip r:embed="rId4"/>
            <a:stretch/>
          </p:blipFill>
          <p:spPr>
            <a:xfrm>
              <a:off x="6107040" y="3819600"/>
              <a:ext cx="633600" cy="63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TextBox 33"/>
          <p:cNvSpPr/>
          <p:nvPr/>
        </p:nvSpPr>
        <p:spPr>
          <a:xfrm>
            <a:off x="6315120" y="2136600"/>
            <a:ext cx="184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34"/>
          <p:cNvSpPr/>
          <p:nvPr/>
        </p:nvSpPr>
        <p:spPr>
          <a:xfrm>
            <a:off x="758880" y="1609560"/>
            <a:ext cx="352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35"/>
          <p:cNvSpPr/>
          <p:nvPr/>
        </p:nvSpPr>
        <p:spPr>
          <a:xfrm>
            <a:off x="758880" y="2500200"/>
            <a:ext cx="352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36"/>
          <p:cNvSpPr/>
          <p:nvPr/>
        </p:nvSpPr>
        <p:spPr>
          <a:xfrm>
            <a:off x="758880" y="3363840"/>
            <a:ext cx="352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37"/>
          <p:cNvSpPr/>
          <p:nvPr/>
        </p:nvSpPr>
        <p:spPr>
          <a:xfrm>
            <a:off x="758880" y="4300560"/>
            <a:ext cx="352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500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3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6"/>
          <p:cNvSpPr/>
          <p:nvPr/>
        </p:nvSpPr>
        <p:spPr>
          <a:xfrm>
            <a:off x="5013360" y="1251000"/>
            <a:ext cx="33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7"/>
          <p:cNvSpPr/>
          <p:nvPr/>
        </p:nvSpPr>
        <p:spPr>
          <a:xfrm>
            <a:off x="5013360" y="2146320"/>
            <a:ext cx="33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8"/>
          <p:cNvSpPr/>
          <p:nvPr/>
        </p:nvSpPr>
        <p:spPr>
          <a:xfrm>
            <a:off x="5013360" y="3040200"/>
            <a:ext cx="33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9"/>
          <p:cNvSpPr/>
          <p:nvPr/>
        </p:nvSpPr>
        <p:spPr>
          <a:xfrm>
            <a:off x="5013360" y="3935520"/>
            <a:ext cx="33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等腰三角形 20"/>
          <p:cNvSpPr/>
          <p:nvPr/>
        </p:nvSpPr>
        <p:spPr>
          <a:xfrm>
            <a:off x="520560" y="2335320"/>
            <a:ext cx="911520" cy="1800000"/>
          </a:xfrm>
          <a:prstGeom prst="triangle">
            <a:avLst>
              <a:gd name="adj" fmla="val 50000"/>
            </a:avLst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等腰三角形 21"/>
          <p:cNvSpPr/>
          <p:nvPr/>
        </p:nvSpPr>
        <p:spPr>
          <a:xfrm>
            <a:off x="1459080" y="2212920"/>
            <a:ext cx="1109520" cy="1922400"/>
          </a:xfrm>
          <a:prstGeom prst="triangle">
            <a:avLst>
              <a:gd name="adj" fmla="val 50000"/>
            </a:avLst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等腰三角形 22"/>
          <p:cNvSpPr/>
          <p:nvPr/>
        </p:nvSpPr>
        <p:spPr>
          <a:xfrm>
            <a:off x="2593800" y="2746440"/>
            <a:ext cx="844560" cy="1388880"/>
          </a:xfrm>
          <a:prstGeom prst="triangle">
            <a:avLst>
              <a:gd name="adj" fmla="val 50000"/>
            </a:avLst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等腰三角形 23"/>
          <p:cNvSpPr/>
          <p:nvPr/>
        </p:nvSpPr>
        <p:spPr>
          <a:xfrm>
            <a:off x="3465360" y="1627200"/>
            <a:ext cx="1251000" cy="2508120"/>
          </a:xfrm>
          <a:prstGeom prst="triangle">
            <a:avLst>
              <a:gd name="adj" fmla="val 50000"/>
            </a:avLst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4"/>
          <p:cNvSpPr/>
          <p:nvPr/>
        </p:nvSpPr>
        <p:spPr>
          <a:xfrm>
            <a:off x="3438360" y="1251000"/>
            <a:ext cx="8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alibri"/>
              </a:rPr>
              <a:t>7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25"/>
          <p:cNvSpPr/>
          <p:nvPr/>
        </p:nvSpPr>
        <p:spPr>
          <a:xfrm>
            <a:off x="5383080" y="163188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26"/>
          <p:cNvSpPr/>
          <p:nvPr/>
        </p:nvSpPr>
        <p:spPr>
          <a:xfrm>
            <a:off x="5383080" y="251784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5383080" y="34131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8"/>
          <p:cNvSpPr/>
          <p:nvPr/>
        </p:nvSpPr>
        <p:spPr>
          <a:xfrm>
            <a:off x="5383080" y="433548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直接连接符 34"/>
          <p:cNvSpPr/>
          <p:nvPr/>
        </p:nvSpPr>
        <p:spPr>
          <a:xfrm flipV="1">
            <a:off x="1905120" y="2724120"/>
            <a:ext cx="2193840" cy="44640"/>
          </a:xfrm>
          <a:prstGeom prst="line">
            <a:avLst/>
          </a:prstGeom>
          <a:ln w="284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接连接符 29"/>
          <p:cNvSpPr/>
          <p:nvPr/>
        </p:nvSpPr>
        <p:spPr>
          <a:xfrm>
            <a:off x="1677960" y="3316320"/>
            <a:ext cx="517680" cy="412560"/>
          </a:xfrm>
          <a:prstGeom prst="line">
            <a:avLst/>
          </a:prstGeom>
          <a:ln w="284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直接连接符 26"/>
          <p:cNvSpPr/>
          <p:nvPr/>
        </p:nvSpPr>
        <p:spPr>
          <a:xfrm flipV="1">
            <a:off x="1677960" y="1769760"/>
            <a:ext cx="517680" cy="452520"/>
          </a:xfrm>
          <a:prstGeom prst="line">
            <a:avLst/>
          </a:prstGeom>
          <a:ln w="2844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531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3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6"/>
          <p:cNvSpPr/>
          <p:nvPr/>
        </p:nvSpPr>
        <p:spPr>
          <a:xfrm>
            <a:off x="5013360" y="1251000"/>
            <a:ext cx="33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7"/>
          <p:cNvSpPr/>
          <p:nvPr/>
        </p:nvSpPr>
        <p:spPr>
          <a:xfrm>
            <a:off x="5013360" y="2146320"/>
            <a:ext cx="33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8"/>
          <p:cNvSpPr/>
          <p:nvPr/>
        </p:nvSpPr>
        <p:spPr>
          <a:xfrm>
            <a:off x="5013360" y="3040200"/>
            <a:ext cx="33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9"/>
          <p:cNvSpPr/>
          <p:nvPr/>
        </p:nvSpPr>
        <p:spPr>
          <a:xfrm>
            <a:off x="5013360" y="3935520"/>
            <a:ext cx="33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椭圆 20"/>
          <p:cNvSpPr/>
          <p:nvPr/>
        </p:nvSpPr>
        <p:spPr>
          <a:xfrm>
            <a:off x="358920" y="1995480"/>
            <a:ext cx="1546200" cy="154800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椭圆 21"/>
          <p:cNvSpPr/>
          <p:nvPr/>
        </p:nvSpPr>
        <p:spPr>
          <a:xfrm>
            <a:off x="1905120" y="1251000"/>
            <a:ext cx="1038240" cy="1038240"/>
          </a:xfrm>
          <a:prstGeom prst="ellipse">
            <a:avLst/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22"/>
          <p:cNvSpPr/>
          <p:nvPr/>
        </p:nvSpPr>
        <p:spPr>
          <a:xfrm>
            <a:off x="1905120" y="3209760"/>
            <a:ext cx="1038240" cy="1038240"/>
          </a:xfrm>
          <a:prstGeom prst="ellipse">
            <a:avLst/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椭圆 23"/>
          <p:cNvSpPr/>
          <p:nvPr/>
        </p:nvSpPr>
        <p:spPr>
          <a:xfrm>
            <a:off x="3741840" y="2365200"/>
            <a:ext cx="716040" cy="717840"/>
          </a:xfrm>
          <a:prstGeom prst="ellipse">
            <a:avLst/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椭圆 24"/>
          <p:cNvSpPr/>
          <p:nvPr/>
        </p:nvSpPr>
        <p:spPr>
          <a:xfrm>
            <a:off x="2771640" y="2365200"/>
            <a:ext cx="716040" cy="717840"/>
          </a:xfrm>
          <a:prstGeom prst="ellipse">
            <a:avLst/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图片 37" descr=""/>
          <p:cNvPicPr/>
          <p:nvPr/>
        </p:nvPicPr>
        <p:blipFill>
          <a:blip r:embed="rId1"/>
          <a:stretch/>
        </p:blipFill>
        <p:spPr>
          <a:xfrm>
            <a:off x="3846600" y="246708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38" descr=""/>
          <p:cNvPicPr/>
          <p:nvPr/>
        </p:nvPicPr>
        <p:blipFill>
          <a:blip r:embed="rId2"/>
          <a:stretch/>
        </p:blipFill>
        <p:spPr>
          <a:xfrm>
            <a:off x="2876400" y="2467080"/>
            <a:ext cx="508320" cy="50796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39" descr=""/>
          <p:cNvPicPr/>
          <p:nvPr/>
        </p:nvPicPr>
        <p:blipFill>
          <a:blip r:embed="rId3"/>
          <a:stretch/>
        </p:blipFill>
        <p:spPr>
          <a:xfrm>
            <a:off x="768240" y="2346480"/>
            <a:ext cx="863640" cy="86328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40" descr=""/>
          <p:cNvPicPr/>
          <p:nvPr/>
        </p:nvPicPr>
        <p:blipFill>
          <a:blip r:embed="rId4"/>
          <a:stretch/>
        </p:blipFill>
        <p:spPr>
          <a:xfrm>
            <a:off x="2116080" y="1450800"/>
            <a:ext cx="630360" cy="62892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41" descr=""/>
          <p:cNvPicPr/>
          <p:nvPr/>
        </p:nvPicPr>
        <p:blipFill>
          <a:blip r:embed="rId5"/>
          <a:stretch/>
        </p:blipFill>
        <p:spPr>
          <a:xfrm>
            <a:off x="2130480" y="343836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559" name="TextBox 42"/>
          <p:cNvSpPr/>
          <p:nvPr/>
        </p:nvSpPr>
        <p:spPr>
          <a:xfrm>
            <a:off x="5383080" y="163188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3"/>
          <p:cNvSpPr/>
          <p:nvPr/>
        </p:nvSpPr>
        <p:spPr>
          <a:xfrm>
            <a:off x="5383080" y="251784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44"/>
          <p:cNvSpPr/>
          <p:nvPr/>
        </p:nvSpPr>
        <p:spPr>
          <a:xfrm>
            <a:off x="5383080" y="34131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45"/>
          <p:cNvSpPr/>
          <p:nvPr/>
        </p:nvSpPr>
        <p:spPr>
          <a:xfrm>
            <a:off x="5383080" y="433548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 you always feel that others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564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3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7"/>
          <p:cNvSpPr/>
          <p:nvPr/>
        </p:nvSpPr>
        <p:spPr>
          <a:xfrm>
            <a:off x="995400" y="988920"/>
            <a:ext cx="67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98da4"/>
                </a:solidFill>
                <a:latin typeface="Arial"/>
                <a:ea typeface="黑体"/>
              </a:rPr>
              <a:t>    </a:t>
            </a:r>
            <a:r>
              <a:rPr b="0" lang="en-US" sz="1800" spc="-1" strike="noStrike">
                <a:solidFill>
                  <a:srgbClr val="cc0066"/>
                </a:solidFill>
                <a:latin typeface="Arial"/>
                <a:ea typeface="黑体"/>
              </a:rPr>
              <a:t>MORE THAN TEMPLATE MORE THAN TEMPLATE MORE THAN TEMPLATE MORE THAN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600120" y="2282760"/>
          <a:ext cx="4618080" cy="2519280"/>
        </p:xfrm>
        <a:graphic>
          <a:graphicData uri="http://schemas.openxmlformats.org/drawingml/2006/table">
            <a:tbl>
              <a:tblPr/>
              <a:tblGrid>
                <a:gridCol w="660240"/>
                <a:gridCol w="658800"/>
                <a:gridCol w="660600"/>
                <a:gridCol w="658800"/>
                <a:gridCol w="660240"/>
                <a:gridCol w="660600"/>
                <a:gridCol w="658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c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d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d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d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c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c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d8e7"/>
                    </a:solidFill>
                  </a:tcPr>
                </a:tc>
              </a:tr>
            </a:tbl>
          </a:graphicData>
        </a:graphic>
      </p:graphicFrame>
      <p:sp>
        <p:nvSpPr>
          <p:cNvPr id="580" name="矩形 19"/>
          <p:cNvSpPr/>
          <p:nvPr/>
        </p:nvSpPr>
        <p:spPr>
          <a:xfrm>
            <a:off x="5867280" y="1770120"/>
            <a:ext cx="2089440" cy="5763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20"/>
          <p:cNvSpPr/>
          <p:nvPr/>
        </p:nvSpPr>
        <p:spPr>
          <a:xfrm>
            <a:off x="6080040" y="17701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22"/>
          <p:cNvSpPr/>
          <p:nvPr/>
        </p:nvSpPr>
        <p:spPr>
          <a:xfrm>
            <a:off x="5762520" y="2643120"/>
            <a:ext cx="2194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组合 34"/>
          <p:cNvGrpSpPr/>
          <p:nvPr/>
        </p:nvGrpSpPr>
        <p:grpSpPr>
          <a:xfrm>
            <a:off x="254880" y="150120"/>
            <a:ext cx="3836880" cy="3782160"/>
            <a:chOff x="254880" y="150120"/>
            <a:chExt cx="3836880" cy="3782160"/>
          </a:xfrm>
        </p:grpSpPr>
        <p:sp>
          <p:nvSpPr>
            <p:cNvPr id="584" name="椭圆 5"/>
            <p:cNvSpPr/>
            <p:nvPr/>
          </p:nvSpPr>
          <p:spPr>
            <a:xfrm rot="7424400">
              <a:off x="1044720" y="61956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5"/>
            <p:cNvSpPr/>
            <p:nvPr/>
          </p:nvSpPr>
          <p:spPr>
            <a:xfrm rot="8324400">
              <a:off x="1170000" y="47232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椭圆 5"/>
            <p:cNvSpPr/>
            <p:nvPr/>
          </p:nvSpPr>
          <p:spPr>
            <a:xfrm rot="9224400">
              <a:off x="1374480" y="32472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椭圆 5"/>
            <p:cNvSpPr/>
            <p:nvPr/>
          </p:nvSpPr>
          <p:spPr>
            <a:xfrm rot="10124400">
              <a:off x="1571040" y="20916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椭圆 5"/>
            <p:cNvSpPr/>
            <p:nvPr/>
          </p:nvSpPr>
          <p:spPr>
            <a:xfrm rot="11024400">
              <a:off x="1856520" y="22680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椭圆 5"/>
            <p:cNvSpPr/>
            <p:nvPr/>
          </p:nvSpPr>
          <p:spPr>
            <a:xfrm rot="11924400">
              <a:off x="2072160" y="24552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椭圆 5"/>
            <p:cNvSpPr/>
            <p:nvPr/>
          </p:nvSpPr>
          <p:spPr>
            <a:xfrm rot="12824400">
              <a:off x="2281680" y="32508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椭圆 5"/>
            <p:cNvSpPr/>
            <p:nvPr/>
          </p:nvSpPr>
          <p:spPr>
            <a:xfrm rot="13724400">
              <a:off x="2511720" y="52128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椭圆 5"/>
            <p:cNvSpPr/>
            <p:nvPr/>
          </p:nvSpPr>
          <p:spPr>
            <a:xfrm rot="14624400">
              <a:off x="2633040" y="73296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椭圆 5"/>
            <p:cNvSpPr/>
            <p:nvPr/>
          </p:nvSpPr>
          <p:spPr>
            <a:xfrm rot="15524400">
              <a:off x="2719800" y="95436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椭圆 5"/>
            <p:cNvSpPr/>
            <p:nvPr/>
          </p:nvSpPr>
          <p:spPr>
            <a:xfrm rot="16424400">
              <a:off x="2718720" y="118656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椭圆 5"/>
            <p:cNvSpPr/>
            <p:nvPr/>
          </p:nvSpPr>
          <p:spPr>
            <a:xfrm rot="17324400">
              <a:off x="2664360" y="142848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 5"/>
            <p:cNvSpPr/>
            <p:nvPr/>
          </p:nvSpPr>
          <p:spPr>
            <a:xfrm rot="18224400">
              <a:off x="2544120" y="161028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椭圆 5"/>
            <p:cNvSpPr/>
            <p:nvPr/>
          </p:nvSpPr>
          <p:spPr>
            <a:xfrm rot="19124400">
              <a:off x="2413440" y="180144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椭圆 5"/>
            <p:cNvSpPr/>
            <p:nvPr/>
          </p:nvSpPr>
          <p:spPr>
            <a:xfrm rot="20024400">
              <a:off x="2203920" y="194256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椭圆 5"/>
            <p:cNvSpPr/>
            <p:nvPr/>
          </p:nvSpPr>
          <p:spPr>
            <a:xfrm rot="20924400">
              <a:off x="1940400" y="201024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椭圆 5"/>
            <p:cNvSpPr/>
            <p:nvPr/>
          </p:nvSpPr>
          <p:spPr>
            <a:xfrm rot="224400">
              <a:off x="1717560" y="207216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椭圆 5"/>
            <p:cNvSpPr/>
            <p:nvPr/>
          </p:nvSpPr>
          <p:spPr>
            <a:xfrm rot="1124400">
              <a:off x="1453320" y="200736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椭圆 5"/>
            <p:cNvSpPr/>
            <p:nvPr/>
          </p:nvSpPr>
          <p:spPr>
            <a:xfrm rot="2024400">
              <a:off x="1234080" y="1926720"/>
              <a:ext cx="788400" cy="183600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000"/>
                <a:gd name="textAreaBottom" fmla="*/ 1836360 h 1836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椭圆 5"/>
            <p:cNvSpPr/>
            <p:nvPr/>
          </p:nvSpPr>
          <p:spPr>
            <a:xfrm rot="2924400">
              <a:off x="1012320" y="177228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椭圆 5"/>
            <p:cNvSpPr/>
            <p:nvPr/>
          </p:nvSpPr>
          <p:spPr>
            <a:xfrm rot="17324400">
              <a:off x="861120" y="82872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椭圆 5"/>
            <p:cNvSpPr/>
            <p:nvPr/>
          </p:nvSpPr>
          <p:spPr>
            <a:xfrm rot="3824400">
              <a:off x="858960" y="158184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椭圆 5"/>
            <p:cNvSpPr/>
            <p:nvPr/>
          </p:nvSpPr>
          <p:spPr>
            <a:xfrm rot="4724400">
              <a:off x="838080" y="133812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椭圆 5"/>
            <p:cNvSpPr/>
            <p:nvPr/>
          </p:nvSpPr>
          <p:spPr>
            <a:xfrm rot="16424400">
              <a:off x="820800" y="1084320"/>
              <a:ext cx="788400" cy="1836360"/>
            </a:xfrm>
            <a:custGeom>
              <a:avLst/>
              <a:gdLst>
                <a:gd name="textAreaLeft" fmla="*/ 0 w 788400"/>
                <a:gd name="textAreaRight" fmla="*/ 788760 w 788400"/>
                <a:gd name="textAreaTop" fmla="*/ 0 h 1836360"/>
                <a:gd name="textAreaBottom" fmla="*/ 1836720 h 1836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组合 35"/>
          <p:cNvGrpSpPr/>
          <p:nvPr/>
        </p:nvGrpSpPr>
        <p:grpSpPr>
          <a:xfrm>
            <a:off x="3655080" y="3347640"/>
            <a:ext cx="1113480" cy="1091880"/>
            <a:chOff x="3655080" y="3347640"/>
            <a:chExt cx="1113480" cy="1091880"/>
          </a:xfrm>
        </p:grpSpPr>
        <p:sp>
          <p:nvSpPr>
            <p:cNvPr id="609" name="椭圆 5"/>
            <p:cNvSpPr/>
            <p:nvPr/>
          </p:nvSpPr>
          <p:spPr>
            <a:xfrm rot="21211800">
              <a:off x="4115880" y="388404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椭圆 5"/>
            <p:cNvSpPr/>
            <p:nvPr/>
          </p:nvSpPr>
          <p:spPr>
            <a:xfrm rot="511800">
              <a:off x="4059720" y="388440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椭圆 5"/>
            <p:cNvSpPr/>
            <p:nvPr/>
          </p:nvSpPr>
          <p:spPr>
            <a:xfrm rot="1411800">
              <a:off x="3988800" y="386712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椭圆 5"/>
            <p:cNvSpPr/>
            <p:nvPr/>
          </p:nvSpPr>
          <p:spPr>
            <a:xfrm rot="2311800">
              <a:off x="3926880" y="384480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椭圆 5"/>
            <p:cNvSpPr/>
            <p:nvPr/>
          </p:nvSpPr>
          <p:spPr>
            <a:xfrm rot="3211800">
              <a:off x="3877560" y="377856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椭圆 5"/>
            <p:cNvSpPr/>
            <p:nvPr/>
          </p:nvSpPr>
          <p:spPr>
            <a:xfrm rot="4111800">
              <a:off x="3841200" y="372744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椭圆 5"/>
            <p:cNvSpPr/>
            <p:nvPr/>
          </p:nvSpPr>
          <p:spPr>
            <a:xfrm rot="5011800">
              <a:off x="3819240" y="366624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椭圆 5"/>
            <p:cNvSpPr/>
            <p:nvPr/>
          </p:nvSpPr>
          <p:spPr>
            <a:xfrm rot="5911800">
              <a:off x="3820320" y="357876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5"/>
            <p:cNvSpPr/>
            <p:nvPr/>
          </p:nvSpPr>
          <p:spPr>
            <a:xfrm rot="6811800">
              <a:off x="3844080" y="351252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 5"/>
            <p:cNvSpPr/>
            <p:nvPr/>
          </p:nvSpPr>
          <p:spPr>
            <a:xfrm rot="7711800">
              <a:off x="3876840" y="345168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椭圆 5"/>
            <p:cNvSpPr/>
            <p:nvPr/>
          </p:nvSpPr>
          <p:spPr>
            <a:xfrm rot="8611800">
              <a:off x="3927960" y="340884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5"/>
            <p:cNvSpPr/>
            <p:nvPr/>
          </p:nvSpPr>
          <p:spPr>
            <a:xfrm rot="9511800">
              <a:off x="3991680" y="337572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椭圆 5"/>
            <p:cNvSpPr/>
            <p:nvPr/>
          </p:nvSpPr>
          <p:spPr>
            <a:xfrm rot="10411800">
              <a:off x="4053960" y="336852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椭圆 5"/>
            <p:cNvSpPr/>
            <p:nvPr/>
          </p:nvSpPr>
          <p:spPr>
            <a:xfrm rot="11311800">
              <a:off x="4120200" y="336168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椭圆 5"/>
            <p:cNvSpPr/>
            <p:nvPr/>
          </p:nvSpPr>
          <p:spPr>
            <a:xfrm rot="12211800">
              <a:off x="4190760" y="338148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椭圆 5"/>
            <p:cNvSpPr/>
            <p:nvPr/>
          </p:nvSpPr>
          <p:spPr>
            <a:xfrm rot="13111800">
              <a:off x="4254840" y="342720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椭圆 5"/>
            <p:cNvSpPr/>
            <p:nvPr/>
          </p:nvSpPr>
          <p:spPr>
            <a:xfrm rot="14011800">
              <a:off x="4310280" y="346500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椭圆 5"/>
            <p:cNvSpPr/>
            <p:nvPr/>
          </p:nvSpPr>
          <p:spPr>
            <a:xfrm rot="14911800">
              <a:off x="4345200" y="353520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椭圆 5"/>
            <p:cNvSpPr/>
            <p:nvPr/>
          </p:nvSpPr>
          <p:spPr>
            <a:xfrm rot="15811800">
              <a:off x="4368600" y="3598920"/>
              <a:ext cx="227880" cy="53028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椭圆 5"/>
            <p:cNvSpPr/>
            <p:nvPr/>
          </p:nvSpPr>
          <p:spPr>
            <a:xfrm rot="16711800">
              <a:off x="4375440" y="367596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椭圆 5"/>
            <p:cNvSpPr/>
            <p:nvPr/>
          </p:nvSpPr>
          <p:spPr>
            <a:xfrm rot="9511800">
              <a:off x="4196160" y="388548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椭圆 5"/>
            <p:cNvSpPr/>
            <p:nvPr/>
          </p:nvSpPr>
          <p:spPr>
            <a:xfrm rot="17611800">
              <a:off x="4362480" y="374544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椭圆 5"/>
            <p:cNvSpPr/>
            <p:nvPr/>
          </p:nvSpPr>
          <p:spPr>
            <a:xfrm rot="18511800">
              <a:off x="4312800" y="379548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椭圆 5"/>
            <p:cNvSpPr/>
            <p:nvPr/>
          </p:nvSpPr>
          <p:spPr>
            <a:xfrm rot="8611800">
              <a:off x="4259880" y="3846960"/>
              <a:ext cx="227520" cy="53064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组合 60"/>
          <p:cNvGrpSpPr/>
          <p:nvPr/>
        </p:nvGrpSpPr>
        <p:grpSpPr>
          <a:xfrm>
            <a:off x="4590720" y="1516320"/>
            <a:ext cx="539640" cy="528840"/>
            <a:chOff x="4590720" y="1516320"/>
            <a:chExt cx="539640" cy="528840"/>
          </a:xfrm>
        </p:grpSpPr>
        <p:sp>
          <p:nvSpPr>
            <p:cNvPr id="634" name="椭圆 5"/>
            <p:cNvSpPr/>
            <p:nvPr/>
          </p:nvSpPr>
          <p:spPr>
            <a:xfrm rot="21211800">
              <a:off x="4813920" y="177660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椭圆 5"/>
            <p:cNvSpPr/>
            <p:nvPr/>
          </p:nvSpPr>
          <p:spPr>
            <a:xfrm rot="511800">
              <a:off x="4786560" y="177624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椭圆 5"/>
            <p:cNvSpPr/>
            <p:nvPr/>
          </p:nvSpPr>
          <p:spPr>
            <a:xfrm rot="1411800">
              <a:off x="4752360" y="176760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椭圆 5"/>
            <p:cNvSpPr/>
            <p:nvPr/>
          </p:nvSpPr>
          <p:spPr>
            <a:xfrm rot="2311800">
              <a:off x="4722480" y="175680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椭圆 5"/>
            <p:cNvSpPr/>
            <p:nvPr/>
          </p:nvSpPr>
          <p:spPr>
            <a:xfrm rot="3211800">
              <a:off x="4698000" y="172512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椭圆 5"/>
            <p:cNvSpPr/>
            <p:nvPr/>
          </p:nvSpPr>
          <p:spPr>
            <a:xfrm rot="4111800">
              <a:off x="4680720" y="170028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椭圆 5"/>
            <p:cNvSpPr/>
            <p:nvPr/>
          </p:nvSpPr>
          <p:spPr>
            <a:xfrm rot="5011800">
              <a:off x="4670640" y="167040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5"/>
            <p:cNvSpPr/>
            <p:nvPr/>
          </p:nvSpPr>
          <p:spPr>
            <a:xfrm rot="5911800">
              <a:off x="4670640" y="162828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椭圆 5"/>
            <p:cNvSpPr/>
            <p:nvPr/>
          </p:nvSpPr>
          <p:spPr>
            <a:xfrm rot="6811800">
              <a:off x="4682520" y="159660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椭圆 5"/>
            <p:cNvSpPr/>
            <p:nvPr/>
          </p:nvSpPr>
          <p:spPr>
            <a:xfrm rot="7711800">
              <a:off x="4698000" y="156708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椭圆 5"/>
            <p:cNvSpPr/>
            <p:nvPr/>
          </p:nvSpPr>
          <p:spPr>
            <a:xfrm rot="8611800">
              <a:off x="4723200" y="154620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5"/>
            <p:cNvSpPr/>
            <p:nvPr/>
          </p:nvSpPr>
          <p:spPr>
            <a:xfrm rot="9511800">
              <a:off x="4754160" y="152964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椭圆 5"/>
            <p:cNvSpPr/>
            <p:nvPr/>
          </p:nvSpPr>
          <p:spPr>
            <a:xfrm rot="10411800">
              <a:off x="4784040" y="152676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椭圆 5"/>
            <p:cNvSpPr/>
            <p:nvPr/>
          </p:nvSpPr>
          <p:spPr>
            <a:xfrm rot="11311800">
              <a:off x="4816440" y="152280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椭圆 5"/>
            <p:cNvSpPr/>
            <p:nvPr/>
          </p:nvSpPr>
          <p:spPr>
            <a:xfrm rot="12211800">
              <a:off x="4850640" y="153216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椭圆 5"/>
            <p:cNvSpPr/>
            <p:nvPr/>
          </p:nvSpPr>
          <p:spPr>
            <a:xfrm rot="13111800">
              <a:off x="4881600" y="155448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椭圆 5"/>
            <p:cNvSpPr/>
            <p:nvPr/>
          </p:nvSpPr>
          <p:spPr>
            <a:xfrm rot="14011800">
              <a:off x="4908240" y="157248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椭圆 5"/>
            <p:cNvSpPr/>
            <p:nvPr/>
          </p:nvSpPr>
          <p:spPr>
            <a:xfrm rot="14911800">
              <a:off x="4925520" y="160668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椭圆 5"/>
            <p:cNvSpPr/>
            <p:nvPr/>
          </p:nvSpPr>
          <p:spPr>
            <a:xfrm rot="15811800">
              <a:off x="4936320" y="1637640"/>
              <a:ext cx="110160" cy="2570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椭圆 5"/>
            <p:cNvSpPr/>
            <p:nvPr/>
          </p:nvSpPr>
          <p:spPr>
            <a:xfrm rot="16711800">
              <a:off x="4939920" y="167616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椭圆 5"/>
            <p:cNvSpPr/>
            <p:nvPr/>
          </p:nvSpPr>
          <p:spPr>
            <a:xfrm rot="9511800">
              <a:off x="4852800" y="177696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椭圆 5"/>
            <p:cNvSpPr/>
            <p:nvPr/>
          </p:nvSpPr>
          <p:spPr>
            <a:xfrm rot="17611800">
              <a:off x="4933080" y="170928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椭圆 5"/>
            <p:cNvSpPr/>
            <p:nvPr/>
          </p:nvSpPr>
          <p:spPr>
            <a:xfrm rot="18511800">
              <a:off x="4909680" y="173376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498da4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椭圆 5"/>
            <p:cNvSpPr/>
            <p:nvPr/>
          </p:nvSpPr>
          <p:spPr>
            <a:xfrm rot="8611800">
              <a:off x="4883760" y="1757880"/>
              <a:ext cx="110160" cy="25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TextBox 85"/>
          <p:cNvSpPr/>
          <p:nvPr/>
        </p:nvSpPr>
        <p:spPr>
          <a:xfrm>
            <a:off x="5867280" y="1108080"/>
            <a:ext cx="223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Calibri"/>
              </a:rPr>
              <a:t>P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Calibri"/>
              </a:rPr>
              <a:t>FOU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86"/>
          <p:cNvSpPr/>
          <p:nvPr/>
        </p:nvSpPr>
        <p:spPr>
          <a:xfrm>
            <a:off x="5203800" y="3205080"/>
            <a:ext cx="31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661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4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16"/>
          <p:cNvSpPr/>
          <p:nvPr/>
        </p:nvSpPr>
        <p:spPr>
          <a:xfrm>
            <a:off x="1562040" y="843120"/>
            <a:ext cx="67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98da4"/>
                </a:solidFill>
                <a:latin typeface="Arial"/>
                <a:ea typeface="黑体"/>
              </a:rPr>
              <a:t>    </a:t>
            </a:r>
            <a:r>
              <a:rPr b="0" lang="en-US" sz="18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 MORE THAN TEMPLATE MORE THAN TEMPLATE MORE THAN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图片 17" descr=""/>
          <p:cNvPicPr/>
          <p:nvPr/>
        </p:nvPicPr>
        <p:blipFill>
          <a:blip r:embed="rId1"/>
          <a:stretch/>
        </p:blipFill>
        <p:spPr>
          <a:xfrm>
            <a:off x="1363680" y="1563840"/>
            <a:ext cx="6408720" cy="3222360"/>
          </a:xfrm>
          <a:prstGeom prst="rect">
            <a:avLst/>
          </a:prstGeom>
          <a:ln w="0">
            <a:noFill/>
          </a:ln>
        </p:spPr>
      </p:pic>
      <p:sp>
        <p:nvSpPr>
          <p:cNvPr id="677" name="椭圆 18"/>
          <p:cNvSpPr/>
          <p:nvPr/>
        </p:nvSpPr>
        <p:spPr>
          <a:xfrm>
            <a:off x="2266920" y="2066760"/>
            <a:ext cx="1009800" cy="1009800"/>
          </a:xfrm>
          <a:prstGeom prst="ellipse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图片 19" descr=""/>
          <p:cNvPicPr/>
          <p:nvPr/>
        </p:nvPicPr>
        <p:blipFill>
          <a:blip r:embed="rId2"/>
          <a:stretch/>
        </p:blipFill>
        <p:spPr>
          <a:xfrm>
            <a:off x="2465280" y="2265480"/>
            <a:ext cx="614520" cy="614160"/>
          </a:xfrm>
          <a:prstGeom prst="rect">
            <a:avLst/>
          </a:prstGeom>
          <a:ln w="0">
            <a:noFill/>
          </a:ln>
        </p:spPr>
      </p:pic>
      <p:sp>
        <p:nvSpPr>
          <p:cNvPr id="679" name="矩形 20"/>
          <p:cNvSpPr/>
          <p:nvPr/>
        </p:nvSpPr>
        <p:spPr>
          <a:xfrm>
            <a:off x="4975200" y="2436840"/>
            <a:ext cx="2152800" cy="4824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21"/>
          <p:cNvSpPr/>
          <p:nvPr/>
        </p:nvSpPr>
        <p:spPr>
          <a:xfrm>
            <a:off x="5025960" y="244800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alibri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矩形 22"/>
          <p:cNvSpPr/>
          <p:nvPr/>
        </p:nvSpPr>
        <p:spPr>
          <a:xfrm>
            <a:off x="4975200" y="3184560"/>
            <a:ext cx="2152800" cy="4824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23"/>
          <p:cNvSpPr/>
          <p:nvPr/>
        </p:nvSpPr>
        <p:spPr>
          <a:xfrm>
            <a:off x="5025960" y="318456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alibri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24"/>
          <p:cNvSpPr/>
          <p:nvPr/>
        </p:nvSpPr>
        <p:spPr>
          <a:xfrm>
            <a:off x="4975200" y="3933720"/>
            <a:ext cx="2152800" cy="48276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25"/>
          <p:cNvSpPr/>
          <p:nvPr/>
        </p:nvSpPr>
        <p:spPr>
          <a:xfrm>
            <a:off x="5025960" y="39290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alibri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椭圆 5"/>
          <p:cNvSpPr/>
          <p:nvPr/>
        </p:nvSpPr>
        <p:spPr>
          <a:xfrm rot="2077800">
            <a:off x="201240" y="-306000"/>
            <a:ext cx="1830240" cy="6043680"/>
          </a:xfrm>
          <a:custGeom>
            <a:avLst/>
            <a:gdLst>
              <a:gd name="textAreaLeft" fmla="*/ 0 w 1830240"/>
              <a:gd name="textAreaRight" fmla="*/ 1830600 w 1830240"/>
              <a:gd name="textAreaTop" fmla="*/ 0 h 6043680"/>
              <a:gd name="textAreaBottom" fmla="*/ 6044040 h 6043680"/>
            </a:gdLst>
            <a:ahLst/>
            <a:rect l="textAreaLeft" t="textAreaTop" r="textAreaRight" b="textAreaBottom"/>
            <a:pathLst>
              <a:path w="1575088" h="3343692">
                <a:moveTo>
                  <a:pt x="741969" y="0"/>
                </a:moveTo>
                <a:cubicBezTo>
                  <a:pt x="1249728" y="396941"/>
                  <a:pt x="1575088" y="1015447"/>
                  <a:pt x="1575088" y="1709944"/>
                </a:cubicBezTo>
                <a:cubicBezTo>
                  <a:pt x="1575088" y="2361702"/>
                  <a:pt x="1288542" y="2946533"/>
                  <a:pt x="833120" y="3343692"/>
                </a:cubicBezTo>
                <a:cubicBezTo>
                  <a:pt x="325360" y="2946751"/>
                  <a:pt x="0" y="2328246"/>
                  <a:pt x="0" y="1633748"/>
                </a:cubicBezTo>
                <a:cubicBezTo>
                  <a:pt x="0" y="981991"/>
                  <a:pt x="286547" y="397160"/>
                  <a:pt x="741969" y="0"/>
                </a:cubicBezTo>
                <a:close/>
              </a:path>
            </a:pathLst>
          </a:custGeom>
          <a:solidFill>
            <a:srgbClr val="bf638a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5"/>
          <p:cNvSpPr/>
          <p:nvPr/>
        </p:nvSpPr>
        <p:spPr>
          <a:xfrm rot="19033800">
            <a:off x="-43920" y="-477360"/>
            <a:ext cx="1908000" cy="6276960"/>
          </a:xfrm>
          <a:custGeom>
            <a:avLst/>
            <a:gdLst>
              <a:gd name="textAreaLeft" fmla="*/ 0 w 1908000"/>
              <a:gd name="textAreaRight" fmla="*/ 1908360 w 1908000"/>
              <a:gd name="textAreaTop" fmla="*/ 0 h 6276960"/>
              <a:gd name="textAreaBottom" fmla="*/ 6277320 h 6276960"/>
            </a:gdLst>
            <a:ahLst/>
            <a:rect l="textAreaLeft" t="textAreaTop" r="textAreaRight" b="textAreaBottom"/>
            <a:pathLst>
              <a:path w="1575088" h="3343692">
                <a:moveTo>
                  <a:pt x="741969" y="0"/>
                </a:moveTo>
                <a:cubicBezTo>
                  <a:pt x="1249728" y="396941"/>
                  <a:pt x="1575088" y="1015447"/>
                  <a:pt x="1575088" y="1709944"/>
                </a:cubicBezTo>
                <a:cubicBezTo>
                  <a:pt x="1575088" y="2361702"/>
                  <a:pt x="1288542" y="2946533"/>
                  <a:pt x="833120" y="3343692"/>
                </a:cubicBezTo>
                <a:cubicBezTo>
                  <a:pt x="325360" y="2946751"/>
                  <a:pt x="0" y="2328246"/>
                  <a:pt x="0" y="1633748"/>
                </a:cubicBezTo>
                <a:cubicBezTo>
                  <a:pt x="0" y="981991"/>
                  <a:pt x="286547" y="397160"/>
                  <a:pt x="741969" y="0"/>
                </a:cubicBezTo>
                <a:close/>
              </a:path>
            </a:pathLst>
          </a:custGeom>
          <a:solidFill>
            <a:srgbClr val="80cad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5"/>
          <p:cNvSpPr/>
          <p:nvPr/>
        </p:nvSpPr>
        <p:spPr>
          <a:xfrm rot="5400000">
            <a:off x="550800" y="36360"/>
            <a:ext cx="1912680" cy="5246640"/>
          </a:xfrm>
          <a:custGeom>
            <a:avLst/>
            <a:gdLst>
              <a:gd name="textAreaLeft" fmla="*/ 0 w 1912680"/>
              <a:gd name="textAreaRight" fmla="*/ 1913040 w 1912680"/>
              <a:gd name="textAreaTop" fmla="*/ 0 h 5246640"/>
              <a:gd name="textAreaBottom" fmla="*/ 5247000 h 5246640"/>
            </a:gdLst>
            <a:ahLst/>
            <a:rect l="textAreaLeft" t="textAreaTop" r="textAreaRight" b="textAreaBottom"/>
            <a:pathLst>
              <a:path w="1575088" h="3343692">
                <a:moveTo>
                  <a:pt x="741969" y="0"/>
                </a:moveTo>
                <a:cubicBezTo>
                  <a:pt x="1249728" y="396941"/>
                  <a:pt x="1575088" y="1015447"/>
                  <a:pt x="1575088" y="1709944"/>
                </a:cubicBezTo>
                <a:cubicBezTo>
                  <a:pt x="1575088" y="2361702"/>
                  <a:pt x="1288542" y="2946533"/>
                  <a:pt x="833120" y="3343692"/>
                </a:cubicBezTo>
                <a:cubicBezTo>
                  <a:pt x="325360" y="2946751"/>
                  <a:pt x="0" y="2328246"/>
                  <a:pt x="0" y="1633748"/>
                </a:cubicBezTo>
                <a:cubicBezTo>
                  <a:pt x="0" y="981991"/>
                  <a:pt x="286547" y="397160"/>
                  <a:pt x="741969" y="0"/>
                </a:cubicBezTo>
                <a:close/>
              </a:path>
            </a:pathLst>
          </a:custGeom>
          <a:solidFill>
            <a:srgbClr val="db9649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8"/>
          <p:cNvGrpSpPr/>
          <p:nvPr/>
        </p:nvGrpSpPr>
        <p:grpSpPr>
          <a:xfrm>
            <a:off x="4791240" y="-244080"/>
            <a:ext cx="961200" cy="816480"/>
            <a:chOff x="4791240" y="-244080"/>
            <a:chExt cx="961200" cy="816480"/>
          </a:xfrm>
        </p:grpSpPr>
        <p:sp>
          <p:nvSpPr>
            <p:cNvPr id="62" name="椭圆 5"/>
            <p:cNvSpPr/>
            <p:nvPr/>
          </p:nvSpPr>
          <p:spPr>
            <a:xfrm rot="12652200">
              <a:off x="4974840" y="-236880"/>
              <a:ext cx="243720" cy="78372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5"/>
            <p:cNvSpPr/>
            <p:nvPr/>
          </p:nvSpPr>
          <p:spPr>
            <a:xfrm rot="735000">
              <a:off x="5088600" y="-198000"/>
              <a:ext cx="262080" cy="73512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椭圆 5"/>
            <p:cNvSpPr/>
            <p:nvPr/>
          </p:nvSpPr>
          <p:spPr>
            <a:xfrm rot="20991600">
              <a:off x="5216760" y="-198360"/>
              <a:ext cx="254520" cy="75456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754560"/>
                <a:gd name="textAreaBottom" fmla="*/ 754920 h 7545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椭圆 5"/>
            <p:cNvSpPr/>
            <p:nvPr/>
          </p:nvSpPr>
          <p:spPr>
            <a:xfrm rot="19847400">
              <a:off x="5347080" y="-228240"/>
              <a:ext cx="237240" cy="74916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14"/>
          <p:cNvGrpSpPr/>
          <p:nvPr/>
        </p:nvGrpSpPr>
        <p:grpSpPr>
          <a:xfrm>
            <a:off x="4842720" y="4623480"/>
            <a:ext cx="857160" cy="616680"/>
            <a:chOff x="4842720" y="4623480"/>
            <a:chExt cx="857160" cy="616680"/>
          </a:xfrm>
        </p:grpSpPr>
        <p:sp>
          <p:nvSpPr>
            <p:cNvPr id="67" name="椭圆 5"/>
            <p:cNvSpPr/>
            <p:nvPr/>
          </p:nvSpPr>
          <p:spPr>
            <a:xfrm flipV="1" rot="8947800">
              <a:off x="4971600" y="4647240"/>
              <a:ext cx="243720" cy="57024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360 h 570240"/>
                <a:gd name="textAreaBottom" fmla="*/ 570960 h 5702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5"/>
            <p:cNvSpPr/>
            <p:nvPr/>
          </p:nvSpPr>
          <p:spPr>
            <a:xfrm flipV="1" rot="20865000">
              <a:off x="5085360" y="4654440"/>
              <a:ext cx="261720" cy="53532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-360 h 535320"/>
                <a:gd name="textAreaBottom" fmla="*/ 535320 h 5353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 5"/>
            <p:cNvSpPr/>
            <p:nvPr/>
          </p:nvSpPr>
          <p:spPr>
            <a:xfrm flipV="1" rot="608400">
              <a:off x="5213880" y="4641120"/>
              <a:ext cx="254520" cy="54900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-360 h 549000"/>
                <a:gd name="textAreaBottom" fmla="*/ 549000 h 5490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5"/>
            <p:cNvSpPr/>
            <p:nvPr/>
          </p:nvSpPr>
          <p:spPr>
            <a:xfrm flipV="1" rot="1752600">
              <a:off x="5344560" y="4666680"/>
              <a:ext cx="237240" cy="54540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-360 h 545400"/>
                <a:gd name="textAreaBottom" fmla="*/ 545400 h 545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椭圆 19"/>
          <p:cNvSpPr/>
          <p:nvPr/>
        </p:nvSpPr>
        <p:spPr>
          <a:xfrm>
            <a:off x="5122800" y="843120"/>
            <a:ext cx="312840" cy="312480"/>
          </a:xfrm>
          <a:prstGeom prst="ellipse">
            <a:avLst/>
          </a:prstGeom>
          <a:solidFill>
            <a:srgbClr val="80ca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20"/>
          <p:cNvSpPr/>
          <p:nvPr/>
        </p:nvSpPr>
        <p:spPr>
          <a:xfrm>
            <a:off x="5122800" y="1641600"/>
            <a:ext cx="312840" cy="314280"/>
          </a:xfrm>
          <a:prstGeom prst="ellipse">
            <a:avLst/>
          </a:prstGeom>
          <a:solidFill>
            <a:srgbClr val="bf63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21"/>
          <p:cNvSpPr/>
          <p:nvPr/>
        </p:nvSpPr>
        <p:spPr>
          <a:xfrm>
            <a:off x="5122800" y="2441520"/>
            <a:ext cx="312840" cy="312840"/>
          </a:xfrm>
          <a:prstGeom prst="ellipse">
            <a:avLst/>
          </a:pr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23"/>
          <p:cNvSpPr/>
          <p:nvPr/>
        </p:nvSpPr>
        <p:spPr>
          <a:xfrm>
            <a:off x="5122800" y="3238560"/>
            <a:ext cx="312840" cy="314280"/>
          </a:xfrm>
          <a:prstGeom prst="ellipse">
            <a:avLst/>
          </a:prstGeom>
          <a:solidFill>
            <a:srgbClr val="db96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24"/>
          <p:cNvSpPr/>
          <p:nvPr/>
        </p:nvSpPr>
        <p:spPr>
          <a:xfrm>
            <a:off x="5122800" y="4038480"/>
            <a:ext cx="312840" cy="312840"/>
          </a:xfrm>
          <a:prstGeom prst="ellipse">
            <a:avLst/>
          </a:prstGeom>
          <a:solidFill>
            <a:srgbClr val="80ca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179280" y="228276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6"/>
          <p:cNvSpPr/>
          <p:nvPr/>
        </p:nvSpPr>
        <p:spPr>
          <a:xfrm>
            <a:off x="1619280" y="185112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Calibri"/>
              </a:rPr>
              <a:t>C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Calibri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7"/>
          <p:cNvSpPr/>
          <p:nvPr/>
        </p:nvSpPr>
        <p:spPr>
          <a:xfrm>
            <a:off x="5699160" y="789120"/>
            <a:ext cx="31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8"/>
          <p:cNvSpPr/>
          <p:nvPr/>
        </p:nvSpPr>
        <p:spPr>
          <a:xfrm>
            <a:off x="5751360" y="1603440"/>
            <a:ext cx="31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9"/>
          <p:cNvSpPr/>
          <p:nvPr/>
        </p:nvSpPr>
        <p:spPr>
          <a:xfrm>
            <a:off x="5721480" y="2349360"/>
            <a:ext cx="31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0"/>
          <p:cNvSpPr/>
          <p:nvPr/>
        </p:nvSpPr>
        <p:spPr>
          <a:xfrm>
            <a:off x="5721480" y="3182760"/>
            <a:ext cx="31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1"/>
          <p:cNvSpPr/>
          <p:nvPr/>
        </p:nvSpPr>
        <p:spPr>
          <a:xfrm>
            <a:off x="5724360" y="3949560"/>
            <a:ext cx="31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686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4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图片 16" descr=""/>
          <p:cNvPicPr/>
          <p:nvPr/>
        </p:nvPicPr>
        <p:blipFill>
          <a:blip r:embed="rId1"/>
          <a:stretch/>
        </p:blipFill>
        <p:spPr>
          <a:xfrm>
            <a:off x="1025640" y="1406520"/>
            <a:ext cx="1622160" cy="1149480"/>
          </a:xfrm>
          <a:prstGeom prst="rect">
            <a:avLst/>
          </a:prstGeom>
          <a:ln w="0">
            <a:noFill/>
          </a:ln>
        </p:spPr>
      </p:pic>
      <p:pic>
        <p:nvPicPr>
          <p:cNvPr id="701" name="图片 17" descr=""/>
          <p:cNvPicPr/>
          <p:nvPr/>
        </p:nvPicPr>
        <p:blipFill>
          <a:blip r:embed="rId2"/>
          <a:stretch/>
        </p:blipFill>
        <p:spPr>
          <a:xfrm>
            <a:off x="2879640" y="1406520"/>
            <a:ext cx="1622520" cy="1149480"/>
          </a:xfrm>
          <a:prstGeom prst="rect">
            <a:avLst/>
          </a:prstGeom>
          <a:ln w="0">
            <a:noFill/>
          </a:ln>
        </p:spPr>
      </p:pic>
      <p:pic>
        <p:nvPicPr>
          <p:cNvPr id="702" name="图片 18" descr=""/>
          <p:cNvPicPr/>
          <p:nvPr/>
        </p:nvPicPr>
        <p:blipFill>
          <a:blip r:embed="rId3"/>
          <a:stretch/>
        </p:blipFill>
        <p:spPr>
          <a:xfrm>
            <a:off x="4734000" y="1406520"/>
            <a:ext cx="1622520" cy="1149480"/>
          </a:xfrm>
          <a:prstGeom prst="rect">
            <a:avLst/>
          </a:prstGeom>
          <a:ln w="0">
            <a:noFill/>
          </a:ln>
        </p:spPr>
      </p:pic>
      <p:pic>
        <p:nvPicPr>
          <p:cNvPr id="703" name="图片 19" descr=""/>
          <p:cNvPicPr/>
          <p:nvPr/>
        </p:nvPicPr>
        <p:blipFill>
          <a:blip r:embed="rId4"/>
          <a:stretch/>
        </p:blipFill>
        <p:spPr>
          <a:xfrm>
            <a:off x="6588000" y="1406520"/>
            <a:ext cx="1622520" cy="1149480"/>
          </a:xfrm>
          <a:prstGeom prst="rect">
            <a:avLst/>
          </a:prstGeom>
          <a:ln w="0">
            <a:noFill/>
          </a:ln>
        </p:spPr>
      </p:pic>
      <p:sp>
        <p:nvSpPr>
          <p:cNvPr id="704" name="TextBox 20"/>
          <p:cNvSpPr/>
          <p:nvPr/>
        </p:nvSpPr>
        <p:spPr>
          <a:xfrm>
            <a:off x="1025640" y="279396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alibri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21"/>
          <p:cNvSpPr/>
          <p:nvPr/>
        </p:nvSpPr>
        <p:spPr>
          <a:xfrm>
            <a:off x="2878200" y="279396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alibri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22"/>
          <p:cNvSpPr/>
          <p:nvPr/>
        </p:nvSpPr>
        <p:spPr>
          <a:xfrm>
            <a:off x="4730760" y="279396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alibri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23"/>
          <p:cNvSpPr/>
          <p:nvPr/>
        </p:nvSpPr>
        <p:spPr>
          <a:xfrm>
            <a:off x="6585120" y="279396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alibri"/>
              </a:rPr>
              <a:t>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24"/>
          <p:cNvSpPr/>
          <p:nvPr/>
        </p:nvSpPr>
        <p:spPr>
          <a:xfrm>
            <a:off x="1055520" y="3340080"/>
            <a:ext cx="1757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25"/>
          <p:cNvSpPr/>
          <p:nvPr/>
        </p:nvSpPr>
        <p:spPr>
          <a:xfrm>
            <a:off x="2898720" y="3340080"/>
            <a:ext cx="1755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26"/>
          <p:cNvSpPr/>
          <p:nvPr/>
        </p:nvSpPr>
        <p:spPr>
          <a:xfrm>
            <a:off x="4711680" y="3340080"/>
            <a:ext cx="1757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27"/>
          <p:cNvSpPr/>
          <p:nvPr/>
        </p:nvSpPr>
        <p:spPr>
          <a:xfrm>
            <a:off x="6597720" y="3340080"/>
            <a:ext cx="1755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713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4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图表 16" descr=""/>
          <p:cNvPicPr/>
          <p:nvPr/>
        </p:nvPicPr>
        <p:blipFill>
          <a:blip r:embed="rId1"/>
          <a:stretch/>
        </p:blipFill>
        <p:spPr>
          <a:xfrm>
            <a:off x="453960" y="2089080"/>
            <a:ext cx="4194360" cy="2448000"/>
          </a:xfrm>
          <a:prstGeom prst="rect">
            <a:avLst/>
          </a:prstGeom>
          <a:ln w="0">
            <a:noFill/>
          </a:ln>
        </p:spPr>
      </p:pic>
      <p:sp>
        <p:nvSpPr>
          <p:cNvPr id="728" name="圆角矩形 17"/>
          <p:cNvSpPr/>
          <p:nvPr/>
        </p:nvSpPr>
        <p:spPr>
          <a:xfrm>
            <a:off x="6227640" y="1230480"/>
            <a:ext cx="1189080" cy="1296720"/>
          </a:xfrm>
          <a:custGeom>
            <a:avLst/>
            <a:gdLst>
              <a:gd name="textAreaLeft" fmla="*/ 0 w 1189080"/>
              <a:gd name="textAreaRight" fmla="*/ 1189080 w 118908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1584176" h="1728192">
                <a:moveTo>
                  <a:pt x="455197" y="0"/>
                </a:moveTo>
                <a:lnTo>
                  <a:pt x="648072" y="0"/>
                </a:lnTo>
                <a:lnTo>
                  <a:pt x="1128979" y="0"/>
                </a:lnTo>
                <a:lnTo>
                  <a:pt x="1584176" y="0"/>
                </a:lnTo>
                <a:lnTo>
                  <a:pt x="1584176" y="455197"/>
                </a:lnTo>
                <a:lnTo>
                  <a:pt x="1584176" y="1080120"/>
                </a:lnTo>
                <a:lnTo>
                  <a:pt x="1584176" y="1272995"/>
                </a:lnTo>
                <a:cubicBezTo>
                  <a:pt x="1584176" y="1524393"/>
                  <a:pt x="1380377" y="1728192"/>
                  <a:pt x="1128979" y="1728192"/>
                </a:cubicBezTo>
                <a:lnTo>
                  <a:pt x="576064" y="1728192"/>
                </a:lnTo>
                <a:lnTo>
                  <a:pt x="455197" y="1728192"/>
                </a:lnTo>
                <a:lnTo>
                  <a:pt x="0" y="1728192"/>
                </a:lnTo>
                <a:lnTo>
                  <a:pt x="0" y="1272995"/>
                </a:lnTo>
                <a:lnTo>
                  <a:pt x="0" y="1008112"/>
                </a:lnTo>
                <a:lnTo>
                  <a:pt x="0" y="455197"/>
                </a:lnTo>
                <a:cubicBezTo>
                  <a:pt x="0" y="203799"/>
                  <a:pt x="203799" y="0"/>
                  <a:pt x="455197" y="0"/>
                </a:cubicBezTo>
                <a:close/>
              </a:path>
            </a:pathLst>
          </a:cu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圆角矩形 17"/>
          <p:cNvSpPr/>
          <p:nvPr/>
        </p:nvSpPr>
        <p:spPr>
          <a:xfrm>
            <a:off x="4772160" y="1230480"/>
            <a:ext cx="1187280" cy="1296720"/>
          </a:xfrm>
          <a:custGeom>
            <a:avLst/>
            <a:gdLst>
              <a:gd name="textAreaLeft" fmla="*/ 0 w 1187280"/>
              <a:gd name="textAreaRight" fmla="*/ 1187640 w 118728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1584176" h="1728192">
                <a:moveTo>
                  <a:pt x="455197" y="0"/>
                </a:moveTo>
                <a:lnTo>
                  <a:pt x="648072" y="0"/>
                </a:lnTo>
                <a:lnTo>
                  <a:pt x="1128979" y="0"/>
                </a:lnTo>
                <a:lnTo>
                  <a:pt x="1584176" y="0"/>
                </a:lnTo>
                <a:lnTo>
                  <a:pt x="1584176" y="455197"/>
                </a:lnTo>
                <a:lnTo>
                  <a:pt x="1584176" y="1080120"/>
                </a:lnTo>
                <a:lnTo>
                  <a:pt x="1584176" y="1272995"/>
                </a:lnTo>
                <a:cubicBezTo>
                  <a:pt x="1584176" y="1524393"/>
                  <a:pt x="1380377" y="1728192"/>
                  <a:pt x="1128979" y="1728192"/>
                </a:cubicBezTo>
                <a:lnTo>
                  <a:pt x="576064" y="1728192"/>
                </a:lnTo>
                <a:lnTo>
                  <a:pt x="455197" y="1728192"/>
                </a:lnTo>
                <a:lnTo>
                  <a:pt x="0" y="1728192"/>
                </a:lnTo>
                <a:lnTo>
                  <a:pt x="0" y="1272995"/>
                </a:lnTo>
                <a:lnTo>
                  <a:pt x="0" y="1008112"/>
                </a:lnTo>
                <a:lnTo>
                  <a:pt x="0" y="455197"/>
                </a:lnTo>
                <a:cubicBezTo>
                  <a:pt x="0" y="203799"/>
                  <a:pt x="203799" y="0"/>
                  <a:pt x="455197" y="0"/>
                </a:cubicBezTo>
                <a:close/>
              </a:path>
            </a:pathLst>
          </a:cu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圆角矩形 17"/>
          <p:cNvSpPr/>
          <p:nvPr/>
        </p:nvSpPr>
        <p:spPr>
          <a:xfrm>
            <a:off x="7667640" y="1230480"/>
            <a:ext cx="1189080" cy="1296720"/>
          </a:xfrm>
          <a:custGeom>
            <a:avLst/>
            <a:gdLst>
              <a:gd name="textAreaLeft" fmla="*/ 0 w 1189080"/>
              <a:gd name="textAreaRight" fmla="*/ 1189080 w 118908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1584176" h="1728192">
                <a:moveTo>
                  <a:pt x="455197" y="0"/>
                </a:moveTo>
                <a:lnTo>
                  <a:pt x="648072" y="0"/>
                </a:lnTo>
                <a:lnTo>
                  <a:pt x="1128979" y="0"/>
                </a:lnTo>
                <a:lnTo>
                  <a:pt x="1584176" y="0"/>
                </a:lnTo>
                <a:lnTo>
                  <a:pt x="1584176" y="455197"/>
                </a:lnTo>
                <a:lnTo>
                  <a:pt x="1584176" y="1080120"/>
                </a:lnTo>
                <a:lnTo>
                  <a:pt x="1584176" y="1272995"/>
                </a:lnTo>
                <a:cubicBezTo>
                  <a:pt x="1584176" y="1524393"/>
                  <a:pt x="1380377" y="1728192"/>
                  <a:pt x="1128979" y="1728192"/>
                </a:cubicBezTo>
                <a:lnTo>
                  <a:pt x="576064" y="1728192"/>
                </a:lnTo>
                <a:lnTo>
                  <a:pt x="455197" y="1728192"/>
                </a:lnTo>
                <a:lnTo>
                  <a:pt x="0" y="1728192"/>
                </a:lnTo>
                <a:lnTo>
                  <a:pt x="0" y="1272995"/>
                </a:lnTo>
                <a:lnTo>
                  <a:pt x="0" y="1008112"/>
                </a:lnTo>
                <a:lnTo>
                  <a:pt x="0" y="455197"/>
                </a:lnTo>
                <a:cubicBezTo>
                  <a:pt x="0" y="203799"/>
                  <a:pt x="203799" y="0"/>
                  <a:pt x="455197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22"/>
          <p:cNvSpPr/>
          <p:nvPr/>
        </p:nvSpPr>
        <p:spPr>
          <a:xfrm>
            <a:off x="4932360" y="4371840"/>
            <a:ext cx="934920" cy="36036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23"/>
          <p:cNvSpPr/>
          <p:nvPr/>
        </p:nvSpPr>
        <p:spPr>
          <a:xfrm>
            <a:off x="5873760" y="4011480"/>
            <a:ext cx="936720" cy="720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24"/>
          <p:cNvSpPr/>
          <p:nvPr/>
        </p:nvSpPr>
        <p:spPr>
          <a:xfrm>
            <a:off x="6816600" y="4156200"/>
            <a:ext cx="935280" cy="57600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25"/>
          <p:cNvSpPr/>
          <p:nvPr/>
        </p:nvSpPr>
        <p:spPr>
          <a:xfrm>
            <a:off x="7758000" y="3855960"/>
            <a:ext cx="936720" cy="876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6"/>
          <p:cNvSpPr/>
          <p:nvPr/>
        </p:nvSpPr>
        <p:spPr>
          <a:xfrm>
            <a:off x="4937040" y="13381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29"/>
          <p:cNvSpPr/>
          <p:nvPr/>
        </p:nvSpPr>
        <p:spPr>
          <a:xfrm>
            <a:off x="6405480" y="13381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30"/>
          <p:cNvSpPr/>
          <p:nvPr/>
        </p:nvSpPr>
        <p:spPr>
          <a:xfrm>
            <a:off x="7786800" y="133812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31"/>
          <p:cNvSpPr/>
          <p:nvPr/>
        </p:nvSpPr>
        <p:spPr>
          <a:xfrm>
            <a:off x="5076720" y="43704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2"/>
          <p:cNvSpPr/>
          <p:nvPr/>
        </p:nvSpPr>
        <p:spPr>
          <a:xfrm>
            <a:off x="5886360" y="43704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3"/>
          <p:cNvSpPr/>
          <p:nvPr/>
        </p:nvSpPr>
        <p:spPr>
          <a:xfrm>
            <a:off x="6851520" y="43704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34"/>
          <p:cNvSpPr/>
          <p:nvPr/>
        </p:nvSpPr>
        <p:spPr>
          <a:xfrm>
            <a:off x="7786800" y="43704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35"/>
          <p:cNvSpPr/>
          <p:nvPr/>
        </p:nvSpPr>
        <p:spPr>
          <a:xfrm>
            <a:off x="879480" y="1185840"/>
            <a:ext cx="354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6"/>
          <p:cNvSpPr/>
          <p:nvPr/>
        </p:nvSpPr>
        <p:spPr>
          <a:xfrm>
            <a:off x="5178600" y="2787480"/>
            <a:ext cx="354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12"/>
          <p:cNvSpPr/>
          <p:nvPr/>
        </p:nvSpPr>
        <p:spPr>
          <a:xfrm>
            <a:off x="301680" y="4805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746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4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图片 16" descr=""/>
          <p:cNvPicPr/>
          <p:nvPr/>
        </p:nvPicPr>
        <p:blipFill>
          <a:blip r:embed="rId1"/>
          <a:stretch/>
        </p:blipFill>
        <p:spPr>
          <a:xfrm>
            <a:off x="426960" y="1276200"/>
            <a:ext cx="5016600" cy="3111480"/>
          </a:xfrm>
          <a:prstGeom prst="rect">
            <a:avLst/>
          </a:prstGeom>
          <a:ln w="0">
            <a:noFill/>
          </a:ln>
        </p:spPr>
      </p:pic>
      <p:sp>
        <p:nvSpPr>
          <p:cNvPr id="761" name="椭圆 17"/>
          <p:cNvSpPr/>
          <p:nvPr/>
        </p:nvSpPr>
        <p:spPr>
          <a:xfrm>
            <a:off x="2771640" y="977760"/>
            <a:ext cx="524160" cy="52416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椭圆 18"/>
          <p:cNvSpPr/>
          <p:nvPr/>
        </p:nvSpPr>
        <p:spPr>
          <a:xfrm>
            <a:off x="2124000" y="3697200"/>
            <a:ext cx="523800" cy="523800"/>
          </a:xfrm>
          <a:prstGeom prst="ellips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直接连接符 21"/>
          <p:cNvSpPr/>
          <p:nvPr/>
        </p:nvSpPr>
        <p:spPr>
          <a:xfrm flipH="1">
            <a:off x="2266560" y="1276200"/>
            <a:ext cx="668520" cy="432000"/>
          </a:xfrm>
          <a:prstGeom prst="line">
            <a:avLst/>
          </a:prstGeom>
          <a:ln w="12600">
            <a:solidFill>
              <a:srgbClr val="cc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23"/>
          <p:cNvSpPr/>
          <p:nvPr/>
        </p:nvSpPr>
        <p:spPr>
          <a:xfrm flipH="1" flipV="1">
            <a:off x="1835280" y="3435120"/>
            <a:ext cx="550800" cy="523800"/>
          </a:xfrm>
          <a:prstGeom prst="line">
            <a:avLst/>
          </a:prstGeom>
          <a:ln w="12600">
            <a:solidFill>
              <a:srgbClr val="cc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组合 31"/>
          <p:cNvGrpSpPr/>
          <p:nvPr/>
        </p:nvGrpSpPr>
        <p:grpSpPr>
          <a:xfrm>
            <a:off x="4476600" y="2313720"/>
            <a:ext cx="1202040" cy="727560"/>
            <a:chOff x="4476600" y="2313720"/>
            <a:chExt cx="1202040" cy="727560"/>
          </a:xfrm>
        </p:grpSpPr>
        <p:sp>
          <p:nvSpPr>
            <p:cNvPr id="766" name="椭圆 19"/>
            <p:cNvSpPr/>
            <p:nvPr/>
          </p:nvSpPr>
          <p:spPr>
            <a:xfrm rot="1600200">
              <a:off x="5065560" y="2427480"/>
              <a:ext cx="523440" cy="5238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直接连接符 26"/>
            <p:cNvSpPr/>
            <p:nvPr/>
          </p:nvSpPr>
          <p:spPr>
            <a:xfrm flipH="1" flipV="1">
              <a:off x="4476600" y="2313720"/>
              <a:ext cx="725040" cy="364320"/>
            </a:xfrm>
            <a:prstGeom prst="line">
              <a:avLst/>
            </a:prstGeom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TextBox 32"/>
          <p:cNvSpPr/>
          <p:nvPr/>
        </p:nvSpPr>
        <p:spPr>
          <a:xfrm>
            <a:off x="2771640" y="10414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33"/>
          <p:cNvSpPr/>
          <p:nvPr/>
        </p:nvSpPr>
        <p:spPr>
          <a:xfrm>
            <a:off x="5054760" y="25052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34"/>
          <p:cNvSpPr/>
          <p:nvPr/>
        </p:nvSpPr>
        <p:spPr>
          <a:xfrm>
            <a:off x="2103480" y="37749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35"/>
          <p:cNvSpPr/>
          <p:nvPr/>
        </p:nvSpPr>
        <p:spPr>
          <a:xfrm>
            <a:off x="6192720" y="1225440"/>
            <a:ext cx="2051280" cy="55404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36"/>
          <p:cNvSpPr/>
          <p:nvPr/>
        </p:nvSpPr>
        <p:spPr>
          <a:xfrm>
            <a:off x="6192720" y="12812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37"/>
          <p:cNvSpPr/>
          <p:nvPr/>
        </p:nvSpPr>
        <p:spPr>
          <a:xfrm>
            <a:off x="6121440" y="2066760"/>
            <a:ext cx="219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组合 25"/>
          <p:cNvGrpSpPr/>
          <p:nvPr/>
        </p:nvGrpSpPr>
        <p:grpSpPr>
          <a:xfrm>
            <a:off x="-1916640" y="-2459520"/>
            <a:ext cx="12652200" cy="9320040"/>
            <a:chOff x="-1916640" y="-2459520"/>
            <a:chExt cx="12652200" cy="9320040"/>
          </a:xfrm>
        </p:grpSpPr>
        <p:sp>
          <p:nvSpPr>
            <p:cNvPr id="775" name="椭圆 5"/>
            <p:cNvSpPr/>
            <p:nvPr/>
          </p:nvSpPr>
          <p:spPr>
            <a:xfrm rot="17654400">
              <a:off x="891360" y="-1769760"/>
              <a:ext cx="1821600" cy="6040440"/>
            </a:xfrm>
            <a:custGeom>
              <a:avLst/>
              <a:gdLst>
                <a:gd name="textAreaLeft" fmla="*/ 0 w 1821600"/>
                <a:gd name="textAreaRight" fmla="*/ 1821960 w 1821600"/>
                <a:gd name="textAreaTop" fmla="*/ 0 h 6040440"/>
                <a:gd name="textAreaBottom" fmla="*/ 6040800 h 60404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椭圆 5"/>
            <p:cNvSpPr/>
            <p:nvPr/>
          </p:nvSpPr>
          <p:spPr>
            <a:xfrm rot="17654400">
              <a:off x="6364440" y="606600"/>
              <a:ext cx="1821600" cy="6040440"/>
            </a:xfrm>
            <a:custGeom>
              <a:avLst/>
              <a:gdLst>
                <a:gd name="textAreaLeft" fmla="*/ 0 w 1821600"/>
                <a:gd name="textAreaRight" fmla="*/ 1821960 w 1821600"/>
                <a:gd name="textAreaTop" fmla="*/ 0 h 6040440"/>
                <a:gd name="textAreaBottom" fmla="*/ 6040800 h 60404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椭圆 5"/>
            <p:cNvSpPr/>
            <p:nvPr/>
          </p:nvSpPr>
          <p:spPr>
            <a:xfrm rot="5568600">
              <a:off x="525960" y="-899640"/>
              <a:ext cx="1680840" cy="6492240"/>
            </a:xfrm>
            <a:custGeom>
              <a:avLst/>
              <a:gdLst>
                <a:gd name="textAreaLeft" fmla="*/ 0 w 1680840"/>
                <a:gd name="textAreaRight" fmla="*/ 1681200 w 1680840"/>
                <a:gd name="textAreaTop" fmla="*/ 0 h 6492240"/>
                <a:gd name="textAreaBottom" fmla="*/ 6492600 h 64922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椭圆 5"/>
            <p:cNvSpPr/>
            <p:nvPr/>
          </p:nvSpPr>
          <p:spPr>
            <a:xfrm rot="16441200">
              <a:off x="6648120" y="-424440"/>
              <a:ext cx="1830240" cy="6044040"/>
            </a:xfrm>
            <a:custGeom>
              <a:avLst/>
              <a:gdLst>
                <a:gd name="textAreaLeft" fmla="*/ 0 w 1830240"/>
                <a:gd name="textAreaRight" fmla="*/ 1830600 w 1830240"/>
                <a:gd name="textAreaTop" fmla="*/ 0 h 6044040"/>
                <a:gd name="textAreaBottom" fmla="*/ 6044400 h 6044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椭圆 5"/>
            <p:cNvSpPr/>
            <p:nvPr/>
          </p:nvSpPr>
          <p:spPr>
            <a:xfrm rot="14856600">
              <a:off x="497880" y="482400"/>
              <a:ext cx="2172960" cy="6553440"/>
            </a:xfrm>
            <a:custGeom>
              <a:avLst/>
              <a:gdLst>
                <a:gd name="textAreaLeft" fmla="*/ 0 w 2172960"/>
                <a:gd name="textAreaRight" fmla="*/ 2173320 w 2172960"/>
                <a:gd name="textAreaTop" fmla="*/ 0 h 6553440"/>
                <a:gd name="textAreaBottom" fmla="*/ 6553800 h 65534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椭圆 5"/>
            <p:cNvSpPr/>
            <p:nvPr/>
          </p:nvSpPr>
          <p:spPr>
            <a:xfrm rot="4071600">
              <a:off x="6404400" y="-1888560"/>
              <a:ext cx="2130480" cy="618516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6185160"/>
                <a:gd name="textAreaBottom" fmla="*/ 6185520 h 61851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椭圆 5"/>
            <p:cNvSpPr/>
            <p:nvPr/>
          </p:nvSpPr>
          <p:spPr>
            <a:xfrm rot="13127400">
              <a:off x="2312280" y="1856160"/>
              <a:ext cx="1636200" cy="4837320"/>
            </a:xfrm>
            <a:custGeom>
              <a:avLst/>
              <a:gdLst>
                <a:gd name="textAreaLeft" fmla="*/ 0 w 1636200"/>
                <a:gd name="textAreaRight" fmla="*/ 1636560 w 1636200"/>
                <a:gd name="textAreaTop" fmla="*/ 0 h 4837320"/>
                <a:gd name="textAreaBottom" fmla="*/ 4837320 h 48373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椭圆 5"/>
            <p:cNvSpPr/>
            <p:nvPr/>
          </p:nvSpPr>
          <p:spPr>
            <a:xfrm rot="13314000">
              <a:off x="5159520" y="-1460880"/>
              <a:ext cx="1645560" cy="4300920"/>
            </a:xfrm>
            <a:custGeom>
              <a:avLst/>
              <a:gdLst>
                <a:gd name="textAreaLeft" fmla="*/ 0 w 1645560"/>
                <a:gd name="textAreaRight" fmla="*/ 1645920 w 1645560"/>
                <a:gd name="textAreaTop" fmla="*/ 0 h 4300920"/>
                <a:gd name="textAreaBottom" fmla="*/ 4301280 h 43009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椭圆 5"/>
            <p:cNvSpPr/>
            <p:nvPr/>
          </p:nvSpPr>
          <p:spPr>
            <a:xfrm rot="352200">
              <a:off x="3922200" y="-2381040"/>
              <a:ext cx="1772280" cy="4753080"/>
            </a:xfrm>
            <a:custGeom>
              <a:avLst/>
              <a:gdLst>
                <a:gd name="textAreaLeft" fmla="*/ 0 w 1772280"/>
                <a:gd name="textAreaRight" fmla="*/ 1772640 w 1772280"/>
                <a:gd name="textAreaTop" fmla="*/ 0 h 4753080"/>
                <a:gd name="textAreaBottom" fmla="*/ 4753080 h 475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椭圆 5"/>
            <p:cNvSpPr/>
            <p:nvPr/>
          </p:nvSpPr>
          <p:spPr>
            <a:xfrm>
              <a:off x="3664440" y="2340360"/>
              <a:ext cx="2060280" cy="4520160"/>
            </a:xfrm>
            <a:custGeom>
              <a:avLst/>
              <a:gdLst>
                <a:gd name="textAreaLeft" fmla="*/ 0 w 2060280"/>
                <a:gd name="textAreaRight" fmla="*/ 2060640 w 2060280"/>
                <a:gd name="textAreaTop" fmla="*/ 0 h 4520160"/>
                <a:gd name="textAreaBottom" fmla="*/ 4520520 h 45201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椭圆 5"/>
            <p:cNvSpPr/>
            <p:nvPr/>
          </p:nvSpPr>
          <p:spPr>
            <a:xfrm rot="19231800">
              <a:off x="1936080" y="-2221560"/>
              <a:ext cx="1909440" cy="5282280"/>
            </a:xfrm>
            <a:custGeom>
              <a:avLst/>
              <a:gdLst>
                <a:gd name="textAreaLeft" fmla="*/ 0 w 1909440"/>
                <a:gd name="textAreaRight" fmla="*/ 1909800 w 1909440"/>
                <a:gd name="textAreaTop" fmla="*/ 0 h 5282280"/>
                <a:gd name="textAreaBottom" fmla="*/ 5282280 h 52822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椭圆 5"/>
            <p:cNvSpPr/>
            <p:nvPr/>
          </p:nvSpPr>
          <p:spPr>
            <a:xfrm rot="8213400">
              <a:off x="5468400" y="1650600"/>
              <a:ext cx="1912680" cy="5248440"/>
            </a:xfrm>
            <a:custGeom>
              <a:avLst/>
              <a:gdLst>
                <a:gd name="textAreaLeft" fmla="*/ 0 w 1912680"/>
                <a:gd name="textAreaRight" fmla="*/ 1913040 w 1912680"/>
                <a:gd name="textAreaTop" fmla="*/ 0 h 5248440"/>
                <a:gd name="textAreaBottom" fmla="*/ 5248800 h 52484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椭圆 20"/>
          <p:cNvSpPr/>
          <p:nvPr/>
        </p:nvSpPr>
        <p:spPr>
          <a:xfrm>
            <a:off x="2800440" y="631800"/>
            <a:ext cx="3697200" cy="3697200"/>
          </a:xfrm>
          <a:prstGeom prst="ellipse">
            <a:avLst/>
          </a:prstGeom>
          <a:solidFill>
            <a:srgbClr val="000000">
              <a:alpha val="58000"/>
            </a:srgbClr>
          </a:solidFill>
          <a:ln w="25560">
            <a:solidFill>
              <a:srgbClr val="498d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同心圆 22"/>
          <p:cNvSpPr/>
          <p:nvPr/>
        </p:nvSpPr>
        <p:spPr>
          <a:xfrm>
            <a:off x="3051000" y="882720"/>
            <a:ext cx="3197520" cy="3197160"/>
          </a:xfrm>
          <a:custGeom>
            <a:avLst/>
            <a:gdLst>
              <a:gd name="textAreaLeft" fmla="*/ 468000 w 3197520"/>
              <a:gd name="textAreaRight" fmla="*/ 2729520 w 3197520"/>
              <a:gd name="textAreaTop" fmla="*/ 468000 h 3197160"/>
              <a:gd name="textAreaBottom" fmla="*/ 2729160 h 319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637" y="10800"/>
                </a:moveTo>
                <a:cubicBezTo>
                  <a:pt x="637" y="16413"/>
                  <a:pt x="5187" y="20963"/>
                  <a:pt x="10800" y="20963"/>
                </a:cubicBezTo>
                <a:cubicBezTo>
                  <a:pt x="16413" y="20963"/>
                  <a:pt x="20963" y="16413"/>
                  <a:pt x="20963" y="10800"/>
                </a:cubicBezTo>
                <a:cubicBezTo>
                  <a:pt x="20963" y="5187"/>
                  <a:pt x="16413" y="637"/>
                  <a:pt x="10800" y="637"/>
                </a:cubicBezTo>
                <a:cubicBezTo>
                  <a:pt x="5187" y="637"/>
                  <a:pt x="637" y="5187"/>
                  <a:pt x="637" y="10800"/>
                </a:cubicBezTo>
                <a:close/>
              </a:path>
            </a:pathLst>
          </a:custGeom>
          <a:gradFill rotWithShape="0">
            <a:gsLst>
              <a:gs pos="0">
                <a:srgbClr val="bf638a"/>
              </a:gs>
              <a:gs pos="100000">
                <a:srgbClr val="db96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23"/>
          <p:cNvSpPr/>
          <p:nvPr/>
        </p:nvSpPr>
        <p:spPr>
          <a:xfrm>
            <a:off x="3279600" y="1454040"/>
            <a:ext cx="265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FOR 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24"/>
          <p:cNvSpPr/>
          <p:nvPr/>
        </p:nvSpPr>
        <p:spPr>
          <a:xfrm>
            <a:off x="3121200" y="3076560"/>
            <a:ext cx="31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THAN TEN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组合 1"/>
          <p:cNvGrpSpPr/>
          <p:nvPr/>
        </p:nvGrpSpPr>
        <p:grpSpPr>
          <a:xfrm>
            <a:off x="-2673000" y="-1576800"/>
            <a:ext cx="7728480" cy="8303040"/>
            <a:chOff x="-2673000" y="-1576800"/>
            <a:chExt cx="7728480" cy="8303040"/>
          </a:xfrm>
        </p:grpSpPr>
        <p:sp>
          <p:nvSpPr>
            <p:cNvPr id="84" name="椭圆 5"/>
            <p:cNvSpPr/>
            <p:nvPr/>
          </p:nvSpPr>
          <p:spPr>
            <a:xfrm rot="16935000">
              <a:off x="595800" y="31680"/>
              <a:ext cx="2496600" cy="6030360"/>
            </a:xfrm>
            <a:custGeom>
              <a:avLst/>
              <a:gdLst>
                <a:gd name="textAreaLeft" fmla="*/ 0 w 2496600"/>
                <a:gd name="textAreaRight" fmla="*/ 2496960 w 2496600"/>
                <a:gd name="textAreaTop" fmla="*/ 0 h 6030360"/>
                <a:gd name="textAreaBottom" fmla="*/ 6030720 h 6030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5"/>
            <p:cNvSpPr/>
            <p:nvPr/>
          </p:nvSpPr>
          <p:spPr>
            <a:xfrm rot="7251600">
              <a:off x="-553680" y="1082880"/>
              <a:ext cx="2271240" cy="6170760"/>
            </a:xfrm>
            <a:custGeom>
              <a:avLst/>
              <a:gdLst>
                <a:gd name="textAreaLeft" fmla="*/ 0 w 2271240"/>
                <a:gd name="textAreaRight" fmla="*/ 2271600 w 2271240"/>
                <a:gd name="textAreaTop" fmla="*/ 0 h 6170760"/>
                <a:gd name="textAreaBottom" fmla="*/ 6171120 h 61707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5"/>
            <p:cNvSpPr/>
            <p:nvPr/>
          </p:nvSpPr>
          <p:spPr>
            <a:xfrm rot="15591600">
              <a:off x="612360" y="-1191240"/>
              <a:ext cx="2550960" cy="5940720"/>
            </a:xfrm>
            <a:custGeom>
              <a:avLst/>
              <a:gdLst>
                <a:gd name="textAreaLeft" fmla="*/ 0 w 2550960"/>
                <a:gd name="textAreaRight" fmla="*/ 2551320 w 2550960"/>
                <a:gd name="textAreaTop" fmla="*/ 0 h 5940720"/>
                <a:gd name="textAreaBottom" fmla="*/ 5941080 h 5940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5"/>
            <p:cNvSpPr/>
            <p:nvPr/>
          </p:nvSpPr>
          <p:spPr>
            <a:xfrm rot="14447400">
              <a:off x="-704160" y="-2054160"/>
              <a:ext cx="2365920" cy="5898960"/>
            </a:xfrm>
            <a:custGeom>
              <a:avLst/>
              <a:gdLst>
                <a:gd name="textAreaLeft" fmla="*/ 0 w 2365920"/>
                <a:gd name="textAreaRight" fmla="*/ 2366280 w 2365920"/>
                <a:gd name="textAreaTop" fmla="*/ 0 h 5898960"/>
                <a:gd name="textAreaBottom" fmla="*/ 5899320 h 5898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Box 6"/>
          <p:cNvSpPr/>
          <p:nvPr/>
        </p:nvSpPr>
        <p:spPr>
          <a:xfrm>
            <a:off x="5867280" y="1108080"/>
            <a:ext cx="18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Calibri"/>
              </a:rPr>
              <a:t>P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Calibri"/>
              </a:rPr>
              <a:t>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5203800" y="3205080"/>
            <a:ext cx="31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91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17"/>
          <p:cNvSpPr/>
          <p:nvPr/>
        </p:nvSpPr>
        <p:spPr>
          <a:xfrm flipV="1">
            <a:off x="0" y="2427120"/>
            <a:ext cx="9144000" cy="271656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28"/>
          <p:cNvGrpSpPr/>
          <p:nvPr/>
        </p:nvGrpSpPr>
        <p:grpSpPr>
          <a:xfrm>
            <a:off x="1116000" y="3884760"/>
            <a:ext cx="496800" cy="847440"/>
            <a:chOff x="1116000" y="3884760"/>
            <a:chExt cx="496800" cy="847440"/>
          </a:xfrm>
        </p:grpSpPr>
        <p:grpSp>
          <p:nvGrpSpPr>
            <p:cNvPr id="107" name="组合 23"/>
            <p:cNvGrpSpPr/>
            <p:nvPr/>
          </p:nvGrpSpPr>
          <p:grpSpPr>
            <a:xfrm>
              <a:off x="1116000" y="3884760"/>
              <a:ext cx="496800" cy="847440"/>
              <a:chOff x="1116000" y="3884760"/>
              <a:chExt cx="496800" cy="847440"/>
            </a:xfrm>
          </p:grpSpPr>
          <p:sp>
            <p:nvSpPr>
              <p:cNvPr id="108" name="椭圆 18"/>
              <p:cNvSpPr/>
              <p:nvPr/>
            </p:nvSpPr>
            <p:spPr>
              <a:xfrm>
                <a:off x="1116000" y="3884760"/>
                <a:ext cx="496800" cy="512280"/>
              </a:xfrm>
              <a:prstGeom prst="ellipse">
                <a:avLst/>
              </a:pr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矩形 21"/>
              <p:cNvSpPr/>
              <p:nvPr/>
            </p:nvSpPr>
            <p:spPr>
              <a:xfrm>
                <a:off x="1174680" y="4305600"/>
                <a:ext cx="379080" cy="4266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1353823" h="1134893">
                    <a:moveTo>
                      <a:pt x="0" y="0"/>
                    </a:moveTo>
                    <a:lnTo>
                      <a:pt x="1353823" y="0"/>
                    </a:lnTo>
                    <a:cubicBezTo>
                      <a:pt x="976904" y="249658"/>
                      <a:pt x="733908" y="665396"/>
                      <a:pt x="733908" y="1134893"/>
                    </a:cubicBezTo>
                    <a:lnTo>
                      <a:pt x="726371" y="1134893"/>
                    </a:lnTo>
                    <a:cubicBezTo>
                      <a:pt x="706445" y="648677"/>
                      <a:pt x="420400" y="227699"/>
                      <a:pt x="0" y="0"/>
                    </a:cubicBez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椭圆 27"/>
            <p:cNvSpPr/>
            <p:nvPr/>
          </p:nvSpPr>
          <p:spPr>
            <a:xfrm>
              <a:off x="1252440" y="4044600"/>
              <a:ext cx="223920" cy="223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34"/>
          <p:cNvGrpSpPr/>
          <p:nvPr/>
        </p:nvGrpSpPr>
        <p:grpSpPr>
          <a:xfrm>
            <a:off x="4324320" y="2938320"/>
            <a:ext cx="495360" cy="847800"/>
            <a:chOff x="4324320" y="2938320"/>
            <a:chExt cx="495360" cy="847800"/>
          </a:xfrm>
        </p:grpSpPr>
        <p:grpSp>
          <p:nvGrpSpPr>
            <p:cNvPr id="112" name="组合 35"/>
            <p:cNvGrpSpPr/>
            <p:nvPr/>
          </p:nvGrpSpPr>
          <p:grpSpPr>
            <a:xfrm>
              <a:off x="4324320" y="2938320"/>
              <a:ext cx="495360" cy="847800"/>
              <a:chOff x="4324320" y="2938320"/>
              <a:chExt cx="495360" cy="847800"/>
            </a:xfrm>
          </p:grpSpPr>
          <p:sp>
            <p:nvSpPr>
              <p:cNvPr id="113" name="椭圆 37"/>
              <p:cNvSpPr/>
              <p:nvPr/>
            </p:nvSpPr>
            <p:spPr>
              <a:xfrm>
                <a:off x="4324320" y="2938320"/>
                <a:ext cx="495360" cy="512280"/>
              </a:xfrm>
              <a:prstGeom prst="ellipse">
                <a:avLst/>
              </a:pr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矩形 21"/>
              <p:cNvSpPr/>
              <p:nvPr/>
            </p:nvSpPr>
            <p:spPr>
              <a:xfrm>
                <a:off x="4383000" y="3359160"/>
                <a:ext cx="378000" cy="426960"/>
              </a:xfrm>
              <a:custGeom>
                <a:avLst/>
                <a:gdLst>
                  <a:gd name="textAreaLeft" fmla="*/ 0 w 378000"/>
                  <a:gd name="textAreaRight" fmla="*/ 378360 w 37800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353823" h="1134893">
                    <a:moveTo>
                      <a:pt x="0" y="0"/>
                    </a:moveTo>
                    <a:lnTo>
                      <a:pt x="1353823" y="0"/>
                    </a:lnTo>
                    <a:cubicBezTo>
                      <a:pt x="976904" y="249658"/>
                      <a:pt x="733908" y="665396"/>
                      <a:pt x="733908" y="1134893"/>
                    </a:cubicBezTo>
                    <a:lnTo>
                      <a:pt x="726371" y="1134893"/>
                    </a:lnTo>
                    <a:cubicBezTo>
                      <a:pt x="706445" y="648677"/>
                      <a:pt x="420400" y="227699"/>
                      <a:pt x="0" y="0"/>
                    </a:cubicBez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椭圆 36"/>
            <p:cNvSpPr/>
            <p:nvPr/>
          </p:nvSpPr>
          <p:spPr>
            <a:xfrm>
              <a:off x="4460400" y="3098160"/>
              <a:ext cx="223200" cy="223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39"/>
          <p:cNvGrpSpPr/>
          <p:nvPr/>
        </p:nvGrpSpPr>
        <p:grpSpPr>
          <a:xfrm>
            <a:off x="7596360" y="1963800"/>
            <a:ext cx="496800" cy="847800"/>
            <a:chOff x="7596360" y="1963800"/>
            <a:chExt cx="496800" cy="847800"/>
          </a:xfrm>
        </p:grpSpPr>
        <p:grpSp>
          <p:nvGrpSpPr>
            <p:cNvPr id="117" name="组合 40"/>
            <p:cNvGrpSpPr/>
            <p:nvPr/>
          </p:nvGrpSpPr>
          <p:grpSpPr>
            <a:xfrm>
              <a:off x="7596360" y="1963800"/>
              <a:ext cx="496800" cy="847800"/>
              <a:chOff x="7596360" y="1963800"/>
              <a:chExt cx="496800" cy="847800"/>
            </a:xfrm>
          </p:grpSpPr>
          <p:sp>
            <p:nvSpPr>
              <p:cNvPr id="118" name="椭圆 42"/>
              <p:cNvSpPr/>
              <p:nvPr/>
            </p:nvSpPr>
            <p:spPr>
              <a:xfrm>
                <a:off x="7596360" y="1963800"/>
                <a:ext cx="496800" cy="512280"/>
              </a:xfrm>
              <a:prstGeom prst="ellipse">
                <a:avLst/>
              </a:pr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矩形 21"/>
              <p:cNvSpPr/>
              <p:nvPr/>
            </p:nvSpPr>
            <p:spPr>
              <a:xfrm>
                <a:off x="7655040" y="2384640"/>
                <a:ext cx="379080" cy="4269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353823" h="1134893">
                    <a:moveTo>
                      <a:pt x="0" y="0"/>
                    </a:moveTo>
                    <a:lnTo>
                      <a:pt x="1353823" y="0"/>
                    </a:lnTo>
                    <a:cubicBezTo>
                      <a:pt x="976904" y="249658"/>
                      <a:pt x="733908" y="665396"/>
                      <a:pt x="733908" y="1134893"/>
                    </a:cubicBezTo>
                    <a:lnTo>
                      <a:pt x="726371" y="1134893"/>
                    </a:lnTo>
                    <a:cubicBezTo>
                      <a:pt x="706445" y="648677"/>
                      <a:pt x="420400" y="227699"/>
                      <a:pt x="0" y="0"/>
                    </a:cubicBez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椭圆 41"/>
            <p:cNvSpPr/>
            <p:nvPr/>
          </p:nvSpPr>
          <p:spPr>
            <a:xfrm>
              <a:off x="7732800" y="2123640"/>
              <a:ext cx="223920" cy="223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44"/>
          <p:cNvSpPr/>
          <p:nvPr/>
        </p:nvSpPr>
        <p:spPr>
          <a:xfrm>
            <a:off x="6580080" y="3060720"/>
            <a:ext cx="25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微软雅黑"/>
                <a:ea typeface="微软雅黑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5"/>
          <p:cNvSpPr/>
          <p:nvPr/>
        </p:nvSpPr>
        <p:spPr>
          <a:xfrm>
            <a:off x="4324320" y="3822840"/>
            <a:ext cx="25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微软雅黑"/>
                <a:ea typeface="微软雅黑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6"/>
          <p:cNvSpPr/>
          <p:nvPr/>
        </p:nvSpPr>
        <p:spPr>
          <a:xfrm>
            <a:off x="1906560" y="4527720"/>
            <a:ext cx="25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微软雅黑"/>
                <a:ea typeface="微软雅黑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520560" y="1108080"/>
            <a:ext cx="21942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, so you always feel that person is you love not love y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7"/>
          <p:cNvSpPr/>
          <p:nvPr/>
        </p:nvSpPr>
        <p:spPr>
          <a:xfrm>
            <a:off x="6240600" y="1108080"/>
            <a:ext cx="219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8"/>
          <p:cNvSpPr/>
          <p:nvPr/>
        </p:nvSpPr>
        <p:spPr>
          <a:xfrm>
            <a:off x="3586320" y="1108080"/>
            <a:ext cx="2195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128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7"/>
          <p:cNvGrpSpPr/>
          <p:nvPr/>
        </p:nvGrpSpPr>
        <p:grpSpPr>
          <a:xfrm>
            <a:off x="324000" y="1373040"/>
            <a:ext cx="4930560" cy="2952720"/>
            <a:chOff x="324000" y="1373040"/>
            <a:chExt cx="4930560" cy="2952720"/>
          </a:xfrm>
        </p:grpSpPr>
        <p:sp>
          <p:nvSpPr>
            <p:cNvPr id="143" name="矩形 18"/>
            <p:cNvSpPr/>
            <p:nvPr/>
          </p:nvSpPr>
          <p:spPr>
            <a:xfrm>
              <a:off x="324000" y="1706400"/>
              <a:ext cx="4930560" cy="56916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25560">
              <a:solidFill>
                <a:srgbClr val="80ca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任意多边形 19"/>
            <p:cNvSpPr/>
            <p:nvPr/>
          </p:nvSpPr>
          <p:spPr>
            <a:xfrm>
              <a:off x="570240" y="1373040"/>
              <a:ext cx="3451320" cy="667080"/>
            </a:xfrm>
            <a:prstGeom prst="pie">
              <a:avLst/>
            </a:prstGeom>
            <a:solidFill>
              <a:srgbClr val="80cad7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53000" rIns="153000" tIns="27360" bIns="27360" anchor="ctr">
              <a:norm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Part on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20"/>
            <p:cNvSpPr/>
            <p:nvPr/>
          </p:nvSpPr>
          <p:spPr>
            <a:xfrm>
              <a:off x="324000" y="2731320"/>
              <a:ext cx="4930560" cy="569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bf63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任意多边形 21"/>
            <p:cNvSpPr/>
            <p:nvPr/>
          </p:nvSpPr>
          <p:spPr>
            <a:xfrm>
              <a:off x="570240" y="2397960"/>
              <a:ext cx="3451320" cy="667080"/>
            </a:xfrm>
            <a:prstGeom prst="pie">
              <a:avLst/>
            </a:prstGeom>
            <a:solidFill>
              <a:srgbClr val="bf638a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53000" rIns="153000" tIns="27360" bIns="27360" anchor="ctr">
              <a:norm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Part tw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22"/>
            <p:cNvSpPr/>
            <p:nvPr/>
          </p:nvSpPr>
          <p:spPr>
            <a:xfrm>
              <a:off x="324000" y="3756600"/>
              <a:ext cx="4930560" cy="569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d27e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任意多边形 23"/>
            <p:cNvSpPr/>
            <p:nvPr/>
          </p:nvSpPr>
          <p:spPr>
            <a:xfrm>
              <a:off x="570240" y="3422880"/>
              <a:ext cx="3451320" cy="667080"/>
            </a:xfrm>
            <a:prstGeom prst="pie">
              <a:avLst/>
            </a:prstGeom>
            <a:solidFill>
              <a:srgbClr val="d27e50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153000" rIns="153000" tIns="27360" bIns="27360" anchor="ctr">
              <a:normAutofit/>
            </a:bodyPr>
            <a:p>
              <a:pPr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Part thre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24"/>
          <p:cNvSpPr/>
          <p:nvPr/>
        </p:nvSpPr>
        <p:spPr>
          <a:xfrm>
            <a:off x="5796000" y="1108080"/>
            <a:ext cx="3097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, so you always feel that person is you love not love y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5"/>
          <p:cNvSpPr/>
          <p:nvPr/>
        </p:nvSpPr>
        <p:spPr>
          <a:xfrm>
            <a:off x="5796000" y="3117960"/>
            <a:ext cx="2952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495360" y="46116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153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363600" y="1251000"/>
            <a:ext cx="317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MORE THAN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7"/>
          <p:cNvSpPr/>
          <p:nvPr/>
        </p:nvSpPr>
        <p:spPr>
          <a:xfrm>
            <a:off x="5651640" y="1251000"/>
            <a:ext cx="31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MORE THAN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8"/>
          <p:cNvSpPr/>
          <p:nvPr/>
        </p:nvSpPr>
        <p:spPr>
          <a:xfrm>
            <a:off x="363600" y="3003480"/>
            <a:ext cx="317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MORE THAN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9"/>
          <p:cNvSpPr/>
          <p:nvPr/>
        </p:nvSpPr>
        <p:spPr>
          <a:xfrm>
            <a:off x="5653080" y="3003480"/>
            <a:ext cx="317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MORE THAN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22"/>
          <p:cNvGrpSpPr/>
          <p:nvPr/>
        </p:nvGrpSpPr>
        <p:grpSpPr>
          <a:xfrm>
            <a:off x="3780000" y="2320920"/>
            <a:ext cx="1712880" cy="993960"/>
            <a:chOff x="3780000" y="2320920"/>
            <a:chExt cx="1712880" cy="993960"/>
          </a:xfrm>
        </p:grpSpPr>
        <p:pic>
          <p:nvPicPr>
            <p:cNvPr id="172" name="图片 20" descr=""/>
            <p:cNvPicPr/>
            <p:nvPr/>
          </p:nvPicPr>
          <p:blipFill>
            <a:blip r:embed="rId1"/>
            <a:stretch/>
          </p:blipFill>
          <p:spPr>
            <a:xfrm>
              <a:off x="4046760" y="2320920"/>
              <a:ext cx="1179000" cy="760320"/>
            </a:xfrm>
            <a:prstGeom prst="rect">
              <a:avLst/>
            </a:prstGeom>
            <a:ln w="76320">
              <a:solidFill>
                <a:srgbClr val="498da4"/>
              </a:solidFill>
              <a:bevel/>
            </a:ln>
          </p:spPr>
        </p:pic>
        <p:sp>
          <p:nvSpPr>
            <p:cNvPr id="173" name="流程图: 手动操作 21"/>
            <p:cNvSpPr/>
            <p:nvPr/>
          </p:nvSpPr>
          <p:spPr>
            <a:xfrm flipV="1">
              <a:off x="3780000" y="3114720"/>
              <a:ext cx="1712880" cy="200160"/>
            </a:xfrm>
            <a:custGeom>
              <a:avLst/>
              <a:gdLst>
                <a:gd name="textAreaLeft" fmla="*/ 0 w 1712880"/>
                <a:gd name="textAreaRight" fmla="*/ 1713240 w 1712880"/>
                <a:gd name="textAreaTop" fmla="*/ 360 h 200160"/>
                <a:gd name="textAreaBottom" fmla="*/ 200880 h 200160"/>
              </a:gdLst>
              <a:ahLst/>
              <a:rect l="textAreaLeft" t="textAreaTop" r="textAreaRight" b="textAreaBottom"/>
              <a:pathLst>
                <a:path w="9169" h="10000">
                  <a:moveTo>
                    <a:pt x="0" y="0"/>
                  </a:moveTo>
                  <a:lnTo>
                    <a:pt x="9169" y="0"/>
                  </a:lnTo>
                  <a:lnTo>
                    <a:pt x="7856" y="10000"/>
                  </a:lnTo>
                  <a:lnTo>
                    <a:pt x="1424" y="10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8da4"/>
            </a:solidFill>
            <a:ln w="25560">
              <a:solidFill>
                <a:srgbClr val="498d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上箭头 23"/>
          <p:cNvSpPr/>
          <p:nvPr/>
        </p:nvSpPr>
        <p:spPr>
          <a:xfrm rot="10800000">
            <a:off x="5522760" y="2136600"/>
            <a:ext cx="201600" cy="1393920"/>
          </a:xfrm>
          <a:prstGeom prst="upArrow">
            <a:avLst>
              <a:gd name="adj1" fmla="val 50000"/>
              <a:gd name="adj2" fmla="val 50097"/>
            </a:avLst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上箭头 24"/>
          <p:cNvSpPr/>
          <p:nvPr/>
        </p:nvSpPr>
        <p:spPr>
          <a:xfrm rot="5400000">
            <a:off x="4525920" y="1201320"/>
            <a:ext cx="201600" cy="1627200"/>
          </a:xfrm>
          <a:prstGeom prst="upArrow">
            <a:avLst>
              <a:gd name="adj1" fmla="val 50000"/>
              <a:gd name="adj2" fmla="val 50035"/>
            </a:avLst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上箭头 25"/>
          <p:cNvSpPr/>
          <p:nvPr/>
        </p:nvSpPr>
        <p:spPr>
          <a:xfrm>
            <a:off x="3510000" y="2104920"/>
            <a:ext cx="201600" cy="1393920"/>
          </a:xfrm>
          <a:prstGeom prst="upArrow">
            <a:avLst>
              <a:gd name="adj1" fmla="val 50000"/>
              <a:gd name="adj2" fmla="val 50097"/>
            </a:avLst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上箭头 26"/>
          <p:cNvSpPr/>
          <p:nvPr/>
        </p:nvSpPr>
        <p:spPr>
          <a:xfrm rot="16200000">
            <a:off x="4535640" y="2736720"/>
            <a:ext cx="201600" cy="1627200"/>
          </a:xfrm>
          <a:prstGeom prst="upArrow">
            <a:avLst>
              <a:gd name="adj1" fmla="val 50000"/>
              <a:gd name="adj2" fmla="val 50035"/>
            </a:avLst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7"/>
          <p:cNvSpPr/>
          <p:nvPr/>
        </p:nvSpPr>
        <p:spPr>
          <a:xfrm>
            <a:off x="558720" y="1689120"/>
            <a:ext cx="300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1"/>
          <p:cNvSpPr/>
          <p:nvPr/>
        </p:nvSpPr>
        <p:spPr>
          <a:xfrm>
            <a:off x="5824440" y="1703520"/>
            <a:ext cx="300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2"/>
          <p:cNvSpPr/>
          <p:nvPr/>
        </p:nvSpPr>
        <p:spPr>
          <a:xfrm>
            <a:off x="5737320" y="3498840"/>
            <a:ext cx="3004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558720" y="3489480"/>
            <a:ext cx="300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183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6"/>
          <p:cNvSpPr/>
          <p:nvPr/>
        </p:nvSpPr>
        <p:spPr>
          <a:xfrm>
            <a:off x="363600" y="1251000"/>
            <a:ext cx="317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MORE THAN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7"/>
          <p:cNvSpPr/>
          <p:nvPr/>
        </p:nvSpPr>
        <p:spPr>
          <a:xfrm>
            <a:off x="5651640" y="1251000"/>
            <a:ext cx="317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MORE THAN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8"/>
          <p:cNvSpPr/>
          <p:nvPr/>
        </p:nvSpPr>
        <p:spPr>
          <a:xfrm>
            <a:off x="363600" y="3003480"/>
            <a:ext cx="317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MORE THAN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9"/>
          <p:cNvSpPr/>
          <p:nvPr/>
        </p:nvSpPr>
        <p:spPr>
          <a:xfrm>
            <a:off x="5508720" y="3003480"/>
            <a:ext cx="31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98da4"/>
                </a:solidFill>
                <a:latin typeface="微软雅黑"/>
                <a:ea typeface="微软雅黑"/>
              </a:rPr>
              <a:t>MORE THAN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空心弧 27"/>
          <p:cNvSpPr/>
          <p:nvPr/>
        </p:nvSpPr>
        <p:spPr>
          <a:xfrm rot="17136600">
            <a:off x="3687480" y="1552320"/>
            <a:ext cx="2665440" cy="2665440"/>
          </a:xfrm>
          <a:custGeom>
            <a:avLst/>
            <a:gdLst>
              <a:gd name="textAreaLeft" fmla="*/ 0 w 2665440"/>
              <a:gd name="textAreaRight" fmla="*/ 2665800 w 2665440"/>
              <a:gd name="textAreaTop" fmla="*/ 0 h 2665440"/>
              <a:gd name="textAreaBottom" fmla="*/ 669600 h 2665440"/>
            </a:gdLst>
            <a:ahLst/>
            <a:rect l="textAreaLeft" t="textAreaTop" r="textAreaRight" b="textAreaBottom"/>
            <a:pathLst>
              <a:path w="21600" h="21600">
                <a:moveTo>
                  <a:pt x="2624" y="9045"/>
                </a:moveTo>
                <a:cubicBezTo>
                  <a:pt x="3451" y="5190"/>
                  <a:pt x="6858" y="2438"/>
                  <a:pt x="10799" y="2438"/>
                </a:cubicBezTo>
                <a:cubicBezTo>
                  <a:pt x="14741" y="2437"/>
                  <a:pt x="18148" y="5190"/>
                  <a:pt x="18975" y="9045"/>
                </a:cubicBezTo>
                <a:lnTo>
                  <a:pt x="21359" y="8533"/>
                </a:lnTo>
                <a:cubicBezTo>
                  <a:pt x="20291" y="3555"/>
                  <a:pt x="15891" y="0"/>
                  <a:pt x="10800" y="0"/>
                </a:cubicBezTo>
                <a:cubicBezTo>
                  <a:pt x="5708" y="-1"/>
                  <a:pt x="1308" y="3555"/>
                  <a:pt x="240" y="8533"/>
                </a:cubicBezTo>
                <a:lnTo>
                  <a:pt x="2624" y="9045"/>
                </a:lnTo>
                <a:close/>
              </a:path>
            </a:pathLst>
          </a:cu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30"/>
          <p:cNvGrpSpPr/>
          <p:nvPr/>
        </p:nvGrpSpPr>
        <p:grpSpPr>
          <a:xfrm>
            <a:off x="4917240" y="1396080"/>
            <a:ext cx="613080" cy="585720"/>
            <a:chOff x="4917240" y="1396080"/>
            <a:chExt cx="613080" cy="585720"/>
          </a:xfrm>
        </p:grpSpPr>
        <p:sp>
          <p:nvSpPr>
            <p:cNvPr id="203" name="椭圆形标注 28"/>
            <p:cNvSpPr/>
            <p:nvPr/>
          </p:nvSpPr>
          <p:spPr>
            <a:xfrm rot="16487400">
              <a:off x="4953600" y="1404000"/>
              <a:ext cx="540000" cy="569880"/>
            </a:xfrm>
            <a:prstGeom prst="wedgeEllipseCallout">
              <a:avLst>
                <a:gd name="adj1" fmla="val -2828"/>
                <a:gd name="adj2" fmla="val 92731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29"/>
            <p:cNvSpPr/>
            <p:nvPr/>
          </p:nvSpPr>
          <p:spPr>
            <a:xfrm>
              <a:off x="5051880" y="141912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31"/>
          <p:cNvGrpSpPr/>
          <p:nvPr/>
        </p:nvGrpSpPr>
        <p:grpSpPr>
          <a:xfrm>
            <a:off x="3810240" y="1796400"/>
            <a:ext cx="567000" cy="580320"/>
            <a:chOff x="3810240" y="1796400"/>
            <a:chExt cx="567000" cy="580320"/>
          </a:xfrm>
        </p:grpSpPr>
        <p:sp>
          <p:nvSpPr>
            <p:cNvPr id="206" name="椭圆形标注 32"/>
            <p:cNvSpPr/>
            <p:nvPr/>
          </p:nvSpPr>
          <p:spPr>
            <a:xfrm flipH="1" rot="5112600">
              <a:off x="3823920" y="1824480"/>
              <a:ext cx="538200" cy="523800"/>
            </a:xfrm>
            <a:prstGeom prst="wedgeEllipseCallout">
              <a:avLst>
                <a:gd name="adj1" fmla="val -2828"/>
                <a:gd name="adj2" fmla="val 92731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33"/>
            <p:cNvSpPr/>
            <p:nvPr/>
          </p:nvSpPr>
          <p:spPr>
            <a:xfrm flipH="1">
              <a:off x="3935880" y="1817640"/>
              <a:ext cx="31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椭圆形标注 35"/>
          <p:cNvSpPr/>
          <p:nvPr/>
        </p:nvSpPr>
        <p:spPr>
          <a:xfrm rot="17377800">
            <a:off x="3580200" y="2807280"/>
            <a:ext cx="538200" cy="561960"/>
          </a:xfrm>
          <a:prstGeom prst="wedgeEllipseCallout">
            <a:avLst>
              <a:gd name="adj1" fmla="val -2828"/>
              <a:gd name="adj2" fmla="val 92731"/>
            </a:avLst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6"/>
          <p:cNvSpPr/>
          <p:nvPr/>
        </p:nvSpPr>
        <p:spPr>
          <a:xfrm rot="21589800">
            <a:off x="3679920" y="2817360"/>
            <a:ext cx="3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37"/>
          <p:cNvGrpSpPr/>
          <p:nvPr/>
        </p:nvGrpSpPr>
        <p:grpSpPr>
          <a:xfrm>
            <a:off x="4099320" y="3630240"/>
            <a:ext cx="567000" cy="581760"/>
            <a:chOff x="4099320" y="3630240"/>
            <a:chExt cx="567000" cy="581760"/>
          </a:xfrm>
        </p:grpSpPr>
        <p:sp>
          <p:nvSpPr>
            <p:cNvPr id="211" name="椭圆形标注 38"/>
            <p:cNvSpPr/>
            <p:nvPr/>
          </p:nvSpPr>
          <p:spPr>
            <a:xfrm flipH="1" rot="5112600">
              <a:off x="4112280" y="3659040"/>
              <a:ext cx="540000" cy="523800"/>
            </a:xfrm>
            <a:prstGeom prst="wedgeEllipseCallout">
              <a:avLst>
                <a:gd name="adj1" fmla="val -2828"/>
                <a:gd name="adj2" fmla="val 92731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39"/>
            <p:cNvSpPr/>
            <p:nvPr/>
          </p:nvSpPr>
          <p:spPr>
            <a:xfrm flipH="1">
              <a:off x="4224960" y="3651120"/>
              <a:ext cx="31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Box 34"/>
          <p:cNvSpPr/>
          <p:nvPr/>
        </p:nvSpPr>
        <p:spPr>
          <a:xfrm>
            <a:off x="558720" y="1689120"/>
            <a:ext cx="300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0"/>
          <p:cNvSpPr/>
          <p:nvPr/>
        </p:nvSpPr>
        <p:spPr>
          <a:xfrm>
            <a:off x="5824440" y="1703520"/>
            <a:ext cx="300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1"/>
          <p:cNvSpPr/>
          <p:nvPr/>
        </p:nvSpPr>
        <p:spPr>
          <a:xfrm>
            <a:off x="5737320" y="3498840"/>
            <a:ext cx="3004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2"/>
          <p:cNvSpPr/>
          <p:nvPr/>
        </p:nvSpPr>
        <p:spPr>
          <a:xfrm>
            <a:off x="558720" y="3489480"/>
            <a:ext cx="300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组合 7"/>
          <p:cNvGrpSpPr/>
          <p:nvPr/>
        </p:nvGrpSpPr>
        <p:grpSpPr>
          <a:xfrm>
            <a:off x="-3436560" y="-1539360"/>
            <a:ext cx="8946720" cy="8033400"/>
            <a:chOff x="-3436560" y="-1539360"/>
            <a:chExt cx="8946720" cy="8033400"/>
          </a:xfrm>
        </p:grpSpPr>
        <p:sp>
          <p:nvSpPr>
            <p:cNvPr id="218" name="椭圆 5"/>
            <p:cNvSpPr/>
            <p:nvPr/>
          </p:nvSpPr>
          <p:spPr>
            <a:xfrm flipH="1" rot="14348400">
              <a:off x="405360" y="-324720"/>
              <a:ext cx="2271600" cy="7725240"/>
            </a:xfrm>
            <a:custGeom>
              <a:avLst/>
              <a:gdLst>
                <a:gd name="textAreaLeft" fmla="*/ 360 w 2271600"/>
                <a:gd name="textAreaRight" fmla="*/ 2272320 w 2271600"/>
                <a:gd name="textAreaTop" fmla="*/ 0 h 7725240"/>
                <a:gd name="textAreaBottom" fmla="*/ 7725600 h 77252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椭圆 5"/>
            <p:cNvSpPr/>
            <p:nvPr/>
          </p:nvSpPr>
          <p:spPr>
            <a:xfrm flipH="1" rot="4665000">
              <a:off x="-358920" y="-1325520"/>
              <a:ext cx="2496960" cy="8280720"/>
            </a:xfrm>
            <a:custGeom>
              <a:avLst/>
              <a:gdLst>
                <a:gd name="textAreaLeft" fmla="*/ 360 w 2496960"/>
                <a:gd name="textAreaRight" fmla="*/ 2497680 w 2496960"/>
                <a:gd name="textAreaTop" fmla="*/ 0 h 8280720"/>
                <a:gd name="textAreaBottom" fmla="*/ 8281080 h 8280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椭圆 5"/>
            <p:cNvSpPr/>
            <p:nvPr/>
          </p:nvSpPr>
          <p:spPr>
            <a:xfrm flipH="1" rot="6008400">
              <a:off x="-393480" y="-2471040"/>
              <a:ext cx="2551320" cy="8317800"/>
            </a:xfrm>
            <a:custGeom>
              <a:avLst/>
              <a:gdLst>
                <a:gd name="textAreaLeft" fmla="*/ 0 w 2551320"/>
                <a:gd name="textAreaRight" fmla="*/ 2551320 w 2551320"/>
                <a:gd name="textAreaTop" fmla="*/ 0 h 8317800"/>
                <a:gd name="textAreaBottom" fmla="*/ 8318160 h 83178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椭圆 5"/>
            <p:cNvSpPr/>
            <p:nvPr/>
          </p:nvSpPr>
          <p:spPr>
            <a:xfrm flipH="1" rot="6928800">
              <a:off x="278280" y="-2530800"/>
              <a:ext cx="2559960" cy="7535160"/>
            </a:xfrm>
            <a:custGeom>
              <a:avLst/>
              <a:gdLst>
                <a:gd name="textAreaLeft" fmla="*/ 0 w 2559960"/>
                <a:gd name="textAreaRight" fmla="*/ 2559960 w 2559960"/>
                <a:gd name="textAreaTop" fmla="*/ 0 h 7535160"/>
                <a:gd name="textAreaBottom" fmla="*/ 7535520 h 75351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Box 8"/>
          <p:cNvSpPr/>
          <p:nvPr/>
        </p:nvSpPr>
        <p:spPr>
          <a:xfrm>
            <a:off x="5867280" y="1108080"/>
            <a:ext cx="18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Calibri"/>
              </a:rPr>
              <a:t>P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Calibri"/>
              </a:rPr>
              <a:t>TW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5203800" y="3205080"/>
            <a:ext cx="31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B38A-257A-425F-9B8E-9EC6227A29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1"/>
          <p:cNvGrpSpPr/>
          <p:nvPr/>
        </p:nvGrpSpPr>
        <p:grpSpPr>
          <a:xfrm>
            <a:off x="30960" y="-8280"/>
            <a:ext cx="1360080" cy="1007280"/>
            <a:chOff x="30960" y="-8280"/>
            <a:chExt cx="1360080" cy="1007280"/>
          </a:xfrm>
        </p:grpSpPr>
        <p:sp>
          <p:nvSpPr>
            <p:cNvPr id="226" name="椭圆 5"/>
            <p:cNvSpPr/>
            <p:nvPr/>
          </p:nvSpPr>
          <p:spPr>
            <a:xfrm rot="17654400">
              <a:off x="334080" y="6552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5"/>
            <p:cNvSpPr/>
            <p:nvPr/>
          </p:nvSpPr>
          <p:spPr>
            <a:xfrm rot="17654400">
              <a:off x="926280" y="322560"/>
              <a:ext cx="196920" cy="653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6694ab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椭圆 5"/>
            <p:cNvSpPr/>
            <p:nvPr/>
          </p:nvSpPr>
          <p:spPr>
            <a:xfrm rot="5568600">
              <a:off x="294840" y="159480"/>
              <a:ext cx="181440" cy="702000"/>
            </a:xfrm>
            <a:custGeom>
              <a:avLst/>
              <a:gdLst/>
              <a:ahLst/>
              <a:rect l="l" t="t" r="r" b="b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椭圆 5"/>
            <p:cNvSpPr/>
            <p:nvPr/>
          </p:nvSpPr>
          <p:spPr>
            <a:xfrm rot="16441200">
              <a:off x="957240" y="210960"/>
              <a:ext cx="197640" cy="65340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3400"/>
                <a:gd name="textAreaBottom" fmla="*/ 653400 h 65340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5"/>
            <p:cNvSpPr/>
            <p:nvPr/>
          </p:nvSpPr>
          <p:spPr>
            <a:xfrm rot="14856600">
              <a:off x="291600" y="309240"/>
              <a:ext cx="234720" cy="70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708480"/>
                <a:gd name="textAreaBottom" fmla="*/ 708840 h 7084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5"/>
            <p:cNvSpPr/>
            <p:nvPr/>
          </p:nvSpPr>
          <p:spPr>
            <a:xfrm rot="4071600">
              <a:off x="911520" y="55440"/>
              <a:ext cx="246240" cy="6688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668880"/>
                <a:gd name="textAreaBottom" fmla="*/ 669240 h 6688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27e5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5"/>
            <p:cNvSpPr/>
            <p:nvPr/>
          </p:nvSpPr>
          <p:spPr>
            <a:xfrm rot="13127400">
              <a:off x="487800" y="457560"/>
              <a:ext cx="176760" cy="523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523080"/>
                <a:gd name="textAreaBottom" fmla="*/ 523440 h 52308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5"/>
            <p:cNvSpPr/>
            <p:nvPr/>
          </p:nvSpPr>
          <p:spPr>
            <a:xfrm rot="13314000">
              <a:off x="795600" y="99360"/>
              <a:ext cx="177840" cy="465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5"/>
            <p:cNvSpPr/>
            <p:nvPr/>
          </p:nvSpPr>
          <p:spPr>
            <a:xfrm rot="352200">
              <a:off x="662040" y="0"/>
              <a:ext cx="191520" cy="5137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 5"/>
            <p:cNvSpPr/>
            <p:nvPr/>
          </p:nvSpPr>
          <p:spPr>
            <a:xfrm>
              <a:off x="634320" y="510480"/>
              <a:ext cx="222480" cy="488520"/>
            </a:xfrm>
            <a:custGeom>
              <a:avLst/>
              <a:gdLst>
                <a:gd name="textAreaLeft" fmla="*/ 0 w 222480"/>
                <a:gd name="textAreaRight" fmla="*/ 222840 w 22248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80cad7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5"/>
            <p:cNvSpPr/>
            <p:nvPr/>
          </p:nvSpPr>
          <p:spPr>
            <a:xfrm rot="19231800">
              <a:off x="447120" y="16920"/>
              <a:ext cx="206280" cy="570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bf638a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椭圆 5"/>
            <p:cNvSpPr/>
            <p:nvPr/>
          </p:nvSpPr>
          <p:spPr>
            <a:xfrm rot="8213400">
              <a:off x="829080" y="435600"/>
              <a:ext cx="206640" cy="5673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67360"/>
                <a:gd name="textAreaBottom" fmla="*/ 567720 h 567360"/>
              </a:gdLst>
              <a:ahLst/>
              <a:rect l="textAreaLeft" t="textAreaTop" r="textAreaRight" b="textAreaBottom"/>
              <a:pathLst>
                <a:path w="1575088" h="3343692">
                  <a:moveTo>
                    <a:pt x="741969" y="0"/>
                  </a:moveTo>
                  <a:cubicBezTo>
                    <a:pt x="1249728" y="396941"/>
                    <a:pt x="1575088" y="1015447"/>
                    <a:pt x="1575088" y="1709944"/>
                  </a:cubicBezTo>
                  <a:cubicBezTo>
                    <a:pt x="1575088" y="2361702"/>
                    <a:pt x="1288542" y="2946533"/>
                    <a:pt x="833120" y="3343692"/>
                  </a:cubicBezTo>
                  <a:cubicBezTo>
                    <a:pt x="325360" y="2946751"/>
                    <a:pt x="0" y="2328246"/>
                    <a:pt x="0" y="1633748"/>
                  </a:cubicBezTo>
                  <a:cubicBezTo>
                    <a:pt x="0" y="981991"/>
                    <a:pt x="286547" y="397160"/>
                    <a:pt x="741969" y="0"/>
                  </a:cubicBezTo>
                  <a:close/>
                </a:path>
              </a:pathLst>
            </a:custGeom>
            <a:solidFill>
              <a:srgbClr val="db9649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Box 14"/>
          <p:cNvSpPr/>
          <p:nvPr/>
        </p:nvSpPr>
        <p:spPr>
          <a:xfrm>
            <a:off x="324000" y="1951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2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5"/>
          <p:cNvSpPr/>
          <p:nvPr/>
        </p:nvSpPr>
        <p:spPr>
          <a:xfrm>
            <a:off x="1228680" y="460440"/>
            <a:ext cx="50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6"/>
          <p:cNvSpPr/>
          <p:nvPr/>
        </p:nvSpPr>
        <p:spPr>
          <a:xfrm>
            <a:off x="290520" y="125100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7"/>
          <p:cNvSpPr/>
          <p:nvPr/>
        </p:nvSpPr>
        <p:spPr>
          <a:xfrm>
            <a:off x="3112920" y="125100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8"/>
          <p:cNvSpPr/>
          <p:nvPr/>
        </p:nvSpPr>
        <p:spPr>
          <a:xfrm>
            <a:off x="5935680" y="125100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98da4"/>
                </a:solidFill>
                <a:latin typeface="Arial"/>
                <a:ea typeface="黑体"/>
              </a:rPr>
              <a:t>MORE THA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19"/>
          <p:cNvSpPr/>
          <p:nvPr/>
        </p:nvSpPr>
        <p:spPr>
          <a:xfrm>
            <a:off x="611280" y="4280040"/>
            <a:ext cx="1728720" cy="86364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1728192" h="864096">
                <a:moveTo>
                  <a:pt x="864096" y="0"/>
                </a:moveTo>
                <a:cubicBezTo>
                  <a:pt x="1341323" y="0"/>
                  <a:pt x="1728192" y="386869"/>
                  <a:pt x="1728192" y="864096"/>
                </a:cubicBezTo>
                <a:lnTo>
                  <a:pt x="0" y="864096"/>
                </a:lnTo>
                <a:cubicBezTo>
                  <a:pt x="0" y="386869"/>
                  <a:pt x="386869" y="0"/>
                  <a:pt x="864096" y="0"/>
                </a:cubicBezTo>
                <a:close/>
              </a:path>
            </a:pathLst>
          </a:cu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19"/>
          <p:cNvSpPr/>
          <p:nvPr/>
        </p:nvSpPr>
        <p:spPr>
          <a:xfrm>
            <a:off x="3060720" y="4030560"/>
            <a:ext cx="2232000" cy="11160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1728192" h="864096">
                <a:moveTo>
                  <a:pt x="864096" y="0"/>
                </a:moveTo>
                <a:cubicBezTo>
                  <a:pt x="1341323" y="0"/>
                  <a:pt x="1728192" y="386869"/>
                  <a:pt x="1728192" y="864096"/>
                </a:cubicBezTo>
                <a:lnTo>
                  <a:pt x="0" y="864096"/>
                </a:lnTo>
                <a:cubicBezTo>
                  <a:pt x="0" y="386869"/>
                  <a:pt x="386869" y="0"/>
                  <a:pt x="864096" y="0"/>
                </a:cubicBezTo>
                <a:close/>
              </a:path>
            </a:pathLst>
          </a:cu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9"/>
          <p:cNvSpPr/>
          <p:nvPr/>
        </p:nvSpPr>
        <p:spPr>
          <a:xfrm>
            <a:off x="5940360" y="3651120"/>
            <a:ext cx="2982960" cy="1492560"/>
          </a:xfrm>
          <a:custGeom>
            <a:avLst/>
            <a:gdLst>
              <a:gd name="textAreaLeft" fmla="*/ 0 w 2982960"/>
              <a:gd name="textAreaRight" fmla="*/ 2983320 w 2982960"/>
              <a:gd name="textAreaTop" fmla="*/ 0 h 1492560"/>
              <a:gd name="textAreaBottom" fmla="*/ 1492920 h 1492560"/>
            </a:gdLst>
            <a:ahLst/>
            <a:rect l="textAreaLeft" t="textAreaTop" r="textAreaRight" b="textAreaBottom"/>
            <a:pathLst>
              <a:path w="1728192" h="864096">
                <a:moveTo>
                  <a:pt x="864096" y="0"/>
                </a:moveTo>
                <a:cubicBezTo>
                  <a:pt x="1341323" y="0"/>
                  <a:pt x="1728192" y="386869"/>
                  <a:pt x="1728192" y="864096"/>
                </a:cubicBezTo>
                <a:lnTo>
                  <a:pt x="0" y="864096"/>
                </a:lnTo>
                <a:cubicBezTo>
                  <a:pt x="0" y="386869"/>
                  <a:pt x="386869" y="0"/>
                  <a:pt x="864096" y="0"/>
                </a:cubicBezTo>
                <a:close/>
              </a:path>
            </a:pathLst>
          </a:custGeom>
          <a:solidFill>
            <a:srgbClr val="498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3"/>
          <p:cNvSpPr/>
          <p:nvPr/>
        </p:nvSpPr>
        <p:spPr>
          <a:xfrm>
            <a:off x="1042920" y="4371840"/>
            <a:ext cx="94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4"/>
          <p:cNvSpPr/>
          <p:nvPr/>
        </p:nvSpPr>
        <p:spPr>
          <a:xfrm>
            <a:off x="3740040" y="4172040"/>
            <a:ext cx="104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5"/>
          <p:cNvSpPr/>
          <p:nvPr/>
        </p:nvSpPr>
        <p:spPr>
          <a:xfrm>
            <a:off x="6921360" y="3956040"/>
            <a:ext cx="11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6"/>
          <p:cNvSpPr/>
          <p:nvPr/>
        </p:nvSpPr>
        <p:spPr>
          <a:xfrm>
            <a:off x="466560" y="1779480"/>
            <a:ext cx="2517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7"/>
          <p:cNvSpPr/>
          <p:nvPr/>
        </p:nvSpPr>
        <p:spPr>
          <a:xfrm>
            <a:off x="3173400" y="1803240"/>
            <a:ext cx="2517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8"/>
          <p:cNvSpPr/>
          <p:nvPr/>
        </p:nvSpPr>
        <p:spPr>
          <a:xfrm>
            <a:off x="6099120" y="1803240"/>
            <a:ext cx="2517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ecause you people are too warm, so you always feel that others are indifferent to you. Because you're too love a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0T15:00:00Z</dcterms:created>
  <dc:creator>heqing</dc:creator>
  <dc:description/>
  <cp:keywords/>
  <dc:language>en-US</dc:language>
  <cp:lastModifiedBy>王玉清</cp:lastModifiedBy>
  <dcterms:modified xsi:type="dcterms:W3CDTF">2016-02-19T03:18:20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