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D4DE-2DCA-4CBD-B622-774DD2CE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A8C-452A-4482-BAC8-8C47E441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0C9-3DD2-4865-A3AD-AE6BE0C4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24D-2BCF-4D07-92A2-D167B34C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0960-7795-41BC-9686-AA20062E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58FE-4F21-4158-B81D-8546FE47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61CE-0201-4E50-BBD3-C54B21F3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7709-4BFA-4095-9DAA-F318BDA0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7F7-FD61-4CCE-8F04-CA2A5C2C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F38B-F111-42AE-AD0E-6F2CB45B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3E97-B08E-45CB-A066-8B1AAFD6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469-1E25-467E-A7A4-89E11E61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DD56-1123-44C1-8EDD-A8C8C2C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7D71-38FF-4CE6-9A12-2982B9EA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DAA3-F0A4-4FE3-90F1-14DF5C99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8E4-2471-4609-90B9-D28F0D0E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D14-3C88-447B-8FCC-9F890B88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BC2B7-07BC-4538-9214-C09E7C98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0639-B9D3-460D-A44A-FFAABD96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7FE7-AB90-4BA5-951D-DF6ECC77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CB9D5-1986-4E6B-94C1-7CB1C9DD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27C4E-56AE-46BD-A440-C3B76739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9B6-93FC-4409-A88E-FFBA14AE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FD27D-D987-4038-B0CD-F0E8971F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036A-5D41-4BB9-A7E7-9C81713F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CF16-BD21-4DEA-ABC4-D647EF3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A5E8-6A7D-4318-A818-5EE874E0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9961-365E-4DD2-873F-825B45C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1520-A352-4056-848B-A1E4B7E69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1B67-D803-4571-BB40-60623A94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C6F25-998C-4526-8C25-1581A4A4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A07B9-614B-4B99-8ABD-16C7CAC4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3C26A-CFE5-48FF-9085-C1BD902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ABD1-AF72-4B82-BBDC-14EEDA6D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DDD5-5DED-4C79-8035-DEFE0BEA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21E22-38CE-402D-9748-74618A2E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2099-21C8-4E79-9212-06E455F2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B622-A393-4507-A5EB-B0FAC7C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A5D9-E532-40B0-AEA5-1AAA30C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220D8-5914-46E9-A87D-FC2005C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92A44-D600-4498-A16F-E7AF6C35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9D77D-7600-4294-826C-FFB4CDF6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15800" y="1773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25092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15800" y="4137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6AAB-3A53-486D-BA9E-38C9E73C9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41DD-6640-4ECC-B399-39F16F7E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6920" y="475920"/>
            <a:ext cx="5427720" cy="34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3FE2-6EEA-4EFF-BD7F-DDFED8FE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B795-B529-44A9-87C9-C3C4CCD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4137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697-DD71-415A-BC8C-9C9EC6CA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773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4137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8FC-FE8F-4826-A6E3-C066DEB1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3240" y="549360"/>
            <a:ext cx="9144000" cy="57600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85CC-7E4A-4F68-9606-3F647DA6FD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7489800" y="-131400"/>
            <a:ext cx="1628640" cy="16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3578040" y="534960"/>
            <a:ext cx="5121000" cy="506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A189-E879-4420-86BF-0D4BB4DCF2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2124000" y="2708280"/>
            <a:ext cx="3834000" cy="6872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5064120" y="1620360"/>
            <a:ext cx="2136960" cy="2116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EAB-7C83-4A23-8283-EFFAD00937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8"/>
          <p:cNvSpPr/>
          <p:nvPr/>
        </p:nvSpPr>
        <p:spPr>
          <a:xfrm>
            <a:off x="0" y="4329000"/>
            <a:ext cx="9144000" cy="647640"/>
          </a:xfrm>
          <a:prstGeom prst="rect">
            <a:avLst/>
          </a:prstGeom>
          <a:solidFill>
            <a:srgbClr val="dcb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D:\wang\office图表模板\背景\Autumn Backgrounds 91 [转换]-01.png"/>
          <p:cNvPicPr/>
          <p:nvPr/>
        </p:nvPicPr>
        <p:blipFill>
          <a:blip r:embed="rId2"/>
          <a:stretch/>
        </p:blipFill>
        <p:spPr>
          <a:xfrm rot="1089600">
            <a:off x="4197240" y="1123920"/>
            <a:ext cx="4380120" cy="433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25092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58B6-80FD-4DD3-88EC-C8EBA51C1C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560" y="3068640"/>
            <a:ext cx="7561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创意多彩枫叶简洁商务</a:t>
            </a:r>
            <a:r>
              <a:rPr b="0" lang="en-US" sz="4000" spc="-1" strike="noStrike">
                <a:solidFill>
                  <a:srgbClr val="c64009"/>
                </a:solidFill>
                <a:latin typeface="Adobe Caslon Pro Bold"/>
              </a:rPr>
              <a:t>PPT</a:t>
            </a:r>
            <a:r>
              <a:rPr b="0" lang="zh-CN" sz="4000" spc="-1" strike="noStrike">
                <a:solidFill>
                  <a:srgbClr val="c64009"/>
                </a:solidFill>
                <a:latin typeface="Adobe Caslon Pro Bold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24000" y="3395160"/>
            <a:ext cx="34164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a6a6a6"/>
                </a:solidFill>
                <a:latin typeface="Calibri"/>
              </a:rPr>
              <a:t>您的章节副标题章节副标题章节副标题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23640" y="2717640"/>
            <a:ext cx="32022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您的章节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7280" y="2836440"/>
            <a:ext cx="46836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500800" y="2460240"/>
            <a:ext cx="5032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64009"/>
                </a:solidFill>
                <a:latin typeface="Adobe Caslon Pro Bold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011640" y="2852280"/>
            <a:ext cx="4330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542772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单击此处添加标题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40720" y="549360"/>
            <a:ext cx="10080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c64009"/>
              </a:solidFill>
              <a:latin typeface="Adobe Caslon Pro Bold"/>
            </a:endParaRPr>
          </a:p>
        </p:txBody>
      </p:sp>
      <p:sp>
        <p:nvSpPr>
          <p:cNvPr id="181" name="任意多边形 15"/>
          <p:cNvSpPr/>
          <p:nvPr/>
        </p:nvSpPr>
        <p:spPr>
          <a:xfrm>
            <a:off x="0" y="1506600"/>
            <a:ext cx="9144000" cy="49680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c640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16"/>
          <p:cNvSpPr/>
          <p:nvPr/>
        </p:nvSpPr>
        <p:spPr>
          <a:xfrm>
            <a:off x="-1440" y="1566720"/>
            <a:ext cx="9144000" cy="497160"/>
          </a:xfrm>
          <a:custGeom>
            <a:avLst/>
            <a:gdLst/>
            <a:ahLst/>
            <a:rect l="l" t="t" r="r" b="b"/>
            <a:pathLst>
              <a:path w="9117106" h="497742">
                <a:moveTo>
                  <a:pt x="0" y="0"/>
                </a:moveTo>
                <a:cubicBezTo>
                  <a:pt x="458320" y="160244"/>
                  <a:pt x="916641" y="320488"/>
                  <a:pt x="1398494" y="349623"/>
                </a:cubicBezTo>
                <a:cubicBezTo>
                  <a:pt x="1880347" y="378758"/>
                  <a:pt x="2456330" y="183776"/>
                  <a:pt x="2891118" y="174811"/>
                </a:cubicBezTo>
                <a:cubicBezTo>
                  <a:pt x="3325906" y="165846"/>
                  <a:pt x="3637430" y="280147"/>
                  <a:pt x="4007224" y="295835"/>
                </a:cubicBezTo>
                <a:cubicBezTo>
                  <a:pt x="4377018" y="311523"/>
                  <a:pt x="4755776" y="235323"/>
                  <a:pt x="5109882" y="268941"/>
                </a:cubicBezTo>
                <a:cubicBezTo>
                  <a:pt x="5463988" y="302559"/>
                  <a:pt x="5748618" y="490817"/>
                  <a:pt x="6131859" y="497541"/>
                </a:cubicBezTo>
                <a:cubicBezTo>
                  <a:pt x="6515100" y="504265"/>
                  <a:pt x="7048501" y="340658"/>
                  <a:pt x="7409330" y="309282"/>
                </a:cubicBezTo>
                <a:cubicBezTo>
                  <a:pt x="7770159" y="277906"/>
                  <a:pt x="8012206" y="336176"/>
                  <a:pt x="8296835" y="309282"/>
                </a:cubicBezTo>
                <a:cubicBezTo>
                  <a:pt x="8581464" y="282388"/>
                  <a:pt x="8978153" y="181535"/>
                  <a:pt x="9117106" y="147917"/>
                </a:cubicBezTo>
              </a:path>
            </a:pathLst>
          </a:custGeom>
          <a:noFill/>
          <a:ln w="2556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8"/>
          <p:cNvSpPr/>
          <p:nvPr/>
        </p:nvSpPr>
        <p:spPr>
          <a:xfrm rot="465600">
            <a:off x="809640" y="1854000"/>
            <a:ext cx="1733400" cy="1992240"/>
          </a:xfrm>
          <a:prstGeom prst="rect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8"/>
          <p:cNvGrpSpPr/>
          <p:nvPr/>
        </p:nvGrpSpPr>
        <p:grpSpPr>
          <a:xfrm>
            <a:off x="1865160" y="1577880"/>
            <a:ext cx="84240" cy="338400"/>
            <a:chOff x="1865160" y="1577880"/>
            <a:chExt cx="84240" cy="338400"/>
          </a:xfrm>
        </p:grpSpPr>
        <p:pic>
          <p:nvPicPr>
            <p:cNvPr id="185" name="Group 65" descr=""/>
            <p:cNvPicPr/>
            <p:nvPr/>
          </p:nvPicPr>
          <p:blipFill>
            <a:blip r:embed="rId2"/>
            <a:stretch/>
          </p:blipFill>
          <p:spPr>
            <a:xfrm>
              <a:off x="1865160" y="1577880"/>
              <a:ext cx="8424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Donut 10"/>
            <p:cNvGrpSpPr/>
            <p:nvPr/>
          </p:nvGrpSpPr>
          <p:grpSpPr>
            <a:xfrm>
              <a:off x="1891440" y="1728720"/>
              <a:ext cx="19080" cy="36360"/>
              <a:chOff x="1891440" y="1728720"/>
              <a:chExt cx="19080" cy="36360"/>
            </a:xfrm>
          </p:grpSpPr>
          <p:pic>
            <p:nvPicPr>
              <p:cNvPr id="187" name="Donut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1440" y="1728720"/>
                <a:ext cx="1908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 rot="360600">
                <a:off x="1899000" y="174348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矩形 24"/>
          <p:cNvSpPr/>
          <p:nvPr/>
        </p:nvSpPr>
        <p:spPr>
          <a:xfrm rot="20878800">
            <a:off x="3367080" y="1850760"/>
            <a:ext cx="2070000" cy="1595520"/>
          </a:xfrm>
          <a:prstGeom prst="rect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3"/>
          <p:cNvGrpSpPr/>
          <p:nvPr/>
        </p:nvGrpSpPr>
        <p:grpSpPr>
          <a:xfrm>
            <a:off x="4132440" y="1542960"/>
            <a:ext cx="83880" cy="338400"/>
            <a:chOff x="4132440" y="1542960"/>
            <a:chExt cx="83880" cy="338400"/>
          </a:xfrm>
        </p:grpSpPr>
        <p:pic>
          <p:nvPicPr>
            <p:cNvPr id="191" name="Group 65" descr=""/>
            <p:cNvPicPr/>
            <p:nvPr/>
          </p:nvPicPr>
          <p:blipFill>
            <a:blip r:embed="rId5"/>
            <a:stretch/>
          </p:blipFill>
          <p:spPr>
            <a:xfrm rot="21599400">
              <a:off x="4132440" y="1542600"/>
              <a:ext cx="83880" cy="33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Donut 15"/>
            <p:cNvGrpSpPr/>
            <p:nvPr/>
          </p:nvGrpSpPr>
          <p:grpSpPr>
            <a:xfrm>
              <a:off x="4163400" y="1702440"/>
              <a:ext cx="18360" cy="36360"/>
              <a:chOff x="4163400" y="1702440"/>
              <a:chExt cx="18360" cy="36360"/>
            </a:xfrm>
          </p:grpSpPr>
          <p:pic>
            <p:nvPicPr>
              <p:cNvPr id="193" name="Donut 15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4163400" y="1702080"/>
                <a:ext cx="18360" cy="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165600">
                <a:off x="4170960" y="1714320"/>
                <a:ext cx="324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矩形 30"/>
          <p:cNvSpPr/>
          <p:nvPr/>
        </p:nvSpPr>
        <p:spPr>
          <a:xfrm>
            <a:off x="6300720" y="1892160"/>
            <a:ext cx="2276640" cy="1752840"/>
          </a:xfrm>
          <a:prstGeom prst="rect">
            <a:avLst/>
          </a:prstGeom>
          <a:blipFill rotWithShape="0">
            <a:blip r:embed="rId7"/>
            <a:srcRect/>
            <a:stretch/>
          </a:blip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7093080" y="1593720"/>
            <a:ext cx="83880" cy="339840"/>
            <a:chOff x="7093080" y="1593720"/>
            <a:chExt cx="83880" cy="339840"/>
          </a:xfrm>
        </p:grpSpPr>
        <p:pic>
          <p:nvPicPr>
            <p:cNvPr id="197" name="Group 65" descr=""/>
            <p:cNvPicPr/>
            <p:nvPr/>
          </p:nvPicPr>
          <p:blipFill>
            <a:blip r:embed="rId8"/>
            <a:stretch/>
          </p:blipFill>
          <p:spPr>
            <a:xfrm>
              <a:off x="7093080" y="1593720"/>
              <a:ext cx="83880" cy="33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8" name="Donut 20"/>
            <p:cNvGrpSpPr/>
            <p:nvPr/>
          </p:nvGrpSpPr>
          <p:grpSpPr>
            <a:xfrm>
              <a:off x="7120440" y="1743840"/>
              <a:ext cx="16560" cy="40680"/>
              <a:chOff x="7120440" y="1743840"/>
              <a:chExt cx="16560" cy="40680"/>
            </a:xfrm>
          </p:grpSpPr>
          <p:pic>
            <p:nvPicPr>
              <p:cNvPr id="199" name="Donut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7120440" y="1743840"/>
                <a:ext cx="16560" cy="4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600600">
                <a:off x="7127280" y="1760040"/>
                <a:ext cx="2880" cy="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Box 36"/>
          <p:cNvSpPr/>
          <p:nvPr/>
        </p:nvSpPr>
        <p:spPr>
          <a:xfrm>
            <a:off x="777960" y="485316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1"/>
          <p:cNvSpPr/>
          <p:nvPr/>
        </p:nvSpPr>
        <p:spPr>
          <a:xfrm>
            <a:off x="851040" y="4484520"/>
            <a:ext cx="19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Administrator\桌面\1-01.png"/>
          <p:cNvPicPr/>
          <p:nvPr/>
        </p:nvPicPr>
        <p:blipFill>
          <a:blip r:embed="rId10"/>
          <a:stretch/>
        </p:blipFill>
        <p:spPr>
          <a:xfrm flipH="1" rot="19871400">
            <a:off x="468000" y="4300200"/>
            <a:ext cx="522360" cy="736560"/>
          </a:xfrm>
          <a:prstGeom prst="rect">
            <a:avLst/>
          </a:prstGeom>
          <a:ln w="0">
            <a:noFill/>
          </a:ln>
        </p:spPr>
      </p:pic>
      <p:sp>
        <p:nvSpPr>
          <p:cNvPr id="204" name="TextBox 46"/>
          <p:cNvSpPr/>
          <p:nvPr/>
        </p:nvSpPr>
        <p:spPr>
          <a:xfrm>
            <a:off x="3419640" y="448632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7"/>
          <p:cNvSpPr/>
          <p:nvPr/>
        </p:nvSpPr>
        <p:spPr>
          <a:xfrm>
            <a:off x="3492360" y="411804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Documents and Settings\Administrator\桌面\1-01.png"/>
          <p:cNvPicPr/>
          <p:nvPr/>
        </p:nvPicPr>
        <p:blipFill>
          <a:blip r:embed="rId11"/>
          <a:stretch/>
        </p:blipFill>
        <p:spPr>
          <a:xfrm flipH="1" rot="19871400">
            <a:off x="3134880" y="3933360"/>
            <a:ext cx="455760" cy="642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9"/>
          <p:cNvSpPr/>
          <p:nvPr/>
        </p:nvSpPr>
        <p:spPr>
          <a:xfrm>
            <a:off x="6178680" y="4807080"/>
            <a:ext cx="237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的内容打在这里，或者通过复制您的文本后，在此框中选择粘贴，并选择只保留文字。这样格式就不会变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50"/>
          <p:cNvSpPr/>
          <p:nvPr/>
        </p:nvSpPr>
        <p:spPr>
          <a:xfrm>
            <a:off x="6251400" y="4438800"/>
            <a:ext cx="19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64009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2" descr="C:\Documents and Settings\Administrator\桌面\1-01.png"/>
          <p:cNvPicPr/>
          <p:nvPr/>
        </p:nvPicPr>
        <p:blipFill>
          <a:blip r:embed="rId12"/>
          <a:stretch/>
        </p:blipFill>
        <p:spPr>
          <a:xfrm flipH="1" rot="19871400">
            <a:off x="5806440" y="4221000"/>
            <a:ext cx="554400" cy="782640"/>
          </a:xfrm>
          <a:prstGeom prst="rect">
            <a:avLst/>
          </a:prstGeom>
          <a:ln w="0">
            <a:noFill/>
          </a:ln>
        </p:spPr>
      </p:pic>
      <p:sp>
        <p:nvSpPr>
          <p:cNvPr id="210" name="矩形 52"/>
          <p:cNvSpPr/>
          <p:nvPr/>
        </p:nvSpPr>
        <p:spPr>
          <a:xfrm>
            <a:off x="0" y="6524640"/>
            <a:ext cx="851040" cy="144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54"/>
          <p:cNvSpPr/>
          <p:nvPr/>
        </p:nvSpPr>
        <p:spPr>
          <a:xfrm>
            <a:off x="-1440" y="6381720"/>
            <a:ext cx="9144000" cy="0"/>
          </a:xfrm>
          <a:prstGeom prst="line">
            <a:avLst/>
          </a:prstGeom>
          <a:ln w="28440">
            <a:solidFill>
              <a:srgbClr val="fac09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7"/>
          <p:cNvSpPr/>
          <p:nvPr/>
        </p:nvSpPr>
        <p:spPr>
          <a:xfrm>
            <a:off x="826920" y="6464160"/>
            <a:ext cx="184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您公司的</a:t>
            </a:r>
            <a:r>
              <a:rPr b="0" lang="en-US" sz="1200" spc="-1" strike="noStrike">
                <a:solidFill>
                  <a:srgbClr val="7f7f7f"/>
                </a:solidFill>
                <a:latin typeface="Calibri"/>
              </a:rPr>
              <a:t>LOGO</a:t>
            </a:r>
            <a:r>
              <a:rPr b="0" lang="zh-CN" sz="1200" spc="-1" strike="noStrike">
                <a:solidFill>
                  <a:srgbClr val="7f7f7f"/>
                </a:solidFill>
                <a:latin typeface="Calibri"/>
              </a:rPr>
              <a:t>和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燕尾形 58"/>
          <p:cNvSpPr/>
          <p:nvPr/>
        </p:nvSpPr>
        <p:spPr>
          <a:xfrm>
            <a:off x="8699400" y="6524640"/>
            <a:ext cx="120600" cy="217440"/>
          </a:xfrm>
          <a:custGeom>
            <a:avLst/>
            <a:gdLst>
              <a:gd name="textAreaLeft" fmla="*/ 0 w 120600"/>
              <a:gd name="textAreaRight" fmla="*/ 12096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燕尾形 61"/>
          <p:cNvSpPr/>
          <p:nvPr/>
        </p:nvSpPr>
        <p:spPr>
          <a:xfrm flipH="1">
            <a:off x="8387640" y="6524640"/>
            <a:ext cx="120600" cy="217440"/>
          </a:xfrm>
          <a:custGeom>
            <a:avLst/>
            <a:gdLst>
              <a:gd name="textAreaLeft" fmla="*/ -360 w 120600"/>
              <a:gd name="textAreaRight" fmla="*/ 120600 w 1206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c64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843280" y="3429000"/>
            <a:ext cx="388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64009"/>
                </a:solidFill>
                <a:latin typeface="Adobe Caslon Pro Bold"/>
              </a:rPr>
              <a:t>谢谢观看！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43280" y="3011400"/>
            <a:ext cx="3889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c64009"/>
              </a:solidFill>
              <a:latin typeface="Adobe Caslon Pro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39272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a6a6a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08:36:58Z</dcterms:created>
  <dc:creator>User</dc:creator>
  <dc:description/>
  <dc:language>en-US</dc:language>
  <cp:lastModifiedBy>a</cp:lastModifiedBy>
  <dcterms:modified xsi:type="dcterms:W3CDTF">2015-07-25T08:32:31Z</dcterms:modified>
  <cp:revision>16</cp:revision>
  <dc:subject/>
  <dc:title>PowerPoint 演示文稿</dc:title>
</cp:coreProperties>
</file>