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ED2-B03D-4F0D-A465-FBEEAA6A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A226-3F78-424A-AED8-C7D80A160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6F6-FFF2-49C7-A8A0-425DF76DE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A8CA-62B5-4886-9556-A19BC5D8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03F7-412E-4E23-A16F-D7E628DC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FE0A-D215-446C-8966-784196D5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3D58-A1F3-4CFC-A977-F3DA5C9FB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D23C-3938-43DC-9157-C8BE4FB63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DFD-BEA2-4C98-AAB3-47C81182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B7AA-F7FC-4EAD-A2E9-DADCB696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0CD-E4B1-4553-AF65-A3C6D675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2BF6-1175-4E75-90BD-3F7ACFF1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92A0-3E9F-4B6A-9275-7CC0E0D2350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810A4-9216-49D2-8AD8-1392C730D3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9.png"/><Relationship Id="rId33" Type="http://schemas.openxmlformats.org/officeDocument/2006/relationships/image" Target="../media/image5.png"/><Relationship Id="rId34" Type="http://schemas.openxmlformats.org/officeDocument/2006/relationships/image" Target="../media/image5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5.png"/><Relationship Id="rId40" Type="http://schemas.openxmlformats.org/officeDocument/2006/relationships/image" Target="../media/image5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5.png"/><Relationship Id="rId45" Type="http://schemas.openxmlformats.org/officeDocument/2006/relationships/image" Target="../media/image5.png"/><Relationship Id="rId46" Type="http://schemas.openxmlformats.org/officeDocument/2006/relationships/image" Target="../media/image5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image" Target="../media/image5.png"/><Relationship Id="rId52" Type="http://schemas.openxmlformats.org/officeDocument/2006/relationships/image" Target="../media/image5.png"/><Relationship Id="rId53" Type="http://schemas.openxmlformats.org/officeDocument/2006/relationships/image" Target="../media/image5.png"/><Relationship Id="rId54" Type="http://schemas.openxmlformats.org/officeDocument/2006/relationships/image" Target="../media/image5.png"/><Relationship Id="rId55" Type="http://schemas.openxmlformats.org/officeDocument/2006/relationships/image" Target="../media/image5.png"/><Relationship Id="rId56" Type="http://schemas.openxmlformats.org/officeDocument/2006/relationships/image" Target="../media/image5.png"/><Relationship Id="rId57" Type="http://schemas.openxmlformats.org/officeDocument/2006/relationships/image" Target="../media/image5.png"/><Relationship Id="rId58" Type="http://schemas.openxmlformats.org/officeDocument/2006/relationships/image" Target="../media/image5.png"/><Relationship Id="rId59" Type="http://schemas.openxmlformats.org/officeDocument/2006/relationships/image" Target="../media/image5.png"/><Relationship Id="rId60" Type="http://schemas.openxmlformats.org/officeDocument/2006/relationships/image" Target="../media/image5.png"/><Relationship Id="rId61" Type="http://schemas.openxmlformats.org/officeDocument/2006/relationships/image" Target="../media/image5.png"/><Relationship Id="rId62" Type="http://schemas.openxmlformats.org/officeDocument/2006/relationships/image" Target="../media/image5.png"/><Relationship Id="rId63" Type="http://schemas.openxmlformats.org/officeDocument/2006/relationships/image" Target="../media/image5.png"/><Relationship Id="rId64" Type="http://schemas.openxmlformats.org/officeDocument/2006/relationships/image" Target="../media/image8.png"/><Relationship Id="rId65" Type="http://schemas.openxmlformats.org/officeDocument/2006/relationships/image" Target="../media/image9.png"/><Relationship Id="rId66" Type="http://schemas.openxmlformats.org/officeDocument/2006/relationships/image" Target="../media/image10.png"/><Relationship Id="rId67" Type="http://schemas.openxmlformats.org/officeDocument/2006/relationships/image" Target="../media/image10.png"/><Relationship Id="rId6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image" Target="../media/image7.png"/><Relationship Id="rId24" Type="http://schemas.openxmlformats.org/officeDocument/2006/relationships/image" Target="../media/image7.png"/><Relationship Id="rId25" Type="http://schemas.openxmlformats.org/officeDocument/2006/relationships/image" Target="../media/image7.png"/><Relationship Id="rId26" Type="http://schemas.openxmlformats.org/officeDocument/2006/relationships/image" Target="../media/image7.png"/><Relationship Id="rId27" Type="http://schemas.openxmlformats.org/officeDocument/2006/relationships/image" Target="../media/image7.png"/><Relationship Id="rId28" Type="http://schemas.openxmlformats.org/officeDocument/2006/relationships/image" Target="../media/image10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5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5.png"/><Relationship Id="rId19" Type="http://schemas.openxmlformats.org/officeDocument/2006/relationships/image" Target="../media/image14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7.png"/><Relationship Id="rId24" Type="http://schemas.openxmlformats.org/officeDocument/2006/relationships/image" Target="../media/image17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4.png"/><Relationship Id="rId31" Type="http://schemas.openxmlformats.org/officeDocument/2006/relationships/image" Target="../media/image10.png"/><Relationship Id="rId3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image" Target="../media/image21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4.pn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8562-E87C-425A-8E6F-873DDF9938D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1785960" y="1835280"/>
            <a:ext cx="5857920" cy="2288520"/>
          </a:xfrm>
          <a:prstGeom prst="rect">
            <a:avLst/>
          </a:prstGeom>
          <a:noFill/>
          <a:ln w="255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作品介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本作品使用</a:t>
            </a: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PPT2007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制作，素材、动画</a:t>
            </a: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100%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原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作品涉及到的软件有：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幼圆"/>
              </a:rPr>
              <a:t>powerpoint2007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幼圆"/>
              </a:rPr>
              <a:t>、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幼圆"/>
              </a:rPr>
              <a:t>photoshopcs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作品字体：汉字统一为幼圆、英语统一为</a:t>
            </a: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A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本作品只限于重庆邮电大学第一届</a:t>
            </a:r>
            <a:r>
              <a:rPr b="0" lang="en-US" sz="1800" spc="-1" strike="noStrike">
                <a:solidFill>
                  <a:srgbClr val="ffffff"/>
                </a:solidFill>
                <a:latin typeface="幼圆"/>
                <a:ea typeface="幼圆"/>
              </a:rPr>
              <a:t>PPT</a:t>
            </a:r>
            <a:r>
              <a:rPr b="0" lang="zh-CN" sz="1800" spc="-1" strike="noStrike">
                <a:solidFill>
                  <a:srgbClr val="ffffff"/>
                </a:solidFill>
                <a:latin typeface="幼圆"/>
                <a:ea typeface="幼圆"/>
              </a:rPr>
              <a:t>大赛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1"/>
          <p:cNvSpPr/>
          <p:nvPr/>
        </p:nvSpPr>
        <p:spPr>
          <a:xfrm>
            <a:off x="2423520" y="37476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创意环保动态</a:t>
            </a:r>
            <a:r>
              <a:rPr b="0" lang="zh-CN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PPT</a:t>
            </a:r>
            <a:r>
              <a:rPr b="0" lang="ko-KR" sz="4000" spc="-1" strike="noStrike">
                <a:solidFill>
                  <a:srgbClr val="ffffff"/>
                </a:solidFill>
                <a:latin typeface="方正综艺简体"/>
                <a:ea typeface="方正综艺简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任意多边形 229"/>
          <p:cNvSpPr/>
          <p:nvPr/>
        </p:nvSpPr>
        <p:spPr>
          <a:xfrm>
            <a:off x="5286240" y="500040"/>
            <a:ext cx="71640" cy="214200"/>
          </a:xfrm>
          <a:custGeom>
            <a:avLst/>
            <a:gdLst>
              <a:gd name="textAreaLeft" fmla="*/ 0 w 71640"/>
              <a:gd name="textAreaRight" fmla="*/ 72000 w 716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04715" h="544773">
                <a:moveTo>
                  <a:pt x="78105" y="0"/>
                </a:moveTo>
                <a:cubicBezTo>
                  <a:pt x="73416" y="51582"/>
                  <a:pt x="71363" y="103471"/>
                  <a:pt x="64038" y="154745"/>
                </a:cubicBezTo>
                <a:cubicBezTo>
                  <a:pt x="61941" y="169425"/>
                  <a:pt x="54044" y="182690"/>
                  <a:pt x="49970" y="196948"/>
                </a:cubicBezTo>
                <a:cubicBezTo>
                  <a:pt x="44658" y="215538"/>
                  <a:pt x="39694" y="234260"/>
                  <a:pt x="35902" y="253219"/>
                </a:cubicBezTo>
                <a:cubicBezTo>
                  <a:pt x="30308" y="281188"/>
                  <a:pt x="26937" y="309562"/>
                  <a:pt x="21835" y="337625"/>
                </a:cubicBezTo>
                <a:cubicBezTo>
                  <a:pt x="17558" y="361150"/>
                  <a:pt x="12456" y="384517"/>
                  <a:pt x="7767" y="407963"/>
                </a:cubicBezTo>
                <a:cubicBezTo>
                  <a:pt x="12456" y="440788"/>
                  <a:pt x="0" y="481483"/>
                  <a:pt x="21835" y="506437"/>
                </a:cubicBezTo>
                <a:cubicBezTo>
                  <a:pt x="55379" y="544773"/>
                  <a:pt x="113227" y="518176"/>
                  <a:pt x="148444" y="506437"/>
                </a:cubicBezTo>
                <a:cubicBezTo>
                  <a:pt x="157822" y="492369"/>
                  <a:pt x="169712" y="479684"/>
                  <a:pt x="176579" y="464234"/>
                </a:cubicBezTo>
                <a:cubicBezTo>
                  <a:pt x="188624" y="437133"/>
                  <a:pt x="204715" y="379828"/>
                  <a:pt x="204715" y="379828"/>
                </a:cubicBezTo>
                <a:cubicBezTo>
                  <a:pt x="193376" y="277779"/>
                  <a:pt x="198731" y="274482"/>
                  <a:pt x="176579" y="196948"/>
                </a:cubicBezTo>
                <a:cubicBezTo>
                  <a:pt x="172505" y="182690"/>
                  <a:pt x="170141" y="167460"/>
                  <a:pt x="162512" y="154745"/>
                </a:cubicBezTo>
                <a:cubicBezTo>
                  <a:pt x="155688" y="143372"/>
                  <a:pt x="143755" y="135988"/>
                  <a:pt x="134376" y="126609"/>
                </a:cubicBezTo>
                <a:cubicBezTo>
                  <a:pt x="116993" y="74459"/>
                  <a:pt x="126941" y="97669"/>
                  <a:pt x="106241" y="5627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任意多边形 228"/>
          <p:cNvSpPr/>
          <p:nvPr/>
        </p:nvSpPr>
        <p:spPr>
          <a:xfrm>
            <a:off x="5500800" y="1285920"/>
            <a:ext cx="71280" cy="214200"/>
          </a:xfrm>
          <a:custGeom>
            <a:avLst/>
            <a:gdLst>
              <a:gd name="textAreaLeft" fmla="*/ 0 w 71280"/>
              <a:gd name="textAreaRight" fmla="*/ 71640 w 7128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04715" h="544773">
                <a:moveTo>
                  <a:pt x="78105" y="0"/>
                </a:moveTo>
                <a:cubicBezTo>
                  <a:pt x="73416" y="51582"/>
                  <a:pt x="71363" y="103471"/>
                  <a:pt x="64038" y="154745"/>
                </a:cubicBezTo>
                <a:cubicBezTo>
                  <a:pt x="61941" y="169425"/>
                  <a:pt x="54044" y="182690"/>
                  <a:pt x="49970" y="196948"/>
                </a:cubicBezTo>
                <a:cubicBezTo>
                  <a:pt x="44658" y="215538"/>
                  <a:pt x="39694" y="234260"/>
                  <a:pt x="35902" y="253219"/>
                </a:cubicBezTo>
                <a:cubicBezTo>
                  <a:pt x="30308" y="281188"/>
                  <a:pt x="26937" y="309562"/>
                  <a:pt x="21835" y="337625"/>
                </a:cubicBezTo>
                <a:cubicBezTo>
                  <a:pt x="17558" y="361150"/>
                  <a:pt x="12456" y="384517"/>
                  <a:pt x="7767" y="407963"/>
                </a:cubicBezTo>
                <a:cubicBezTo>
                  <a:pt x="12456" y="440788"/>
                  <a:pt x="0" y="481483"/>
                  <a:pt x="21835" y="506437"/>
                </a:cubicBezTo>
                <a:cubicBezTo>
                  <a:pt x="55379" y="544773"/>
                  <a:pt x="113227" y="518176"/>
                  <a:pt x="148444" y="506437"/>
                </a:cubicBezTo>
                <a:cubicBezTo>
                  <a:pt x="157822" y="492369"/>
                  <a:pt x="169712" y="479684"/>
                  <a:pt x="176579" y="464234"/>
                </a:cubicBezTo>
                <a:cubicBezTo>
                  <a:pt x="188624" y="437133"/>
                  <a:pt x="204715" y="379828"/>
                  <a:pt x="204715" y="379828"/>
                </a:cubicBezTo>
                <a:cubicBezTo>
                  <a:pt x="193376" y="277779"/>
                  <a:pt x="198731" y="274482"/>
                  <a:pt x="176579" y="196948"/>
                </a:cubicBezTo>
                <a:cubicBezTo>
                  <a:pt x="172505" y="182690"/>
                  <a:pt x="170141" y="167460"/>
                  <a:pt x="162512" y="154745"/>
                </a:cubicBezTo>
                <a:cubicBezTo>
                  <a:pt x="155688" y="143372"/>
                  <a:pt x="143755" y="135988"/>
                  <a:pt x="134376" y="126609"/>
                </a:cubicBezTo>
                <a:cubicBezTo>
                  <a:pt x="116993" y="74459"/>
                  <a:pt x="126941" y="97669"/>
                  <a:pt x="106241" y="56271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组合 52"/>
          <p:cNvGrpSpPr/>
          <p:nvPr/>
        </p:nvGrpSpPr>
        <p:grpSpPr>
          <a:xfrm>
            <a:off x="28440" y="5921280"/>
            <a:ext cx="18045360" cy="293760"/>
            <a:chOff x="28440" y="5921280"/>
            <a:chExt cx="18045360" cy="293760"/>
          </a:xfrm>
        </p:grpSpPr>
        <p:sp>
          <p:nvSpPr>
            <p:cNvPr id="48" name="任意多边形 22"/>
            <p:cNvSpPr/>
            <p:nvPr/>
          </p:nvSpPr>
          <p:spPr>
            <a:xfrm>
              <a:off x="28440" y="5921280"/>
              <a:ext cx="9282240" cy="265320"/>
            </a:xfrm>
            <a:custGeom>
              <a:avLst/>
              <a:gdLst>
                <a:gd name="textAreaLeft" fmla="*/ 0 w 9282240"/>
                <a:gd name="textAreaRight" fmla="*/ 9282600 w 928224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9282546" h="265546">
                  <a:moveTo>
                    <a:pt x="0" y="256309"/>
                  </a:moveTo>
                  <a:lnTo>
                    <a:pt x="3879273" y="256309"/>
                  </a:lnTo>
                  <a:cubicBezTo>
                    <a:pt x="4999182" y="237836"/>
                    <a:pt x="6142182" y="184727"/>
                    <a:pt x="6719455" y="145473"/>
                  </a:cubicBezTo>
                  <a:cubicBezTo>
                    <a:pt x="7296728" y="106219"/>
                    <a:pt x="7174346" y="41564"/>
                    <a:pt x="7342909" y="20782"/>
                  </a:cubicBezTo>
                  <a:cubicBezTo>
                    <a:pt x="7511473" y="0"/>
                    <a:pt x="7580745" y="6928"/>
                    <a:pt x="7730836" y="20782"/>
                  </a:cubicBezTo>
                  <a:cubicBezTo>
                    <a:pt x="7880927" y="34637"/>
                    <a:pt x="8070273" y="66964"/>
                    <a:pt x="8243455" y="103909"/>
                  </a:cubicBezTo>
                  <a:cubicBezTo>
                    <a:pt x="8416637" y="140854"/>
                    <a:pt x="8608291" y="219364"/>
                    <a:pt x="8769927" y="242455"/>
                  </a:cubicBezTo>
                  <a:cubicBezTo>
                    <a:pt x="8931563" y="265546"/>
                    <a:pt x="9213273" y="242455"/>
                    <a:pt x="9213273" y="242455"/>
                  </a:cubicBezTo>
                  <a:lnTo>
                    <a:pt x="9282546" y="242455"/>
                  </a:lnTo>
                </a:path>
              </a:pathLst>
            </a:custGeom>
            <a:noFill/>
            <a:ln w="316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任意多边形 46"/>
            <p:cNvSpPr/>
            <p:nvPr/>
          </p:nvSpPr>
          <p:spPr>
            <a:xfrm>
              <a:off x="8930160" y="6169680"/>
              <a:ext cx="9143640" cy="4536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1427018" h="30018">
                  <a:moveTo>
                    <a:pt x="0" y="0"/>
                  </a:moveTo>
                  <a:lnTo>
                    <a:pt x="318655" y="13854"/>
                  </a:lnTo>
                  <a:lnTo>
                    <a:pt x="803564" y="27709"/>
                  </a:lnTo>
                  <a:cubicBezTo>
                    <a:pt x="988291" y="30018"/>
                    <a:pt x="1207654" y="28863"/>
                    <a:pt x="1427018" y="27709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矩形 250"/>
          <p:cNvSpPr/>
          <p:nvPr/>
        </p:nvSpPr>
        <p:spPr>
          <a:xfrm>
            <a:off x="5786280" y="4071960"/>
            <a:ext cx="357480" cy="357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27"/>
          <p:cNvSpPr/>
          <p:nvPr/>
        </p:nvSpPr>
        <p:spPr>
          <a:xfrm>
            <a:off x="5143680" y="2571840"/>
            <a:ext cx="642600" cy="1280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16"/>
          <p:cNvSpPr/>
          <p:nvPr/>
        </p:nvSpPr>
        <p:spPr>
          <a:xfrm>
            <a:off x="3500280" y="3138480"/>
            <a:ext cx="15717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215"/>
          <p:cNvSpPr/>
          <p:nvPr/>
        </p:nvSpPr>
        <p:spPr>
          <a:xfrm>
            <a:off x="3500280" y="2424240"/>
            <a:ext cx="157176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1"/>
          <p:cNvSpPr/>
          <p:nvPr/>
        </p:nvSpPr>
        <p:spPr>
          <a:xfrm>
            <a:off x="3714840" y="3139920"/>
            <a:ext cx="35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  <a:ea typeface="Calibri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94"/>
          <p:cNvSpPr/>
          <p:nvPr/>
        </p:nvSpPr>
        <p:spPr>
          <a:xfrm>
            <a:off x="4000680" y="313992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  <a:ea typeface="Calibri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97"/>
          <p:cNvSpPr/>
          <p:nvPr/>
        </p:nvSpPr>
        <p:spPr>
          <a:xfrm>
            <a:off x="4429080" y="313992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  <a:ea typeface="Calibri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17"/>
          <p:cNvSpPr/>
          <p:nvPr/>
        </p:nvSpPr>
        <p:spPr>
          <a:xfrm>
            <a:off x="3714840" y="2529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Calibri"/>
                <a:ea typeface="Calibri"/>
              </a:rPr>
              <a:t>H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224" descr="未标题-3.png"/>
          <p:cNvPicPr/>
          <p:nvPr/>
        </p:nvPicPr>
        <p:blipFill>
          <a:blip r:embed="rId1"/>
          <a:stretch/>
        </p:blipFill>
        <p:spPr>
          <a:xfrm>
            <a:off x="5143680" y="2428920"/>
            <a:ext cx="642600" cy="1428840"/>
          </a:xfrm>
          <a:prstGeom prst="rect">
            <a:avLst/>
          </a:prstGeom>
          <a:ln w="0">
            <a:noFill/>
          </a:ln>
        </p:spPr>
      </p:pic>
      <p:sp>
        <p:nvSpPr>
          <p:cNvPr id="59" name="直接连接符 231"/>
          <p:cNvSpPr/>
          <p:nvPr/>
        </p:nvSpPr>
        <p:spPr>
          <a:xfrm>
            <a:off x="5500800" y="3571920"/>
            <a:ext cx="285480" cy="142920"/>
          </a:xfrm>
          <a:prstGeom prst="line">
            <a:avLst/>
          </a:prstGeom>
          <a:ln w="381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任意多边形 248"/>
          <p:cNvSpPr/>
          <p:nvPr/>
        </p:nvSpPr>
        <p:spPr>
          <a:xfrm>
            <a:off x="5500800" y="3571920"/>
            <a:ext cx="500040" cy="861840"/>
          </a:xfrm>
          <a:custGeom>
            <a:avLst/>
            <a:gdLst>
              <a:gd name="textAreaLeft" fmla="*/ 0 w 500040"/>
              <a:gd name="textAreaRight" fmla="*/ 500400 w 50004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421240" h="719191">
                <a:moveTo>
                  <a:pt x="0" y="0"/>
                </a:moveTo>
                <a:cubicBezTo>
                  <a:pt x="101029" y="53939"/>
                  <a:pt x="202059" y="107879"/>
                  <a:pt x="256854" y="143838"/>
                </a:cubicBezTo>
                <a:cubicBezTo>
                  <a:pt x="311650" y="179798"/>
                  <a:pt x="308225" y="179797"/>
                  <a:pt x="328773" y="215757"/>
                </a:cubicBezTo>
                <a:cubicBezTo>
                  <a:pt x="349321" y="251717"/>
                  <a:pt x="364733" y="275690"/>
                  <a:pt x="380144" y="359596"/>
                </a:cubicBezTo>
                <a:cubicBezTo>
                  <a:pt x="395555" y="443502"/>
                  <a:pt x="408397" y="581346"/>
                  <a:pt x="421240" y="719191"/>
                </a:cubicBezTo>
              </a:path>
            </a:pathLst>
          </a:custGeom>
          <a:noFill/>
          <a:ln w="2844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19"/>
          <p:cNvGrpSpPr/>
          <p:nvPr/>
        </p:nvGrpSpPr>
        <p:grpSpPr>
          <a:xfrm>
            <a:off x="5572080" y="3929040"/>
            <a:ext cx="928800" cy="500040"/>
            <a:chOff x="5572080" y="3929040"/>
            <a:chExt cx="928800" cy="500040"/>
          </a:xfrm>
        </p:grpSpPr>
        <p:sp>
          <p:nvSpPr>
            <p:cNvPr id="62" name="圆柱形 249"/>
            <p:cNvSpPr/>
            <p:nvPr/>
          </p:nvSpPr>
          <p:spPr>
            <a:xfrm>
              <a:off x="5920200" y="3929040"/>
              <a:ext cx="580680" cy="50004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空心弧 18"/>
            <p:cNvSpPr/>
            <p:nvPr/>
          </p:nvSpPr>
          <p:spPr>
            <a:xfrm rot="16200000">
              <a:off x="5755320" y="3888360"/>
              <a:ext cx="214200" cy="5806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80680"/>
                <a:gd name="textAreaBottom" fmla="*/ 239040 h 58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49" y="11527"/>
                  </a:moveTo>
                  <a:cubicBezTo>
                    <a:pt x="3724" y="11285"/>
                    <a:pt x="3712" y="11043"/>
                    <a:pt x="3712" y="10800"/>
                  </a:cubicBezTo>
                  <a:cubicBezTo>
                    <a:pt x="3712" y="6885"/>
                    <a:pt x="6885" y="3712"/>
                    <a:pt x="10800" y="3712"/>
                  </a:cubicBezTo>
                  <a:cubicBezTo>
                    <a:pt x="14714" y="3712"/>
                    <a:pt x="17888" y="6885"/>
                    <a:pt x="17888" y="10800"/>
                  </a:cubicBezTo>
                  <a:cubicBezTo>
                    <a:pt x="17888" y="11043"/>
                    <a:pt x="17875" y="11285"/>
                    <a:pt x="17850" y="11527"/>
                  </a:cubicBezTo>
                  <a:lnTo>
                    <a:pt x="21542" y="11908"/>
                  </a:lnTo>
                  <a:cubicBezTo>
                    <a:pt x="21580" y="11540"/>
                    <a:pt x="21600" y="1117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170"/>
                    <a:pt x="19" y="11540"/>
                    <a:pt x="57" y="11908"/>
                  </a:cubicBezTo>
                  <a:lnTo>
                    <a:pt x="3749" y="1152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图片 20" descr="图片1.png"/>
          <p:cNvPicPr/>
          <p:nvPr/>
        </p:nvPicPr>
        <p:blipFill>
          <a:blip r:embed="rId2"/>
          <a:stretch/>
        </p:blipFill>
        <p:spPr>
          <a:xfrm rot="19887600">
            <a:off x="9037440" y="1800000"/>
            <a:ext cx="590400" cy="519120"/>
          </a:xfrm>
          <a:prstGeom prst="rect">
            <a:avLst/>
          </a:prstGeom>
          <a:ln w="0">
            <a:noFill/>
          </a:ln>
        </p:spPr>
      </p:pic>
      <p:sp>
        <p:nvSpPr>
          <p:cNvPr id="65" name="任意多边形 25"/>
          <p:cNvSpPr/>
          <p:nvPr/>
        </p:nvSpPr>
        <p:spPr>
          <a:xfrm>
            <a:off x="6438960" y="5929200"/>
            <a:ext cx="2276280" cy="166680"/>
          </a:xfrm>
          <a:custGeom>
            <a:avLst/>
            <a:gdLst>
              <a:gd name="textAreaLeft" fmla="*/ 0 w 2276280"/>
              <a:gd name="textAreaRight" fmla="*/ 2276640 w 2276280"/>
              <a:gd name="textAreaTop" fmla="*/ 0 h 166680"/>
              <a:gd name="textAreaBottom" fmla="*/ 166680 h 166680"/>
            </a:gdLst>
            <a:ahLst/>
            <a:rect l="textAreaLeft" t="textAreaTop" r="textAreaRight" b="textAreaBottom"/>
            <a:pathLst>
              <a:path w="2078182" h="166254">
                <a:moveTo>
                  <a:pt x="0" y="145472"/>
                </a:moveTo>
                <a:cubicBezTo>
                  <a:pt x="193963" y="139699"/>
                  <a:pt x="387927" y="133926"/>
                  <a:pt x="512618" y="117763"/>
                </a:cubicBezTo>
                <a:cubicBezTo>
                  <a:pt x="637309" y="101600"/>
                  <a:pt x="692728" y="66964"/>
                  <a:pt x="748146" y="48491"/>
                </a:cubicBezTo>
                <a:cubicBezTo>
                  <a:pt x="803564" y="30018"/>
                  <a:pt x="789710" y="13854"/>
                  <a:pt x="845128" y="6927"/>
                </a:cubicBezTo>
                <a:cubicBezTo>
                  <a:pt x="900546" y="0"/>
                  <a:pt x="974437" y="2309"/>
                  <a:pt x="1080655" y="6927"/>
                </a:cubicBezTo>
                <a:cubicBezTo>
                  <a:pt x="1186873" y="11545"/>
                  <a:pt x="1336964" y="11545"/>
                  <a:pt x="1482437" y="34636"/>
                </a:cubicBezTo>
                <a:cubicBezTo>
                  <a:pt x="1627910" y="57727"/>
                  <a:pt x="1854200" y="124690"/>
                  <a:pt x="1953491" y="145472"/>
                </a:cubicBezTo>
                <a:cubicBezTo>
                  <a:pt x="2052782" y="166254"/>
                  <a:pt x="2065482" y="162790"/>
                  <a:pt x="2078182" y="159327"/>
                </a:cubicBezTo>
              </a:path>
            </a:pathLst>
          </a:custGeom>
          <a:noFill/>
          <a:ln w="9540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组合 31"/>
          <p:cNvGrpSpPr/>
          <p:nvPr/>
        </p:nvGrpSpPr>
        <p:grpSpPr>
          <a:xfrm>
            <a:off x="5572080" y="3929040"/>
            <a:ext cx="928800" cy="500040"/>
            <a:chOff x="5572080" y="3929040"/>
            <a:chExt cx="928800" cy="500040"/>
          </a:xfrm>
        </p:grpSpPr>
        <p:sp>
          <p:nvSpPr>
            <p:cNvPr id="67" name="矩形 26"/>
            <p:cNvSpPr/>
            <p:nvPr/>
          </p:nvSpPr>
          <p:spPr>
            <a:xfrm>
              <a:off x="5786280" y="4071960"/>
              <a:ext cx="357120" cy="357120"/>
            </a:xfrm>
            <a:prstGeom prst="rect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" name="组合 27"/>
            <p:cNvGrpSpPr/>
            <p:nvPr/>
          </p:nvGrpSpPr>
          <p:grpSpPr>
            <a:xfrm>
              <a:off x="5572080" y="3929040"/>
              <a:ext cx="928800" cy="500040"/>
              <a:chOff x="5572080" y="3929040"/>
              <a:chExt cx="928800" cy="500040"/>
            </a:xfrm>
          </p:grpSpPr>
          <p:sp>
            <p:nvSpPr>
              <p:cNvPr id="69" name="圆柱形 28"/>
              <p:cNvSpPr/>
              <p:nvPr/>
            </p:nvSpPr>
            <p:spPr>
              <a:xfrm>
                <a:off x="5920200" y="3929040"/>
                <a:ext cx="580680" cy="500040"/>
              </a:xfrm>
              <a:prstGeom prst="can">
                <a:avLst>
                  <a:gd name="adj" fmla="val 25000"/>
                </a:avLst>
              </a:pr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空心弧 30"/>
              <p:cNvSpPr/>
              <p:nvPr/>
            </p:nvSpPr>
            <p:spPr>
              <a:xfrm rot="16200000">
                <a:off x="5755320" y="3888360"/>
                <a:ext cx="214200" cy="580680"/>
              </a:xfrm>
              <a:custGeom>
                <a:avLst/>
                <a:gdLst>
                  <a:gd name="textAreaLeft" fmla="*/ 0 w 214200"/>
                  <a:gd name="textAreaRight" fmla="*/ 214560 w 214200"/>
                  <a:gd name="textAreaTop" fmla="*/ 0 h 580680"/>
                  <a:gd name="textAreaBottom" fmla="*/ 239040 h 580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749" y="11527"/>
                    </a:moveTo>
                    <a:cubicBezTo>
                      <a:pt x="3724" y="11285"/>
                      <a:pt x="3712" y="11043"/>
                      <a:pt x="3712" y="10800"/>
                    </a:cubicBezTo>
                    <a:cubicBezTo>
                      <a:pt x="3712" y="6885"/>
                      <a:pt x="6885" y="3712"/>
                      <a:pt x="10800" y="3712"/>
                    </a:cubicBezTo>
                    <a:cubicBezTo>
                      <a:pt x="14714" y="3712"/>
                      <a:pt x="17888" y="6885"/>
                      <a:pt x="17888" y="10800"/>
                    </a:cubicBezTo>
                    <a:cubicBezTo>
                      <a:pt x="17888" y="11043"/>
                      <a:pt x="17875" y="11285"/>
                      <a:pt x="17850" y="11527"/>
                    </a:cubicBezTo>
                    <a:lnTo>
                      <a:pt x="21542" y="11908"/>
                    </a:lnTo>
                    <a:cubicBezTo>
                      <a:pt x="21580" y="11540"/>
                      <a:pt x="21600" y="1117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0" y="11170"/>
                      <a:pt x="19" y="11540"/>
                      <a:pt x="57" y="11908"/>
                    </a:cubicBezTo>
                    <a:lnTo>
                      <a:pt x="3749" y="11527"/>
                    </a:lnTo>
                    <a:close/>
                  </a:path>
                </a:pathLst>
              </a:custGeom>
              <a:noFill/>
              <a:ln w="255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1" name="矩形 33"/>
          <p:cNvSpPr/>
          <p:nvPr/>
        </p:nvSpPr>
        <p:spPr>
          <a:xfrm rot="5628600">
            <a:off x="6703200" y="3772440"/>
            <a:ext cx="357120" cy="3585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组合 27"/>
          <p:cNvGrpSpPr/>
          <p:nvPr/>
        </p:nvGrpSpPr>
        <p:grpSpPr>
          <a:xfrm>
            <a:off x="6500880" y="3714840"/>
            <a:ext cx="928800" cy="500040"/>
            <a:chOff x="6500880" y="3714840"/>
            <a:chExt cx="928800" cy="500040"/>
          </a:xfrm>
        </p:grpSpPr>
        <p:sp>
          <p:nvSpPr>
            <p:cNvPr id="73" name="圆柱形 35"/>
            <p:cNvSpPr/>
            <p:nvPr/>
          </p:nvSpPr>
          <p:spPr>
            <a:xfrm>
              <a:off x="6849000" y="3714840"/>
              <a:ext cx="580680" cy="50004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空心弧 37"/>
            <p:cNvSpPr/>
            <p:nvPr/>
          </p:nvSpPr>
          <p:spPr>
            <a:xfrm rot="16200000">
              <a:off x="6684120" y="3674160"/>
              <a:ext cx="214200" cy="5806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80680"/>
                <a:gd name="textAreaBottom" fmla="*/ 239040 h 580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49" y="11527"/>
                  </a:moveTo>
                  <a:cubicBezTo>
                    <a:pt x="3724" y="11285"/>
                    <a:pt x="3712" y="11043"/>
                    <a:pt x="3712" y="10800"/>
                  </a:cubicBezTo>
                  <a:cubicBezTo>
                    <a:pt x="3712" y="6885"/>
                    <a:pt x="6885" y="3712"/>
                    <a:pt x="10800" y="3712"/>
                  </a:cubicBezTo>
                  <a:cubicBezTo>
                    <a:pt x="14714" y="3712"/>
                    <a:pt x="17888" y="6885"/>
                    <a:pt x="17888" y="10800"/>
                  </a:cubicBezTo>
                  <a:cubicBezTo>
                    <a:pt x="17888" y="11043"/>
                    <a:pt x="17875" y="11285"/>
                    <a:pt x="17850" y="11527"/>
                  </a:cubicBezTo>
                  <a:lnTo>
                    <a:pt x="21542" y="11908"/>
                  </a:lnTo>
                  <a:cubicBezTo>
                    <a:pt x="21580" y="11540"/>
                    <a:pt x="21600" y="1117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170"/>
                    <a:pt x="19" y="11540"/>
                    <a:pt x="57" y="11908"/>
                  </a:cubicBezTo>
                  <a:lnTo>
                    <a:pt x="3749" y="1152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任意多边形 38"/>
          <p:cNvSpPr/>
          <p:nvPr/>
        </p:nvSpPr>
        <p:spPr>
          <a:xfrm>
            <a:off x="7215120" y="4214880"/>
            <a:ext cx="530280" cy="1687320"/>
          </a:xfrm>
          <a:custGeom>
            <a:avLst/>
            <a:gdLst>
              <a:gd name="textAreaLeft" fmla="*/ 0 w 530280"/>
              <a:gd name="textAreaRight" fmla="*/ 530640 w 530280"/>
              <a:gd name="textAreaTop" fmla="*/ 0 h 1687320"/>
              <a:gd name="textAreaBottom" fmla="*/ 1687680 h 1687320"/>
            </a:gdLst>
            <a:ahLst/>
            <a:rect l="textAreaLeft" t="textAreaTop" r="textAreaRight" b="textAreaBottom"/>
            <a:pathLst>
              <a:path w="512618" h="1620981">
                <a:moveTo>
                  <a:pt x="0" y="0"/>
                </a:moveTo>
                <a:cubicBezTo>
                  <a:pt x="88900" y="24245"/>
                  <a:pt x="177800" y="48491"/>
                  <a:pt x="263236" y="318654"/>
                </a:cubicBezTo>
                <a:cubicBezTo>
                  <a:pt x="348672" y="588817"/>
                  <a:pt x="430645" y="1104899"/>
                  <a:pt x="512618" y="1620981"/>
                </a:cubicBezTo>
              </a:path>
            </a:pathLst>
          </a:custGeom>
          <a:noFill/>
          <a:ln w="38160">
            <a:solidFill>
              <a:srgbClr val="92d05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组合 27"/>
          <p:cNvGrpSpPr/>
          <p:nvPr/>
        </p:nvGrpSpPr>
        <p:grpSpPr>
          <a:xfrm>
            <a:off x="6655320" y="3493440"/>
            <a:ext cx="752040" cy="987480"/>
            <a:chOff x="6655320" y="3493440"/>
            <a:chExt cx="752040" cy="987480"/>
          </a:xfrm>
        </p:grpSpPr>
        <p:sp>
          <p:nvSpPr>
            <p:cNvPr id="77" name="圆柱形 48"/>
            <p:cNvSpPr/>
            <p:nvPr/>
          </p:nvSpPr>
          <p:spPr>
            <a:xfrm rot="3715800">
              <a:off x="6759720" y="3857040"/>
              <a:ext cx="580320" cy="500040"/>
            </a:xfrm>
            <a:prstGeom prst="can">
              <a:avLst>
                <a:gd name="adj" fmla="val 25000"/>
              </a:avLst>
            </a:pr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空心弧 50"/>
            <p:cNvSpPr/>
            <p:nvPr/>
          </p:nvSpPr>
          <p:spPr>
            <a:xfrm rot="19916400">
              <a:off x="6779160" y="3509640"/>
              <a:ext cx="214200" cy="58032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580320"/>
                <a:gd name="textAreaBottom" fmla="*/ 239040 h 58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749" y="11527"/>
                  </a:moveTo>
                  <a:cubicBezTo>
                    <a:pt x="3724" y="11285"/>
                    <a:pt x="3712" y="11043"/>
                    <a:pt x="3712" y="10800"/>
                  </a:cubicBezTo>
                  <a:cubicBezTo>
                    <a:pt x="3712" y="6885"/>
                    <a:pt x="6885" y="3712"/>
                    <a:pt x="10800" y="3712"/>
                  </a:cubicBezTo>
                  <a:cubicBezTo>
                    <a:pt x="14714" y="3712"/>
                    <a:pt x="17888" y="6885"/>
                    <a:pt x="17888" y="10800"/>
                  </a:cubicBezTo>
                  <a:cubicBezTo>
                    <a:pt x="17888" y="11043"/>
                    <a:pt x="17875" y="11285"/>
                    <a:pt x="17850" y="11527"/>
                  </a:cubicBezTo>
                  <a:lnTo>
                    <a:pt x="21542" y="11908"/>
                  </a:lnTo>
                  <a:cubicBezTo>
                    <a:pt x="21580" y="11540"/>
                    <a:pt x="21600" y="11170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0" y="11170"/>
                    <a:pt x="19" y="11540"/>
                    <a:pt x="57" y="11908"/>
                  </a:cubicBezTo>
                  <a:lnTo>
                    <a:pt x="3749" y="11527"/>
                  </a:lnTo>
                  <a:close/>
                </a:path>
              </a:pathLst>
            </a:custGeom>
            <a:noFill/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59"/>
          <p:cNvGrpSpPr/>
          <p:nvPr/>
        </p:nvGrpSpPr>
        <p:grpSpPr>
          <a:xfrm>
            <a:off x="7467480" y="5357520"/>
            <a:ext cx="462240" cy="571680"/>
            <a:chOff x="7467480" y="5357520"/>
            <a:chExt cx="462240" cy="571680"/>
          </a:xfrm>
        </p:grpSpPr>
        <p:sp>
          <p:nvSpPr>
            <p:cNvPr id="80" name="任意多边形 54"/>
            <p:cNvSpPr/>
            <p:nvPr/>
          </p:nvSpPr>
          <p:spPr>
            <a:xfrm>
              <a:off x="7715160" y="5428800"/>
              <a:ext cx="214560" cy="196560"/>
            </a:xfrm>
            <a:custGeom>
              <a:avLst/>
              <a:gdLst>
                <a:gd name="textAreaLeft" fmla="*/ 0 w 214560"/>
                <a:gd name="textAreaRight" fmla="*/ 214920 w 214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12005" h="267855">
                  <a:moveTo>
                    <a:pt x="4618" y="249382"/>
                  </a:moveTo>
                  <a:cubicBezTo>
                    <a:pt x="9236" y="230909"/>
                    <a:pt x="4178" y="152840"/>
                    <a:pt x="46182" y="110836"/>
                  </a:cubicBezTo>
                  <a:cubicBezTo>
                    <a:pt x="57956" y="99062"/>
                    <a:pt x="73891" y="92363"/>
                    <a:pt x="87746" y="83127"/>
                  </a:cubicBezTo>
                  <a:cubicBezTo>
                    <a:pt x="100330" y="64252"/>
                    <a:pt x="121231" y="27014"/>
                    <a:pt x="143164" y="13854"/>
                  </a:cubicBezTo>
                  <a:cubicBezTo>
                    <a:pt x="155687" y="6340"/>
                    <a:pt x="170873" y="4618"/>
                    <a:pt x="184728" y="0"/>
                  </a:cubicBezTo>
                  <a:cubicBezTo>
                    <a:pt x="255672" y="14188"/>
                    <a:pt x="312005" y="1504"/>
                    <a:pt x="240146" y="124691"/>
                  </a:cubicBezTo>
                  <a:cubicBezTo>
                    <a:pt x="223366" y="153457"/>
                    <a:pt x="184727" y="161636"/>
                    <a:pt x="157018" y="180109"/>
                  </a:cubicBezTo>
                  <a:cubicBezTo>
                    <a:pt x="90190" y="224661"/>
                    <a:pt x="128200" y="207957"/>
                    <a:pt x="18473" y="221673"/>
                  </a:cubicBezTo>
                  <a:cubicBezTo>
                    <a:pt x="13890" y="222246"/>
                    <a:pt x="0" y="267855"/>
                    <a:pt x="4618" y="249382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" name="组合 58"/>
            <p:cNvGrpSpPr/>
            <p:nvPr/>
          </p:nvGrpSpPr>
          <p:grpSpPr>
            <a:xfrm>
              <a:off x="7467480" y="5357520"/>
              <a:ext cx="369360" cy="571680"/>
              <a:chOff x="7467480" y="5357520"/>
              <a:chExt cx="369360" cy="571680"/>
            </a:xfrm>
          </p:grpSpPr>
          <p:grpSp>
            <p:nvGrpSpPr>
              <p:cNvPr id="82" name="组合 56"/>
              <p:cNvGrpSpPr/>
              <p:nvPr/>
            </p:nvGrpSpPr>
            <p:grpSpPr>
              <a:xfrm>
                <a:off x="7467480" y="5357520"/>
                <a:ext cx="369360" cy="571680"/>
                <a:chOff x="7467480" y="5357520"/>
                <a:chExt cx="369360" cy="571680"/>
              </a:xfrm>
            </p:grpSpPr>
            <p:sp>
              <p:nvSpPr>
                <p:cNvPr id="83" name="任意多边形 51"/>
                <p:cNvSpPr/>
                <p:nvPr/>
              </p:nvSpPr>
              <p:spPr>
                <a:xfrm rot="1593000">
                  <a:off x="7490880" y="5419800"/>
                  <a:ext cx="322200" cy="181080"/>
                </a:xfrm>
                <a:custGeom>
                  <a:avLst/>
                  <a:gdLst>
                    <a:gd name="textAreaLeft" fmla="*/ 0 w 322200"/>
                    <a:gd name="textAreaRight" fmla="*/ 322560 w 322200"/>
                    <a:gd name="textAreaTop" fmla="*/ 0 h 181080"/>
                    <a:gd name="textAreaBottom" fmla="*/ 181440 h 181080"/>
                  </a:gdLst>
                  <a:ahLst/>
                  <a:rect l="textAreaLeft" t="textAreaTop" r="textAreaRight" b="textAreaBottom"/>
                  <a:pathLst>
                    <a:path w="254370" h="150713">
                      <a:moveTo>
                        <a:pt x="249752" y="132478"/>
                      </a:moveTo>
                      <a:cubicBezTo>
                        <a:pt x="254370" y="120933"/>
                        <a:pt x="241999" y="88563"/>
                        <a:pt x="208188" y="63205"/>
                      </a:cubicBezTo>
                      <a:cubicBezTo>
                        <a:pt x="181546" y="43224"/>
                        <a:pt x="125061" y="7787"/>
                        <a:pt x="125061" y="7787"/>
                      </a:cubicBezTo>
                      <a:cubicBezTo>
                        <a:pt x="88116" y="12405"/>
                        <a:pt x="44523" y="0"/>
                        <a:pt x="14225" y="21641"/>
                      </a:cubicBezTo>
                      <a:cubicBezTo>
                        <a:pt x="0" y="31801"/>
                        <a:pt x="45603" y="114919"/>
                        <a:pt x="55788" y="118623"/>
                      </a:cubicBezTo>
                      <a:cubicBezTo>
                        <a:pt x="95090" y="132915"/>
                        <a:pt x="138915" y="127860"/>
                        <a:pt x="180479" y="132478"/>
                      </a:cubicBezTo>
                      <a:cubicBezTo>
                        <a:pt x="235187" y="150713"/>
                        <a:pt x="245134" y="144024"/>
                        <a:pt x="249752" y="13247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任意多边形 55"/>
                <p:cNvSpPr/>
                <p:nvPr/>
              </p:nvSpPr>
              <p:spPr>
                <a:xfrm>
                  <a:off x="7726320" y="5545800"/>
                  <a:ext cx="45720" cy="383400"/>
                </a:xfrm>
                <a:custGeom>
                  <a:avLst/>
                  <a:gdLst>
                    <a:gd name="textAreaLeft" fmla="*/ 0 w 45720"/>
                    <a:gd name="textAreaRight" fmla="*/ 45720 w 45720"/>
                    <a:gd name="textAreaTop" fmla="*/ 0 h 383400"/>
                    <a:gd name="textAreaBottom" fmla="*/ 383760 h 383400"/>
                  </a:gdLst>
                  <a:ahLst/>
                  <a:rect l="textAreaLeft" t="textAreaTop" r="textAreaRight" b="textAreaBottom"/>
                  <a:pathLst>
                    <a:path w="27709" h="235527">
                      <a:moveTo>
                        <a:pt x="0" y="0"/>
                      </a:moveTo>
                      <a:cubicBezTo>
                        <a:pt x="13854" y="35791"/>
                        <a:pt x="27709" y="71582"/>
                        <a:pt x="27709" y="110836"/>
                      </a:cubicBezTo>
                      <a:cubicBezTo>
                        <a:pt x="27709" y="150090"/>
                        <a:pt x="0" y="235527"/>
                        <a:pt x="0" y="235527"/>
                      </a:cubicBezTo>
                      <a:lnTo>
                        <a:pt x="0" y="235527"/>
                      </a:lnTo>
                    </a:path>
                  </a:pathLst>
                </a:custGeom>
                <a:noFill/>
                <a:ln w="50760">
                  <a:solidFill>
                    <a:srgbClr val="92d05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任意多边形 57"/>
              <p:cNvSpPr/>
              <p:nvPr/>
            </p:nvSpPr>
            <p:spPr>
              <a:xfrm>
                <a:off x="7720200" y="5499720"/>
                <a:ext cx="27720" cy="831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83160"/>
                  <a:gd name="textAreaBottom" fmla="*/ 83160 h 83160"/>
                </a:gdLst>
                <a:ahLst/>
                <a:rect l="textAreaLeft" t="textAreaTop" r="textAreaRight" b="textAreaBottom"/>
                <a:pathLst>
                  <a:path w="27709" h="83127">
                    <a:moveTo>
                      <a:pt x="0" y="0"/>
                    </a:moveTo>
                    <a:lnTo>
                      <a:pt x="27709" y="83127"/>
                    </a:lnTo>
                  </a:path>
                </a:pathLst>
              </a:custGeom>
              <a:noFill/>
              <a:ln w="9360">
                <a:solidFill>
                  <a:srgbClr val="ffff00">
                    <a:alpha val="81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6" name="图片 225" descr="LTBY34.png"/>
          <p:cNvPicPr/>
          <p:nvPr/>
        </p:nvPicPr>
        <p:blipFill>
          <a:blip r:embed="rId3"/>
          <a:stretch/>
        </p:blipFill>
        <p:spPr>
          <a:xfrm>
            <a:off x="1143000" y="-214200"/>
            <a:ext cx="9144000" cy="2786040"/>
          </a:xfrm>
          <a:prstGeom prst="rect">
            <a:avLst/>
          </a:prstGeom>
          <a:ln w="0">
            <a:noFill/>
          </a:ln>
        </p:spPr>
      </p:pic>
      <p:grpSp>
        <p:nvGrpSpPr>
          <p:cNvPr id="87" name="组合 77"/>
          <p:cNvGrpSpPr/>
          <p:nvPr/>
        </p:nvGrpSpPr>
        <p:grpSpPr>
          <a:xfrm>
            <a:off x="6858000" y="5715000"/>
            <a:ext cx="142920" cy="369720"/>
            <a:chOff x="6858000" y="5715000"/>
            <a:chExt cx="142920" cy="369720"/>
          </a:xfrm>
        </p:grpSpPr>
        <p:sp>
          <p:nvSpPr>
            <p:cNvPr id="88" name="任意多边形 78"/>
            <p:cNvSpPr/>
            <p:nvPr/>
          </p:nvSpPr>
          <p:spPr>
            <a:xfrm>
              <a:off x="685800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任意多边形 79"/>
            <p:cNvSpPr/>
            <p:nvPr/>
          </p:nvSpPr>
          <p:spPr>
            <a:xfrm>
              <a:off x="690588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任意多边形 80"/>
            <p:cNvSpPr/>
            <p:nvPr/>
          </p:nvSpPr>
          <p:spPr>
            <a:xfrm>
              <a:off x="692388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组合 93"/>
          <p:cNvGrpSpPr/>
          <p:nvPr/>
        </p:nvGrpSpPr>
        <p:grpSpPr>
          <a:xfrm>
            <a:off x="7072200" y="5630760"/>
            <a:ext cx="142920" cy="370080"/>
            <a:chOff x="7072200" y="5630760"/>
            <a:chExt cx="142920" cy="370080"/>
          </a:xfrm>
        </p:grpSpPr>
        <p:sp>
          <p:nvSpPr>
            <p:cNvPr id="92" name="任意多边形 94"/>
            <p:cNvSpPr/>
            <p:nvPr/>
          </p:nvSpPr>
          <p:spPr>
            <a:xfrm>
              <a:off x="7072200" y="566136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任意多边形 95"/>
            <p:cNvSpPr/>
            <p:nvPr/>
          </p:nvSpPr>
          <p:spPr>
            <a:xfrm>
              <a:off x="7120080" y="5630760"/>
              <a:ext cx="95040" cy="37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任意多边形 96"/>
            <p:cNvSpPr/>
            <p:nvPr/>
          </p:nvSpPr>
          <p:spPr>
            <a:xfrm>
              <a:off x="7138080" y="569844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97"/>
          <p:cNvGrpSpPr/>
          <p:nvPr/>
        </p:nvGrpSpPr>
        <p:grpSpPr>
          <a:xfrm>
            <a:off x="7215120" y="5572080"/>
            <a:ext cx="142920" cy="370080"/>
            <a:chOff x="7215120" y="5572080"/>
            <a:chExt cx="142920" cy="370080"/>
          </a:xfrm>
        </p:grpSpPr>
        <p:sp>
          <p:nvSpPr>
            <p:cNvPr id="96" name="任意多边形 98"/>
            <p:cNvSpPr/>
            <p:nvPr/>
          </p:nvSpPr>
          <p:spPr>
            <a:xfrm>
              <a:off x="7215120" y="560268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任意多边形 99"/>
            <p:cNvSpPr/>
            <p:nvPr/>
          </p:nvSpPr>
          <p:spPr>
            <a:xfrm>
              <a:off x="7263000" y="5572080"/>
              <a:ext cx="95040" cy="37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任意多边形 100"/>
            <p:cNvSpPr/>
            <p:nvPr/>
          </p:nvSpPr>
          <p:spPr>
            <a:xfrm>
              <a:off x="7281000" y="563976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组合 101"/>
          <p:cNvGrpSpPr/>
          <p:nvPr/>
        </p:nvGrpSpPr>
        <p:grpSpPr>
          <a:xfrm>
            <a:off x="7286760" y="5572080"/>
            <a:ext cx="142920" cy="370080"/>
            <a:chOff x="7286760" y="5572080"/>
            <a:chExt cx="142920" cy="370080"/>
          </a:xfrm>
        </p:grpSpPr>
        <p:sp>
          <p:nvSpPr>
            <p:cNvPr id="100" name="任意多边形 102"/>
            <p:cNvSpPr/>
            <p:nvPr/>
          </p:nvSpPr>
          <p:spPr>
            <a:xfrm>
              <a:off x="7286760" y="560268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任意多边形 103"/>
            <p:cNvSpPr/>
            <p:nvPr/>
          </p:nvSpPr>
          <p:spPr>
            <a:xfrm>
              <a:off x="7334640" y="5572080"/>
              <a:ext cx="95040" cy="37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任意多边形 104"/>
            <p:cNvSpPr/>
            <p:nvPr/>
          </p:nvSpPr>
          <p:spPr>
            <a:xfrm>
              <a:off x="7352640" y="563976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组合 105"/>
          <p:cNvGrpSpPr/>
          <p:nvPr/>
        </p:nvGrpSpPr>
        <p:grpSpPr>
          <a:xfrm>
            <a:off x="7929720" y="5572080"/>
            <a:ext cx="142560" cy="370080"/>
            <a:chOff x="7929720" y="5572080"/>
            <a:chExt cx="142560" cy="370080"/>
          </a:xfrm>
        </p:grpSpPr>
        <p:sp>
          <p:nvSpPr>
            <p:cNvPr id="104" name="任意多边形 106"/>
            <p:cNvSpPr/>
            <p:nvPr/>
          </p:nvSpPr>
          <p:spPr>
            <a:xfrm>
              <a:off x="7929720" y="560268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任意多边形 107"/>
            <p:cNvSpPr/>
            <p:nvPr/>
          </p:nvSpPr>
          <p:spPr>
            <a:xfrm>
              <a:off x="7977600" y="5572080"/>
              <a:ext cx="94680" cy="3700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任意多边形 108"/>
            <p:cNvSpPr/>
            <p:nvPr/>
          </p:nvSpPr>
          <p:spPr>
            <a:xfrm>
              <a:off x="7995600" y="563976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组合 109"/>
          <p:cNvGrpSpPr/>
          <p:nvPr/>
        </p:nvGrpSpPr>
        <p:grpSpPr>
          <a:xfrm>
            <a:off x="8072280" y="5643720"/>
            <a:ext cx="142920" cy="369720"/>
            <a:chOff x="8072280" y="5643720"/>
            <a:chExt cx="142920" cy="369720"/>
          </a:xfrm>
        </p:grpSpPr>
        <p:sp>
          <p:nvSpPr>
            <p:cNvPr id="108" name="任意多边形 110"/>
            <p:cNvSpPr/>
            <p:nvPr/>
          </p:nvSpPr>
          <p:spPr>
            <a:xfrm>
              <a:off x="8072280" y="567432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任意多边形 111"/>
            <p:cNvSpPr/>
            <p:nvPr/>
          </p:nvSpPr>
          <p:spPr>
            <a:xfrm>
              <a:off x="8120160" y="564372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任意多边形 112"/>
            <p:cNvSpPr/>
            <p:nvPr/>
          </p:nvSpPr>
          <p:spPr>
            <a:xfrm>
              <a:off x="8138160" y="571140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组合 113"/>
          <p:cNvGrpSpPr/>
          <p:nvPr/>
        </p:nvGrpSpPr>
        <p:grpSpPr>
          <a:xfrm>
            <a:off x="8358120" y="5715000"/>
            <a:ext cx="142920" cy="369720"/>
            <a:chOff x="8358120" y="5715000"/>
            <a:chExt cx="142920" cy="369720"/>
          </a:xfrm>
        </p:grpSpPr>
        <p:sp>
          <p:nvSpPr>
            <p:cNvPr id="112" name="任意多边形 114"/>
            <p:cNvSpPr/>
            <p:nvPr/>
          </p:nvSpPr>
          <p:spPr>
            <a:xfrm>
              <a:off x="835812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任意多边形 115"/>
            <p:cNvSpPr/>
            <p:nvPr/>
          </p:nvSpPr>
          <p:spPr>
            <a:xfrm>
              <a:off x="840600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任意多边形 116"/>
            <p:cNvSpPr/>
            <p:nvPr/>
          </p:nvSpPr>
          <p:spPr>
            <a:xfrm>
              <a:off x="842400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组合 117"/>
          <p:cNvGrpSpPr/>
          <p:nvPr/>
        </p:nvGrpSpPr>
        <p:grpSpPr>
          <a:xfrm>
            <a:off x="8215200" y="5643720"/>
            <a:ext cx="142920" cy="369720"/>
            <a:chOff x="8215200" y="5643720"/>
            <a:chExt cx="142920" cy="369720"/>
          </a:xfrm>
        </p:grpSpPr>
        <p:sp>
          <p:nvSpPr>
            <p:cNvPr id="116" name="任意多边形 118"/>
            <p:cNvSpPr/>
            <p:nvPr/>
          </p:nvSpPr>
          <p:spPr>
            <a:xfrm>
              <a:off x="8215200" y="567432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任意多边形 119"/>
            <p:cNvSpPr/>
            <p:nvPr/>
          </p:nvSpPr>
          <p:spPr>
            <a:xfrm>
              <a:off x="8263080" y="564372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任意多边形 120"/>
            <p:cNvSpPr/>
            <p:nvPr/>
          </p:nvSpPr>
          <p:spPr>
            <a:xfrm>
              <a:off x="8281080" y="571140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组合 121"/>
          <p:cNvGrpSpPr/>
          <p:nvPr/>
        </p:nvGrpSpPr>
        <p:grpSpPr>
          <a:xfrm>
            <a:off x="8286840" y="5715000"/>
            <a:ext cx="142920" cy="369720"/>
            <a:chOff x="8286840" y="5715000"/>
            <a:chExt cx="142920" cy="369720"/>
          </a:xfrm>
        </p:grpSpPr>
        <p:sp>
          <p:nvSpPr>
            <p:cNvPr id="120" name="任意多边形 122"/>
            <p:cNvSpPr/>
            <p:nvPr/>
          </p:nvSpPr>
          <p:spPr>
            <a:xfrm>
              <a:off x="828684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任意多边形 123"/>
            <p:cNvSpPr/>
            <p:nvPr/>
          </p:nvSpPr>
          <p:spPr>
            <a:xfrm>
              <a:off x="833472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任意多边形 124"/>
            <p:cNvSpPr/>
            <p:nvPr/>
          </p:nvSpPr>
          <p:spPr>
            <a:xfrm>
              <a:off x="835272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组合 125"/>
          <p:cNvGrpSpPr/>
          <p:nvPr/>
        </p:nvGrpSpPr>
        <p:grpSpPr>
          <a:xfrm>
            <a:off x="7000920" y="5643720"/>
            <a:ext cx="142920" cy="369720"/>
            <a:chOff x="7000920" y="5643720"/>
            <a:chExt cx="142920" cy="369720"/>
          </a:xfrm>
        </p:grpSpPr>
        <p:sp>
          <p:nvSpPr>
            <p:cNvPr id="124" name="任意多边形 126"/>
            <p:cNvSpPr/>
            <p:nvPr/>
          </p:nvSpPr>
          <p:spPr>
            <a:xfrm>
              <a:off x="7000920" y="567432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任意多边形 127"/>
            <p:cNvSpPr/>
            <p:nvPr/>
          </p:nvSpPr>
          <p:spPr>
            <a:xfrm>
              <a:off x="7048800" y="564372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任意多边形 128"/>
            <p:cNvSpPr/>
            <p:nvPr/>
          </p:nvSpPr>
          <p:spPr>
            <a:xfrm>
              <a:off x="7066800" y="571140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组合 129"/>
          <p:cNvGrpSpPr/>
          <p:nvPr/>
        </p:nvGrpSpPr>
        <p:grpSpPr>
          <a:xfrm>
            <a:off x="6715080" y="5715000"/>
            <a:ext cx="142920" cy="369720"/>
            <a:chOff x="6715080" y="5715000"/>
            <a:chExt cx="142920" cy="369720"/>
          </a:xfrm>
        </p:grpSpPr>
        <p:sp>
          <p:nvSpPr>
            <p:cNvPr id="128" name="任意多边形 130"/>
            <p:cNvSpPr/>
            <p:nvPr/>
          </p:nvSpPr>
          <p:spPr>
            <a:xfrm>
              <a:off x="671508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任意多边形 131"/>
            <p:cNvSpPr/>
            <p:nvPr/>
          </p:nvSpPr>
          <p:spPr>
            <a:xfrm>
              <a:off x="676296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任意多边形 132"/>
            <p:cNvSpPr/>
            <p:nvPr/>
          </p:nvSpPr>
          <p:spPr>
            <a:xfrm>
              <a:off x="678096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133"/>
          <p:cNvGrpSpPr/>
          <p:nvPr/>
        </p:nvGrpSpPr>
        <p:grpSpPr>
          <a:xfrm>
            <a:off x="6786720" y="5643720"/>
            <a:ext cx="142560" cy="369720"/>
            <a:chOff x="6786720" y="5643720"/>
            <a:chExt cx="142560" cy="369720"/>
          </a:xfrm>
        </p:grpSpPr>
        <p:sp>
          <p:nvSpPr>
            <p:cNvPr id="132" name="任意多边形 134"/>
            <p:cNvSpPr/>
            <p:nvPr/>
          </p:nvSpPr>
          <p:spPr>
            <a:xfrm>
              <a:off x="6786720" y="567432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 135"/>
            <p:cNvSpPr/>
            <p:nvPr/>
          </p:nvSpPr>
          <p:spPr>
            <a:xfrm>
              <a:off x="6834600" y="5643720"/>
              <a:ext cx="94680" cy="36972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 136"/>
            <p:cNvSpPr/>
            <p:nvPr/>
          </p:nvSpPr>
          <p:spPr>
            <a:xfrm>
              <a:off x="6852600" y="571140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组合 137"/>
          <p:cNvGrpSpPr/>
          <p:nvPr/>
        </p:nvGrpSpPr>
        <p:grpSpPr>
          <a:xfrm>
            <a:off x="6643800" y="5715000"/>
            <a:ext cx="142920" cy="369720"/>
            <a:chOff x="6643800" y="5715000"/>
            <a:chExt cx="142920" cy="369720"/>
          </a:xfrm>
        </p:grpSpPr>
        <p:sp>
          <p:nvSpPr>
            <p:cNvPr id="136" name="任意多边形 138"/>
            <p:cNvSpPr/>
            <p:nvPr/>
          </p:nvSpPr>
          <p:spPr>
            <a:xfrm>
              <a:off x="6643800" y="574560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任意多边形 139"/>
            <p:cNvSpPr/>
            <p:nvPr/>
          </p:nvSpPr>
          <p:spPr>
            <a:xfrm>
              <a:off x="6691680" y="5715000"/>
              <a:ext cx="95040" cy="36972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69720"/>
                <a:gd name="textAreaBottom" fmla="*/ 370080 h 36972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 140"/>
            <p:cNvSpPr/>
            <p:nvPr/>
          </p:nvSpPr>
          <p:spPr>
            <a:xfrm>
              <a:off x="6709680" y="5782680"/>
              <a:ext cx="23760" cy="23040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400"/>
                <a:gd name="textAreaBottom" fmla="*/ 230760 h 23040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组合 141"/>
          <p:cNvGrpSpPr/>
          <p:nvPr/>
        </p:nvGrpSpPr>
        <p:grpSpPr>
          <a:xfrm>
            <a:off x="7143840" y="5572080"/>
            <a:ext cx="142920" cy="370080"/>
            <a:chOff x="7143840" y="5572080"/>
            <a:chExt cx="142920" cy="370080"/>
          </a:xfrm>
        </p:grpSpPr>
        <p:sp>
          <p:nvSpPr>
            <p:cNvPr id="140" name="任意多边形 142"/>
            <p:cNvSpPr/>
            <p:nvPr/>
          </p:nvSpPr>
          <p:spPr>
            <a:xfrm>
              <a:off x="7143840" y="5602680"/>
              <a:ext cx="74160" cy="333360"/>
            </a:xfrm>
            <a:custGeom>
              <a:avLst/>
              <a:gdLst>
                <a:gd name="textAreaLeft" fmla="*/ 0 w 74160"/>
                <a:gd name="textAreaRight" fmla="*/ 74160 w 74160"/>
                <a:gd name="textAreaTop" fmla="*/ 0 h 333360"/>
                <a:gd name="textAreaBottom" fmla="*/ 333720 h 333360"/>
              </a:gdLst>
              <a:ahLst/>
              <a:rect l="textAreaLeft" t="textAreaTop" r="textAreaRight" b="textAreaBottom"/>
              <a:pathLst>
                <a:path w="408709" h="489528">
                  <a:moveTo>
                    <a:pt x="55418" y="41564"/>
                  </a:moveTo>
                  <a:cubicBezTo>
                    <a:pt x="107372" y="77354"/>
                    <a:pt x="159327" y="113145"/>
                    <a:pt x="193963" y="180109"/>
                  </a:cubicBezTo>
                  <a:cubicBezTo>
                    <a:pt x="228599" y="247073"/>
                    <a:pt x="254000" y="397164"/>
                    <a:pt x="263236" y="443346"/>
                  </a:cubicBezTo>
                  <a:cubicBezTo>
                    <a:pt x="272473" y="489528"/>
                    <a:pt x="230909" y="454891"/>
                    <a:pt x="249382" y="457200"/>
                  </a:cubicBezTo>
                  <a:cubicBezTo>
                    <a:pt x="267855" y="459509"/>
                    <a:pt x="350982" y="464127"/>
                    <a:pt x="374073" y="457200"/>
                  </a:cubicBezTo>
                  <a:cubicBezTo>
                    <a:pt x="397164" y="450273"/>
                    <a:pt x="408709" y="477983"/>
                    <a:pt x="387927" y="415637"/>
                  </a:cubicBezTo>
                  <a:cubicBezTo>
                    <a:pt x="367145" y="353291"/>
                    <a:pt x="314036" y="152400"/>
                    <a:pt x="249382" y="83127"/>
                  </a:cubicBezTo>
                  <a:cubicBezTo>
                    <a:pt x="184728" y="13854"/>
                    <a:pt x="92364" y="6927"/>
                    <a:pt x="0" y="0"/>
                  </a:cubicBezTo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143"/>
            <p:cNvSpPr/>
            <p:nvPr/>
          </p:nvSpPr>
          <p:spPr>
            <a:xfrm>
              <a:off x="7191720" y="5572080"/>
              <a:ext cx="95040" cy="37008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370080"/>
                <a:gd name="textAreaBottom" fmla="*/ 370440 h 370080"/>
              </a:gdLst>
              <a:ahLst/>
              <a:rect l="textAreaLeft" t="textAreaTop" r="textAreaRight" b="textAreaBottom"/>
              <a:pathLst>
                <a:path w="182418" h="441037">
                  <a:moveTo>
                    <a:pt x="25400" y="346364"/>
                  </a:moveTo>
                  <a:cubicBezTo>
                    <a:pt x="41563" y="304800"/>
                    <a:pt x="103908" y="223982"/>
                    <a:pt x="122381" y="166255"/>
                  </a:cubicBezTo>
                  <a:cubicBezTo>
                    <a:pt x="140854" y="108528"/>
                    <a:pt x="129309" y="0"/>
                    <a:pt x="136236" y="0"/>
                  </a:cubicBezTo>
                  <a:cubicBezTo>
                    <a:pt x="143163" y="0"/>
                    <a:pt x="182418" y="96982"/>
                    <a:pt x="163945" y="166255"/>
                  </a:cubicBezTo>
                  <a:cubicBezTo>
                    <a:pt x="145472" y="235528"/>
                    <a:pt x="50800" y="390237"/>
                    <a:pt x="25400" y="415637"/>
                  </a:cubicBezTo>
                  <a:cubicBezTo>
                    <a:pt x="0" y="441037"/>
                    <a:pt x="9237" y="387928"/>
                    <a:pt x="25400" y="346364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144"/>
            <p:cNvSpPr/>
            <p:nvPr/>
          </p:nvSpPr>
          <p:spPr>
            <a:xfrm>
              <a:off x="7209720" y="5639760"/>
              <a:ext cx="23760" cy="230760"/>
            </a:xfrm>
            <a:custGeom>
              <a:avLst/>
              <a:gdLst>
                <a:gd name="textAreaLeft" fmla="*/ 0 w 23760"/>
                <a:gd name="textAreaRight" fmla="*/ 24120 w 23760"/>
                <a:gd name="textAreaTop" fmla="*/ 0 h 230760"/>
                <a:gd name="textAreaBottom" fmla="*/ 231120 h 230760"/>
              </a:gdLst>
              <a:ahLst/>
              <a:rect l="textAreaLeft" t="textAreaTop" r="textAreaRight" b="textAreaBottom"/>
              <a:pathLst>
                <a:path w="46182" h="274781">
                  <a:moveTo>
                    <a:pt x="18473" y="2309"/>
                  </a:moveTo>
                  <a:cubicBezTo>
                    <a:pt x="11546" y="4618"/>
                    <a:pt x="0" y="200891"/>
                    <a:pt x="4618" y="237836"/>
                  </a:cubicBezTo>
                  <a:cubicBezTo>
                    <a:pt x="9236" y="274781"/>
                    <a:pt x="46182" y="267854"/>
                    <a:pt x="46182" y="223981"/>
                  </a:cubicBezTo>
                  <a:cubicBezTo>
                    <a:pt x="46182" y="180108"/>
                    <a:pt x="25400" y="0"/>
                    <a:pt x="18473" y="2309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太阳形 145"/>
          <p:cNvSpPr/>
          <p:nvPr/>
        </p:nvSpPr>
        <p:spPr>
          <a:xfrm>
            <a:off x="-1214280" y="571680"/>
            <a:ext cx="1571400" cy="1500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46"/>
          <p:cNvSpPr/>
          <p:nvPr/>
        </p:nvSpPr>
        <p:spPr>
          <a:xfrm>
            <a:off x="3500280" y="282420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 Black"/>
                <a:ea typeface="华文行楷"/>
              </a:rPr>
              <a:t> </a:t>
            </a:r>
            <a:r>
              <a:rPr b="0" lang="en-US" sz="1600" spc="-1" strike="noStrike">
                <a:solidFill>
                  <a:srgbClr val="00b0f0"/>
                </a:solidFill>
                <a:latin typeface="Arial Black"/>
                <a:ea typeface="华文行楷"/>
              </a:rPr>
              <a:t>WOR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48"/>
          <p:cNvSpPr/>
          <p:nvPr/>
        </p:nvSpPr>
        <p:spPr>
          <a:xfrm>
            <a:off x="2857680" y="402912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保护环境   人人有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49"/>
          <p:cNvSpPr/>
          <p:nvPr/>
        </p:nvSpPr>
        <p:spPr>
          <a:xfrm>
            <a:off x="6215040" y="4643280"/>
            <a:ext cx="271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积攒绿色   储蓄生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时间线 01.wav" descr=""/>
          <p:cNvPicPr/>
          <p:nvPr/>
        </p:nvPicPr>
        <p:blipFill>
          <a:blip r:embed="rId4"/>
          <a:stretch/>
        </p:blipFill>
        <p:spPr>
          <a:xfrm>
            <a:off x="-304920" y="29289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2001"/>
                            </p:stCondLst>
                            <p:childTnLst>
                              <p:par>
                                <p:cTn id="16" nodeType="afterEffect" fill="hold" presetClass="entr" presetID="1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-6.47698E-008 L -0.07778 0.00278 E">
                                      <p:cBhvr>
                                        <p:cTn id="24" dur="7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4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0.00301 L 0.00191 0.34158 E">
                                      <p:cBhvr>
                                        <p:cTn id="29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42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12581E-006 L 0.0125 0.45306 E">
                                      <p:cBhvr>
                                        <p:cTn id="34" dur="3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1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autoRev="1" nodeType="withEffect" fill="hold" presetClass="emph" presetID="6" repeatCount="indefinite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42" dur="10" fill="hold"/>
                                        <p:tgtEl>
                                          <p:spTgt spid="64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00382 0 C -0.05746 0.04051 -0.11111 0.08125 -0.17656 0.08889 C -0.24201 0.09653 -0.35972 0.05347 -0.39635 0.04653 E">
                                      <p:cBhvr>
                                        <p:cTn id="44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1"/>
                            </p:stCondLst>
                            <p:childTnLst>
                              <p:par>
                                <p:cTn id="4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2001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up)" transition="in">
                                      <p:cBhvr additive="repl">
                                        <p:cTn id="6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13001"/>
                            </p:stCondLst>
                            <p:childTnLst>
                              <p:par>
                                <p:cTn id="7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4.74341E-006 C 0.09479 -0.04554 0.18976 -0.09108 0.35677 -0.10195 C 0.52379 -0.11281 0.76285 -0.089 1.00191 -0.06519 E">
                                      <p:cBhvr>
                                        <p:cTn id="77" dur="5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79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9254 0.04653 C -0.51597 0.01227 -0.63924 -0.02175 -0.76268 -0.02708 C -0.88611 -0.0324 -1.00955 -0.00879 -1.13282 0.01505 E">
                                      <p:cBhvr>
                                        <p:cTn id="81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8001"/>
                            </p:stCondLst>
                            <p:childTnLst>
                              <p:par>
                                <p:cTn id="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7.40741E-007 C 0.0151 -0.01829 0.03038 -0.03657 0.04705 -0.0419 C 0.06389 -0.04722 0.09184 -0.0331 0.09983 -0.03148 E">
                                      <p:cBhvr>
                                        <p:cTn id="90" dur="1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9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9001"/>
                            </p:stCondLst>
                            <p:childTnLst>
                              <p:par>
                                <p:cTn id="9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9002"/>
                            </p:stCondLst>
                            <p:childTnLst>
                              <p:par>
                                <p:cTn id="101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9502"/>
                            </p:stCondLst>
                            <p:childTnLst>
                              <p:par>
                                <p:cTn id="10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20102"/>
                            </p:stCondLst>
                            <p:childTnLst>
                              <p:par>
                                <p:cTn id="112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602"/>
                            </p:stCondLst>
                            <p:childTnLst>
                              <p:par>
                                <p:cTn id="11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0603"/>
                            </p:stCondLst>
                            <p:childTnLst>
                              <p:par>
                                <p:cTn id="12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22222E-006 C -0.09931 0.02014 -0.19792 0.04074 -0.27917 0.08912 C -0.36042 0.13703 -0.45348 0.25625 -0.4882 0.28981 E">
                                      <p:cBhvr>
                                        <p:cTn id="127" dur="1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600000">
                                      <p:cBhvr>
                                        <p:cTn id="12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1603"/>
                            </p:stCondLst>
                            <p:childTnLst>
                              <p:par>
                                <p:cTn id="13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2" dur="2000" fill="hold"/>
                                        <p:tgtEl>
                                          <p:spTgt spid="79"/>
                                        </p:tgtEl>
                                      </p:cBhvr>
                                      <p:to x="160000" y="160000"/>
                                    </p:animScale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2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2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7" dur="3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2" dur="5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E137-6564-407F-A589-DCBEDFFA11B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任意多边形 140"/>
          <p:cNvSpPr/>
          <p:nvPr/>
        </p:nvSpPr>
        <p:spPr>
          <a:xfrm>
            <a:off x="0" y="5286240"/>
            <a:ext cx="7156440" cy="1590840"/>
          </a:xfrm>
          <a:custGeom>
            <a:avLst/>
            <a:gdLst>
              <a:gd name="textAreaLeft" fmla="*/ 0 w 7156440"/>
              <a:gd name="textAreaRight" fmla="*/ 7156800 w 7156440"/>
              <a:gd name="textAreaTop" fmla="*/ 0 h 1590840"/>
              <a:gd name="textAreaBottom" fmla="*/ 1591200 h 1590840"/>
            </a:gdLst>
            <a:ahLst/>
            <a:rect l="textAreaLeft" t="textAreaTop" r="textAreaRight" b="textAreaBottom"/>
            <a:pathLst>
              <a:path w="7156174" h="1490869">
                <a:moveTo>
                  <a:pt x="0" y="0"/>
                </a:moveTo>
                <a:lnTo>
                  <a:pt x="0" y="1451113"/>
                </a:lnTo>
                <a:lnTo>
                  <a:pt x="5963478" y="1490869"/>
                </a:lnTo>
                <a:lnTo>
                  <a:pt x="7156174" y="85476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图片 126" descr="图片1.png"/>
          <p:cNvPicPr/>
          <p:nvPr/>
        </p:nvPicPr>
        <p:blipFill>
          <a:blip r:embed="rId1"/>
          <a:stretch/>
        </p:blipFill>
        <p:spPr>
          <a:xfrm>
            <a:off x="1285920" y="535788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151" name="图片 154" descr="015.png"/>
          <p:cNvPicPr/>
          <p:nvPr/>
        </p:nvPicPr>
        <p:blipFill>
          <a:blip r:embed="rId2"/>
          <a:srcRect l="0" t="0" r="1220" b="16399"/>
          <a:stretch/>
        </p:blipFill>
        <p:spPr>
          <a:xfrm rot="20896800">
            <a:off x="4745160" y="-331920"/>
            <a:ext cx="11796480" cy="5734080"/>
          </a:xfrm>
          <a:prstGeom prst="rect">
            <a:avLst/>
          </a:prstGeom>
          <a:ln w="0">
            <a:noFill/>
          </a:ln>
        </p:spPr>
      </p:pic>
      <p:sp>
        <p:nvSpPr>
          <p:cNvPr id="152" name="直接连接符 51"/>
          <p:cNvSpPr/>
          <p:nvPr/>
        </p:nvSpPr>
        <p:spPr>
          <a:xfrm>
            <a:off x="5000760" y="5856120"/>
            <a:ext cx="4143240" cy="180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任意多边形 31"/>
          <p:cNvSpPr/>
          <p:nvPr/>
        </p:nvSpPr>
        <p:spPr>
          <a:xfrm>
            <a:off x="0" y="5349960"/>
            <a:ext cx="7236000" cy="865080"/>
          </a:xfrm>
          <a:custGeom>
            <a:avLst/>
            <a:gdLst>
              <a:gd name="textAreaLeft" fmla="*/ 0 w 7236000"/>
              <a:gd name="textAreaRight" fmla="*/ 7236360 w 7236000"/>
              <a:gd name="textAreaTop" fmla="*/ 0 h 865080"/>
              <a:gd name="textAreaBottom" fmla="*/ 865440 h 865080"/>
            </a:gdLst>
            <a:ahLst/>
            <a:rect l="textAreaLeft" t="textAreaTop" r="textAreaRight" b="textAreaBottom"/>
            <a:pathLst>
              <a:path w="7053942" h="1014548">
                <a:moveTo>
                  <a:pt x="0" y="21771"/>
                </a:moveTo>
                <a:cubicBezTo>
                  <a:pt x="992777" y="10885"/>
                  <a:pt x="1985554" y="0"/>
                  <a:pt x="3161211" y="165463"/>
                </a:cubicBezTo>
                <a:cubicBezTo>
                  <a:pt x="4336868" y="330926"/>
                  <a:pt x="5695405" y="672737"/>
                  <a:pt x="7053942" y="1014548"/>
                </a:cubicBez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梯形 32"/>
          <p:cNvSpPr/>
          <p:nvPr/>
        </p:nvSpPr>
        <p:spPr>
          <a:xfrm flipV="1">
            <a:off x="1835280" y="4583160"/>
            <a:ext cx="360360" cy="936720"/>
          </a:xfrm>
          <a:custGeom>
            <a:avLst/>
            <a:gdLst>
              <a:gd name="textAreaLeft" fmla="*/ 74880 w 360360"/>
              <a:gd name="textAreaRight" fmla="*/ 285480 w 360360"/>
              <a:gd name="textAreaTop" fmla="*/ 195120 h 936720"/>
              <a:gd name="textAreaBottom" fmla="*/ 7416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组合 21"/>
          <p:cNvGrpSpPr/>
          <p:nvPr/>
        </p:nvGrpSpPr>
        <p:grpSpPr>
          <a:xfrm>
            <a:off x="1618920" y="4223880"/>
            <a:ext cx="865440" cy="864000"/>
            <a:chOff x="1618920" y="4223880"/>
            <a:chExt cx="865440" cy="864000"/>
          </a:xfrm>
        </p:grpSpPr>
        <p:sp>
          <p:nvSpPr>
            <p:cNvPr id="156" name="任意多边形 36"/>
            <p:cNvSpPr/>
            <p:nvPr/>
          </p:nvSpPr>
          <p:spPr>
            <a:xfrm rot="10800000">
              <a:off x="1618920" y="4596840"/>
              <a:ext cx="446040" cy="810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2194560" h="404948">
                  <a:moveTo>
                    <a:pt x="0" y="13063"/>
                  </a:moveTo>
                  <a:lnTo>
                    <a:pt x="2194560" y="0"/>
                  </a:lnTo>
                  <a:lnTo>
                    <a:pt x="2194560" y="391886"/>
                  </a:lnTo>
                  <a:lnTo>
                    <a:pt x="600892" y="404948"/>
                  </a:lnTo>
                  <a:lnTo>
                    <a:pt x="60089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任意多边形 37"/>
            <p:cNvSpPr/>
            <p:nvPr/>
          </p:nvSpPr>
          <p:spPr>
            <a:xfrm rot="5400000">
              <a:off x="1779480" y="4814640"/>
              <a:ext cx="468360" cy="777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2194560" h="404948">
                  <a:moveTo>
                    <a:pt x="0" y="13063"/>
                  </a:moveTo>
                  <a:lnTo>
                    <a:pt x="2194560" y="0"/>
                  </a:lnTo>
                  <a:lnTo>
                    <a:pt x="2194560" y="391886"/>
                  </a:lnTo>
                  <a:lnTo>
                    <a:pt x="600892" y="404948"/>
                  </a:lnTo>
                  <a:lnTo>
                    <a:pt x="60089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任意多边形 38"/>
            <p:cNvSpPr/>
            <p:nvPr/>
          </p:nvSpPr>
          <p:spPr>
            <a:xfrm rot="16200000">
              <a:off x="1850040" y="4420080"/>
              <a:ext cx="468360" cy="7596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94560" h="404948">
                  <a:moveTo>
                    <a:pt x="0" y="13063"/>
                  </a:moveTo>
                  <a:lnTo>
                    <a:pt x="2194560" y="0"/>
                  </a:lnTo>
                  <a:lnTo>
                    <a:pt x="2194560" y="391886"/>
                  </a:lnTo>
                  <a:lnTo>
                    <a:pt x="600892" y="404948"/>
                  </a:lnTo>
                  <a:lnTo>
                    <a:pt x="60089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任意多边形 39"/>
            <p:cNvSpPr/>
            <p:nvPr/>
          </p:nvSpPr>
          <p:spPr>
            <a:xfrm>
              <a:off x="2038320" y="4672080"/>
              <a:ext cx="446040" cy="79200"/>
            </a:xfrm>
            <a:custGeom>
              <a:avLst/>
              <a:gdLst>
                <a:gd name="textAreaLeft" fmla="*/ 0 w 446040"/>
                <a:gd name="textAreaRight" fmla="*/ 446400 w 446040"/>
                <a:gd name="textAreaTop" fmla="*/ 0 h 79200"/>
                <a:gd name="textAreaBottom" fmla="*/ 79560 h 79200"/>
              </a:gdLst>
              <a:ahLst/>
              <a:rect l="textAreaLeft" t="textAreaTop" r="textAreaRight" b="textAreaBottom"/>
              <a:pathLst>
                <a:path w="2194560" h="404948">
                  <a:moveTo>
                    <a:pt x="0" y="13063"/>
                  </a:moveTo>
                  <a:lnTo>
                    <a:pt x="2194560" y="0"/>
                  </a:lnTo>
                  <a:lnTo>
                    <a:pt x="2194560" y="391886"/>
                  </a:lnTo>
                  <a:lnTo>
                    <a:pt x="600892" y="404948"/>
                  </a:lnTo>
                  <a:lnTo>
                    <a:pt x="60089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图片 40" descr="2009110521380829.png"/>
          <p:cNvPicPr/>
          <p:nvPr/>
        </p:nvPicPr>
        <p:blipFill>
          <a:blip r:embed="rId3"/>
          <a:stretch/>
        </p:blipFill>
        <p:spPr>
          <a:xfrm>
            <a:off x="971640" y="5016600"/>
            <a:ext cx="522360" cy="7189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41" descr="2009110521380829.png"/>
          <p:cNvPicPr/>
          <p:nvPr/>
        </p:nvPicPr>
        <p:blipFill>
          <a:blip r:embed="rId4"/>
          <a:stretch/>
        </p:blipFill>
        <p:spPr>
          <a:xfrm>
            <a:off x="2857680" y="6072120"/>
            <a:ext cx="750600" cy="10382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42" descr="2009110521380829.png"/>
          <p:cNvPicPr/>
          <p:nvPr/>
        </p:nvPicPr>
        <p:blipFill>
          <a:blip r:embed="rId5"/>
          <a:stretch/>
        </p:blipFill>
        <p:spPr>
          <a:xfrm>
            <a:off x="0" y="4943520"/>
            <a:ext cx="395280" cy="5461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43" descr="2009110521380829.png"/>
          <p:cNvPicPr/>
          <p:nvPr/>
        </p:nvPicPr>
        <p:blipFill>
          <a:blip r:embed="rId6"/>
          <a:stretch/>
        </p:blipFill>
        <p:spPr>
          <a:xfrm>
            <a:off x="179280" y="5016600"/>
            <a:ext cx="312840" cy="431640"/>
          </a:xfrm>
          <a:prstGeom prst="rect">
            <a:avLst/>
          </a:prstGeom>
          <a:ln w="0">
            <a:noFill/>
          </a:ln>
        </p:spPr>
      </p:pic>
      <p:pic>
        <p:nvPicPr>
          <p:cNvPr id="164" name="图片 45" descr="2009110521380829.png"/>
          <p:cNvPicPr/>
          <p:nvPr/>
        </p:nvPicPr>
        <p:blipFill>
          <a:blip r:embed="rId7"/>
          <a:stretch/>
        </p:blipFill>
        <p:spPr>
          <a:xfrm>
            <a:off x="2928960" y="5819760"/>
            <a:ext cx="750960" cy="103824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46" descr="2009110521380829.png"/>
          <p:cNvPicPr/>
          <p:nvPr/>
        </p:nvPicPr>
        <p:blipFill>
          <a:blip r:embed="rId8"/>
          <a:stretch/>
        </p:blipFill>
        <p:spPr>
          <a:xfrm>
            <a:off x="2428920" y="5214960"/>
            <a:ext cx="550800" cy="76032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47" descr="2009110521380829.png"/>
          <p:cNvPicPr/>
          <p:nvPr/>
        </p:nvPicPr>
        <p:blipFill>
          <a:blip r:embed="rId9"/>
          <a:stretch/>
        </p:blipFill>
        <p:spPr>
          <a:xfrm>
            <a:off x="3071880" y="5786280"/>
            <a:ext cx="550800" cy="760680"/>
          </a:xfrm>
          <a:prstGeom prst="rect">
            <a:avLst/>
          </a:prstGeom>
          <a:ln w="0">
            <a:noFill/>
          </a:ln>
        </p:spPr>
      </p:pic>
      <p:sp>
        <p:nvSpPr>
          <p:cNvPr id="167" name="任意多边形 48"/>
          <p:cNvSpPr/>
          <p:nvPr/>
        </p:nvSpPr>
        <p:spPr>
          <a:xfrm>
            <a:off x="6227640" y="6600960"/>
            <a:ext cx="609840" cy="71280"/>
          </a:xfrm>
          <a:custGeom>
            <a:avLst/>
            <a:gdLst>
              <a:gd name="textAreaLeft" fmla="*/ 0 w 609840"/>
              <a:gd name="textAreaRight" fmla="*/ 610200 w 609840"/>
              <a:gd name="textAreaTop" fmla="*/ 0 h 71280"/>
              <a:gd name="textAreaBottom" fmla="*/ 71640 h 71280"/>
            </a:gdLst>
            <a:ahLst/>
            <a:rect l="textAreaLeft" t="textAreaTop" r="textAreaRight" b="textAreaBottom"/>
            <a:pathLst>
              <a:path w="835378" h="225777">
                <a:moveTo>
                  <a:pt x="0" y="101600"/>
                </a:moveTo>
                <a:lnTo>
                  <a:pt x="169333" y="225777"/>
                </a:lnTo>
                <a:lnTo>
                  <a:pt x="643467" y="214489"/>
                </a:lnTo>
                <a:lnTo>
                  <a:pt x="835378" y="101600"/>
                </a:lnTo>
                <a:lnTo>
                  <a:pt x="598311" y="112889"/>
                </a:lnTo>
                <a:lnTo>
                  <a:pt x="598311" y="0"/>
                </a:lnTo>
                <a:lnTo>
                  <a:pt x="237067" y="11289"/>
                </a:lnTo>
                <a:lnTo>
                  <a:pt x="248356" y="112889"/>
                </a:lnTo>
                <a:lnTo>
                  <a:pt x="67733" y="101600"/>
                </a:lnTo>
                <a:lnTo>
                  <a:pt x="0" y="10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任意多边形 49"/>
          <p:cNvSpPr/>
          <p:nvPr/>
        </p:nvSpPr>
        <p:spPr>
          <a:xfrm>
            <a:off x="6012000" y="6672240"/>
            <a:ext cx="647640" cy="144360"/>
          </a:xfrm>
          <a:custGeom>
            <a:avLst/>
            <a:gdLst>
              <a:gd name="textAreaLeft" fmla="*/ 0 w 647640"/>
              <a:gd name="textAreaRight" fmla="*/ 648000 w 647640"/>
              <a:gd name="textAreaTop" fmla="*/ 0 h 144360"/>
              <a:gd name="textAreaBottom" fmla="*/ 144720 h 144360"/>
            </a:gdLst>
            <a:ahLst/>
            <a:rect l="textAreaLeft" t="textAreaTop" r="textAreaRight" b="textAreaBottom"/>
            <a:pathLst>
              <a:path w="835378" h="225777">
                <a:moveTo>
                  <a:pt x="0" y="101600"/>
                </a:moveTo>
                <a:lnTo>
                  <a:pt x="169333" y="225777"/>
                </a:lnTo>
                <a:lnTo>
                  <a:pt x="643467" y="214489"/>
                </a:lnTo>
                <a:lnTo>
                  <a:pt x="835378" y="101600"/>
                </a:lnTo>
                <a:lnTo>
                  <a:pt x="598311" y="112889"/>
                </a:lnTo>
                <a:lnTo>
                  <a:pt x="598311" y="0"/>
                </a:lnTo>
                <a:lnTo>
                  <a:pt x="237067" y="11289"/>
                </a:lnTo>
                <a:lnTo>
                  <a:pt x="248356" y="112889"/>
                </a:lnTo>
                <a:lnTo>
                  <a:pt x="67733" y="101600"/>
                </a:lnTo>
                <a:lnTo>
                  <a:pt x="0" y="10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56"/>
          <p:cNvSpPr/>
          <p:nvPr/>
        </p:nvSpPr>
        <p:spPr>
          <a:xfrm>
            <a:off x="6643800" y="5857920"/>
            <a:ext cx="0" cy="42876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61"/>
          <p:cNvSpPr/>
          <p:nvPr/>
        </p:nvSpPr>
        <p:spPr>
          <a:xfrm>
            <a:off x="6858000" y="5857920"/>
            <a:ext cx="0" cy="42696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直接连接符 62"/>
          <p:cNvSpPr/>
          <p:nvPr/>
        </p:nvSpPr>
        <p:spPr>
          <a:xfrm>
            <a:off x="8215200" y="5857920"/>
            <a:ext cx="0" cy="64296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直接连接符 63"/>
          <p:cNvSpPr/>
          <p:nvPr/>
        </p:nvSpPr>
        <p:spPr>
          <a:xfrm>
            <a:off x="8429760" y="5857920"/>
            <a:ext cx="0" cy="57132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70" descr="2009110521380829.png"/>
          <p:cNvPicPr/>
          <p:nvPr/>
        </p:nvPicPr>
        <p:blipFill>
          <a:blip r:embed="rId10"/>
          <a:stretch/>
        </p:blipFill>
        <p:spPr>
          <a:xfrm>
            <a:off x="500040" y="542916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71" descr="2009110521380829.png"/>
          <p:cNvPicPr/>
          <p:nvPr/>
        </p:nvPicPr>
        <p:blipFill>
          <a:blip r:embed="rId11"/>
          <a:stretch/>
        </p:blipFill>
        <p:spPr>
          <a:xfrm>
            <a:off x="0" y="528624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73" descr="2009110521380829.png"/>
          <p:cNvPicPr/>
          <p:nvPr/>
        </p:nvPicPr>
        <p:blipFill>
          <a:blip r:embed="rId12"/>
          <a:stretch/>
        </p:blipFill>
        <p:spPr>
          <a:xfrm>
            <a:off x="1071720" y="528624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74" descr="2009110521380829.png"/>
          <p:cNvPicPr/>
          <p:nvPr/>
        </p:nvPicPr>
        <p:blipFill>
          <a:blip r:embed="rId13"/>
          <a:stretch/>
        </p:blipFill>
        <p:spPr>
          <a:xfrm>
            <a:off x="500040" y="581976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75" descr="2009110521380829.png"/>
          <p:cNvPicPr/>
          <p:nvPr/>
        </p:nvPicPr>
        <p:blipFill>
          <a:blip r:embed="rId14"/>
          <a:stretch/>
        </p:blipFill>
        <p:spPr>
          <a:xfrm>
            <a:off x="714240" y="5357880"/>
            <a:ext cx="752760" cy="103824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76" descr="2009110521380829.png"/>
          <p:cNvPicPr/>
          <p:nvPr/>
        </p:nvPicPr>
        <p:blipFill>
          <a:blip r:embed="rId15"/>
          <a:stretch/>
        </p:blipFill>
        <p:spPr>
          <a:xfrm>
            <a:off x="0" y="581976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77" descr="2009110521380829.png"/>
          <p:cNvPicPr/>
          <p:nvPr/>
        </p:nvPicPr>
        <p:blipFill>
          <a:blip r:embed="rId16"/>
          <a:stretch/>
        </p:blipFill>
        <p:spPr>
          <a:xfrm>
            <a:off x="928800" y="607212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78" descr="2009110521380829.png"/>
          <p:cNvPicPr/>
          <p:nvPr/>
        </p:nvPicPr>
        <p:blipFill>
          <a:blip r:embed="rId17"/>
          <a:stretch/>
        </p:blipFill>
        <p:spPr>
          <a:xfrm>
            <a:off x="1357200" y="5819760"/>
            <a:ext cx="752760" cy="103824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79" descr="2009110521380829.png"/>
          <p:cNvPicPr/>
          <p:nvPr/>
        </p:nvPicPr>
        <p:blipFill>
          <a:blip r:embed="rId18"/>
          <a:stretch/>
        </p:blipFill>
        <p:spPr>
          <a:xfrm>
            <a:off x="1357200" y="5500800"/>
            <a:ext cx="752760" cy="103824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80" descr="2009110521380829.png"/>
          <p:cNvPicPr/>
          <p:nvPr/>
        </p:nvPicPr>
        <p:blipFill>
          <a:blip r:embed="rId19"/>
          <a:stretch/>
        </p:blipFill>
        <p:spPr>
          <a:xfrm>
            <a:off x="1643040" y="535788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81" descr="2009110521380829.png"/>
          <p:cNvPicPr/>
          <p:nvPr/>
        </p:nvPicPr>
        <p:blipFill>
          <a:blip r:embed="rId20"/>
          <a:stretch/>
        </p:blipFill>
        <p:spPr>
          <a:xfrm>
            <a:off x="1795320" y="5510160"/>
            <a:ext cx="752760" cy="10382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82" descr="2009110521380829.png"/>
          <p:cNvPicPr/>
          <p:nvPr/>
        </p:nvPicPr>
        <p:blipFill>
          <a:blip r:embed="rId21"/>
          <a:stretch/>
        </p:blipFill>
        <p:spPr>
          <a:xfrm>
            <a:off x="2143080" y="5500800"/>
            <a:ext cx="752400" cy="98568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83" descr="2009110521380829.png"/>
          <p:cNvPicPr/>
          <p:nvPr/>
        </p:nvPicPr>
        <p:blipFill>
          <a:blip r:embed="rId22"/>
          <a:stretch/>
        </p:blipFill>
        <p:spPr>
          <a:xfrm>
            <a:off x="2428920" y="581976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84" descr="2009110521380829.png"/>
          <p:cNvPicPr/>
          <p:nvPr/>
        </p:nvPicPr>
        <p:blipFill>
          <a:blip r:embed="rId23"/>
          <a:stretch/>
        </p:blipFill>
        <p:spPr>
          <a:xfrm>
            <a:off x="1643040" y="607212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85" descr="2009110521380829.png"/>
          <p:cNvPicPr/>
          <p:nvPr/>
        </p:nvPicPr>
        <p:blipFill>
          <a:blip r:embed="rId24"/>
          <a:stretch/>
        </p:blipFill>
        <p:spPr>
          <a:xfrm>
            <a:off x="3571920" y="5786280"/>
            <a:ext cx="550800" cy="76068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86" descr="2009110521380829.png"/>
          <p:cNvPicPr/>
          <p:nvPr/>
        </p:nvPicPr>
        <p:blipFill>
          <a:blip r:embed="rId25"/>
          <a:stretch/>
        </p:blipFill>
        <p:spPr>
          <a:xfrm>
            <a:off x="2928960" y="5572080"/>
            <a:ext cx="550800" cy="76032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87" descr="2009110521380829.png"/>
          <p:cNvPicPr/>
          <p:nvPr/>
        </p:nvPicPr>
        <p:blipFill>
          <a:blip r:embed="rId26"/>
          <a:stretch/>
        </p:blipFill>
        <p:spPr>
          <a:xfrm>
            <a:off x="2143080" y="6097680"/>
            <a:ext cx="550800" cy="76032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88" descr="2009110521380829.png"/>
          <p:cNvPicPr/>
          <p:nvPr/>
        </p:nvPicPr>
        <p:blipFill>
          <a:blip r:embed="rId27"/>
          <a:stretch/>
        </p:blipFill>
        <p:spPr>
          <a:xfrm>
            <a:off x="2571840" y="5357880"/>
            <a:ext cx="752400" cy="103824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91" descr="2009110521380829.png"/>
          <p:cNvPicPr/>
          <p:nvPr/>
        </p:nvPicPr>
        <p:blipFill>
          <a:blip r:embed="rId28"/>
          <a:stretch/>
        </p:blipFill>
        <p:spPr>
          <a:xfrm>
            <a:off x="2295360" y="6249960"/>
            <a:ext cx="551160" cy="76032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92" descr="2009110521380829.png"/>
          <p:cNvPicPr/>
          <p:nvPr/>
        </p:nvPicPr>
        <p:blipFill>
          <a:blip r:embed="rId29"/>
          <a:stretch/>
        </p:blipFill>
        <p:spPr>
          <a:xfrm>
            <a:off x="285840" y="6097680"/>
            <a:ext cx="550800" cy="76032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93" descr="2009110521380829.png"/>
          <p:cNvPicPr/>
          <p:nvPr/>
        </p:nvPicPr>
        <p:blipFill>
          <a:blip r:embed="rId30"/>
          <a:stretch/>
        </p:blipFill>
        <p:spPr>
          <a:xfrm>
            <a:off x="2143080" y="5286240"/>
            <a:ext cx="550800" cy="760680"/>
          </a:xfrm>
          <a:prstGeom prst="rect">
            <a:avLst/>
          </a:prstGeom>
          <a:ln w="0">
            <a:noFill/>
          </a:ln>
        </p:spPr>
      </p:pic>
      <p:sp>
        <p:nvSpPr>
          <p:cNvPr id="194" name="太阳形 94"/>
          <p:cNvSpPr/>
          <p:nvPr/>
        </p:nvSpPr>
        <p:spPr>
          <a:xfrm>
            <a:off x="-1214280" y="142920"/>
            <a:ext cx="1571400" cy="1500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组合 153"/>
          <p:cNvGrpSpPr/>
          <p:nvPr/>
        </p:nvGrpSpPr>
        <p:grpSpPr>
          <a:xfrm>
            <a:off x="3429000" y="4429080"/>
            <a:ext cx="1000080" cy="1214640"/>
            <a:chOff x="3429000" y="4429080"/>
            <a:chExt cx="1000080" cy="1214640"/>
          </a:xfrm>
        </p:grpSpPr>
        <p:pic>
          <p:nvPicPr>
            <p:cNvPr id="196" name="图片 96" descr="gongc3.png"/>
            <p:cNvPicPr/>
            <p:nvPr/>
          </p:nvPicPr>
          <p:blipFill>
            <a:blip r:embed="rId31"/>
            <a:stretch/>
          </p:blipFill>
          <p:spPr>
            <a:xfrm>
              <a:off x="3429000" y="4572000"/>
              <a:ext cx="9018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图片 97" descr="gongchengshebei2_0013.png"/>
            <p:cNvPicPr/>
            <p:nvPr/>
          </p:nvPicPr>
          <p:blipFill>
            <a:blip r:embed="rId32"/>
            <a:stretch/>
          </p:blipFill>
          <p:spPr>
            <a:xfrm>
              <a:off x="4214880" y="4429080"/>
              <a:ext cx="214200" cy="74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图片 99" descr="图片1.png"/>
          <p:cNvPicPr/>
          <p:nvPr/>
        </p:nvPicPr>
        <p:blipFill>
          <a:blip r:embed="rId33"/>
          <a:stretch/>
        </p:blipFill>
        <p:spPr>
          <a:xfrm>
            <a:off x="2286000" y="578628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100" descr="图片1.png"/>
          <p:cNvPicPr/>
          <p:nvPr/>
        </p:nvPicPr>
        <p:blipFill>
          <a:blip r:embed="rId34"/>
          <a:stretch/>
        </p:blipFill>
        <p:spPr>
          <a:xfrm>
            <a:off x="928800" y="600084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101" descr="图片1.png"/>
          <p:cNvPicPr/>
          <p:nvPr/>
        </p:nvPicPr>
        <p:blipFill>
          <a:blip r:embed="rId35"/>
          <a:stretch/>
        </p:blipFill>
        <p:spPr>
          <a:xfrm>
            <a:off x="285840" y="57150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102" descr="图片1.png"/>
          <p:cNvPicPr/>
          <p:nvPr/>
        </p:nvPicPr>
        <p:blipFill>
          <a:blip r:embed="rId36"/>
          <a:stretch/>
        </p:blipFill>
        <p:spPr>
          <a:xfrm>
            <a:off x="1000080" y="542916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103" descr="图片1.png"/>
          <p:cNvPicPr/>
          <p:nvPr/>
        </p:nvPicPr>
        <p:blipFill>
          <a:blip r:embed="rId37"/>
          <a:stretch/>
        </p:blipFill>
        <p:spPr>
          <a:xfrm>
            <a:off x="1428840" y="535788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104" descr="图片1.png"/>
          <p:cNvPicPr/>
          <p:nvPr/>
        </p:nvPicPr>
        <p:blipFill>
          <a:blip r:embed="rId38"/>
          <a:stretch/>
        </p:blipFill>
        <p:spPr>
          <a:xfrm>
            <a:off x="1785960" y="600084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105" descr="图片1.png"/>
          <p:cNvPicPr/>
          <p:nvPr/>
        </p:nvPicPr>
        <p:blipFill>
          <a:blip r:embed="rId39"/>
          <a:stretch/>
        </p:blipFill>
        <p:spPr>
          <a:xfrm>
            <a:off x="1071720" y="5715000"/>
            <a:ext cx="495000" cy="5904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106" descr="图片1.png"/>
          <p:cNvPicPr/>
          <p:nvPr/>
        </p:nvPicPr>
        <p:blipFill>
          <a:blip r:embed="rId40"/>
          <a:stretch/>
        </p:blipFill>
        <p:spPr>
          <a:xfrm>
            <a:off x="2214720" y="5786280"/>
            <a:ext cx="495000" cy="59076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107" descr="图片1.png"/>
          <p:cNvPicPr/>
          <p:nvPr/>
        </p:nvPicPr>
        <p:blipFill>
          <a:blip r:embed="rId41"/>
          <a:stretch/>
        </p:blipFill>
        <p:spPr>
          <a:xfrm>
            <a:off x="1214280" y="585792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108" descr="图片1.png"/>
          <p:cNvPicPr/>
          <p:nvPr/>
        </p:nvPicPr>
        <p:blipFill>
          <a:blip r:embed="rId42"/>
          <a:stretch/>
        </p:blipFill>
        <p:spPr>
          <a:xfrm>
            <a:off x="142884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08" name="图片 109" descr="图片1.png"/>
          <p:cNvPicPr/>
          <p:nvPr/>
        </p:nvPicPr>
        <p:blipFill>
          <a:blip r:embed="rId43"/>
          <a:stretch/>
        </p:blipFill>
        <p:spPr>
          <a:xfrm>
            <a:off x="571680" y="5857920"/>
            <a:ext cx="495000" cy="5904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10" descr="图片1.png"/>
          <p:cNvPicPr/>
          <p:nvPr/>
        </p:nvPicPr>
        <p:blipFill>
          <a:blip r:embed="rId44"/>
          <a:stretch/>
        </p:blipFill>
        <p:spPr>
          <a:xfrm>
            <a:off x="1952640" y="538164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11" descr="图片1.png"/>
          <p:cNvPicPr/>
          <p:nvPr/>
        </p:nvPicPr>
        <p:blipFill>
          <a:blip r:embed="rId45"/>
          <a:stretch/>
        </p:blipFill>
        <p:spPr>
          <a:xfrm>
            <a:off x="2428920" y="578628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12" descr="图片1.png"/>
          <p:cNvPicPr/>
          <p:nvPr/>
        </p:nvPicPr>
        <p:blipFill>
          <a:blip r:embed="rId46"/>
          <a:stretch/>
        </p:blipFill>
        <p:spPr>
          <a:xfrm>
            <a:off x="285840" y="542916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13" descr="图片1.png"/>
          <p:cNvPicPr/>
          <p:nvPr/>
        </p:nvPicPr>
        <p:blipFill>
          <a:blip r:embed="rId47"/>
          <a:stretch/>
        </p:blipFill>
        <p:spPr>
          <a:xfrm>
            <a:off x="1357200" y="55008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14" descr="图片1.png"/>
          <p:cNvPicPr/>
          <p:nvPr/>
        </p:nvPicPr>
        <p:blipFill>
          <a:blip r:embed="rId48"/>
          <a:stretch/>
        </p:blipFill>
        <p:spPr>
          <a:xfrm>
            <a:off x="428760" y="5572080"/>
            <a:ext cx="495000" cy="59076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15" descr="图片1.png"/>
          <p:cNvPicPr/>
          <p:nvPr/>
        </p:nvPicPr>
        <p:blipFill>
          <a:blip r:embed="rId49"/>
          <a:stretch/>
        </p:blipFill>
        <p:spPr>
          <a:xfrm>
            <a:off x="1928880" y="607212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16" descr="图片1.png"/>
          <p:cNvPicPr/>
          <p:nvPr/>
        </p:nvPicPr>
        <p:blipFill>
          <a:blip r:embed="rId50"/>
          <a:stretch/>
        </p:blipFill>
        <p:spPr>
          <a:xfrm>
            <a:off x="200016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17" descr="图片1.png"/>
          <p:cNvPicPr/>
          <p:nvPr/>
        </p:nvPicPr>
        <p:blipFill>
          <a:blip r:embed="rId51"/>
          <a:stretch/>
        </p:blipFill>
        <p:spPr>
          <a:xfrm>
            <a:off x="2286000" y="592920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18" descr="图片1.png"/>
          <p:cNvPicPr/>
          <p:nvPr/>
        </p:nvPicPr>
        <p:blipFill>
          <a:blip r:embed="rId52"/>
          <a:stretch/>
        </p:blipFill>
        <p:spPr>
          <a:xfrm>
            <a:off x="264312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19" descr="图片1.png"/>
          <p:cNvPicPr/>
          <p:nvPr/>
        </p:nvPicPr>
        <p:blipFill>
          <a:blip r:embed="rId53"/>
          <a:stretch/>
        </p:blipFill>
        <p:spPr>
          <a:xfrm>
            <a:off x="2357280" y="607212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20" descr="图片1.png"/>
          <p:cNvPicPr/>
          <p:nvPr/>
        </p:nvPicPr>
        <p:blipFill>
          <a:blip r:embed="rId54"/>
          <a:stretch/>
        </p:blipFill>
        <p:spPr>
          <a:xfrm>
            <a:off x="1928880" y="564372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21" descr="图片1.png"/>
          <p:cNvPicPr/>
          <p:nvPr/>
        </p:nvPicPr>
        <p:blipFill>
          <a:blip r:embed="rId55"/>
          <a:stretch/>
        </p:blipFill>
        <p:spPr>
          <a:xfrm>
            <a:off x="2143080" y="600084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22" descr="图片1.png"/>
          <p:cNvPicPr/>
          <p:nvPr/>
        </p:nvPicPr>
        <p:blipFill>
          <a:blip r:embed="rId56"/>
          <a:stretch/>
        </p:blipFill>
        <p:spPr>
          <a:xfrm>
            <a:off x="2000160" y="5786280"/>
            <a:ext cx="495360" cy="59076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23" descr="图片1.png"/>
          <p:cNvPicPr/>
          <p:nvPr/>
        </p:nvPicPr>
        <p:blipFill>
          <a:blip r:embed="rId57"/>
          <a:stretch/>
        </p:blipFill>
        <p:spPr>
          <a:xfrm>
            <a:off x="428760" y="5857920"/>
            <a:ext cx="495000" cy="59040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24" descr="图片1.png"/>
          <p:cNvPicPr/>
          <p:nvPr/>
        </p:nvPicPr>
        <p:blipFill>
          <a:blip r:embed="rId58"/>
          <a:stretch/>
        </p:blipFill>
        <p:spPr>
          <a:xfrm>
            <a:off x="85716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25" descr="图片1.png"/>
          <p:cNvPicPr/>
          <p:nvPr/>
        </p:nvPicPr>
        <p:blipFill>
          <a:blip r:embed="rId59"/>
          <a:stretch/>
        </p:blipFill>
        <p:spPr>
          <a:xfrm>
            <a:off x="714240" y="62676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27" descr="图片1.png"/>
          <p:cNvPicPr/>
          <p:nvPr/>
        </p:nvPicPr>
        <p:blipFill>
          <a:blip r:embed="rId60"/>
          <a:stretch/>
        </p:blipFill>
        <p:spPr>
          <a:xfrm>
            <a:off x="2143080" y="5715000"/>
            <a:ext cx="495360" cy="59040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28" descr="图片1.png"/>
          <p:cNvPicPr/>
          <p:nvPr/>
        </p:nvPicPr>
        <p:blipFill>
          <a:blip r:embed="rId61"/>
          <a:stretch/>
        </p:blipFill>
        <p:spPr>
          <a:xfrm>
            <a:off x="2857680" y="5929200"/>
            <a:ext cx="495000" cy="59076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29" descr="图片1.png"/>
          <p:cNvPicPr/>
          <p:nvPr/>
        </p:nvPicPr>
        <p:blipFill>
          <a:blip r:embed="rId62"/>
          <a:stretch/>
        </p:blipFill>
        <p:spPr>
          <a:xfrm>
            <a:off x="1714680" y="5857920"/>
            <a:ext cx="495000" cy="59040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30" descr="图片1.png"/>
          <p:cNvPicPr/>
          <p:nvPr/>
        </p:nvPicPr>
        <p:blipFill>
          <a:blip r:embed="rId63"/>
          <a:stretch/>
        </p:blipFill>
        <p:spPr>
          <a:xfrm>
            <a:off x="1214280" y="6215040"/>
            <a:ext cx="495360" cy="590400"/>
          </a:xfrm>
          <a:prstGeom prst="rect">
            <a:avLst/>
          </a:prstGeom>
          <a:ln w="0">
            <a:noFill/>
          </a:ln>
        </p:spPr>
      </p:pic>
      <p:grpSp>
        <p:nvGrpSpPr>
          <p:cNvPr id="229" name="组合 143"/>
          <p:cNvGrpSpPr/>
          <p:nvPr/>
        </p:nvGrpSpPr>
        <p:grpSpPr>
          <a:xfrm>
            <a:off x="4214880" y="5072040"/>
            <a:ext cx="285840" cy="285840"/>
            <a:chOff x="4214880" y="5072040"/>
            <a:chExt cx="285840" cy="285840"/>
          </a:xfrm>
        </p:grpSpPr>
        <p:sp>
          <p:nvSpPr>
            <p:cNvPr id="230" name="椭圆 131"/>
            <p:cNvSpPr/>
            <p:nvPr/>
          </p:nvSpPr>
          <p:spPr>
            <a:xfrm>
              <a:off x="4214880" y="521496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椭圆 132"/>
            <p:cNvSpPr/>
            <p:nvPr/>
          </p:nvSpPr>
          <p:spPr>
            <a:xfrm>
              <a:off x="4367160" y="521496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椭圆 133"/>
            <p:cNvSpPr/>
            <p:nvPr/>
          </p:nvSpPr>
          <p:spPr>
            <a:xfrm>
              <a:off x="4286160" y="528660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椭圆 134"/>
            <p:cNvSpPr/>
            <p:nvPr/>
          </p:nvSpPr>
          <p:spPr>
            <a:xfrm>
              <a:off x="4357800" y="528660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椭圆 135"/>
            <p:cNvSpPr/>
            <p:nvPr/>
          </p:nvSpPr>
          <p:spPr>
            <a:xfrm>
              <a:off x="4286160" y="521496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椭圆 136"/>
            <p:cNvSpPr/>
            <p:nvPr/>
          </p:nvSpPr>
          <p:spPr>
            <a:xfrm>
              <a:off x="4429440" y="528660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椭圆 137"/>
            <p:cNvSpPr/>
            <p:nvPr/>
          </p:nvSpPr>
          <p:spPr>
            <a:xfrm>
              <a:off x="4214880" y="528660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椭圆 138"/>
            <p:cNvSpPr/>
            <p:nvPr/>
          </p:nvSpPr>
          <p:spPr>
            <a:xfrm>
              <a:off x="4429440" y="521496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椭圆 139"/>
            <p:cNvSpPr/>
            <p:nvPr/>
          </p:nvSpPr>
          <p:spPr>
            <a:xfrm>
              <a:off x="4286160" y="514332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椭圆 141"/>
            <p:cNvSpPr/>
            <p:nvPr/>
          </p:nvSpPr>
          <p:spPr>
            <a:xfrm>
              <a:off x="4286160" y="507204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椭圆 142"/>
            <p:cNvSpPr/>
            <p:nvPr/>
          </p:nvSpPr>
          <p:spPr>
            <a:xfrm>
              <a:off x="4357800" y="5143320"/>
              <a:ext cx="71280" cy="71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组合 155"/>
          <p:cNvGrpSpPr/>
          <p:nvPr/>
        </p:nvGrpSpPr>
        <p:grpSpPr>
          <a:xfrm>
            <a:off x="9429840" y="3000240"/>
            <a:ext cx="1000080" cy="1214640"/>
            <a:chOff x="9429840" y="3000240"/>
            <a:chExt cx="1000080" cy="1214640"/>
          </a:xfrm>
        </p:grpSpPr>
        <p:pic>
          <p:nvPicPr>
            <p:cNvPr id="242" name="图片 156" descr="gongc3.png"/>
            <p:cNvPicPr/>
            <p:nvPr/>
          </p:nvPicPr>
          <p:blipFill>
            <a:blip r:embed="rId64"/>
            <a:stretch/>
          </p:blipFill>
          <p:spPr>
            <a:xfrm>
              <a:off x="9429840" y="3143160"/>
              <a:ext cx="901800" cy="1071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图片 157" descr="gongchengshebei2_0013.png"/>
            <p:cNvPicPr/>
            <p:nvPr/>
          </p:nvPicPr>
          <p:blipFill>
            <a:blip r:embed="rId65"/>
            <a:stretch/>
          </p:blipFill>
          <p:spPr>
            <a:xfrm>
              <a:off x="10215720" y="3000240"/>
              <a:ext cx="214200" cy="745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图片 158" descr="200.png"/>
          <p:cNvPicPr/>
          <p:nvPr/>
        </p:nvPicPr>
        <p:blipFill>
          <a:blip r:embed="rId66"/>
          <a:stretch/>
        </p:blipFill>
        <p:spPr>
          <a:xfrm>
            <a:off x="9144000" y="5500800"/>
            <a:ext cx="1000080" cy="358560"/>
          </a:xfrm>
          <a:prstGeom prst="rect">
            <a:avLst/>
          </a:prstGeom>
          <a:ln w="0">
            <a:noFill/>
          </a:ln>
        </p:spPr>
      </p:pic>
      <p:pic>
        <p:nvPicPr>
          <p:cNvPr id="245" name="图片 98" descr="200.png"/>
          <p:cNvPicPr/>
          <p:nvPr/>
        </p:nvPicPr>
        <p:blipFill>
          <a:blip r:embed="rId67"/>
          <a:stretch/>
        </p:blipFill>
        <p:spPr>
          <a:xfrm>
            <a:off x="4857840" y="5479920"/>
            <a:ext cx="1000080" cy="358920"/>
          </a:xfrm>
          <a:prstGeom prst="rect">
            <a:avLst/>
          </a:prstGeom>
          <a:ln w="0">
            <a:noFill/>
          </a:ln>
        </p:spPr>
      </p:pic>
      <p:sp>
        <p:nvSpPr>
          <p:cNvPr id="246" name="直接连接符 145"/>
          <p:cNvSpPr/>
          <p:nvPr/>
        </p:nvSpPr>
        <p:spPr>
          <a:xfrm flipH="1" flipV="1">
            <a:off x="356760" y="3429000"/>
            <a:ext cx="19080" cy="165888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357120" y="2714400"/>
            <a:ext cx="1215000" cy="714600"/>
            <a:chOff x="357120" y="2714400"/>
            <a:chExt cx="1215000" cy="714600"/>
          </a:xfrm>
        </p:grpSpPr>
        <p:cxnSp>
          <p:nvCxnSpPr>
            <p:cNvPr id="248" name="直接箭头连接符 147"/>
            <p:cNvCxnSpPr/>
            <p:nvPr/>
          </p:nvCxnSpPr>
          <p:spPr>
            <a:xfrm flipV="1">
              <a:off x="357120" y="2714400"/>
              <a:ext cx="1215360" cy="714960"/>
            </a:xfrm>
            <a:prstGeom prst="straightConnector1">
              <a:avLst/>
            </a:prstGeom>
            <a:ln w="38160">
              <a:solidFill>
                <a:srgbClr val="ffffff"/>
              </a:solidFill>
              <a:prstDash val="sysDot"/>
              <a:bevel/>
              <a:tailEnd len="med" type="arrow" w="med"/>
            </a:ln>
          </p:spPr>
        </p:cxnSp>
        <p:sp>
          <p:nvSpPr>
            <p:cNvPr id="249" name=""/>
            <p:cNvSpPr txBox="1"/>
            <p:nvPr/>
          </p:nvSpPr>
          <p:spPr>
            <a:xfrm rot="10800000">
              <a:off x="357120" y="2714760"/>
              <a:ext cx="1214640" cy="714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圆角矩形 148"/>
          <p:cNvSpPr/>
          <p:nvPr/>
        </p:nvSpPr>
        <p:spPr>
          <a:xfrm>
            <a:off x="1571760" y="1928880"/>
            <a:ext cx="3643200" cy="1143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在这片树林里，我是一个幼童，在长辈的呵护下快乐的成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151"/>
          <p:cNvSpPr/>
          <p:nvPr/>
        </p:nvSpPr>
        <p:spPr>
          <a:xfrm>
            <a:off x="357120" y="3857760"/>
            <a:ext cx="1857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52"/>
          <p:cNvSpPr/>
          <p:nvPr/>
        </p:nvSpPr>
        <p:spPr>
          <a:xfrm>
            <a:off x="428760" y="3429000"/>
            <a:ext cx="200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幼圆"/>
                <a:ea typeface="幼圆"/>
              </a:rPr>
              <a:t>然而有一天</a:t>
            </a:r>
            <a:r>
              <a:rPr b="1" lang="en-US" sz="2000" spc="-1" strike="noStrike">
                <a:solidFill>
                  <a:srgbClr val="ffffff"/>
                </a:solidFill>
                <a:latin typeface="幼圆"/>
                <a:ea typeface="幼圆"/>
              </a:rPr>
              <a:t>~~~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圆角矩形 160"/>
          <p:cNvSpPr/>
          <p:nvPr/>
        </p:nvSpPr>
        <p:spPr>
          <a:xfrm>
            <a:off x="4572000" y="3143160"/>
            <a:ext cx="378612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人类的到来，改变了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2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3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3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39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39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9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9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9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9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3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3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9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E-006 -2.15904E-006 C 0.07014 -0.03282 0.14063 -0.06542 0.26459 -0.07328 C 0.38872 -0.0809 0.56615 -0.06403 0.74376 -0.04692 E">
                                      <p:cBhvr>
                                        <p:cTn id="424" dur="3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6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440" dur="1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2" nodeType="after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46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5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4 0.20971 E">
                                      <p:cBhvr>
                                        <p:cTn id="459" dur="1000" fill="hold"/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autoRev="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5364 0.20971 E">
                                      <p:cBhvr>
                                        <p:cTn id="461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6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6001"/>
                            </p:stCondLst>
                            <p:childTnLst>
                              <p:par>
                                <p:cTn id="4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6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89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9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07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3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1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5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28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31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2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18001"/>
                            </p:stCondLst>
                            <p:childTnLst>
                              <p:par>
                                <p:cTn id="6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9001"/>
                            </p:stCondLst>
                            <p:childTnLst>
                              <p:par>
                                <p:cTn id="63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3.23699E-006 L -0.46806 -0.00277 E">
                                      <p:cBhvr>
                                        <p:cTn id="640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21001"/>
                            </p:stCondLst>
                            <p:childTnLst>
                              <p:par>
                                <p:cTn id="64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nodeType="afterEffect" fill="hold">
                            <p:stCondLst>
                              <p:cond delay="21002"/>
                            </p:stCondLst>
                            <p:childTnLst>
                              <p:par>
                                <p:cTn id="6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101 0.0104 E">
                                      <p:cBhvr>
                                        <p:cTn id="648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101 0.0104 E">
                                      <p:cBhvr>
                                        <p:cTn id="650" dur="2000" fill="hold"/>
                                        <p:tgtEl>
                                          <p:spTgt spid="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3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nodeType="afterEffect" fill="hold">
                            <p:stCondLst>
                              <p:cond delay="23002"/>
                            </p:stCondLst>
                            <p:childTnLst>
                              <p:par>
                                <p:cTn id="65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5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23502"/>
                            </p:stCondLst>
                            <p:childTnLst>
                              <p:par>
                                <p:cTn id="6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0.00023 L 0.5283 0.00023 E">
                                      <p:cBhvr>
                                        <p:cTn id="662" dur="2000" fill="hold"/>
                                        <p:tgtEl>
                                          <p:spTgt spid="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图片 43" descr="WEW.png"/>
          <p:cNvPicPr/>
          <p:nvPr/>
        </p:nvPicPr>
        <p:blipFill>
          <a:blip r:embed="rId1"/>
          <a:stretch/>
        </p:blipFill>
        <p:spPr>
          <a:xfrm>
            <a:off x="5143680" y="6000840"/>
            <a:ext cx="295200" cy="142920"/>
          </a:xfrm>
          <a:prstGeom prst="rect">
            <a:avLst/>
          </a:prstGeom>
          <a:ln w="0">
            <a:noFill/>
          </a:ln>
        </p:spPr>
      </p:pic>
      <p:sp>
        <p:nvSpPr>
          <p:cNvPr id="255" name="直接连接符 21"/>
          <p:cNvSpPr/>
          <p:nvPr/>
        </p:nvSpPr>
        <p:spPr>
          <a:xfrm>
            <a:off x="4714920" y="5857920"/>
            <a:ext cx="9858240" cy="14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图片 16" descr="无标大幅度.png"/>
          <p:cNvPicPr/>
          <p:nvPr/>
        </p:nvPicPr>
        <p:blipFill>
          <a:blip r:embed="rId2"/>
          <a:srcRect l="0" t="0" r="64661" b="3318"/>
          <a:stretch/>
        </p:blipFill>
        <p:spPr>
          <a:xfrm>
            <a:off x="3071880" y="478620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257" name="图片 1" descr="200.png"/>
          <p:cNvPicPr/>
          <p:nvPr/>
        </p:nvPicPr>
        <p:blipFill>
          <a:blip r:embed="rId3"/>
          <a:stretch/>
        </p:blipFill>
        <p:spPr>
          <a:xfrm>
            <a:off x="-1000080" y="5500800"/>
            <a:ext cx="1000080" cy="358560"/>
          </a:xfrm>
          <a:prstGeom prst="rect">
            <a:avLst/>
          </a:prstGeom>
          <a:ln w="0">
            <a:noFill/>
          </a:ln>
        </p:spPr>
      </p:pic>
      <p:sp>
        <p:nvSpPr>
          <p:cNvPr id="258" name="直接连接符 3"/>
          <p:cNvSpPr/>
          <p:nvPr/>
        </p:nvSpPr>
        <p:spPr>
          <a:xfrm>
            <a:off x="0" y="5857920"/>
            <a:ext cx="6215040" cy="14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7" descr="无标大幅度.png"/>
          <p:cNvPicPr/>
          <p:nvPr/>
        </p:nvPicPr>
        <p:blipFill>
          <a:blip r:embed="rId4"/>
          <a:srcRect l="35491" t="0" r="0" b="512"/>
          <a:stretch/>
        </p:blipFill>
        <p:spPr>
          <a:xfrm>
            <a:off x="4071960" y="4857840"/>
            <a:ext cx="2000160" cy="114300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28" descr="2009110521380829.png"/>
          <p:cNvPicPr/>
          <p:nvPr/>
        </p:nvPicPr>
        <p:blipFill>
          <a:blip r:embed="rId5"/>
          <a:stretch/>
        </p:blipFill>
        <p:spPr>
          <a:xfrm>
            <a:off x="221472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32" descr="2009110521380829.png"/>
          <p:cNvPicPr/>
          <p:nvPr/>
        </p:nvPicPr>
        <p:blipFill>
          <a:blip r:embed="rId6"/>
          <a:stretch/>
        </p:blipFill>
        <p:spPr>
          <a:xfrm>
            <a:off x="250020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62" name="图片 33" descr="2009110521380829.png"/>
          <p:cNvPicPr/>
          <p:nvPr/>
        </p:nvPicPr>
        <p:blipFill>
          <a:blip r:embed="rId7"/>
          <a:stretch/>
        </p:blipFill>
        <p:spPr>
          <a:xfrm>
            <a:off x="278604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63" name="图片 34" descr="2009110521380829.png"/>
          <p:cNvPicPr/>
          <p:nvPr/>
        </p:nvPicPr>
        <p:blipFill>
          <a:blip r:embed="rId8"/>
          <a:stretch/>
        </p:blipFill>
        <p:spPr>
          <a:xfrm>
            <a:off x="307188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4" name="图片 35" descr="2009110521380829.png"/>
          <p:cNvPicPr/>
          <p:nvPr/>
        </p:nvPicPr>
        <p:blipFill>
          <a:blip r:embed="rId9"/>
          <a:stretch/>
        </p:blipFill>
        <p:spPr>
          <a:xfrm>
            <a:off x="335772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5" name="图片 36" descr="2009110521380829.png"/>
          <p:cNvPicPr/>
          <p:nvPr/>
        </p:nvPicPr>
        <p:blipFill>
          <a:blip r:embed="rId10"/>
          <a:stretch/>
        </p:blipFill>
        <p:spPr>
          <a:xfrm>
            <a:off x="78588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6" name="图片 37" descr="2009110521380829.png"/>
          <p:cNvPicPr/>
          <p:nvPr/>
        </p:nvPicPr>
        <p:blipFill>
          <a:blip r:embed="rId11"/>
          <a:stretch/>
        </p:blipFill>
        <p:spPr>
          <a:xfrm>
            <a:off x="107172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67" name="图片 38" descr="2009110521380829.png"/>
          <p:cNvPicPr/>
          <p:nvPr/>
        </p:nvPicPr>
        <p:blipFill>
          <a:blip r:embed="rId12"/>
          <a:stretch/>
        </p:blipFill>
        <p:spPr>
          <a:xfrm>
            <a:off x="135720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68" name="图片 39" descr="2009110521380829.png"/>
          <p:cNvPicPr/>
          <p:nvPr/>
        </p:nvPicPr>
        <p:blipFill>
          <a:blip r:embed="rId13"/>
          <a:stretch/>
        </p:blipFill>
        <p:spPr>
          <a:xfrm>
            <a:off x="164304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40" descr="2009110521380829.png"/>
          <p:cNvPicPr/>
          <p:nvPr/>
        </p:nvPicPr>
        <p:blipFill>
          <a:blip r:embed="rId14"/>
          <a:stretch/>
        </p:blipFill>
        <p:spPr>
          <a:xfrm>
            <a:off x="192888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41" descr="2009110521380829.png"/>
          <p:cNvPicPr/>
          <p:nvPr/>
        </p:nvPicPr>
        <p:blipFill>
          <a:blip r:embed="rId15"/>
          <a:stretch/>
        </p:blipFill>
        <p:spPr>
          <a:xfrm>
            <a:off x="23004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71" name="图片 42" descr="2009110521380829.png"/>
          <p:cNvPicPr/>
          <p:nvPr/>
        </p:nvPicPr>
        <p:blipFill>
          <a:blip r:embed="rId16"/>
          <a:stretch/>
        </p:blipFill>
        <p:spPr>
          <a:xfrm>
            <a:off x="-55440" y="5643720"/>
            <a:ext cx="412560" cy="571320"/>
          </a:xfrm>
          <a:prstGeom prst="rect">
            <a:avLst/>
          </a:prstGeom>
          <a:ln w="0">
            <a:noFill/>
          </a:ln>
        </p:spPr>
      </p:pic>
      <p:pic>
        <p:nvPicPr>
          <p:cNvPr id="272" name="图片 44" descr="2009110521380829.png"/>
          <p:cNvPicPr/>
          <p:nvPr/>
        </p:nvPicPr>
        <p:blipFill>
          <a:blip r:embed="rId17"/>
          <a:stretch/>
        </p:blipFill>
        <p:spPr>
          <a:xfrm>
            <a:off x="500040" y="5643720"/>
            <a:ext cx="412920" cy="57132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45" descr="2009110521380829.png"/>
          <p:cNvPicPr/>
          <p:nvPr/>
        </p:nvPicPr>
        <p:blipFill>
          <a:blip r:embed="rId18"/>
          <a:srcRect l="16659" t="73430" r="22212" b="14568"/>
          <a:stretch/>
        </p:blipFill>
        <p:spPr>
          <a:xfrm>
            <a:off x="4929120" y="564372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46" descr="2009110521380829.png"/>
          <p:cNvPicPr/>
          <p:nvPr/>
        </p:nvPicPr>
        <p:blipFill>
          <a:blip r:embed="rId19"/>
          <a:srcRect l="16659" t="73430" r="22212" b="14568"/>
          <a:stretch/>
        </p:blipFill>
        <p:spPr>
          <a:xfrm>
            <a:off x="3500280" y="6072120"/>
            <a:ext cx="785880" cy="214560"/>
          </a:xfrm>
          <a:prstGeom prst="rect">
            <a:avLst/>
          </a:prstGeom>
          <a:ln w="0">
            <a:noFill/>
          </a:ln>
        </p:spPr>
      </p:pic>
      <p:pic>
        <p:nvPicPr>
          <p:cNvPr id="275" name="图片 47" descr="2009110521380829.png"/>
          <p:cNvPicPr/>
          <p:nvPr/>
        </p:nvPicPr>
        <p:blipFill>
          <a:blip r:embed="rId20"/>
          <a:srcRect l="16659" t="73430" r="22212" b="14568"/>
          <a:stretch/>
        </p:blipFill>
        <p:spPr>
          <a:xfrm>
            <a:off x="4643280" y="6072120"/>
            <a:ext cx="785880" cy="214560"/>
          </a:xfrm>
          <a:prstGeom prst="rect">
            <a:avLst/>
          </a:prstGeom>
          <a:ln w="0">
            <a:noFill/>
          </a:ln>
        </p:spPr>
      </p:pic>
      <p:pic>
        <p:nvPicPr>
          <p:cNvPr id="276" name="图片 53" descr="2009110521380829.png"/>
          <p:cNvPicPr/>
          <p:nvPr/>
        </p:nvPicPr>
        <p:blipFill>
          <a:blip r:embed="rId21"/>
          <a:srcRect l="16659" t="73430" r="22212" b="14568"/>
          <a:stretch/>
        </p:blipFill>
        <p:spPr>
          <a:xfrm>
            <a:off x="3857760" y="5643720"/>
            <a:ext cx="785520" cy="21420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55" descr="2009110521380829.png"/>
          <p:cNvPicPr/>
          <p:nvPr/>
        </p:nvPicPr>
        <p:blipFill>
          <a:blip r:embed="rId22"/>
          <a:srcRect l="16659" t="73430" r="22212" b="14568"/>
          <a:stretch/>
        </p:blipFill>
        <p:spPr>
          <a:xfrm>
            <a:off x="2428920" y="550080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78" name="图片 57" descr="2009110521380829.png"/>
          <p:cNvPicPr/>
          <p:nvPr/>
        </p:nvPicPr>
        <p:blipFill>
          <a:blip r:embed="rId23"/>
          <a:srcRect l="16659" t="73430" r="22212" b="14568"/>
          <a:stretch/>
        </p:blipFill>
        <p:spPr>
          <a:xfrm>
            <a:off x="2643120" y="6072120"/>
            <a:ext cx="785880" cy="214560"/>
          </a:xfrm>
          <a:prstGeom prst="rect">
            <a:avLst/>
          </a:prstGeom>
          <a:ln w="0">
            <a:noFill/>
          </a:ln>
        </p:spPr>
      </p:pic>
      <p:pic>
        <p:nvPicPr>
          <p:cNvPr id="279" name="图片 58" descr="2009110521380829.png"/>
          <p:cNvPicPr/>
          <p:nvPr/>
        </p:nvPicPr>
        <p:blipFill>
          <a:blip r:embed="rId24"/>
          <a:srcRect l="16659" t="73430" r="22212" b="14568"/>
          <a:stretch/>
        </p:blipFill>
        <p:spPr>
          <a:xfrm>
            <a:off x="8001000" y="571500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80" name="图片 59" descr="2009110521380829.png"/>
          <p:cNvPicPr/>
          <p:nvPr/>
        </p:nvPicPr>
        <p:blipFill>
          <a:blip r:embed="rId25"/>
          <a:srcRect l="16659" t="73430" r="22212" b="14568"/>
          <a:stretch/>
        </p:blipFill>
        <p:spPr>
          <a:xfrm>
            <a:off x="6357960" y="600084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81" name="图片 60" descr="2009110521380829.png"/>
          <p:cNvPicPr/>
          <p:nvPr/>
        </p:nvPicPr>
        <p:blipFill>
          <a:blip r:embed="rId26"/>
          <a:srcRect l="16659" t="73430" r="22212" b="14568"/>
          <a:stretch/>
        </p:blipFill>
        <p:spPr>
          <a:xfrm>
            <a:off x="6072120" y="564372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82" name="图片 61" descr="2009110521380829.png"/>
          <p:cNvPicPr/>
          <p:nvPr/>
        </p:nvPicPr>
        <p:blipFill>
          <a:blip r:embed="rId27"/>
          <a:srcRect l="16659" t="73430" r="22212" b="14568"/>
          <a:stretch/>
        </p:blipFill>
        <p:spPr>
          <a:xfrm>
            <a:off x="7143840" y="6000840"/>
            <a:ext cx="785880" cy="214200"/>
          </a:xfrm>
          <a:prstGeom prst="rect">
            <a:avLst/>
          </a:prstGeom>
          <a:ln w="0">
            <a:noFill/>
          </a:ln>
        </p:spPr>
      </p:pic>
      <p:pic>
        <p:nvPicPr>
          <p:cNvPr id="283" name="图片 25" descr="200.png"/>
          <p:cNvPicPr/>
          <p:nvPr/>
        </p:nvPicPr>
        <p:blipFill>
          <a:blip r:embed="rId28"/>
          <a:stretch/>
        </p:blipFill>
        <p:spPr>
          <a:xfrm>
            <a:off x="857160" y="5500800"/>
            <a:ext cx="1000080" cy="358560"/>
          </a:xfrm>
          <a:prstGeom prst="rect">
            <a:avLst/>
          </a:prstGeom>
          <a:ln w="0">
            <a:noFill/>
          </a:ln>
        </p:spPr>
      </p:pic>
      <p:sp>
        <p:nvSpPr>
          <p:cNvPr id="284" name="TextBox 238"/>
          <p:cNvSpPr/>
          <p:nvPr/>
        </p:nvSpPr>
        <p:spPr>
          <a:xfrm>
            <a:off x="1928880" y="271476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物质满足的背后，是环境的苍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48"/>
          <p:cNvSpPr/>
          <p:nvPr/>
        </p:nvSpPr>
        <p:spPr>
          <a:xfrm>
            <a:off x="285840" y="3143160"/>
            <a:ext cx="4071960" cy="9288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为了眼前的利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不惜付出未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0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56059E-006 L 0.64913 -0.00277 E">
                                      <p:cBhvr>
                                        <p:cTn id="668" dur="3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3001"/>
                            </p:stCondLst>
                            <p:childTnLst>
                              <p:par>
                                <p:cTn id="6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701 0 E">
                                      <p:cBhvr>
                                        <p:cTn id="679" dur="2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701 0 E">
                                      <p:cBhvr>
                                        <p:cTn id="681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701 0 E">
                                      <p:cBhvr>
                                        <p:cTn id="68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5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6701 0 E">
                                      <p:cBhvr>
                                        <p:cTn id="690" dur="2000" fill="hold"/>
                                        <p:tgtEl>
                                          <p:spTgt spid="2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692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694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69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69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2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6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08" dur="2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10" dur="2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12" dur="2000" fill="hold"/>
                                        <p:tgtEl>
                                          <p:spTgt spid="2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14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6233 0 E">
                                      <p:cBhvr>
                                        <p:cTn id="716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nodeType="afterEffect" fill="hold">
                            <p:stCondLst>
                              <p:cond delay="5001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59112E-006 L 0.93437 -0.00254 E">
                                      <p:cBhvr>
                                        <p:cTn id="721" dur="5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4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10001"/>
                            </p:stCondLst>
                            <p:childTnLst>
                              <p:par>
                                <p:cTn id="761" nodeType="afterEffect" fill="hold" presetClass="exit" presetID="47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3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矩形 114"/>
          <p:cNvSpPr/>
          <p:nvPr/>
        </p:nvSpPr>
        <p:spPr>
          <a:xfrm>
            <a:off x="500040" y="5500800"/>
            <a:ext cx="842976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图片 66" descr="未标题1.png"/>
          <p:cNvPicPr/>
          <p:nvPr/>
        </p:nvPicPr>
        <p:blipFill>
          <a:blip r:embed="rId1"/>
          <a:stretch/>
        </p:blipFill>
        <p:spPr>
          <a:xfrm>
            <a:off x="1108080" y="5643720"/>
            <a:ext cx="2143080" cy="214200"/>
          </a:xfrm>
          <a:prstGeom prst="rect">
            <a:avLst/>
          </a:prstGeom>
          <a:ln w="0">
            <a:noFill/>
          </a:ln>
        </p:spPr>
      </p:pic>
      <p:pic>
        <p:nvPicPr>
          <p:cNvPr id="288" name="图片 78" descr="未标题1.png"/>
          <p:cNvPicPr/>
          <p:nvPr/>
        </p:nvPicPr>
        <p:blipFill>
          <a:blip r:embed="rId2"/>
          <a:stretch/>
        </p:blipFill>
        <p:spPr>
          <a:xfrm>
            <a:off x="3214800" y="5643720"/>
            <a:ext cx="2143080" cy="214200"/>
          </a:xfrm>
          <a:prstGeom prst="rect">
            <a:avLst/>
          </a:prstGeom>
          <a:ln w="0">
            <a:noFill/>
          </a:ln>
        </p:spPr>
      </p:pic>
      <p:pic>
        <p:nvPicPr>
          <p:cNvPr id="289" name="图片 52" descr="未标题1.png"/>
          <p:cNvPicPr/>
          <p:nvPr/>
        </p:nvPicPr>
        <p:blipFill>
          <a:blip r:embed="rId3"/>
          <a:stretch/>
        </p:blipFill>
        <p:spPr>
          <a:xfrm>
            <a:off x="7429680" y="5643720"/>
            <a:ext cx="1571400" cy="214200"/>
          </a:xfrm>
          <a:prstGeom prst="rect">
            <a:avLst/>
          </a:prstGeom>
          <a:ln w="0">
            <a:noFill/>
          </a:ln>
        </p:spPr>
      </p:pic>
      <p:pic>
        <p:nvPicPr>
          <p:cNvPr id="290" name="图片 86" descr="未标题1.png"/>
          <p:cNvPicPr/>
          <p:nvPr/>
        </p:nvPicPr>
        <p:blipFill>
          <a:blip r:embed="rId4"/>
          <a:stretch/>
        </p:blipFill>
        <p:spPr>
          <a:xfrm>
            <a:off x="4965840" y="5643720"/>
            <a:ext cx="1571400" cy="214200"/>
          </a:xfrm>
          <a:prstGeom prst="rect">
            <a:avLst/>
          </a:prstGeom>
          <a:ln w="0">
            <a:noFill/>
          </a:ln>
        </p:spPr>
      </p:pic>
      <p:pic>
        <p:nvPicPr>
          <p:cNvPr id="291" name="图片 87" descr="未标题1.png"/>
          <p:cNvPicPr/>
          <p:nvPr/>
        </p:nvPicPr>
        <p:blipFill>
          <a:blip r:embed="rId5"/>
          <a:stretch/>
        </p:blipFill>
        <p:spPr>
          <a:xfrm>
            <a:off x="6072120" y="5643720"/>
            <a:ext cx="857160" cy="214200"/>
          </a:xfrm>
          <a:prstGeom prst="rect">
            <a:avLst/>
          </a:prstGeom>
          <a:ln w="0">
            <a:noFill/>
          </a:ln>
        </p:spPr>
      </p:pic>
      <p:pic>
        <p:nvPicPr>
          <p:cNvPr id="292" name="图片 84" descr="未标题1.png"/>
          <p:cNvPicPr/>
          <p:nvPr/>
        </p:nvPicPr>
        <p:blipFill>
          <a:blip r:embed="rId6"/>
          <a:stretch/>
        </p:blipFill>
        <p:spPr>
          <a:xfrm>
            <a:off x="5572080" y="5643720"/>
            <a:ext cx="2428920" cy="21420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769" descr="未标题1.png"/>
          <p:cNvPicPr/>
          <p:nvPr/>
        </p:nvPicPr>
        <p:blipFill>
          <a:blip r:embed="rId7"/>
          <a:stretch/>
        </p:blipFill>
        <p:spPr>
          <a:xfrm>
            <a:off x="749160" y="5643720"/>
            <a:ext cx="2428920" cy="21420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95" descr="未标题1.png"/>
          <p:cNvPicPr/>
          <p:nvPr/>
        </p:nvPicPr>
        <p:blipFill>
          <a:blip r:embed="rId8"/>
          <a:stretch/>
        </p:blipFill>
        <p:spPr>
          <a:xfrm>
            <a:off x="5299200" y="5643720"/>
            <a:ext cx="1473120" cy="214200"/>
          </a:xfrm>
          <a:prstGeom prst="rect">
            <a:avLst/>
          </a:prstGeom>
          <a:ln w="0">
            <a:noFill/>
          </a:ln>
        </p:spPr>
      </p:pic>
      <p:pic>
        <p:nvPicPr>
          <p:cNvPr id="295" name="图片 79" descr="未标题1.png"/>
          <p:cNvPicPr/>
          <p:nvPr/>
        </p:nvPicPr>
        <p:blipFill>
          <a:blip r:embed="rId9"/>
          <a:stretch/>
        </p:blipFill>
        <p:spPr>
          <a:xfrm>
            <a:off x="2857680" y="5643720"/>
            <a:ext cx="2428560" cy="21420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96" descr="未标题1.png"/>
          <p:cNvPicPr/>
          <p:nvPr/>
        </p:nvPicPr>
        <p:blipFill>
          <a:blip r:embed="rId10"/>
          <a:stretch/>
        </p:blipFill>
        <p:spPr>
          <a:xfrm>
            <a:off x="4869000" y="5643720"/>
            <a:ext cx="2763720" cy="21420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93" descr="未标题1.png"/>
          <p:cNvPicPr/>
          <p:nvPr/>
        </p:nvPicPr>
        <p:blipFill>
          <a:blip r:embed="rId11"/>
          <a:stretch/>
        </p:blipFill>
        <p:spPr>
          <a:xfrm>
            <a:off x="3348000" y="5643720"/>
            <a:ext cx="2805120" cy="21420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94" descr="未标题1.png"/>
          <p:cNvPicPr/>
          <p:nvPr/>
        </p:nvPicPr>
        <p:blipFill>
          <a:blip r:embed="rId12"/>
          <a:stretch/>
        </p:blipFill>
        <p:spPr>
          <a:xfrm>
            <a:off x="2870280" y="5643720"/>
            <a:ext cx="3330360" cy="214200"/>
          </a:xfrm>
          <a:prstGeom prst="rect">
            <a:avLst/>
          </a:prstGeom>
          <a:ln w="0">
            <a:noFill/>
          </a:ln>
        </p:spPr>
      </p:pic>
      <p:pic>
        <p:nvPicPr>
          <p:cNvPr id="299" name="图片 100" descr="未标题1.png"/>
          <p:cNvPicPr/>
          <p:nvPr/>
        </p:nvPicPr>
        <p:blipFill>
          <a:blip r:embed="rId13"/>
          <a:stretch/>
        </p:blipFill>
        <p:spPr>
          <a:xfrm>
            <a:off x="7286760" y="4809960"/>
            <a:ext cx="214200" cy="1690920"/>
          </a:xfrm>
          <a:prstGeom prst="rect">
            <a:avLst/>
          </a:prstGeom>
          <a:ln w="0">
            <a:noFill/>
          </a:ln>
        </p:spPr>
      </p:pic>
      <p:sp>
        <p:nvSpPr>
          <p:cNvPr id="300" name="直接连接符 107"/>
          <p:cNvSpPr/>
          <p:nvPr/>
        </p:nvSpPr>
        <p:spPr>
          <a:xfrm flipH="1" flipV="1">
            <a:off x="157320" y="450072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108"/>
          <p:cNvSpPr/>
          <p:nvPr/>
        </p:nvSpPr>
        <p:spPr>
          <a:xfrm flipH="1">
            <a:off x="309600" y="442908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109"/>
          <p:cNvSpPr/>
          <p:nvPr/>
        </p:nvSpPr>
        <p:spPr>
          <a:xfrm flipH="1" flipV="1">
            <a:off x="461880" y="435780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直接连接符 110"/>
          <p:cNvSpPr/>
          <p:nvPr/>
        </p:nvSpPr>
        <p:spPr>
          <a:xfrm flipH="1">
            <a:off x="614520" y="428616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直接连接符 111"/>
          <p:cNvSpPr/>
          <p:nvPr/>
        </p:nvSpPr>
        <p:spPr>
          <a:xfrm flipH="1" flipV="1">
            <a:off x="766800" y="421488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112"/>
          <p:cNvSpPr/>
          <p:nvPr/>
        </p:nvSpPr>
        <p:spPr>
          <a:xfrm flipH="1">
            <a:off x="919080" y="414324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113"/>
          <p:cNvSpPr/>
          <p:nvPr/>
        </p:nvSpPr>
        <p:spPr>
          <a:xfrm flipH="1">
            <a:off x="1071720" y="414324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图片 97" descr="未标题1.png"/>
          <p:cNvPicPr/>
          <p:nvPr/>
        </p:nvPicPr>
        <p:blipFill>
          <a:blip r:embed="rId14"/>
          <a:stretch/>
        </p:blipFill>
        <p:spPr>
          <a:xfrm>
            <a:off x="7500960" y="4368960"/>
            <a:ext cx="214200" cy="276372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99" descr="未标题1.png"/>
          <p:cNvPicPr/>
          <p:nvPr/>
        </p:nvPicPr>
        <p:blipFill>
          <a:blip r:embed="rId15"/>
          <a:stretch/>
        </p:blipFill>
        <p:spPr>
          <a:xfrm>
            <a:off x="7715160" y="4714920"/>
            <a:ext cx="214560" cy="1977840"/>
          </a:xfrm>
          <a:prstGeom prst="rect">
            <a:avLst/>
          </a:prstGeom>
          <a:ln w="0">
            <a:noFill/>
          </a:ln>
        </p:spPr>
      </p:pic>
      <p:pic>
        <p:nvPicPr>
          <p:cNvPr id="309" name="图片 101" descr="未标题1.png"/>
          <p:cNvPicPr/>
          <p:nvPr/>
        </p:nvPicPr>
        <p:blipFill>
          <a:blip r:embed="rId16"/>
          <a:stretch/>
        </p:blipFill>
        <p:spPr>
          <a:xfrm>
            <a:off x="3214800" y="4929120"/>
            <a:ext cx="214200" cy="1692360"/>
          </a:xfrm>
          <a:prstGeom prst="rect">
            <a:avLst/>
          </a:prstGeom>
          <a:ln w="0">
            <a:noFill/>
          </a:ln>
        </p:spPr>
      </p:pic>
      <p:pic>
        <p:nvPicPr>
          <p:cNvPr id="310" name="图片 102" descr="未标题1.png"/>
          <p:cNvPicPr/>
          <p:nvPr/>
        </p:nvPicPr>
        <p:blipFill>
          <a:blip r:embed="rId17"/>
          <a:stretch/>
        </p:blipFill>
        <p:spPr>
          <a:xfrm>
            <a:off x="3429000" y="5072040"/>
            <a:ext cx="214200" cy="134460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80" descr="未标题1.png"/>
          <p:cNvPicPr/>
          <p:nvPr/>
        </p:nvPicPr>
        <p:blipFill>
          <a:blip r:embed="rId18"/>
          <a:stretch/>
        </p:blipFill>
        <p:spPr>
          <a:xfrm>
            <a:off x="2357280" y="5653080"/>
            <a:ext cx="847800" cy="204840"/>
          </a:xfrm>
          <a:prstGeom prst="rect">
            <a:avLst/>
          </a:prstGeom>
          <a:ln w="0">
            <a:noFill/>
          </a:ln>
        </p:spPr>
      </p:pic>
      <p:pic>
        <p:nvPicPr>
          <p:cNvPr id="312" name="图片 83" descr="未标题1.png"/>
          <p:cNvPicPr/>
          <p:nvPr/>
        </p:nvPicPr>
        <p:blipFill>
          <a:blip r:embed="rId19"/>
          <a:stretch/>
        </p:blipFill>
        <p:spPr>
          <a:xfrm>
            <a:off x="5929200" y="5643720"/>
            <a:ext cx="2143080" cy="214200"/>
          </a:xfrm>
          <a:prstGeom prst="rect">
            <a:avLst/>
          </a:prstGeom>
          <a:ln w="0">
            <a:noFill/>
          </a:ln>
        </p:spPr>
      </p:pic>
      <p:pic>
        <p:nvPicPr>
          <p:cNvPr id="313" name="图片 81" descr="未标题1.png"/>
          <p:cNvPicPr/>
          <p:nvPr/>
        </p:nvPicPr>
        <p:blipFill>
          <a:blip r:embed="rId20"/>
          <a:stretch/>
        </p:blipFill>
        <p:spPr>
          <a:xfrm>
            <a:off x="2251080" y="5643720"/>
            <a:ext cx="1571760" cy="21420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85" descr="未标题1.png"/>
          <p:cNvPicPr/>
          <p:nvPr/>
        </p:nvPicPr>
        <p:blipFill>
          <a:blip r:embed="rId21"/>
          <a:stretch/>
        </p:blipFill>
        <p:spPr>
          <a:xfrm>
            <a:off x="5072040" y="5653080"/>
            <a:ext cx="847800" cy="204840"/>
          </a:xfrm>
          <a:prstGeom prst="rect">
            <a:avLst/>
          </a:prstGeom>
          <a:ln w="0">
            <a:noFill/>
          </a:ln>
        </p:spPr>
      </p:pic>
      <p:pic>
        <p:nvPicPr>
          <p:cNvPr id="315" name="图片 82" descr="未标题1.png"/>
          <p:cNvPicPr/>
          <p:nvPr/>
        </p:nvPicPr>
        <p:blipFill>
          <a:blip r:embed="rId22"/>
          <a:stretch/>
        </p:blipFill>
        <p:spPr>
          <a:xfrm>
            <a:off x="3357720" y="5643720"/>
            <a:ext cx="857160" cy="214200"/>
          </a:xfrm>
          <a:prstGeom prst="rect">
            <a:avLst/>
          </a:prstGeom>
          <a:ln w="0">
            <a:noFill/>
          </a:ln>
        </p:spPr>
      </p:pic>
      <p:pic>
        <p:nvPicPr>
          <p:cNvPr id="316" name="图片 767" descr="未标题1.png"/>
          <p:cNvPicPr/>
          <p:nvPr/>
        </p:nvPicPr>
        <p:blipFill>
          <a:blip r:embed="rId23"/>
          <a:stretch/>
        </p:blipFill>
        <p:spPr>
          <a:xfrm>
            <a:off x="1071720" y="4429080"/>
            <a:ext cx="428400" cy="121464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65" descr="未标题1.png"/>
          <p:cNvPicPr/>
          <p:nvPr/>
        </p:nvPicPr>
        <p:blipFill>
          <a:blip r:embed="rId24"/>
          <a:stretch/>
        </p:blipFill>
        <p:spPr>
          <a:xfrm>
            <a:off x="8358120" y="4429080"/>
            <a:ext cx="428760" cy="1214640"/>
          </a:xfrm>
          <a:prstGeom prst="rect">
            <a:avLst/>
          </a:prstGeom>
          <a:ln w="0">
            <a:noFill/>
          </a:ln>
        </p:spPr>
      </p:pic>
      <p:sp>
        <p:nvSpPr>
          <p:cNvPr id="318" name="直接连接符 25"/>
          <p:cNvSpPr/>
          <p:nvPr/>
        </p:nvSpPr>
        <p:spPr>
          <a:xfrm flipH="1">
            <a:off x="1282320" y="3857760"/>
            <a:ext cx="32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42"/>
          <p:cNvSpPr/>
          <p:nvPr/>
        </p:nvSpPr>
        <p:spPr>
          <a:xfrm flipH="1" flipV="1">
            <a:off x="152280" y="507204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图片 51" descr="未标题1.png"/>
          <p:cNvPicPr/>
          <p:nvPr/>
        </p:nvPicPr>
        <p:blipFill>
          <a:blip r:embed="rId25"/>
          <a:stretch/>
        </p:blipFill>
        <p:spPr>
          <a:xfrm>
            <a:off x="7537320" y="5653080"/>
            <a:ext cx="847800" cy="20484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53" descr="未标题1.png"/>
          <p:cNvPicPr/>
          <p:nvPr/>
        </p:nvPicPr>
        <p:blipFill>
          <a:blip r:embed="rId26"/>
          <a:stretch/>
        </p:blipFill>
        <p:spPr>
          <a:xfrm>
            <a:off x="8537400" y="5643720"/>
            <a:ext cx="857520" cy="214200"/>
          </a:xfrm>
          <a:prstGeom prst="rect">
            <a:avLst/>
          </a:prstGeom>
          <a:ln w="0">
            <a:noFill/>
          </a:ln>
        </p:spPr>
      </p:pic>
      <p:sp>
        <p:nvSpPr>
          <p:cNvPr id="322" name="直接连接符 54"/>
          <p:cNvSpPr/>
          <p:nvPr/>
        </p:nvSpPr>
        <p:spPr>
          <a:xfrm flipH="1">
            <a:off x="8427600" y="4500720"/>
            <a:ext cx="1800" cy="11430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55"/>
          <p:cNvSpPr/>
          <p:nvPr/>
        </p:nvSpPr>
        <p:spPr>
          <a:xfrm flipH="1">
            <a:off x="8927640" y="4714920"/>
            <a:ext cx="1800" cy="9288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56"/>
          <p:cNvSpPr/>
          <p:nvPr/>
        </p:nvSpPr>
        <p:spPr>
          <a:xfrm flipH="1">
            <a:off x="8999640" y="4500720"/>
            <a:ext cx="1440" cy="11430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图片 19" descr="未标题1.png"/>
          <p:cNvPicPr/>
          <p:nvPr/>
        </p:nvPicPr>
        <p:blipFill>
          <a:blip r:embed="rId27"/>
          <a:stretch/>
        </p:blipFill>
        <p:spPr>
          <a:xfrm>
            <a:off x="250920" y="5653080"/>
            <a:ext cx="847800" cy="204840"/>
          </a:xfrm>
          <a:prstGeom prst="rect">
            <a:avLst/>
          </a:prstGeom>
          <a:ln w="0">
            <a:noFill/>
          </a:ln>
        </p:spPr>
      </p:pic>
      <p:pic>
        <p:nvPicPr>
          <p:cNvPr id="326" name="图片 766" descr="未标题1.png"/>
          <p:cNvPicPr/>
          <p:nvPr/>
        </p:nvPicPr>
        <p:blipFill>
          <a:blip r:embed="rId28"/>
          <a:stretch/>
        </p:blipFill>
        <p:spPr>
          <a:xfrm>
            <a:off x="142920" y="5643720"/>
            <a:ext cx="1571760" cy="214200"/>
          </a:xfrm>
          <a:prstGeom prst="rect">
            <a:avLst/>
          </a:prstGeom>
          <a:ln w="0">
            <a:noFill/>
          </a:ln>
        </p:spPr>
      </p:pic>
      <p:sp>
        <p:nvSpPr>
          <p:cNvPr id="327" name="直接连接符 38"/>
          <p:cNvSpPr/>
          <p:nvPr/>
        </p:nvSpPr>
        <p:spPr>
          <a:xfrm flipH="1" flipV="1">
            <a:off x="152280" y="535788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直接连接符 39"/>
          <p:cNvSpPr/>
          <p:nvPr/>
        </p:nvSpPr>
        <p:spPr>
          <a:xfrm flipH="1">
            <a:off x="152280" y="528624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直接连接符 21"/>
          <p:cNvSpPr/>
          <p:nvPr/>
        </p:nvSpPr>
        <p:spPr>
          <a:xfrm flipH="1">
            <a:off x="641520" y="442908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0" y="5857920"/>
            <a:ext cx="9144000" cy="1440"/>
          </a:xfrm>
          <a:prstGeom prst="line">
            <a:avLst/>
          </a:prstGeom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768" descr="未标题1.png"/>
          <p:cNvPicPr/>
          <p:nvPr/>
        </p:nvPicPr>
        <p:blipFill>
          <a:blip r:embed="rId29"/>
          <a:stretch/>
        </p:blipFill>
        <p:spPr>
          <a:xfrm>
            <a:off x="1251000" y="5643720"/>
            <a:ext cx="857160" cy="214200"/>
          </a:xfrm>
          <a:prstGeom prst="rect">
            <a:avLst/>
          </a:prstGeom>
          <a:ln w="0">
            <a:noFill/>
          </a:ln>
        </p:spPr>
      </p:pic>
      <p:pic>
        <p:nvPicPr>
          <p:cNvPr id="332" name="图片 770" descr="未标题1.png"/>
          <p:cNvPicPr/>
          <p:nvPr/>
        </p:nvPicPr>
        <p:blipFill>
          <a:blip r:embed="rId30"/>
          <a:stretch/>
        </p:blipFill>
        <p:spPr>
          <a:xfrm>
            <a:off x="9182160" y="2681280"/>
            <a:ext cx="2565360" cy="46080"/>
          </a:xfrm>
          <a:prstGeom prst="rect">
            <a:avLst/>
          </a:prstGeom>
          <a:ln w="0">
            <a:noFill/>
          </a:ln>
        </p:spPr>
      </p:pic>
      <p:sp>
        <p:nvSpPr>
          <p:cNvPr id="333" name="直接连接符 22"/>
          <p:cNvSpPr/>
          <p:nvPr/>
        </p:nvSpPr>
        <p:spPr>
          <a:xfrm flipH="1">
            <a:off x="855720" y="4286160"/>
            <a:ext cx="1440" cy="13575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3"/>
          <p:cNvSpPr/>
          <p:nvPr/>
        </p:nvSpPr>
        <p:spPr>
          <a:xfrm flipH="1">
            <a:off x="94572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直接连接符 24"/>
          <p:cNvSpPr/>
          <p:nvPr/>
        </p:nvSpPr>
        <p:spPr>
          <a:xfrm flipH="1">
            <a:off x="1141560" y="4500720"/>
            <a:ext cx="1440" cy="11430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直接连接符 26"/>
          <p:cNvSpPr/>
          <p:nvPr/>
        </p:nvSpPr>
        <p:spPr>
          <a:xfrm flipH="1">
            <a:off x="142884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直接连接符 28"/>
          <p:cNvSpPr/>
          <p:nvPr/>
        </p:nvSpPr>
        <p:spPr>
          <a:xfrm flipH="1">
            <a:off x="712800" y="4286160"/>
            <a:ext cx="1440" cy="13575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直接连接符 30"/>
          <p:cNvSpPr/>
          <p:nvPr/>
        </p:nvSpPr>
        <p:spPr>
          <a:xfrm flipH="1">
            <a:off x="0" y="557208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直接连接符 36"/>
          <p:cNvSpPr/>
          <p:nvPr/>
        </p:nvSpPr>
        <p:spPr>
          <a:xfrm flipH="1" flipV="1">
            <a:off x="152280" y="550080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直接连接符 37"/>
          <p:cNvSpPr/>
          <p:nvPr/>
        </p:nvSpPr>
        <p:spPr>
          <a:xfrm flipH="1">
            <a:off x="214200" y="571500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40"/>
          <p:cNvSpPr/>
          <p:nvPr/>
        </p:nvSpPr>
        <p:spPr>
          <a:xfrm flipH="1" flipV="1">
            <a:off x="152280" y="5214960"/>
            <a:ext cx="914400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41"/>
          <p:cNvSpPr/>
          <p:nvPr/>
        </p:nvSpPr>
        <p:spPr>
          <a:xfrm flipH="1">
            <a:off x="152280" y="514368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直接连接符 43"/>
          <p:cNvSpPr/>
          <p:nvPr/>
        </p:nvSpPr>
        <p:spPr>
          <a:xfrm flipH="1">
            <a:off x="152280" y="500076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直接连接符 44"/>
          <p:cNvSpPr/>
          <p:nvPr/>
        </p:nvSpPr>
        <p:spPr>
          <a:xfrm flipH="1" flipV="1">
            <a:off x="152280" y="492876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直接连接符 45"/>
          <p:cNvSpPr/>
          <p:nvPr/>
        </p:nvSpPr>
        <p:spPr>
          <a:xfrm flipH="1">
            <a:off x="152280" y="557208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直接连接符 46"/>
          <p:cNvSpPr/>
          <p:nvPr/>
        </p:nvSpPr>
        <p:spPr>
          <a:xfrm flipH="1">
            <a:off x="1641600" y="4572000"/>
            <a:ext cx="1440" cy="10717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直接连接符 47"/>
          <p:cNvSpPr/>
          <p:nvPr/>
        </p:nvSpPr>
        <p:spPr>
          <a:xfrm flipH="1">
            <a:off x="1712520" y="4500720"/>
            <a:ext cx="1800" cy="11430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直接连接符 57"/>
          <p:cNvSpPr/>
          <p:nvPr/>
        </p:nvSpPr>
        <p:spPr>
          <a:xfrm flipH="1">
            <a:off x="7927560" y="4357800"/>
            <a:ext cx="180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直接连接符 59"/>
          <p:cNvSpPr/>
          <p:nvPr/>
        </p:nvSpPr>
        <p:spPr>
          <a:xfrm flipH="1">
            <a:off x="8001000" y="4357800"/>
            <a:ext cx="144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直接连接符 60"/>
          <p:cNvSpPr/>
          <p:nvPr/>
        </p:nvSpPr>
        <p:spPr>
          <a:xfrm flipH="1">
            <a:off x="8642520" y="4357800"/>
            <a:ext cx="288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直接连接符 61"/>
          <p:cNvSpPr/>
          <p:nvPr/>
        </p:nvSpPr>
        <p:spPr>
          <a:xfrm flipH="1">
            <a:off x="8232840" y="4357800"/>
            <a:ext cx="144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直接连接符 62"/>
          <p:cNvSpPr/>
          <p:nvPr/>
        </p:nvSpPr>
        <p:spPr>
          <a:xfrm flipH="1">
            <a:off x="8143920" y="4357800"/>
            <a:ext cx="144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直接连接符 63"/>
          <p:cNvSpPr/>
          <p:nvPr/>
        </p:nvSpPr>
        <p:spPr>
          <a:xfrm flipH="1">
            <a:off x="8537040" y="4357800"/>
            <a:ext cx="180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直接连接符 64"/>
          <p:cNvSpPr/>
          <p:nvPr/>
        </p:nvSpPr>
        <p:spPr>
          <a:xfrm flipH="1">
            <a:off x="8997480" y="4429080"/>
            <a:ext cx="3240" cy="128592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直接连接符 68"/>
          <p:cNvSpPr/>
          <p:nvPr/>
        </p:nvSpPr>
        <p:spPr>
          <a:xfrm flipH="1">
            <a:off x="304920" y="485784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直接连接符 69"/>
          <p:cNvSpPr/>
          <p:nvPr/>
        </p:nvSpPr>
        <p:spPr>
          <a:xfrm flipH="1" flipV="1">
            <a:off x="457200" y="478584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70"/>
          <p:cNvSpPr/>
          <p:nvPr/>
        </p:nvSpPr>
        <p:spPr>
          <a:xfrm flipH="1">
            <a:off x="457200" y="471492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直接连接符 71"/>
          <p:cNvSpPr/>
          <p:nvPr/>
        </p:nvSpPr>
        <p:spPr>
          <a:xfrm flipH="1" flipV="1">
            <a:off x="457200" y="4642920"/>
            <a:ext cx="9144000" cy="180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折角形 6"/>
          <p:cNvSpPr/>
          <p:nvPr/>
        </p:nvSpPr>
        <p:spPr>
          <a:xfrm>
            <a:off x="5929200" y="3786120"/>
            <a:ext cx="571680" cy="714600"/>
          </a:xfrm>
          <a:prstGeom prst="foldedCorner">
            <a:avLst>
              <a:gd name="adj" fmla="val 34282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b0f0"/>
                </a:solidFill>
                <a:latin typeface="宋体"/>
              </a:rPr>
              <a:t>肥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折角形 4"/>
          <p:cNvSpPr/>
          <p:nvPr/>
        </p:nvSpPr>
        <p:spPr>
          <a:xfrm>
            <a:off x="4929120" y="3786120"/>
            <a:ext cx="571680" cy="714600"/>
          </a:xfrm>
          <a:prstGeom prst="foldedCorner">
            <a:avLst>
              <a:gd name="adj" fmla="val 36569"/>
            </a:avLst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2060"/>
                </a:solidFill>
                <a:latin typeface="宋体"/>
              </a:rPr>
              <a:t>能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折角形 2"/>
          <p:cNvSpPr/>
          <p:nvPr/>
        </p:nvSpPr>
        <p:spPr>
          <a:xfrm>
            <a:off x="2857680" y="3786120"/>
            <a:ext cx="571320" cy="714600"/>
          </a:xfrm>
          <a:prstGeom prst="foldedCorner">
            <a:avLst>
              <a:gd name="adj" fmla="val 38856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宋体"/>
              </a:rPr>
              <a:t>装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直接连接符 73"/>
          <p:cNvSpPr/>
          <p:nvPr/>
        </p:nvSpPr>
        <p:spPr>
          <a:xfrm flipH="1">
            <a:off x="2139480" y="3857760"/>
            <a:ext cx="32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直接连接符 74"/>
          <p:cNvSpPr/>
          <p:nvPr/>
        </p:nvSpPr>
        <p:spPr>
          <a:xfrm flipH="1">
            <a:off x="1999800" y="43149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直接连接符 75"/>
          <p:cNvSpPr/>
          <p:nvPr/>
        </p:nvSpPr>
        <p:spPr>
          <a:xfrm flipH="1">
            <a:off x="1784520" y="3857760"/>
            <a:ext cx="288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76"/>
          <p:cNvSpPr/>
          <p:nvPr/>
        </p:nvSpPr>
        <p:spPr>
          <a:xfrm flipH="1">
            <a:off x="171468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77"/>
          <p:cNvSpPr/>
          <p:nvPr/>
        </p:nvSpPr>
        <p:spPr>
          <a:xfrm flipH="1">
            <a:off x="185688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直接连接符 12"/>
          <p:cNvSpPr/>
          <p:nvPr/>
        </p:nvSpPr>
        <p:spPr>
          <a:xfrm>
            <a:off x="0" y="5856120"/>
            <a:ext cx="9144000" cy="1800"/>
          </a:xfrm>
          <a:prstGeom prst="line">
            <a:avLst/>
          </a:prstGeom>
          <a:ln w="507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折角形 1"/>
          <p:cNvSpPr/>
          <p:nvPr/>
        </p:nvSpPr>
        <p:spPr>
          <a:xfrm>
            <a:off x="1857240" y="3786120"/>
            <a:ext cx="571680" cy="714600"/>
          </a:xfrm>
          <a:prstGeom prst="foldedCorner">
            <a:avLst>
              <a:gd name="adj" fmla="val 32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abf8e"/>
                </a:solidFill>
                <a:latin typeface="宋体"/>
              </a:rPr>
              <a:t>家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直接连接符 88"/>
          <p:cNvSpPr/>
          <p:nvPr/>
        </p:nvSpPr>
        <p:spPr>
          <a:xfrm flipH="1">
            <a:off x="304920" y="542916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直接连接符 89"/>
          <p:cNvSpPr/>
          <p:nvPr/>
        </p:nvSpPr>
        <p:spPr>
          <a:xfrm flipH="1">
            <a:off x="4140360" y="3857760"/>
            <a:ext cx="288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直接连接符 90"/>
          <p:cNvSpPr/>
          <p:nvPr/>
        </p:nvSpPr>
        <p:spPr>
          <a:xfrm flipH="1">
            <a:off x="421272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直接连接符 91"/>
          <p:cNvSpPr/>
          <p:nvPr/>
        </p:nvSpPr>
        <p:spPr>
          <a:xfrm flipH="1">
            <a:off x="678456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直接连接符 92"/>
          <p:cNvSpPr/>
          <p:nvPr/>
        </p:nvSpPr>
        <p:spPr>
          <a:xfrm flipH="1">
            <a:off x="692784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折角形 5"/>
          <p:cNvSpPr/>
          <p:nvPr/>
        </p:nvSpPr>
        <p:spPr>
          <a:xfrm>
            <a:off x="6858000" y="3786120"/>
            <a:ext cx="571680" cy="714600"/>
          </a:xfrm>
          <a:prstGeom prst="foldedCorner">
            <a:avLst>
              <a:gd name="adj" fmla="val 36569"/>
            </a:avLst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宋体"/>
              </a:rPr>
              <a:t>造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直接连接符 103"/>
          <p:cNvSpPr/>
          <p:nvPr/>
        </p:nvSpPr>
        <p:spPr>
          <a:xfrm flipH="1">
            <a:off x="342900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104"/>
          <p:cNvSpPr/>
          <p:nvPr/>
        </p:nvSpPr>
        <p:spPr>
          <a:xfrm flipH="1">
            <a:off x="750096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105"/>
          <p:cNvSpPr/>
          <p:nvPr/>
        </p:nvSpPr>
        <p:spPr>
          <a:xfrm flipH="1">
            <a:off x="771480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直接连接符 106"/>
          <p:cNvSpPr/>
          <p:nvPr/>
        </p:nvSpPr>
        <p:spPr>
          <a:xfrm flipH="1">
            <a:off x="285840" y="4572000"/>
            <a:ext cx="9144000" cy="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直接连接符 115"/>
          <p:cNvSpPr/>
          <p:nvPr/>
        </p:nvSpPr>
        <p:spPr>
          <a:xfrm flipH="1">
            <a:off x="4285800" y="3857760"/>
            <a:ext cx="180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直接连接符 116"/>
          <p:cNvSpPr/>
          <p:nvPr/>
        </p:nvSpPr>
        <p:spPr>
          <a:xfrm flipH="1">
            <a:off x="443880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直接连接符 117"/>
          <p:cNvSpPr/>
          <p:nvPr/>
        </p:nvSpPr>
        <p:spPr>
          <a:xfrm flipH="1">
            <a:off x="457200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直接连接符 118"/>
          <p:cNvSpPr/>
          <p:nvPr/>
        </p:nvSpPr>
        <p:spPr>
          <a:xfrm flipH="1">
            <a:off x="4784760" y="3857760"/>
            <a:ext cx="1440" cy="178596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直接连接符 123"/>
          <p:cNvSpPr/>
          <p:nvPr/>
        </p:nvSpPr>
        <p:spPr>
          <a:xfrm flipH="1" flipV="1">
            <a:off x="-212760" y="5643720"/>
            <a:ext cx="9858240" cy="1440"/>
          </a:xfrm>
          <a:prstGeom prst="line">
            <a:avLst/>
          </a:prstGeom>
          <a:ln w="9360">
            <a:solidFill>
              <a:srgbClr val="00b0f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18"/>
          <p:cNvSpPr/>
          <p:nvPr/>
        </p:nvSpPr>
        <p:spPr>
          <a:xfrm>
            <a:off x="0" y="5643720"/>
            <a:ext cx="91440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图片 783" descr="200.png"/>
          <p:cNvPicPr/>
          <p:nvPr/>
        </p:nvPicPr>
        <p:blipFill>
          <a:blip r:embed="rId31"/>
          <a:stretch/>
        </p:blipFill>
        <p:spPr>
          <a:xfrm>
            <a:off x="-1143000" y="5499000"/>
            <a:ext cx="1000080" cy="358920"/>
          </a:xfrm>
          <a:prstGeom prst="rect">
            <a:avLst/>
          </a:prstGeom>
          <a:ln w="0">
            <a:noFill/>
          </a:ln>
        </p:spPr>
      </p:pic>
      <p:grpSp>
        <p:nvGrpSpPr>
          <p:cNvPr id="386" name="组合 786"/>
          <p:cNvGrpSpPr/>
          <p:nvPr/>
        </p:nvGrpSpPr>
        <p:grpSpPr>
          <a:xfrm>
            <a:off x="2071800" y="3786120"/>
            <a:ext cx="5429160" cy="520560"/>
            <a:chOff x="2071800" y="3786120"/>
            <a:chExt cx="5429160" cy="520560"/>
          </a:xfrm>
        </p:grpSpPr>
        <p:sp>
          <p:nvSpPr>
            <p:cNvPr id="387" name="任意多边形 785"/>
            <p:cNvSpPr/>
            <p:nvPr/>
          </p:nvSpPr>
          <p:spPr>
            <a:xfrm>
              <a:off x="2071800" y="3786120"/>
              <a:ext cx="261360" cy="4777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477720"/>
                <a:gd name="textAreaBottom" fmla="*/ 478080 h 477720"/>
              </a:gdLst>
              <a:ahLst/>
              <a:rect l="textAreaLeft" t="textAreaTop" r="textAreaRight" b="textAreaBottom"/>
              <a:pathLst>
                <a:path w="261583" h="477078">
                  <a:moveTo>
                    <a:pt x="41848" y="0"/>
                  </a:moveTo>
                  <a:cubicBezTo>
                    <a:pt x="30689" y="33479"/>
                    <a:pt x="0" y="85790"/>
                    <a:pt x="41848" y="119269"/>
                  </a:cubicBezTo>
                  <a:cubicBezTo>
                    <a:pt x="63181" y="136336"/>
                    <a:pt x="94857" y="132522"/>
                    <a:pt x="121361" y="139148"/>
                  </a:cubicBezTo>
                  <a:cubicBezTo>
                    <a:pt x="147717" y="99613"/>
                    <a:pt x="190618" y="69257"/>
                    <a:pt x="141239" y="19878"/>
                  </a:cubicBezTo>
                  <a:cubicBezTo>
                    <a:pt x="126423" y="5062"/>
                    <a:pt x="101482" y="6626"/>
                    <a:pt x="81604" y="0"/>
                  </a:cubicBezTo>
                  <a:cubicBezTo>
                    <a:pt x="34293" y="141934"/>
                    <a:pt x="6980" y="96023"/>
                    <a:pt x="101483" y="159026"/>
                  </a:cubicBezTo>
                  <a:cubicBezTo>
                    <a:pt x="94857" y="185530"/>
                    <a:pt x="96758" y="215807"/>
                    <a:pt x="81604" y="238539"/>
                  </a:cubicBezTo>
                  <a:cubicBezTo>
                    <a:pt x="68352" y="258417"/>
                    <a:pt x="8718" y="298174"/>
                    <a:pt x="21970" y="278296"/>
                  </a:cubicBezTo>
                  <a:cubicBezTo>
                    <a:pt x="73349" y="201226"/>
                    <a:pt x="54171" y="241326"/>
                    <a:pt x="81604" y="159026"/>
                  </a:cubicBezTo>
                  <a:lnTo>
                    <a:pt x="161117" y="178904"/>
                  </a:lnTo>
                  <a:cubicBezTo>
                    <a:pt x="167743" y="198782"/>
                    <a:pt x="166180" y="223723"/>
                    <a:pt x="180996" y="238539"/>
                  </a:cubicBezTo>
                  <a:cubicBezTo>
                    <a:pt x="195812" y="253355"/>
                    <a:pt x="261583" y="258417"/>
                    <a:pt x="240630" y="258417"/>
                  </a:cubicBezTo>
                  <a:cubicBezTo>
                    <a:pt x="206844" y="258417"/>
                    <a:pt x="174369" y="245165"/>
                    <a:pt x="141239" y="238539"/>
                  </a:cubicBezTo>
                  <a:cubicBezTo>
                    <a:pt x="114735" y="245165"/>
                    <a:pt x="78118" y="236561"/>
                    <a:pt x="61726" y="258417"/>
                  </a:cubicBezTo>
                  <a:cubicBezTo>
                    <a:pt x="49154" y="275180"/>
                    <a:pt x="81604" y="297098"/>
                    <a:pt x="81604" y="318052"/>
                  </a:cubicBezTo>
                  <a:cubicBezTo>
                    <a:pt x="81604" y="371473"/>
                    <a:pt x="68352" y="424069"/>
                    <a:pt x="61726" y="477078"/>
                  </a:cubicBezTo>
                  <a:cubicBezTo>
                    <a:pt x="61726" y="477078"/>
                    <a:pt x="58847" y="340878"/>
                    <a:pt x="81604" y="278296"/>
                  </a:cubicBezTo>
                  <a:cubicBezTo>
                    <a:pt x="88765" y="258604"/>
                    <a:pt x="121361" y="265043"/>
                    <a:pt x="141239" y="258417"/>
                  </a:cubicBezTo>
                  <a:cubicBezTo>
                    <a:pt x="141239" y="258417"/>
                    <a:pt x="187106" y="436550"/>
                    <a:pt x="161117" y="397565"/>
                  </a:cubicBezTo>
                  <a:cubicBezTo>
                    <a:pt x="117686" y="332417"/>
                    <a:pt x="121361" y="361821"/>
                    <a:pt x="121361" y="318052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TextBox 17"/>
            <p:cNvSpPr/>
            <p:nvPr/>
          </p:nvSpPr>
          <p:spPr>
            <a:xfrm>
              <a:off x="2286000" y="3786120"/>
              <a:ext cx="5214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幼圆"/>
                  <a:ea typeface="幼圆"/>
                </a:rPr>
                <a:t>人类对自然资源的需求没有尽头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折角形 3"/>
          <p:cNvSpPr/>
          <p:nvPr/>
        </p:nvSpPr>
        <p:spPr>
          <a:xfrm>
            <a:off x="3929040" y="3786120"/>
            <a:ext cx="571680" cy="714600"/>
          </a:xfrm>
          <a:prstGeom prst="foldedCorner">
            <a:avLst>
              <a:gd name="adj" fmla="val 326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建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nodeType="clickEffect" fill="hold">
                      <p:stCondLst>
                        <p:cond delay="0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2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7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91" dur="2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9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798" dur="2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99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00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0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04" dur="2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0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11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1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15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17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2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23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25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27" dur="2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29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3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6.47549E-007 L 0.61423 6.47549E-007 E">
                                      <p:cBhvr>
                                        <p:cTn id="833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6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1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6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55" nodeType="afterEffect" fill="hold" presetClass="path" presetID="64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0 0 L 0 -0.33333 E">
                                      <p:cBhvr>
                                        <p:cTn id="856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0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1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6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67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2" nodeType="withEffect" fill="hold" presetClass="exit" presetID="22" presetSubtype="4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0.33334 L 2.77778E-007 0.00254 E">
                                      <p:cBhvr>
                                        <p:cTn id="877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0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82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1424 -2.96296E-006 L 1.17327 -2.96296E-006 E">
                                      <p:cBhvr>
                                        <p:cTn id="886" dur="2000" fill="hold"/>
                                        <p:tgtEl>
                                          <p:spTgt spid="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9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5400000">
                                      <p:cBhvr>
                                        <p:cTn id="893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400000">
                                      <p:cBhvr>
                                        <p:cTn id="89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1" name="组合 74"/>
          <p:cNvGrpSpPr/>
          <p:nvPr/>
        </p:nvGrpSpPr>
        <p:grpSpPr>
          <a:xfrm>
            <a:off x="5357880" y="5643720"/>
            <a:ext cx="642960" cy="214200"/>
            <a:chOff x="5357880" y="5643720"/>
            <a:chExt cx="642960" cy="214200"/>
          </a:xfrm>
        </p:grpSpPr>
        <p:grpSp>
          <p:nvGrpSpPr>
            <p:cNvPr id="392" name="组合 72"/>
            <p:cNvGrpSpPr/>
            <p:nvPr/>
          </p:nvGrpSpPr>
          <p:grpSpPr>
            <a:xfrm>
              <a:off x="5357880" y="5643720"/>
              <a:ext cx="642960" cy="214200"/>
              <a:chOff x="5357880" y="5643720"/>
              <a:chExt cx="642960" cy="214200"/>
            </a:xfrm>
          </p:grpSpPr>
          <p:sp>
            <p:nvSpPr>
              <p:cNvPr id="393" name="任意多边形 65"/>
              <p:cNvSpPr/>
              <p:nvPr/>
            </p:nvSpPr>
            <p:spPr>
              <a:xfrm>
                <a:off x="5357880" y="5766840"/>
                <a:ext cx="237600" cy="67320"/>
              </a:xfrm>
              <a:custGeom>
                <a:avLst/>
                <a:gdLst>
                  <a:gd name="textAreaLeft" fmla="*/ 0 w 237600"/>
                  <a:gd name="textAreaRight" fmla="*/ 237960 w 237600"/>
                  <a:gd name="textAreaTop" fmla="*/ 0 h 67320"/>
                  <a:gd name="textAreaBottom" fmla="*/ 67680 h 67320"/>
                </a:gdLst>
                <a:ahLst/>
                <a:rect l="textAreaLeft" t="textAreaTop" r="textAreaRight" b="textAreaBottom"/>
                <a:pathLst>
                  <a:path w="1170686" h="556770">
                    <a:moveTo>
                      <a:pt x="207648" y="0"/>
                    </a:moveTo>
                    <a:lnTo>
                      <a:pt x="149282" y="68094"/>
                    </a:lnTo>
                    <a:cubicBezTo>
                      <a:pt x="39543" y="137928"/>
                      <a:pt x="0" y="136187"/>
                      <a:pt x="52005" y="136187"/>
                    </a:cubicBezTo>
                    <a:cubicBezTo>
                      <a:pt x="41920" y="226959"/>
                      <a:pt x="42278" y="194373"/>
                      <a:pt x="42278" y="233464"/>
                    </a:cubicBezTo>
                    <a:lnTo>
                      <a:pt x="81188" y="379379"/>
                    </a:lnTo>
                    <a:lnTo>
                      <a:pt x="178465" y="389106"/>
                    </a:lnTo>
                    <a:lnTo>
                      <a:pt x="227103" y="457200"/>
                    </a:lnTo>
                    <a:cubicBezTo>
                      <a:pt x="166444" y="517859"/>
                      <a:pt x="196251" y="515566"/>
                      <a:pt x="159009" y="515566"/>
                    </a:cubicBezTo>
                    <a:lnTo>
                      <a:pt x="275741" y="515566"/>
                    </a:lnTo>
                    <a:cubicBezTo>
                      <a:pt x="387313" y="505423"/>
                      <a:pt x="357421" y="531163"/>
                      <a:pt x="392473" y="496111"/>
                    </a:cubicBezTo>
                    <a:cubicBezTo>
                      <a:pt x="453915" y="475630"/>
                      <a:pt x="430331" y="476655"/>
                      <a:pt x="460567" y="476655"/>
                    </a:cubicBezTo>
                    <a:lnTo>
                      <a:pt x="460567" y="476655"/>
                    </a:lnTo>
                    <a:cubicBezTo>
                      <a:pt x="540681" y="556770"/>
                      <a:pt x="501703" y="554477"/>
                      <a:pt x="548116" y="554477"/>
                    </a:cubicBezTo>
                    <a:cubicBezTo>
                      <a:pt x="647969" y="521193"/>
                      <a:pt x="604903" y="525294"/>
                      <a:pt x="674575" y="525294"/>
                    </a:cubicBezTo>
                    <a:lnTo>
                      <a:pt x="1151231" y="515566"/>
                    </a:lnTo>
                    <a:lnTo>
                      <a:pt x="1170686" y="505838"/>
                    </a:lnTo>
                  </a:path>
                </a:pathLst>
              </a:custGeom>
              <a:solidFill>
                <a:srgbClr val="bfbfbf"/>
              </a:solidFill>
              <a:ln w="936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4" name="组合 71"/>
              <p:cNvGrpSpPr/>
              <p:nvPr/>
            </p:nvGrpSpPr>
            <p:grpSpPr>
              <a:xfrm>
                <a:off x="5397840" y="5643720"/>
                <a:ext cx="603000" cy="214200"/>
                <a:chOff x="5397840" y="5643720"/>
                <a:chExt cx="603000" cy="214200"/>
              </a:xfrm>
            </p:grpSpPr>
            <p:sp>
              <p:nvSpPr>
                <p:cNvPr id="395" name="任意多边形 64"/>
                <p:cNvSpPr/>
                <p:nvPr/>
              </p:nvSpPr>
              <p:spPr>
                <a:xfrm>
                  <a:off x="5397840" y="5643720"/>
                  <a:ext cx="603000" cy="214200"/>
                </a:xfrm>
                <a:custGeom>
                  <a:avLst/>
                  <a:gdLst>
                    <a:gd name="textAreaLeft" fmla="*/ 0 w 603000"/>
                    <a:gd name="textAreaRight" fmla="*/ 603360 w 603000"/>
                    <a:gd name="textAreaTop" fmla="*/ 0 h 214200"/>
                    <a:gd name="textAreaBottom" fmla="*/ 214560 h 214200"/>
                  </a:gdLst>
                  <a:ahLst/>
                  <a:rect l="textAreaLeft" t="textAreaTop" r="textAreaRight" b="textAreaBottom"/>
                  <a:pathLst>
                    <a:path w="2968208" h="1765889">
                      <a:moveTo>
                        <a:pt x="0" y="1034238"/>
                      </a:moveTo>
                      <a:lnTo>
                        <a:pt x="145915" y="713226"/>
                      </a:lnTo>
                      <a:lnTo>
                        <a:pt x="389106" y="460306"/>
                      </a:lnTo>
                      <a:lnTo>
                        <a:pt x="428017" y="392213"/>
                      </a:lnTo>
                      <a:cubicBezTo>
                        <a:pt x="327560" y="412304"/>
                        <a:pt x="330740" y="444736"/>
                        <a:pt x="330740" y="401940"/>
                      </a:cubicBezTo>
                      <a:cubicBezTo>
                        <a:pt x="208613" y="320522"/>
                        <a:pt x="214009" y="370883"/>
                        <a:pt x="214009" y="304664"/>
                      </a:cubicBezTo>
                      <a:lnTo>
                        <a:pt x="214009" y="226843"/>
                      </a:lnTo>
                      <a:lnTo>
                        <a:pt x="457200" y="236570"/>
                      </a:lnTo>
                      <a:lnTo>
                        <a:pt x="544749" y="197660"/>
                      </a:lnTo>
                      <a:cubicBezTo>
                        <a:pt x="485451" y="0"/>
                        <a:pt x="418676" y="3106"/>
                        <a:pt x="496111" y="3106"/>
                      </a:cubicBezTo>
                      <a:cubicBezTo>
                        <a:pt x="595106" y="161499"/>
                        <a:pt x="532207" y="158749"/>
                        <a:pt x="603115" y="158749"/>
                      </a:cubicBezTo>
                      <a:lnTo>
                        <a:pt x="768485" y="158749"/>
                      </a:lnTo>
                      <a:lnTo>
                        <a:pt x="904672" y="51745"/>
                      </a:lnTo>
                      <a:lnTo>
                        <a:pt x="914400" y="90655"/>
                      </a:lnTo>
                      <a:cubicBezTo>
                        <a:pt x="825098" y="229571"/>
                        <a:pt x="772884" y="226843"/>
                        <a:pt x="836579" y="226843"/>
                      </a:cubicBezTo>
                      <a:lnTo>
                        <a:pt x="992221" y="401940"/>
                      </a:lnTo>
                      <a:lnTo>
                        <a:pt x="924128" y="645132"/>
                      </a:lnTo>
                      <a:cubicBezTo>
                        <a:pt x="963550" y="891525"/>
                        <a:pt x="963038" y="806228"/>
                        <a:pt x="963038" y="898051"/>
                      </a:cubicBezTo>
                      <a:cubicBezTo>
                        <a:pt x="942597" y="1030921"/>
                        <a:pt x="986232" y="1024511"/>
                        <a:pt x="924128" y="1024511"/>
                      </a:cubicBezTo>
                      <a:lnTo>
                        <a:pt x="826851" y="1043966"/>
                      </a:lnTo>
                      <a:lnTo>
                        <a:pt x="690664" y="868868"/>
                      </a:lnTo>
                      <a:lnTo>
                        <a:pt x="622570" y="1024511"/>
                      </a:lnTo>
                      <a:lnTo>
                        <a:pt x="817123" y="1287157"/>
                      </a:lnTo>
                      <a:lnTo>
                        <a:pt x="972766" y="1345523"/>
                      </a:lnTo>
                      <a:lnTo>
                        <a:pt x="933855" y="1462255"/>
                      </a:lnTo>
                      <a:lnTo>
                        <a:pt x="972766" y="1569260"/>
                      </a:lnTo>
                      <a:cubicBezTo>
                        <a:pt x="1101987" y="1648780"/>
                        <a:pt x="1049731" y="1647081"/>
                        <a:pt x="1108953" y="1647081"/>
                      </a:cubicBezTo>
                      <a:lnTo>
                        <a:pt x="1760706" y="1656809"/>
                      </a:lnTo>
                      <a:lnTo>
                        <a:pt x="1819072" y="1608170"/>
                      </a:lnTo>
                      <a:lnTo>
                        <a:pt x="1809345" y="1569260"/>
                      </a:lnTo>
                      <a:lnTo>
                        <a:pt x="1702340" y="1520621"/>
                      </a:lnTo>
                      <a:lnTo>
                        <a:pt x="1643975" y="1520621"/>
                      </a:lnTo>
                      <a:lnTo>
                        <a:pt x="1371600" y="1520621"/>
                      </a:lnTo>
                      <a:lnTo>
                        <a:pt x="1215958" y="1520621"/>
                      </a:lnTo>
                      <a:lnTo>
                        <a:pt x="1167319" y="1481711"/>
                      </a:lnTo>
                      <a:lnTo>
                        <a:pt x="1439694" y="1442800"/>
                      </a:lnTo>
                      <a:lnTo>
                        <a:pt x="1741251" y="1442800"/>
                      </a:lnTo>
                      <a:cubicBezTo>
                        <a:pt x="1837477" y="1549718"/>
                        <a:pt x="1785176" y="1540077"/>
                        <a:pt x="1867711" y="1540077"/>
                      </a:cubicBezTo>
                      <a:lnTo>
                        <a:pt x="1877438" y="1598443"/>
                      </a:lnTo>
                      <a:lnTo>
                        <a:pt x="1964987" y="1598443"/>
                      </a:lnTo>
                      <a:lnTo>
                        <a:pt x="2042809" y="1578987"/>
                      </a:lnTo>
                      <a:lnTo>
                        <a:pt x="1877438" y="1685991"/>
                      </a:lnTo>
                      <a:cubicBezTo>
                        <a:pt x="1958477" y="1696121"/>
                        <a:pt x="1929117" y="1695719"/>
                        <a:pt x="1964987" y="1695719"/>
                      </a:cubicBezTo>
                      <a:cubicBezTo>
                        <a:pt x="2026552" y="1705980"/>
                        <a:pt x="2003629" y="1705447"/>
                        <a:pt x="2033081" y="1705447"/>
                      </a:cubicBezTo>
                      <a:lnTo>
                        <a:pt x="2033081" y="1705447"/>
                      </a:lnTo>
                      <a:cubicBezTo>
                        <a:pt x="2055779" y="1692477"/>
                        <a:pt x="2077376" y="1677354"/>
                        <a:pt x="2101175" y="1666536"/>
                      </a:cubicBezTo>
                      <a:cubicBezTo>
                        <a:pt x="2113346" y="1661004"/>
                        <a:pt x="2140085" y="1656809"/>
                        <a:pt x="2140085" y="1656809"/>
                      </a:cubicBezTo>
                      <a:lnTo>
                        <a:pt x="2159540" y="1617898"/>
                      </a:lnTo>
                      <a:lnTo>
                        <a:pt x="2169268" y="1559532"/>
                      </a:lnTo>
                      <a:lnTo>
                        <a:pt x="2071992" y="1481711"/>
                      </a:lnTo>
                      <a:lnTo>
                        <a:pt x="2042809" y="1296885"/>
                      </a:lnTo>
                      <a:cubicBezTo>
                        <a:pt x="1973344" y="1148032"/>
                        <a:pt x="1921041" y="1150970"/>
                        <a:pt x="1984443" y="1150970"/>
                      </a:cubicBezTo>
                      <a:lnTo>
                        <a:pt x="2140085" y="1267702"/>
                      </a:lnTo>
                      <a:lnTo>
                        <a:pt x="2315183" y="1501166"/>
                      </a:lnTo>
                      <a:cubicBezTo>
                        <a:pt x="2356572" y="1614984"/>
                        <a:pt x="2388040" y="1591197"/>
                        <a:pt x="2334638" y="1617898"/>
                      </a:cubicBezTo>
                      <a:lnTo>
                        <a:pt x="2256817" y="1666536"/>
                      </a:lnTo>
                      <a:cubicBezTo>
                        <a:pt x="2180967" y="1679178"/>
                        <a:pt x="2196045" y="1656914"/>
                        <a:pt x="2208179" y="1705447"/>
                      </a:cubicBezTo>
                      <a:cubicBezTo>
                        <a:pt x="2208965" y="1708593"/>
                        <a:pt x="2208179" y="1711932"/>
                        <a:pt x="2208179" y="1715174"/>
                      </a:cubicBezTo>
                      <a:lnTo>
                        <a:pt x="2208179" y="1715174"/>
                      </a:lnTo>
                      <a:cubicBezTo>
                        <a:pt x="2269036" y="1765889"/>
                        <a:pt x="2241220" y="1763813"/>
                        <a:pt x="2276272" y="1763813"/>
                      </a:cubicBezTo>
                      <a:lnTo>
                        <a:pt x="2354094" y="1744357"/>
                      </a:lnTo>
                      <a:lnTo>
                        <a:pt x="2529192" y="1647081"/>
                      </a:lnTo>
                      <a:lnTo>
                        <a:pt x="2587558" y="1608170"/>
                      </a:lnTo>
                      <a:lnTo>
                        <a:pt x="2480553" y="1462255"/>
                      </a:lnTo>
                      <a:lnTo>
                        <a:pt x="2577830" y="1433072"/>
                      </a:lnTo>
                      <a:lnTo>
                        <a:pt x="2607013" y="1481711"/>
                      </a:lnTo>
                      <a:lnTo>
                        <a:pt x="2889115" y="1647081"/>
                      </a:lnTo>
                      <a:lnTo>
                        <a:pt x="2898843" y="1695719"/>
                      </a:lnTo>
                      <a:lnTo>
                        <a:pt x="2957209" y="1715174"/>
                      </a:lnTo>
                      <a:cubicBezTo>
                        <a:pt x="2968208" y="1660177"/>
                        <a:pt x="2966936" y="1683070"/>
                        <a:pt x="2966936" y="1647081"/>
                      </a:cubicBezTo>
                      <a:lnTo>
                        <a:pt x="2966936" y="1617898"/>
                      </a:lnTo>
                      <a:lnTo>
                        <a:pt x="2937753" y="1608170"/>
                      </a:lnTo>
                      <a:lnTo>
                        <a:pt x="2869660" y="1588715"/>
                      </a:lnTo>
                      <a:lnTo>
                        <a:pt x="2704289" y="1510894"/>
                      </a:lnTo>
                      <a:lnTo>
                        <a:pt x="2626468" y="1442800"/>
                      </a:lnTo>
                      <a:cubicBezTo>
                        <a:pt x="2691712" y="1377556"/>
                        <a:pt x="2684834" y="1411948"/>
                        <a:pt x="2684834" y="1355251"/>
                      </a:cubicBezTo>
                      <a:lnTo>
                        <a:pt x="2694562" y="1228791"/>
                      </a:lnTo>
                      <a:lnTo>
                        <a:pt x="2665379" y="1131515"/>
                      </a:lnTo>
                      <a:lnTo>
                        <a:pt x="2538919" y="966145"/>
                      </a:lnTo>
                      <a:lnTo>
                        <a:pt x="2373549" y="839685"/>
                      </a:lnTo>
                      <a:lnTo>
                        <a:pt x="2237362" y="771591"/>
                      </a:lnTo>
                      <a:lnTo>
                        <a:pt x="2023353" y="654860"/>
                      </a:lnTo>
                      <a:lnTo>
                        <a:pt x="1819072" y="606221"/>
                      </a:lnTo>
                      <a:lnTo>
                        <a:pt x="1391055" y="538128"/>
                      </a:lnTo>
                      <a:lnTo>
                        <a:pt x="992221" y="567311"/>
                      </a:lnTo>
                      <a:lnTo>
                        <a:pt x="933855" y="596494"/>
                      </a:lnTo>
                      <a:lnTo>
                        <a:pt x="933855" y="586766"/>
                      </a:lnTo>
                    </a:path>
                  </a:pathLst>
                </a:custGeom>
                <a:solidFill>
                  <a:srgbClr val="bfbfbf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任意多边形 67"/>
                <p:cNvSpPr/>
                <p:nvPr/>
              </p:nvSpPr>
              <p:spPr>
                <a:xfrm>
                  <a:off x="5512320" y="5693760"/>
                  <a:ext cx="17640" cy="10440"/>
                </a:xfrm>
                <a:custGeom>
                  <a:avLst/>
                  <a:gdLst>
                    <a:gd name="textAreaLeft" fmla="*/ 0 w 17640"/>
                    <a:gd name="textAreaRight" fmla="*/ 18000 w 17640"/>
                    <a:gd name="textAreaTop" fmla="*/ 0 h 10440"/>
                    <a:gd name="textAreaBottom" fmla="*/ 10800 h 10440"/>
                  </a:gdLst>
                  <a:ahLst/>
                  <a:rect l="textAreaLeft" t="textAreaTop" r="textAreaRight" b="textAreaBottom"/>
                  <a:pathLst>
                    <a:path w="87549" h="87549">
                      <a:moveTo>
                        <a:pt x="0" y="19455"/>
                      </a:moveTo>
                      <a:lnTo>
                        <a:pt x="87549" y="87549"/>
                      </a:lnTo>
                      <a:lnTo>
                        <a:pt x="87549" y="29183"/>
                      </a:lnTo>
                      <a:lnTo>
                        <a:pt x="68094" y="0"/>
                      </a:lnTo>
                      <a:lnTo>
                        <a:pt x="0" y="1945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任意多边形 68"/>
                <p:cNvSpPr/>
                <p:nvPr/>
              </p:nvSpPr>
              <p:spPr>
                <a:xfrm>
                  <a:off x="5403600" y="5713920"/>
                  <a:ext cx="193680" cy="115560"/>
                </a:xfrm>
                <a:custGeom>
                  <a:avLst/>
                  <a:gdLst>
                    <a:gd name="textAreaLeft" fmla="*/ 0 w 193680"/>
                    <a:gd name="textAreaRight" fmla="*/ 194040 w 193680"/>
                    <a:gd name="textAreaTop" fmla="*/ 0 h 115560"/>
                    <a:gd name="textAreaBottom" fmla="*/ 115920 h 115560"/>
                  </a:gdLst>
                  <a:ahLst/>
                  <a:rect l="textAreaLeft" t="textAreaTop" r="textAreaRight" b="textAreaBottom"/>
                  <a:pathLst>
                    <a:path w="953311" h="953311">
                      <a:moveTo>
                        <a:pt x="0" y="447473"/>
                      </a:moveTo>
                      <a:lnTo>
                        <a:pt x="953311" y="953311"/>
                      </a:lnTo>
                      <a:lnTo>
                        <a:pt x="924128" y="865762"/>
                      </a:lnTo>
                      <a:lnTo>
                        <a:pt x="943583" y="758758"/>
                      </a:lnTo>
                      <a:lnTo>
                        <a:pt x="787940" y="680936"/>
                      </a:lnTo>
                      <a:lnTo>
                        <a:pt x="603115" y="437745"/>
                      </a:lnTo>
                      <a:lnTo>
                        <a:pt x="651753" y="282102"/>
                      </a:lnTo>
                      <a:lnTo>
                        <a:pt x="787940" y="428017"/>
                      </a:lnTo>
                      <a:lnTo>
                        <a:pt x="894945" y="437745"/>
                      </a:lnTo>
                      <a:lnTo>
                        <a:pt x="924128" y="398834"/>
                      </a:lnTo>
                      <a:lnTo>
                        <a:pt x="924128" y="243192"/>
                      </a:lnTo>
                      <a:lnTo>
                        <a:pt x="904672" y="0"/>
                      </a:lnTo>
                      <a:lnTo>
                        <a:pt x="0" y="447473"/>
                      </a:lnTo>
                      <a:close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任意多边形 69"/>
                <p:cNvSpPr/>
                <p:nvPr/>
              </p:nvSpPr>
              <p:spPr>
                <a:xfrm>
                  <a:off x="5589360" y="5717160"/>
                  <a:ext cx="4320" cy="35280"/>
                </a:xfrm>
                <a:custGeom>
                  <a:avLst/>
                  <a:gdLst>
                    <a:gd name="textAreaLeft" fmla="*/ 0 w 4320"/>
                    <a:gd name="textAreaRight" fmla="*/ 4680 w 4320"/>
                    <a:gd name="textAreaTop" fmla="*/ 0 h 35280"/>
                    <a:gd name="textAreaBottom" fmla="*/ 35640 h 35280"/>
                  </a:gdLst>
                  <a:ahLst/>
                  <a:rect l="textAreaLeft" t="textAreaTop" r="textAreaRight" b="textAreaBottom"/>
                  <a:pathLst>
                    <a:path w="21289" h="291830">
                      <a:moveTo>
                        <a:pt x="0" y="0"/>
                      </a:moveTo>
                      <a:cubicBezTo>
                        <a:pt x="3243" y="48638"/>
                        <a:pt x="9728" y="97169"/>
                        <a:pt x="9728" y="145915"/>
                      </a:cubicBezTo>
                      <a:cubicBezTo>
                        <a:pt x="9728" y="156169"/>
                        <a:pt x="0" y="164844"/>
                        <a:pt x="0" y="175098"/>
                      </a:cubicBezTo>
                      <a:cubicBezTo>
                        <a:pt x="0" y="248077"/>
                        <a:pt x="11780" y="199191"/>
                        <a:pt x="19455" y="252919"/>
                      </a:cubicBezTo>
                      <a:cubicBezTo>
                        <a:pt x="21289" y="265759"/>
                        <a:pt x="19455" y="278860"/>
                        <a:pt x="19455" y="29183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任意多边形 70"/>
                <p:cNvSpPr/>
                <p:nvPr/>
              </p:nvSpPr>
              <p:spPr>
                <a:xfrm>
                  <a:off x="5551560" y="5745600"/>
                  <a:ext cx="43560" cy="23400"/>
                </a:xfrm>
                <a:custGeom>
                  <a:avLst/>
                  <a:gdLst>
                    <a:gd name="textAreaLeft" fmla="*/ 0 w 43560"/>
                    <a:gd name="textAreaRight" fmla="*/ 43920 w 43560"/>
                    <a:gd name="textAreaTop" fmla="*/ 0 h 23400"/>
                    <a:gd name="textAreaBottom" fmla="*/ 23760 h 23400"/>
                  </a:gdLst>
                  <a:ahLst/>
                  <a:rect l="textAreaLeft" t="textAreaTop" r="textAreaRight" b="textAreaBottom"/>
                  <a:pathLst>
                    <a:path w="215866" h="194553">
                      <a:moveTo>
                        <a:pt x="30850" y="145915"/>
                      </a:moveTo>
                      <a:cubicBezTo>
                        <a:pt x="0" y="94496"/>
                        <a:pt x="1668" y="116184"/>
                        <a:pt x="1668" y="87549"/>
                      </a:cubicBezTo>
                      <a:lnTo>
                        <a:pt x="69761" y="9728"/>
                      </a:lnTo>
                      <a:lnTo>
                        <a:pt x="205948" y="0"/>
                      </a:lnTo>
                      <a:cubicBezTo>
                        <a:pt x="215866" y="168607"/>
                        <a:pt x="215676" y="110151"/>
                        <a:pt x="215676" y="175098"/>
                      </a:cubicBezTo>
                      <a:lnTo>
                        <a:pt x="118399" y="194553"/>
                      </a:lnTo>
                      <a:lnTo>
                        <a:pt x="30850" y="145915"/>
                      </a:lnTo>
                      <a:close/>
                    </a:path>
                  </a:pathLst>
                </a:custGeom>
                <a:solidFill>
                  <a:srgbClr val="595959"/>
                </a:solidFill>
                <a:ln w="936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0" name="爆炸形 1 61"/>
          <p:cNvSpPr/>
          <p:nvPr/>
        </p:nvSpPr>
        <p:spPr>
          <a:xfrm>
            <a:off x="5429160" y="5429160"/>
            <a:ext cx="214560" cy="285840"/>
          </a:xfrm>
          <a:prstGeom prst="irregularSeal1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图片 47" descr="9c6a1220e.png"/>
          <p:cNvPicPr/>
          <p:nvPr/>
        </p:nvPicPr>
        <p:blipFill>
          <a:blip r:embed="rId1"/>
          <a:stretch/>
        </p:blipFill>
        <p:spPr>
          <a:xfrm>
            <a:off x="4214880" y="5214960"/>
            <a:ext cx="357120" cy="428760"/>
          </a:xfrm>
          <a:prstGeom prst="rect">
            <a:avLst/>
          </a:prstGeom>
          <a:ln w="0">
            <a:noFill/>
          </a:ln>
        </p:spPr>
      </p:pic>
      <p:pic>
        <p:nvPicPr>
          <p:cNvPr id="402" name="图片 41" descr="f3ade8fb2e3c65c6b58f3126.png"/>
          <p:cNvPicPr/>
          <p:nvPr/>
        </p:nvPicPr>
        <p:blipFill>
          <a:blip r:embed="rId2"/>
          <a:stretch/>
        </p:blipFill>
        <p:spPr>
          <a:xfrm>
            <a:off x="5572080" y="5000760"/>
            <a:ext cx="397080" cy="695160"/>
          </a:xfrm>
          <a:prstGeom prst="rect">
            <a:avLst/>
          </a:prstGeom>
          <a:ln w="0">
            <a:noFill/>
          </a:ln>
        </p:spPr>
      </p:pic>
      <p:pic>
        <p:nvPicPr>
          <p:cNvPr id="403" name="图片 31" descr="f3ade8fb2e3c65c6b58f3126.png"/>
          <p:cNvPicPr/>
          <p:nvPr/>
        </p:nvPicPr>
        <p:blipFill>
          <a:blip r:embed="rId3"/>
          <a:stretch/>
        </p:blipFill>
        <p:spPr>
          <a:xfrm>
            <a:off x="4357800" y="5143680"/>
            <a:ext cx="299880" cy="533160"/>
          </a:xfrm>
          <a:prstGeom prst="rect">
            <a:avLst/>
          </a:prstGeom>
          <a:ln w="0">
            <a:noFill/>
          </a:ln>
        </p:spPr>
      </p:pic>
      <p:sp>
        <p:nvSpPr>
          <p:cNvPr id="404" name="直接连接符 33"/>
          <p:cNvSpPr/>
          <p:nvPr/>
        </p:nvSpPr>
        <p:spPr>
          <a:xfrm>
            <a:off x="-142920" y="5857920"/>
            <a:ext cx="9858600" cy="14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图片 35" descr="f3ade8fb2e3c65c6b58f3126.png"/>
          <p:cNvPicPr/>
          <p:nvPr/>
        </p:nvPicPr>
        <p:blipFill>
          <a:blip r:embed="rId4"/>
          <a:stretch/>
        </p:blipFill>
        <p:spPr>
          <a:xfrm>
            <a:off x="4929120" y="4857840"/>
            <a:ext cx="642960" cy="1123920"/>
          </a:xfrm>
          <a:prstGeom prst="rect">
            <a:avLst/>
          </a:prstGeom>
          <a:ln w="0">
            <a:noFill/>
          </a:ln>
        </p:spPr>
      </p:pic>
      <p:pic>
        <p:nvPicPr>
          <p:cNvPr id="406" name="图片 36" descr="f3ade8fb2e3c65c6b58f3126.png"/>
          <p:cNvPicPr/>
          <p:nvPr/>
        </p:nvPicPr>
        <p:blipFill>
          <a:blip r:embed="rId5"/>
          <a:stretch/>
        </p:blipFill>
        <p:spPr>
          <a:xfrm>
            <a:off x="6286680" y="4876920"/>
            <a:ext cx="357120" cy="623880"/>
          </a:xfrm>
          <a:prstGeom prst="rect">
            <a:avLst/>
          </a:prstGeom>
          <a:ln w="0">
            <a:noFill/>
          </a:ln>
        </p:spPr>
      </p:pic>
      <p:pic>
        <p:nvPicPr>
          <p:cNvPr id="407" name="图片 37" descr="9c6a1220e.png"/>
          <p:cNvPicPr/>
          <p:nvPr/>
        </p:nvPicPr>
        <p:blipFill>
          <a:blip r:embed="rId6"/>
          <a:stretch/>
        </p:blipFill>
        <p:spPr>
          <a:xfrm>
            <a:off x="6119640" y="5045040"/>
            <a:ext cx="381240" cy="455760"/>
          </a:xfrm>
          <a:prstGeom prst="rect">
            <a:avLst/>
          </a:prstGeom>
          <a:ln w="0">
            <a:noFill/>
          </a:ln>
        </p:spPr>
      </p:pic>
      <p:sp>
        <p:nvSpPr>
          <p:cNvPr id="408" name="任意多边形 38"/>
          <p:cNvSpPr/>
          <p:nvPr/>
        </p:nvSpPr>
        <p:spPr>
          <a:xfrm>
            <a:off x="-166680" y="3760920"/>
            <a:ext cx="9367920" cy="1352520"/>
          </a:xfrm>
          <a:custGeom>
            <a:avLst/>
            <a:gdLst>
              <a:gd name="textAreaLeft" fmla="*/ 0 w 9367920"/>
              <a:gd name="textAreaRight" fmla="*/ 9368280 w 9367920"/>
              <a:gd name="textAreaTop" fmla="*/ 0 h 1352520"/>
              <a:gd name="textAreaBottom" fmla="*/ 1352880 h 1352520"/>
            </a:gdLst>
            <a:ahLst/>
            <a:rect l="textAreaLeft" t="textAreaTop" r="textAreaRight" b="textAreaBottom"/>
            <a:pathLst>
              <a:path w="9367935" h="1352938">
                <a:moveTo>
                  <a:pt x="0" y="1296955"/>
                </a:moveTo>
                <a:cubicBezTo>
                  <a:pt x="161730" y="1324946"/>
                  <a:pt x="323461" y="1352938"/>
                  <a:pt x="522514" y="1259632"/>
                </a:cubicBezTo>
                <a:cubicBezTo>
                  <a:pt x="721567" y="1166326"/>
                  <a:pt x="970383" y="762000"/>
                  <a:pt x="1194318" y="737118"/>
                </a:cubicBezTo>
                <a:cubicBezTo>
                  <a:pt x="1418253" y="712237"/>
                  <a:pt x="1558212" y="1125894"/>
                  <a:pt x="1866122" y="1110343"/>
                </a:cubicBezTo>
                <a:cubicBezTo>
                  <a:pt x="2174032" y="1094792"/>
                  <a:pt x="2699658" y="712236"/>
                  <a:pt x="3041780" y="643812"/>
                </a:cubicBezTo>
                <a:cubicBezTo>
                  <a:pt x="3383902" y="575388"/>
                  <a:pt x="3545632" y="796212"/>
                  <a:pt x="3918857" y="699796"/>
                </a:cubicBezTo>
                <a:cubicBezTo>
                  <a:pt x="4292082" y="603380"/>
                  <a:pt x="4817707" y="130628"/>
                  <a:pt x="5281127" y="65314"/>
                </a:cubicBezTo>
                <a:cubicBezTo>
                  <a:pt x="5744548" y="0"/>
                  <a:pt x="6301274" y="139959"/>
                  <a:pt x="6699380" y="307910"/>
                </a:cubicBezTo>
                <a:cubicBezTo>
                  <a:pt x="7097486" y="475861"/>
                  <a:pt x="7324531" y="973494"/>
                  <a:pt x="7669763" y="1073020"/>
                </a:cubicBezTo>
                <a:cubicBezTo>
                  <a:pt x="8014995" y="1172546"/>
                  <a:pt x="8487746" y="867747"/>
                  <a:pt x="8770775" y="905069"/>
                </a:cubicBezTo>
                <a:cubicBezTo>
                  <a:pt x="9053804" y="942391"/>
                  <a:pt x="9210869" y="1119673"/>
                  <a:pt x="9367935" y="1296955"/>
                </a:cubicBezTo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任意多边形 39"/>
          <p:cNvSpPr/>
          <p:nvPr/>
        </p:nvSpPr>
        <p:spPr>
          <a:xfrm>
            <a:off x="1571760" y="4857840"/>
            <a:ext cx="857160" cy="642960"/>
          </a:xfrm>
          <a:custGeom>
            <a:avLst/>
            <a:gdLst>
              <a:gd name="textAreaLeft" fmla="*/ 0 w 857160"/>
              <a:gd name="textAreaRight" fmla="*/ 857520 w 857160"/>
              <a:gd name="textAreaTop" fmla="*/ 0 h 642960"/>
              <a:gd name="textAreaBottom" fmla="*/ 643320 h 642960"/>
            </a:gdLst>
            <a:ahLst/>
            <a:rect l="textAreaLeft" t="textAreaTop" r="textAreaRight" b="textAreaBottom"/>
            <a:pathLst>
              <a:path w="690466" h="485192">
                <a:moveTo>
                  <a:pt x="0" y="0"/>
                </a:moveTo>
                <a:cubicBezTo>
                  <a:pt x="185057" y="108857"/>
                  <a:pt x="370114" y="217715"/>
                  <a:pt x="485192" y="298580"/>
                </a:cubicBezTo>
                <a:cubicBezTo>
                  <a:pt x="600270" y="379445"/>
                  <a:pt x="645368" y="432318"/>
                  <a:pt x="690466" y="485192"/>
                </a:cubicBezTo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任意多边形 40"/>
          <p:cNvSpPr/>
          <p:nvPr/>
        </p:nvSpPr>
        <p:spPr>
          <a:xfrm>
            <a:off x="7016760" y="4786200"/>
            <a:ext cx="1044720" cy="503280"/>
          </a:xfrm>
          <a:custGeom>
            <a:avLst/>
            <a:gdLst>
              <a:gd name="textAreaLeft" fmla="*/ 0 w 1044720"/>
              <a:gd name="textAreaRight" fmla="*/ 1045080 w 104472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045029" h="503854">
                <a:moveTo>
                  <a:pt x="1045029" y="0"/>
                </a:moveTo>
                <a:cubicBezTo>
                  <a:pt x="908180" y="13996"/>
                  <a:pt x="771331" y="27992"/>
                  <a:pt x="597160" y="111968"/>
                </a:cubicBezTo>
                <a:cubicBezTo>
                  <a:pt x="422989" y="195944"/>
                  <a:pt x="211494" y="349899"/>
                  <a:pt x="0" y="503854"/>
                </a:cubicBezTo>
              </a:path>
            </a:pathLst>
          </a:cu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图片 42" descr="f3ade8fb2e3c65c6b58f3126.png"/>
          <p:cNvPicPr/>
          <p:nvPr/>
        </p:nvPicPr>
        <p:blipFill>
          <a:blip r:embed="rId7"/>
          <a:stretch/>
        </p:blipFill>
        <p:spPr>
          <a:xfrm>
            <a:off x="6357960" y="4643280"/>
            <a:ext cx="642960" cy="1124280"/>
          </a:xfrm>
          <a:prstGeom prst="rect">
            <a:avLst/>
          </a:prstGeom>
          <a:ln w="0">
            <a:noFill/>
          </a:ln>
        </p:spPr>
      </p:pic>
      <p:pic>
        <p:nvPicPr>
          <p:cNvPr id="412" name="图片 43" descr="f3ade8fb2e3c65c6b58f3126.png"/>
          <p:cNvPicPr/>
          <p:nvPr/>
        </p:nvPicPr>
        <p:blipFill>
          <a:blip r:embed="rId8"/>
          <a:stretch/>
        </p:blipFill>
        <p:spPr>
          <a:xfrm>
            <a:off x="642960" y="5214960"/>
            <a:ext cx="299880" cy="534960"/>
          </a:xfrm>
          <a:prstGeom prst="rect">
            <a:avLst/>
          </a:prstGeom>
          <a:ln w="0">
            <a:noFill/>
          </a:ln>
        </p:spPr>
      </p:pic>
      <p:pic>
        <p:nvPicPr>
          <p:cNvPr id="413" name="图片 44" descr="f3ade8fb2e3c65c6b58f3126.png"/>
          <p:cNvPicPr/>
          <p:nvPr/>
        </p:nvPicPr>
        <p:blipFill>
          <a:blip r:embed="rId9"/>
          <a:stretch/>
        </p:blipFill>
        <p:spPr>
          <a:xfrm>
            <a:off x="7358040" y="5214960"/>
            <a:ext cx="300240" cy="534960"/>
          </a:xfrm>
          <a:prstGeom prst="rect">
            <a:avLst/>
          </a:prstGeom>
          <a:ln w="0">
            <a:noFill/>
          </a:ln>
        </p:spPr>
      </p:pic>
      <p:pic>
        <p:nvPicPr>
          <p:cNvPr id="414" name="图片 45" descr="f3ade8fb2e3c65c6b58f3126.png"/>
          <p:cNvPicPr/>
          <p:nvPr/>
        </p:nvPicPr>
        <p:blipFill>
          <a:blip r:embed="rId10"/>
          <a:stretch/>
        </p:blipFill>
        <p:spPr>
          <a:xfrm>
            <a:off x="4071960" y="5214960"/>
            <a:ext cx="299880" cy="534960"/>
          </a:xfrm>
          <a:prstGeom prst="rect">
            <a:avLst/>
          </a:prstGeom>
          <a:ln w="0">
            <a:noFill/>
          </a:ln>
        </p:spPr>
      </p:pic>
      <p:pic>
        <p:nvPicPr>
          <p:cNvPr id="415" name="图片 46" descr="f3ade8fb2e3c65c6b58f3126.png"/>
          <p:cNvPicPr/>
          <p:nvPr/>
        </p:nvPicPr>
        <p:blipFill>
          <a:blip r:embed="rId11"/>
          <a:stretch/>
        </p:blipFill>
        <p:spPr>
          <a:xfrm>
            <a:off x="1000080" y="5286240"/>
            <a:ext cx="300240" cy="533520"/>
          </a:xfrm>
          <a:prstGeom prst="rect">
            <a:avLst/>
          </a:prstGeom>
          <a:ln w="0">
            <a:noFill/>
          </a:ln>
        </p:spPr>
      </p:pic>
      <p:sp>
        <p:nvSpPr>
          <p:cNvPr id="416" name="圆角矩形 49"/>
          <p:cNvSpPr/>
          <p:nvPr/>
        </p:nvSpPr>
        <p:spPr>
          <a:xfrm>
            <a:off x="571680" y="3000240"/>
            <a:ext cx="3786120" cy="5716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生命变得不再平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流程图: 终止 59"/>
          <p:cNvSpPr/>
          <p:nvPr/>
        </p:nvSpPr>
        <p:spPr>
          <a:xfrm>
            <a:off x="2786040" y="5572080"/>
            <a:ext cx="71640" cy="46080"/>
          </a:xfrm>
          <a:prstGeom prst="flowChartTerminator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图片 34" descr="9c6a1220e.png"/>
          <p:cNvPicPr/>
          <p:nvPr/>
        </p:nvPicPr>
        <p:blipFill>
          <a:blip r:embed="rId12"/>
          <a:stretch/>
        </p:blipFill>
        <p:spPr>
          <a:xfrm>
            <a:off x="5214960" y="4987800"/>
            <a:ext cx="857160" cy="941400"/>
          </a:xfrm>
          <a:prstGeom prst="rect">
            <a:avLst/>
          </a:prstGeom>
          <a:ln w="0">
            <a:noFill/>
          </a:ln>
        </p:spPr>
      </p:pic>
      <p:grpSp>
        <p:nvGrpSpPr>
          <p:cNvPr id="419" name="组合 28"/>
          <p:cNvGrpSpPr/>
          <p:nvPr/>
        </p:nvGrpSpPr>
        <p:grpSpPr>
          <a:xfrm>
            <a:off x="2571840" y="5500800"/>
            <a:ext cx="357120" cy="357120"/>
            <a:chOff x="2571840" y="5500800"/>
            <a:chExt cx="357120" cy="357120"/>
          </a:xfrm>
        </p:grpSpPr>
        <p:sp>
          <p:nvSpPr>
            <p:cNvPr id="420" name="任意多边形 23"/>
            <p:cNvSpPr/>
            <p:nvPr/>
          </p:nvSpPr>
          <p:spPr>
            <a:xfrm>
              <a:off x="2571840" y="5500800"/>
              <a:ext cx="357120" cy="357120"/>
            </a:xfrm>
            <a:custGeom>
              <a:avLst/>
              <a:gdLst>
                <a:gd name="textAreaLeft" fmla="*/ 0 w 357120"/>
                <a:gd name="textAreaRight" fmla="*/ 357480 w 357120"/>
                <a:gd name="textAreaTop" fmla="*/ 0 h 357120"/>
                <a:gd name="textAreaBottom" fmla="*/ 357480 h 357120"/>
              </a:gdLst>
              <a:ahLst/>
              <a:rect l="textAreaLeft" t="textAreaTop" r="textAreaRight" b="textAreaBottom"/>
              <a:pathLst>
                <a:path w="4255633" h="3787593">
                  <a:moveTo>
                    <a:pt x="0" y="1092200"/>
                  </a:moveTo>
                  <a:lnTo>
                    <a:pt x="177800" y="1104900"/>
                  </a:lnTo>
                  <a:lnTo>
                    <a:pt x="177800" y="1117600"/>
                  </a:lnTo>
                  <a:lnTo>
                    <a:pt x="596900" y="1117600"/>
                  </a:lnTo>
                  <a:lnTo>
                    <a:pt x="647700" y="1016000"/>
                  </a:lnTo>
                  <a:lnTo>
                    <a:pt x="1143000" y="1016000"/>
                  </a:lnTo>
                  <a:lnTo>
                    <a:pt x="1231900" y="850900"/>
                  </a:lnTo>
                  <a:lnTo>
                    <a:pt x="1905000" y="838200"/>
                  </a:lnTo>
                  <a:lnTo>
                    <a:pt x="1968500" y="1016000"/>
                  </a:lnTo>
                  <a:lnTo>
                    <a:pt x="2451100" y="1041400"/>
                  </a:lnTo>
                  <a:lnTo>
                    <a:pt x="2476500" y="965200"/>
                  </a:lnTo>
                  <a:lnTo>
                    <a:pt x="2476500" y="914400"/>
                  </a:lnTo>
                  <a:lnTo>
                    <a:pt x="2413000" y="825500"/>
                  </a:lnTo>
                  <a:lnTo>
                    <a:pt x="2349500" y="685800"/>
                  </a:lnTo>
                  <a:lnTo>
                    <a:pt x="2324100" y="571500"/>
                  </a:lnTo>
                  <a:lnTo>
                    <a:pt x="2146300" y="660400"/>
                  </a:lnTo>
                  <a:lnTo>
                    <a:pt x="2120900" y="647700"/>
                  </a:lnTo>
                  <a:lnTo>
                    <a:pt x="2260600" y="558800"/>
                  </a:lnTo>
                  <a:lnTo>
                    <a:pt x="2273300" y="444500"/>
                  </a:lnTo>
                  <a:lnTo>
                    <a:pt x="2222500" y="177800"/>
                  </a:lnTo>
                  <a:lnTo>
                    <a:pt x="2400300" y="50800"/>
                  </a:lnTo>
                  <a:lnTo>
                    <a:pt x="2679700" y="0"/>
                  </a:lnTo>
                  <a:lnTo>
                    <a:pt x="2819400" y="50800"/>
                  </a:lnTo>
                  <a:lnTo>
                    <a:pt x="2921000" y="139700"/>
                  </a:lnTo>
                  <a:lnTo>
                    <a:pt x="2933700" y="279400"/>
                  </a:lnTo>
                  <a:lnTo>
                    <a:pt x="2946400" y="381000"/>
                  </a:lnTo>
                  <a:lnTo>
                    <a:pt x="2946400" y="381000"/>
                  </a:lnTo>
                  <a:lnTo>
                    <a:pt x="2971800" y="457200"/>
                  </a:lnTo>
                  <a:lnTo>
                    <a:pt x="2971800" y="520700"/>
                  </a:lnTo>
                  <a:cubicBezTo>
                    <a:pt x="3093501" y="588312"/>
                    <a:pt x="3086100" y="540615"/>
                    <a:pt x="3086100" y="609600"/>
                  </a:cubicBezTo>
                  <a:lnTo>
                    <a:pt x="3136900" y="673100"/>
                  </a:lnTo>
                  <a:lnTo>
                    <a:pt x="3390900" y="749300"/>
                  </a:lnTo>
                  <a:lnTo>
                    <a:pt x="3721100" y="1143000"/>
                  </a:lnTo>
                  <a:lnTo>
                    <a:pt x="3860800" y="1574800"/>
                  </a:lnTo>
                  <a:lnTo>
                    <a:pt x="4038600" y="2044700"/>
                  </a:lnTo>
                  <a:lnTo>
                    <a:pt x="4025900" y="2374900"/>
                  </a:lnTo>
                  <a:lnTo>
                    <a:pt x="4102100" y="2578100"/>
                  </a:lnTo>
                  <a:lnTo>
                    <a:pt x="4114800" y="2870200"/>
                  </a:lnTo>
                  <a:lnTo>
                    <a:pt x="3987800" y="2984500"/>
                  </a:lnTo>
                  <a:lnTo>
                    <a:pt x="4191000" y="3416300"/>
                  </a:lnTo>
                  <a:cubicBezTo>
                    <a:pt x="4255633" y="3648979"/>
                    <a:pt x="4254500" y="3565815"/>
                    <a:pt x="4254500" y="3657600"/>
                  </a:cubicBezTo>
                  <a:lnTo>
                    <a:pt x="4203700" y="3721100"/>
                  </a:lnTo>
                  <a:cubicBezTo>
                    <a:pt x="4137207" y="3787593"/>
                    <a:pt x="4170134" y="3784600"/>
                    <a:pt x="4127500" y="3784600"/>
                  </a:cubicBezTo>
                  <a:lnTo>
                    <a:pt x="4051300" y="3784600"/>
                  </a:lnTo>
                  <a:lnTo>
                    <a:pt x="3937000" y="3784600"/>
                  </a:lnTo>
                  <a:lnTo>
                    <a:pt x="3848100" y="3695700"/>
                  </a:lnTo>
                  <a:lnTo>
                    <a:pt x="3848100" y="3594100"/>
                  </a:lnTo>
                  <a:lnTo>
                    <a:pt x="3822700" y="3441700"/>
                  </a:lnTo>
                  <a:lnTo>
                    <a:pt x="3746500" y="3251200"/>
                  </a:lnTo>
                  <a:lnTo>
                    <a:pt x="3708400" y="3086100"/>
                  </a:lnTo>
                  <a:lnTo>
                    <a:pt x="3810000" y="3416300"/>
                  </a:lnTo>
                  <a:lnTo>
                    <a:pt x="3810000" y="3606800"/>
                  </a:lnTo>
                  <a:lnTo>
                    <a:pt x="3530600" y="3721100"/>
                  </a:lnTo>
                  <a:cubicBezTo>
                    <a:pt x="3408035" y="3748337"/>
                    <a:pt x="3455329" y="3746500"/>
                    <a:pt x="3390900" y="3746500"/>
                  </a:cubicBezTo>
                  <a:cubicBezTo>
                    <a:pt x="3191952" y="3759763"/>
                    <a:pt x="3264041" y="3759200"/>
                    <a:pt x="3175000" y="3759200"/>
                  </a:cubicBezTo>
                  <a:lnTo>
                    <a:pt x="3111500" y="3733800"/>
                  </a:lnTo>
                  <a:lnTo>
                    <a:pt x="3111500" y="3632200"/>
                  </a:lnTo>
                  <a:lnTo>
                    <a:pt x="3111500" y="3416300"/>
                  </a:lnTo>
                  <a:lnTo>
                    <a:pt x="3111500" y="3263900"/>
                  </a:lnTo>
                  <a:lnTo>
                    <a:pt x="3111500" y="3111500"/>
                  </a:lnTo>
                  <a:lnTo>
                    <a:pt x="3060700" y="2971800"/>
                  </a:lnTo>
                  <a:lnTo>
                    <a:pt x="2273300" y="2679700"/>
                  </a:lnTo>
                  <a:lnTo>
                    <a:pt x="2171700" y="2540000"/>
                  </a:lnTo>
                  <a:lnTo>
                    <a:pt x="2120900" y="2603500"/>
                  </a:lnTo>
                  <a:lnTo>
                    <a:pt x="2120900" y="2705100"/>
                  </a:lnTo>
                  <a:lnTo>
                    <a:pt x="2044700" y="2768600"/>
                  </a:lnTo>
                  <a:lnTo>
                    <a:pt x="2044700" y="2946400"/>
                  </a:lnTo>
                  <a:cubicBezTo>
                    <a:pt x="2004060" y="3000587"/>
                    <a:pt x="2006600" y="2976033"/>
                    <a:pt x="2006600" y="3009900"/>
                  </a:cubicBezTo>
                  <a:lnTo>
                    <a:pt x="1866900" y="3327400"/>
                  </a:lnTo>
                  <a:lnTo>
                    <a:pt x="1968500" y="3606800"/>
                  </a:lnTo>
                  <a:lnTo>
                    <a:pt x="1981200" y="3721100"/>
                  </a:lnTo>
                  <a:lnTo>
                    <a:pt x="1143000" y="3771900"/>
                  </a:lnTo>
                  <a:lnTo>
                    <a:pt x="1041400" y="3759200"/>
                  </a:lnTo>
                  <a:lnTo>
                    <a:pt x="1054100" y="3670300"/>
                  </a:lnTo>
                  <a:cubicBezTo>
                    <a:pt x="1172268" y="3617781"/>
                    <a:pt x="1126707" y="3619500"/>
                    <a:pt x="1181100" y="3619500"/>
                  </a:cubicBezTo>
                  <a:lnTo>
                    <a:pt x="1333500" y="3556000"/>
                  </a:lnTo>
                  <a:lnTo>
                    <a:pt x="1447800" y="3390900"/>
                  </a:lnTo>
                  <a:lnTo>
                    <a:pt x="1498600" y="3251200"/>
                  </a:lnTo>
                  <a:lnTo>
                    <a:pt x="1536700" y="3022600"/>
                  </a:lnTo>
                  <a:lnTo>
                    <a:pt x="1498600" y="2933700"/>
                  </a:lnTo>
                  <a:cubicBezTo>
                    <a:pt x="1471625" y="2717898"/>
                    <a:pt x="1473200" y="2798760"/>
                    <a:pt x="1473200" y="2692400"/>
                  </a:cubicBezTo>
                  <a:cubicBezTo>
                    <a:pt x="1553674" y="2383915"/>
                    <a:pt x="1549400" y="2500925"/>
                    <a:pt x="1549400" y="2349500"/>
                  </a:cubicBezTo>
                  <a:lnTo>
                    <a:pt x="1663700" y="2095500"/>
                  </a:lnTo>
                  <a:lnTo>
                    <a:pt x="1816100" y="1879600"/>
                  </a:lnTo>
                  <a:lnTo>
                    <a:pt x="1917700" y="1828800"/>
                  </a:lnTo>
                  <a:lnTo>
                    <a:pt x="1739900" y="1765300"/>
                  </a:lnTo>
                  <a:cubicBezTo>
                    <a:pt x="1684867" y="1710267"/>
                    <a:pt x="1706033" y="1697567"/>
                    <a:pt x="1676400" y="1727200"/>
                  </a:cubicBezTo>
                  <a:lnTo>
                    <a:pt x="1485900" y="1663700"/>
                  </a:lnTo>
                  <a:lnTo>
                    <a:pt x="1422400" y="1612900"/>
                  </a:lnTo>
                  <a:lnTo>
                    <a:pt x="1409700" y="1435100"/>
                  </a:lnTo>
                  <a:lnTo>
                    <a:pt x="1282700" y="1511300"/>
                  </a:lnTo>
                  <a:lnTo>
                    <a:pt x="1168400" y="1536700"/>
                  </a:lnTo>
                  <a:cubicBezTo>
                    <a:pt x="1155101" y="1443609"/>
                    <a:pt x="1155700" y="1477734"/>
                    <a:pt x="1155700" y="1435100"/>
                  </a:cubicBezTo>
                  <a:lnTo>
                    <a:pt x="1079500" y="1270000"/>
                  </a:lnTo>
                  <a:lnTo>
                    <a:pt x="647700" y="1244600"/>
                  </a:lnTo>
                  <a:lnTo>
                    <a:pt x="635000" y="1193800"/>
                  </a:lnTo>
                  <a:lnTo>
                    <a:pt x="584200" y="1168400"/>
                  </a:lnTo>
                  <a:lnTo>
                    <a:pt x="215900" y="1155700"/>
                  </a:lnTo>
                  <a:lnTo>
                    <a:pt x="76200" y="1181100"/>
                  </a:lnTo>
                  <a:lnTo>
                    <a:pt x="25400" y="1168400"/>
                  </a:lnTo>
                  <a:lnTo>
                    <a:pt x="0" y="1168400"/>
                  </a:lnTo>
                  <a:lnTo>
                    <a:pt x="0" y="109220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任意多边形 24"/>
            <p:cNvSpPr/>
            <p:nvPr/>
          </p:nvSpPr>
          <p:spPr>
            <a:xfrm>
              <a:off x="2883240" y="5775120"/>
              <a:ext cx="26640" cy="17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7640"/>
                <a:gd name="textAreaBottom" fmla="*/ 18000 h 17640"/>
              </a:gdLst>
              <a:ahLst/>
              <a:rect l="textAreaLeft" t="textAreaTop" r="textAreaRight" b="textAreaBottom"/>
              <a:pathLst>
                <a:path w="320171" h="190500">
                  <a:moveTo>
                    <a:pt x="0" y="190500"/>
                  </a:moveTo>
                  <a:cubicBezTo>
                    <a:pt x="4233" y="152400"/>
                    <a:pt x="6398" y="114013"/>
                    <a:pt x="12700" y="76200"/>
                  </a:cubicBezTo>
                  <a:cubicBezTo>
                    <a:pt x="14901" y="62995"/>
                    <a:pt x="14507" y="45881"/>
                    <a:pt x="25400" y="38100"/>
                  </a:cubicBezTo>
                  <a:cubicBezTo>
                    <a:pt x="63786" y="10681"/>
                    <a:pt x="164511" y="4836"/>
                    <a:pt x="203200" y="0"/>
                  </a:cubicBezTo>
                  <a:cubicBezTo>
                    <a:pt x="215900" y="4233"/>
                    <a:pt x="233519" y="1807"/>
                    <a:pt x="241300" y="12700"/>
                  </a:cubicBezTo>
                  <a:cubicBezTo>
                    <a:pt x="320171" y="123119"/>
                    <a:pt x="224906" y="68003"/>
                    <a:pt x="292100" y="10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任意多边形 25"/>
            <p:cNvSpPr/>
            <p:nvPr/>
          </p:nvSpPr>
          <p:spPr>
            <a:xfrm>
              <a:off x="2673360" y="5623560"/>
              <a:ext cx="14400" cy="13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3320"/>
                <a:gd name="textAreaBottom" fmla="*/ 13680 h 13320"/>
              </a:gdLst>
              <a:ahLst/>
              <a:rect l="textAreaLeft" t="textAreaTop" r="textAreaRight" b="textAreaBottom"/>
              <a:pathLst>
                <a:path w="174566" h="142264">
                  <a:moveTo>
                    <a:pt x="72966" y="2564"/>
                  </a:moveTo>
                  <a:cubicBezTo>
                    <a:pt x="64499" y="2564"/>
                    <a:pt x="24730" y="0"/>
                    <a:pt x="9466" y="15264"/>
                  </a:cubicBezTo>
                  <a:cubicBezTo>
                    <a:pt x="0" y="24730"/>
                    <a:pt x="19541" y="40237"/>
                    <a:pt x="22166" y="53364"/>
                  </a:cubicBezTo>
                  <a:cubicBezTo>
                    <a:pt x="28037" y="82717"/>
                    <a:pt x="30633" y="112631"/>
                    <a:pt x="34866" y="142264"/>
                  </a:cubicBezTo>
                  <a:cubicBezTo>
                    <a:pt x="35646" y="142134"/>
                    <a:pt x="132711" y="130028"/>
                    <a:pt x="149166" y="116864"/>
                  </a:cubicBezTo>
                  <a:cubicBezTo>
                    <a:pt x="161085" y="107329"/>
                    <a:pt x="166099" y="91464"/>
                    <a:pt x="174566" y="78764"/>
                  </a:cubicBezTo>
                  <a:cubicBezTo>
                    <a:pt x="171247" y="77934"/>
                    <a:pt x="93948" y="59989"/>
                    <a:pt x="85666" y="53364"/>
                  </a:cubicBezTo>
                  <a:cubicBezTo>
                    <a:pt x="73747" y="43829"/>
                    <a:pt x="69424" y="27475"/>
                    <a:pt x="60266" y="15264"/>
                  </a:cubicBezTo>
                  <a:cubicBezTo>
                    <a:pt x="56674" y="10475"/>
                    <a:pt x="81433" y="2564"/>
                    <a:pt x="72966" y="2564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任意多边形 26"/>
            <p:cNvSpPr/>
            <p:nvPr/>
          </p:nvSpPr>
          <p:spPr>
            <a:xfrm>
              <a:off x="2714760" y="5625360"/>
              <a:ext cx="20880" cy="23760"/>
            </a:xfrm>
            <a:custGeom>
              <a:avLst/>
              <a:gdLst>
                <a:gd name="textAreaLeft" fmla="*/ 0 w 20880"/>
                <a:gd name="textAreaRight" fmla="*/ 21240 w 208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250227" h="252082">
                  <a:moveTo>
                    <a:pt x="23283" y="36182"/>
                  </a:moveTo>
                  <a:cubicBezTo>
                    <a:pt x="0" y="46765"/>
                    <a:pt x="52620" y="72947"/>
                    <a:pt x="61383" y="112382"/>
                  </a:cubicBezTo>
                  <a:cubicBezTo>
                    <a:pt x="61573" y="113237"/>
                    <a:pt x="73588" y="210188"/>
                    <a:pt x="86783" y="226682"/>
                  </a:cubicBezTo>
                  <a:cubicBezTo>
                    <a:pt x="96318" y="238601"/>
                    <a:pt x="112183" y="243615"/>
                    <a:pt x="124883" y="252082"/>
                  </a:cubicBezTo>
                  <a:cubicBezTo>
                    <a:pt x="150283" y="247849"/>
                    <a:pt x="178051" y="250898"/>
                    <a:pt x="201083" y="239382"/>
                  </a:cubicBezTo>
                  <a:cubicBezTo>
                    <a:pt x="250227" y="214810"/>
                    <a:pt x="217616" y="122678"/>
                    <a:pt x="213783" y="99682"/>
                  </a:cubicBezTo>
                  <a:cubicBezTo>
                    <a:pt x="210914" y="82465"/>
                    <a:pt x="210765" y="63405"/>
                    <a:pt x="201083" y="48882"/>
                  </a:cubicBezTo>
                  <a:cubicBezTo>
                    <a:pt x="168495" y="0"/>
                    <a:pt x="46566" y="25599"/>
                    <a:pt x="23283" y="36182"/>
                  </a:cubicBez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任意多边形 27"/>
            <p:cNvSpPr/>
            <p:nvPr/>
          </p:nvSpPr>
          <p:spPr>
            <a:xfrm>
              <a:off x="2763720" y="5535720"/>
              <a:ext cx="55440" cy="1872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584200" h="168347">
                  <a:moveTo>
                    <a:pt x="0" y="168347"/>
                  </a:moveTo>
                  <a:cubicBezTo>
                    <a:pt x="8467" y="155647"/>
                    <a:pt x="13674" y="140018"/>
                    <a:pt x="25400" y="130247"/>
                  </a:cubicBezTo>
                  <a:cubicBezTo>
                    <a:pt x="39944" y="118127"/>
                    <a:pt x="58799" y="112305"/>
                    <a:pt x="76200" y="104847"/>
                  </a:cubicBezTo>
                  <a:cubicBezTo>
                    <a:pt x="127071" y="83045"/>
                    <a:pt x="123521" y="96192"/>
                    <a:pt x="190500" y="79447"/>
                  </a:cubicBezTo>
                  <a:lnTo>
                    <a:pt x="304800" y="41347"/>
                  </a:lnTo>
                  <a:cubicBezTo>
                    <a:pt x="317500" y="37114"/>
                    <a:pt x="329695" y="30848"/>
                    <a:pt x="342900" y="28647"/>
                  </a:cubicBezTo>
                  <a:cubicBezTo>
                    <a:pt x="368300" y="24414"/>
                    <a:pt x="393963" y="21533"/>
                    <a:pt x="419100" y="15947"/>
                  </a:cubicBezTo>
                  <a:cubicBezTo>
                    <a:pt x="432168" y="13043"/>
                    <a:pt x="443852" y="4274"/>
                    <a:pt x="457200" y="3247"/>
                  </a:cubicBezTo>
                  <a:cubicBezTo>
                    <a:pt x="499409" y="0"/>
                    <a:pt x="541867" y="3247"/>
                    <a:pt x="584200" y="3247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914" dur="indefinite" restart="never" nodeType="tmRoot">
          <p:childTnLst>
            <p:seq>
              <p:cTn id="915" dur="indefinite" nodeType="mainSeq">
                <p:childTnLst>
                  <p:par>
                    <p:cTn id="916" nodeType="clickEffect" fill="hold">
                      <p:stCondLst>
                        <p:cond delay="0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5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4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4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5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2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6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9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6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9" autoRev="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0" dur="1000" fill="hold"/>
                                        <p:tgtEl>
                                          <p:spTgt spid="418"/>
                                        </p:tgtEl>
                                      </p:cBhvr>
                                      <p:to x="107000" y="107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82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4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9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0501"/>
                            </p:stCondLst>
                            <p:childTnLst>
                              <p:par>
                                <p:cTn id="989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521 -0.00093 L 0.30972 -0.00093 E">
                                      <p:cBhvr>
                                        <p:cTn id="990" dur="5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mph" presetID="35" repeatCount="2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11501"/>
                            </p:stCondLst>
                            <p:childTnLst>
                              <p:par>
                                <p:cTn id="99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11502"/>
                            </p:stCondLst>
                            <p:childTnLst>
                              <p:par>
                                <p:cTn id="10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2002"/>
                            </p:stCondLst>
                            <p:childTnLst>
                              <p:par>
                                <p:cTn id="1007" nodeType="after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08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9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100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图片 38" descr="201960a1650.png"/>
          <p:cNvPicPr/>
          <p:nvPr/>
        </p:nvPicPr>
        <p:blipFill>
          <a:blip r:embed="rId1"/>
          <a:stretch/>
        </p:blipFill>
        <p:spPr>
          <a:xfrm>
            <a:off x="5500800" y="3817800"/>
            <a:ext cx="1000080" cy="1382760"/>
          </a:xfrm>
          <a:prstGeom prst="rect">
            <a:avLst/>
          </a:prstGeom>
          <a:ln w="0">
            <a:noFill/>
          </a:ln>
        </p:spPr>
      </p:pic>
      <p:pic>
        <p:nvPicPr>
          <p:cNvPr id="426" name="图片 37" descr="201960a1650.png"/>
          <p:cNvPicPr/>
          <p:nvPr/>
        </p:nvPicPr>
        <p:blipFill>
          <a:blip r:embed="rId2"/>
          <a:stretch/>
        </p:blipFill>
        <p:spPr>
          <a:xfrm>
            <a:off x="4429080" y="3571920"/>
            <a:ext cx="1177920" cy="1628640"/>
          </a:xfrm>
          <a:prstGeom prst="rect">
            <a:avLst/>
          </a:prstGeom>
          <a:ln w="0">
            <a:noFill/>
          </a:ln>
        </p:spPr>
      </p:pic>
      <p:pic>
        <p:nvPicPr>
          <p:cNvPr id="427" name="图片 36" descr="201960a1650.png"/>
          <p:cNvPicPr/>
          <p:nvPr/>
        </p:nvPicPr>
        <p:blipFill>
          <a:blip r:embed="rId3"/>
          <a:stretch/>
        </p:blipFill>
        <p:spPr>
          <a:xfrm>
            <a:off x="2714760" y="3100320"/>
            <a:ext cx="1643040" cy="2271960"/>
          </a:xfrm>
          <a:prstGeom prst="rect">
            <a:avLst/>
          </a:prstGeom>
          <a:ln w="0">
            <a:noFill/>
          </a:ln>
        </p:spPr>
      </p:pic>
      <p:pic>
        <p:nvPicPr>
          <p:cNvPr id="428" name="图片 34" descr="e11d73d1a5e60201960a1650.png"/>
          <p:cNvPicPr/>
          <p:nvPr/>
        </p:nvPicPr>
        <p:blipFill>
          <a:blip r:embed="rId4"/>
          <a:stretch/>
        </p:blipFill>
        <p:spPr>
          <a:xfrm>
            <a:off x="928800" y="2643120"/>
            <a:ext cx="1643040" cy="2729160"/>
          </a:xfrm>
          <a:prstGeom prst="rect">
            <a:avLst/>
          </a:prstGeom>
          <a:ln w="0">
            <a:noFill/>
          </a:ln>
        </p:spPr>
      </p:pic>
      <p:grpSp>
        <p:nvGrpSpPr>
          <p:cNvPr id="429" name="组合 33"/>
          <p:cNvGrpSpPr/>
          <p:nvPr/>
        </p:nvGrpSpPr>
        <p:grpSpPr>
          <a:xfrm>
            <a:off x="790560" y="2174760"/>
            <a:ext cx="7702560" cy="3699000"/>
            <a:chOff x="790560" y="2174760"/>
            <a:chExt cx="7702560" cy="3699000"/>
          </a:xfrm>
        </p:grpSpPr>
        <p:sp>
          <p:nvSpPr>
            <p:cNvPr id="430" name="任意多边形 3"/>
            <p:cNvSpPr/>
            <p:nvPr/>
          </p:nvSpPr>
          <p:spPr>
            <a:xfrm>
              <a:off x="790560" y="2174760"/>
              <a:ext cx="7702560" cy="3699000"/>
            </a:xfrm>
            <a:custGeom>
              <a:avLst/>
              <a:gdLst>
                <a:gd name="textAreaLeft" fmla="*/ 0 w 7702560"/>
                <a:gd name="textAreaRight" fmla="*/ 7702920 w 7702560"/>
                <a:gd name="textAreaTop" fmla="*/ 0 h 3699000"/>
                <a:gd name="textAreaBottom" fmla="*/ 3699360 h 3699000"/>
              </a:gdLst>
              <a:ahLst/>
              <a:rect l="textAreaLeft" t="textAreaTop" r="textAreaRight" b="textAreaBottom"/>
              <a:pathLst>
                <a:path w="7703127" h="3699163">
                  <a:moveTo>
                    <a:pt x="0" y="3685309"/>
                  </a:moveTo>
                  <a:lnTo>
                    <a:pt x="290946" y="3685309"/>
                  </a:lnTo>
                  <a:lnTo>
                    <a:pt x="387927" y="3560618"/>
                  </a:lnTo>
                  <a:lnTo>
                    <a:pt x="498764" y="3200400"/>
                  </a:lnTo>
                  <a:lnTo>
                    <a:pt x="609600" y="2729345"/>
                  </a:lnTo>
                  <a:lnTo>
                    <a:pt x="623455" y="2535381"/>
                  </a:lnTo>
                  <a:lnTo>
                    <a:pt x="595746" y="2202872"/>
                  </a:lnTo>
                  <a:lnTo>
                    <a:pt x="595746" y="2161309"/>
                  </a:lnTo>
                  <a:lnTo>
                    <a:pt x="1330036" y="2161309"/>
                  </a:lnTo>
                  <a:lnTo>
                    <a:pt x="1288473" y="2521527"/>
                  </a:lnTo>
                  <a:lnTo>
                    <a:pt x="1440873" y="3338945"/>
                  </a:lnTo>
                  <a:lnTo>
                    <a:pt x="1537855" y="3546763"/>
                  </a:lnTo>
                  <a:lnTo>
                    <a:pt x="1537855" y="3616036"/>
                  </a:lnTo>
                  <a:lnTo>
                    <a:pt x="1524000" y="3588327"/>
                  </a:lnTo>
                  <a:lnTo>
                    <a:pt x="1967346" y="3574472"/>
                  </a:lnTo>
                  <a:lnTo>
                    <a:pt x="1981200" y="3186545"/>
                  </a:lnTo>
                  <a:lnTo>
                    <a:pt x="2175164" y="3172691"/>
                  </a:lnTo>
                  <a:lnTo>
                    <a:pt x="2189018" y="3103418"/>
                  </a:lnTo>
                  <a:lnTo>
                    <a:pt x="2341418" y="3103418"/>
                  </a:lnTo>
                  <a:lnTo>
                    <a:pt x="2396836" y="3075709"/>
                  </a:lnTo>
                  <a:lnTo>
                    <a:pt x="2438400" y="2757054"/>
                  </a:lnTo>
                  <a:lnTo>
                    <a:pt x="2424546" y="2590800"/>
                  </a:lnTo>
                  <a:lnTo>
                    <a:pt x="2382982" y="2299854"/>
                  </a:lnTo>
                  <a:lnTo>
                    <a:pt x="3075709" y="2286000"/>
                  </a:lnTo>
                  <a:lnTo>
                    <a:pt x="3020291" y="2493818"/>
                  </a:lnTo>
                  <a:lnTo>
                    <a:pt x="3020291" y="2590800"/>
                  </a:lnTo>
                  <a:lnTo>
                    <a:pt x="3685309" y="2604654"/>
                  </a:lnTo>
                  <a:lnTo>
                    <a:pt x="3671455" y="3089563"/>
                  </a:lnTo>
                  <a:lnTo>
                    <a:pt x="3699164" y="3089563"/>
                  </a:lnTo>
                  <a:lnTo>
                    <a:pt x="3713018" y="2673927"/>
                  </a:lnTo>
                  <a:lnTo>
                    <a:pt x="3906982" y="2646218"/>
                  </a:lnTo>
                  <a:lnTo>
                    <a:pt x="3934691" y="2590800"/>
                  </a:lnTo>
                  <a:lnTo>
                    <a:pt x="3893127" y="2410691"/>
                  </a:lnTo>
                  <a:lnTo>
                    <a:pt x="4100946" y="2410691"/>
                  </a:lnTo>
                  <a:lnTo>
                    <a:pt x="4488873" y="2410691"/>
                  </a:lnTo>
                  <a:lnTo>
                    <a:pt x="4447309" y="2549236"/>
                  </a:lnTo>
                  <a:lnTo>
                    <a:pt x="4461164" y="2618509"/>
                  </a:lnTo>
                  <a:lnTo>
                    <a:pt x="4447309" y="2660072"/>
                  </a:lnTo>
                  <a:lnTo>
                    <a:pt x="4710546" y="2687781"/>
                  </a:lnTo>
                  <a:lnTo>
                    <a:pt x="4752109" y="1787236"/>
                  </a:lnTo>
                  <a:lnTo>
                    <a:pt x="4752109" y="803563"/>
                  </a:lnTo>
                  <a:lnTo>
                    <a:pt x="4738255" y="207818"/>
                  </a:lnTo>
                  <a:lnTo>
                    <a:pt x="4738255" y="69272"/>
                  </a:lnTo>
                  <a:lnTo>
                    <a:pt x="4738255" y="0"/>
                  </a:lnTo>
                  <a:lnTo>
                    <a:pt x="4918364" y="13854"/>
                  </a:lnTo>
                  <a:lnTo>
                    <a:pt x="4904509" y="374072"/>
                  </a:lnTo>
                  <a:lnTo>
                    <a:pt x="5001491" y="2452254"/>
                  </a:lnTo>
                  <a:lnTo>
                    <a:pt x="5306291" y="2466109"/>
                  </a:lnTo>
                  <a:lnTo>
                    <a:pt x="5417127" y="2466109"/>
                  </a:lnTo>
                  <a:lnTo>
                    <a:pt x="5375564" y="2618509"/>
                  </a:lnTo>
                  <a:lnTo>
                    <a:pt x="5361709" y="2660072"/>
                  </a:lnTo>
                  <a:lnTo>
                    <a:pt x="5361709" y="2687781"/>
                  </a:lnTo>
                  <a:lnTo>
                    <a:pt x="5444836" y="2701636"/>
                  </a:lnTo>
                  <a:lnTo>
                    <a:pt x="5597236" y="2715491"/>
                  </a:lnTo>
                  <a:lnTo>
                    <a:pt x="5915891" y="2715491"/>
                  </a:lnTo>
                  <a:lnTo>
                    <a:pt x="6054436" y="2729345"/>
                  </a:lnTo>
                  <a:lnTo>
                    <a:pt x="6040582" y="3061854"/>
                  </a:lnTo>
                  <a:lnTo>
                    <a:pt x="6248400" y="3020291"/>
                  </a:lnTo>
                  <a:lnTo>
                    <a:pt x="6262255" y="1579418"/>
                  </a:lnTo>
                  <a:lnTo>
                    <a:pt x="6276109" y="637309"/>
                  </a:lnTo>
                  <a:lnTo>
                    <a:pt x="6262255" y="429491"/>
                  </a:lnTo>
                  <a:lnTo>
                    <a:pt x="6373091" y="415636"/>
                  </a:lnTo>
                  <a:lnTo>
                    <a:pt x="6497782" y="2992581"/>
                  </a:lnTo>
                  <a:lnTo>
                    <a:pt x="6802582" y="3006436"/>
                  </a:lnTo>
                  <a:lnTo>
                    <a:pt x="7121236" y="3006436"/>
                  </a:lnTo>
                  <a:lnTo>
                    <a:pt x="7121236" y="3103418"/>
                  </a:lnTo>
                  <a:lnTo>
                    <a:pt x="7107382" y="3560618"/>
                  </a:lnTo>
                  <a:lnTo>
                    <a:pt x="7107382" y="3657600"/>
                  </a:lnTo>
                  <a:lnTo>
                    <a:pt x="7107382" y="3699163"/>
                  </a:lnTo>
                  <a:lnTo>
                    <a:pt x="7703127" y="3685309"/>
                  </a:lnTo>
                  <a:lnTo>
                    <a:pt x="7703127" y="3685309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任意多边形 23"/>
            <p:cNvSpPr/>
            <p:nvPr/>
          </p:nvSpPr>
          <p:spPr>
            <a:xfrm>
              <a:off x="7043760" y="4689000"/>
              <a:ext cx="222120" cy="122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2422" h="12357">
                  <a:moveTo>
                    <a:pt x="0" y="12357"/>
                  </a:moveTo>
                  <a:lnTo>
                    <a:pt x="222422" y="0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任意多边形 24"/>
            <p:cNvSpPr/>
            <p:nvPr/>
          </p:nvSpPr>
          <p:spPr>
            <a:xfrm>
              <a:off x="7048800" y="3743640"/>
              <a:ext cx="166680" cy="6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66816" h="6179">
                  <a:moveTo>
                    <a:pt x="0" y="6179"/>
                  </a:moveTo>
                  <a:lnTo>
                    <a:pt x="166816" y="0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任意多边形 26"/>
            <p:cNvSpPr/>
            <p:nvPr/>
          </p:nvSpPr>
          <p:spPr>
            <a:xfrm>
              <a:off x="7056360" y="3224520"/>
              <a:ext cx="141840" cy="141840"/>
            </a:xfrm>
            <a:custGeom>
              <a:avLst/>
              <a:gdLst>
                <a:gd name="textAreaLeft" fmla="*/ 0 w 141840"/>
                <a:gd name="textAreaRight" fmla="*/ 142200 w 14184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142103" h="142102">
                  <a:moveTo>
                    <a:pt x="0" y="142102"/>
                  </a:moveTo>
                  <a:lnTo>
                    <a:pt x="142103" y="135924"/>
                  </a:lnTo>
                  <a:lnTo>
                    <a:pt x="135924" y="0"/>
                  </a:lnTo>
                  <a:lnTo>
                    <a:pt x="18535" y="0"/>
                  </a:lnTo>
                  <a:lnTo>
                    <a:pt x="0" y="14210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任意多边形 27"/>
            <p:cNvSpPr/>
            <p:nvPr/>
          </p:nvSpPr>
          <p:spPr>
            <a:xfrm>
              <a:off x="7056360" y="2909520"/>
              <a:ext cx="117360" cy="14184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141840"/>
                <a:gd name="textAreaBottom" fmla="*/ 142200 h 141840"/>
              </a:gdLst>
              <a:ahLst/>
              <a:rect l="textAreaLeft" t="textAreaTop" r="textAreaRight" b="textAreaBottom"/>
              <a:pathLst>
                <a:path w="117389" h="142103">
                  <a:moveTo>
                    <a:pt x="6178" y="0"/>
                  </a:moveTo>
                  <a:lnTo>
                    <a:pt x="0" y="142103"/>
                  </a:lnTo>
                  <a:lnTo>
                    <a:pt x="117389" y="142103"/>
                  </a:lnTo>
                  <a:lnTo>
                    <a:pt x="117389" y="0"/>
                  </a:lnTo>
                  <a:lnTo>
                    <a:pt x="6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任意多边形 28"/>
            <p:cNvSpPr/>
            <p:nvPr/>
          </p:nvSpPr>
          <p:spPr>
            <a:xfrm>
              <a:off x="7056360" y="2699280"/>
              <a:ext cx="117360" cy="360"/>
            </a:xfrm>
            <a:custGeom>
              <a:avLst/>
              <a:gdLst>
                <a:gd name="textAreaLeft" fmla="*/ 0 w 117360"/>
                <a:gd name="textAreaRight" fmla="*/ 117720 w 117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17389" h="1">
                  <a:moveTo>
                    <a:pt x="0" y="0"/>
                  </a:moveTo>
                  <a:lnTo>
                    <a:pt x="117389" y="0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任意多边形 30"/>
            <p:cNvSpPr/>
            <p:nvPr/>
          </p:nvSpPr>
          <p:spPr>
            <a:xfrm>
              <a:off x="5542560" y="2884680"/>
              <a:ext cx="166680" cy="17280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166817" h="172994">
                  <a:moveTo>
                    <a:pt x="0" y="18535"/>
                  </a:moveTo>
                  <a:lnTo>
                    <a:pt x="0" y="172994"/>
                  </a:lnTo>
                  <a:lnTo>
                    <a:pt x="166817" y="166816"/>
                  </a:lnTo>
                  <a:lnTo>
                    <a:pt x="166817" y="18535"/>
                  </a:lnTo>
                  <a:lnTo>
                    <a:pt x="166817" y="0"/>
                  </a:lnTo>
                  <a:lnTo>
                    <a:pt x="98854" y="0"/>
                  </a:lnTo>
                  <a:lnTo>
                    <a:pt x="0" y="18535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任意多边形 31"/>
            <p:cNvSpPr/>
            <p:nvPr/>
          </p:nvSpPr>
          <p:spPr>
            <a:xfrm>
              <a:off x="5530320" y="2538720"/>
              <a:ext cx="166680" cy="1789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166816" h="179172">
                  <a:moveTo>
                    <a:pt x="0" y="12356"/>
                  </a:moveTo>
                  <a:lnTo>
                    <a:pt x="6178" y="179172"/>
                  </a:lnTo>
                  <a:lnTo>
                    <a:pt x="80319" y="166816"/>
                  </a:lnTo>
                  <a:lnTo>
                    <a:pt x="142102" y="172994"/>
                  </a:lnTo>
                  <a:lnTo>
                    <a:pt x="166816" y="166816"/>
                  </a:lnTo>
                  <a:lnTo>
                    <a:pt x="166816" y="12356"/>
                  </a:lnTo>
                  <a:lnTo>
                    <a:pt x="105032" y="0"/>
                  </a:lnTo>
                  <a:lnTo>
                    <a:pt x="61783" y="0"/>
                  </a:lnTo>
                  <a:lnTo>
                    <a:pt x="0" y="12356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任意多边形 32"/>
            <p:cNvSpPr/>
            <p:nvPr/>
          </p:nvSpPr>
          <p:spPr>
            <a:xfrm>
              <a:off x="5523840" y="2310120"/>
              <a:ext cx="166680" cy="6120"/>
            </a:xfrm>
            <a:custGeom>
              <a:avLst/>
              <a:gdLst>
                <a:gd name="textAreaLeft" fmla="*/ 0 w 166680"/>
                <a:gd name="textAreaRight" fmla="*/ 167040 w 166680"/>
                <a:gd name="textAreaTop" fmla="*/ 0 h 6120"/>
                <a:gd name="textAreaBottom" fmla="*/ 6480 h 6120"/>
              </a:gdLst>
              <a:ahLst/>
              <a:rect l="textAreaLeft" t="textAreaTop" r="textAreaRight" b="textAreaBottom"/>
              <a:pathLst>
                <a:path w="166816" h="6178">
                  <a:moveTo>
                    <a:pt x="0" y="6178"/>
                  </a:moveTo>
                  <a:lnTo>
                    <a:pt x="129746" y="0"/>
                  </a:lnTo>
                  <a:lnTo>
                    <a:pt x="166816" y="6178"/>
                  </a:lnTo>
                </a:path>
              </a:pathLst>
            </a:custGeom>
            <a:solidFill>
              <a:srgbClr val="00b0f0"/>
            </a:solidFill>
            <a:ln w="2232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直接连接符 1"/>
          <p:cNvSpPr/>
          <p:nvPr/>
        </p:nvSpPr>
        <p:spPr>
          <a:xfrm>
            <a:off x="-142920" y="5857920"/>
            <a:ext cx="9858600" cy="14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任意多边形 8"/>
          <p:cNvSpPr/>
          <p:nvPr/>
        </p:nvSpPr>
        <p:spPr>
          <a:xfrm>
            <a:off x="1071720" y="5715000"/>
            <a:ext cx="1304640" cy="168120"/>
          </a:xfrm>
          <a:custGeom>
            <a:avLst/>
            <a:gdLst>
              <a:gd name="textAreaLeft" fmla="*/ 0 w 1304640"/>
              <a:gd name="textAreaRight" fmla="*/ 1305000 w 1304640"/>
              <a:gd name="textAreaTop" fmla="*/ 0 h 168120"/>
              <a:gd name="textAreaBottom" fmla="*/ 168120 h 168120"/>
            </a:gdLst>
            <a:ahLst/>
            <a:rect l="textAreaLeft" t="textAreaTop" r="textAreaRight" b="textAreaBottom"/>
            <a:pathLst>
              <a:path w="1304740" h="167963">
                <a:moveTo>
                  <a:pt x="0" y="135925"/>
                </a:moveTo>
                <a:lnTo>
                  <a:pt x="43248" y="55606"/>
                </a:lnTo>
                <a:lnTo>
                  <a:pt x="74140" y="148281"/>
                </a:lnTo>
                <a:lnTo>
                  <a:pt x="123567" y="67963"/>
                </a:lnTo>
                <a:lnTo>
                  <a:pt x="142102" y="142103"/>
                </a:lnTo>
                <a:lnTo>
                  <a:pt x="179173" y="67963"/>
                </a:lnTo>
                <a:lnTo>
                  <a:pt x="191529" y="142103"/>
                </a:lnTo>
                <a:lnTo>
                  <a:pt x="247135" y="55606"/>
                </a:lnTo>
                <a:lnTo>
                  <a:pt x="290383" y="142103"/>
                </a:lnTo>
                <a:lnTo>
                  <a:pt x="339811" y="55606"/>
                </a:lnTo>
                <a:lnTo>
                  <a:pt x="352167" y="148281"/>
                </a:lnTo>
                <a:lnTo>
                  <a:pt x="432486" y="55606"/>
                </a:lnTo>
                <a:lnTo>
                  <a:pt x="518983" y="160638"/>
                </a:lnTo>
                <a:lnTo>
                  <a:pt x="605481" y="67963"/>
                </a:lnTo>
                <a:lnTo>
                  <a:pt x="642551" y="117390"/>
                </a:lnTo>
                <a:lnTo>
                  <a:pt x="722870" y="86498"/>
                </a:lnTo>
                <a:cubicBezTo>
                  <a:pt x="748605" y="131534"/>
                  <a:pt x="747583" y="113142"/>
                  <a:pt x="747583" y="135925"/>
                </a:cubicBezTo>
                <a:lnTo>
                  <a:pt x="797011" y="61784"/>
                </a:lnTo>
                <a:lnTo>
                  <a:pt x="803189" y="135925"/>
                </a:lnTo>
                <a:lnTo>
                  <a:pt x="877329" y="92676"/>
                </a:lnTo>
                <a:lnTo>
                  <a:pt x="926756" y="123568"/>
                </a:lnTo>
                <a:lnTo>
                  <a:pt x="926756" y="61784"/>
                </a:lnTo>
                <a:cubicBezTo>
                  <a:pt x="971043" y="137704"/>
                  <a:pt x="941394" y="135925"/>
                  <a:pt x="976183" y="135925"/>
                </a:cubicBezTo>
                <a:lnTo>
                  <a:pt x="1013254" y="67963"/>
                </a:lnTo>
                <a:lnTo>
                  <a:pt x="1062681" y="129746"/>
                </a:lnTo>
                <a:lnTo>
                  <a:pt x="1075038" y="74141"/>
                </a:lnTo>
                <a:lnTo>
                  <a:pt x="1143000" y="123568"/>
                </a:lnTo>
                <a:lnTo>
                  <a:pt x="1143000" y="80319"/>
                </a:lnTo>
                <a:lnTo>
                  <a:pt x="1235675" y="154460"/>
                </a:lnTo>
                <a:lnTo>
                  <a:pt x="1229497" y="67963"/>
                </a:lnTo>
                <a:cubicBezTo>
                  <a:pt x="1304740" y="143206"/>
                  <a:pt x="1297459" y="167963"/>
                  <a:pt x="1297459" y="105033"/>
                </a:cubicBezTo>
                <a:lnTo>
                  <a:pt x="1266567" y="0"/>
                </a:ln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任意多边形 9"/>
          <p:cNvSpPr/>
          <p:nvPr/>
        </p:nvSpPr>
        <p:spPr>
          <a:xfrm>
            <a:off x="2762280" y="5672160"/>
            <a:ext cx="6480" cy="185760"/>
          </a:xfrm>
          <a:custGeom>
            <a:avLst/>
            <a:gdLst>
              <a:gd name="textAreaLeft" fmla="*/ 0 w 6480"/>
              <a:gd name="textAreaRight" fmla="*/ 6840 w 6480"/>
              <a:gd name="textAreaTop" fmla="*/ 0 h 185760"/>
              <a:gd name="textAreaBottom" fmla="*/ 186120 h 185760"/>
            </a:gdLst>
            <a:ahLst/>
            <a:rect l="textAreaLeft" t="textAreaTop" r="textAreaRight" b="textAreaBottom"/>
            <a:pathLst>
              <a:path w="6179" h="185351">
                <a:moveTo>
                  <a:pt x="0" y="0"/>
                </a:moveTo>
                <a:lnTo>
                  <a:pt x="6179" y="185351"/>
                </a:lnTo>
                <a:lnTo>
                  <a:pt x="0" y="185351"/>
                </a:ln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任意多边形 10"/>
          <p:cNvSpPr/>
          <p:nvPr/>
        </p:nvSpPr>
        <p:spPr>
          <a:xfrm>
            <a:off x="3168720" y="5264280"/>
            <a:ext cx="352440" cy="649080"/>
          </a:xfrm>
          <a:custGeom>
            <a:avLst/>
            <a:gdLst>
              <a:gd name="textAreaLeft" fmla="*/ 0 w 352440"/>
              <a:gd name="textAreaRight" fmla="*/ 352800 w 352440"/>
              <a:gd name="textAreaTop" fmla="*/ 0 h 649080"/>
              <a:gd name="textAreaBottom" fmla="*/ 649440 h 649080"/>
            </a:gdLst>
            <a:ahLst/>
            <a:rect l="textAreaLeft" t="textAreaTop" r="textAreaRight" b="textAreaBottom"/>
            <a:pathLst>
              <a:path w="352168" h="648730">
                <a:moveTo>
                  <a:pt x="0" y="0"/>
                </a:moveTo>
                <a:lnTo>
                  <a:pt x="142103" y="6179"/>
                </a:lnTo>
                <a:lnTo>
                  <a:pt x="345989" y="0"/>
                </a:lnTo>
                <a:lnTo>
                  <a:pt x="352168" y="123568"/>
                </a:lnTo>
                <a:lnTo>
                  <a:pt x="265670" y="117390"/>
                </a:lnTo>
                <a:lnTo>
                  <a:pt x="278027" y="64873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任意多边形 11"/>
          <p:cNvSpPr/>
          <p:nvPr/>
        </p:nvSpPr>
        <p:spPr>
          <a:xfrm>
            <a:off x="3540240" y="4757760"/>
            <a:ext cx="271440" cy="1123920"/>
          </a:xfrm>
          <a:custGeom>
            <a:avLst/>
            <a:gdLst>
              <a:gd name="textAreaLeft" fmla="*/ 0 w 271440"/>
              <a:gd name="textAreaRight" fmla="*/ 271800 w 27144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271848" h="1124465">
                <a:moveTo>
                  <a:pt x="271848" y="0"/>
                </a:moveTo>
                <a:lnTo>
                  <a:pt x="12357" y="12357"/>
                </a:lnTo>
                <a:lnTo>
                  <a:pt x="0" y="12357"/>
                </a:lnTo>
                <a:lnTo>
                  <a:pt x="12357" y="716692"/>
                </a:lnTo>
                <a:cubicBezTo>
                  <a:pt x="14416" y="852616"/>
                  <a:pt x="16476" y="988541"/>
                  <a:pt x="18535" y="1124465"/>
                </a:cubicBez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任意多边形 12"/>
          <p:cNvSpPr/>
          <p:nvPr/>
        </p:nvSpPr>
        <p:spPr>
          <a:xfrm>
            <a:off x="4003560" y="5257800"/>
            <a:ext cx="493920" cy="649440"/>
          </a:xfrm>
          <a:custGeom>
            <a:avLst/>
            <a:gdLst>
              <a:gd name="textAreaLeft" fmla="*/ 0 w 493920"/>
              <a:gd name="textAreaRight" fmla="*/ 494280 w 493920"/>
              <a:gd name="textAreaTop" fmla="*/ 0 h 649440"/>
              <a:gd name="textAreaBottom" fmla="*/ 649800 h 649440"/>
            </a:gdLst>
            <a:ahLst/>
            <a:rect l="textAreaLeft" t="textAreaTop" r="textAreaRight" b="textAreaBottom"/>
            <a:pathLst>
              <a:path w="494270" h="648730">
                <a:moveTo>
                  <a:pt x="0" y="49427"/>
                </a:moveTo>
                <a:lnTo>
                  <a:pt x="105033" y="67962"/>
                </a:lnTo>
                <a:lnTo>
                  <a:pt x="488092" y="49427"/>
                </a:lnTo>
                <a:lnTo>
                  <a:pt x="481914" y="0"/>
                </a:lnTo>
                <a:lnTo>
                  <a:pt x="488092" y="18535"/>
                </a:lnTo>
                <a:lnTo>
                  <a:pt x="494270" y="49427"/>
                </a:lnTo>
                <a:lnTo>
                  <a:pt x="488092" y="197708"/>
                </a:lnTo>
                <a:lnTo>
                  <a:pt x="284206" y="216243"/>
                </a:lnTo>
                <a:lnTo>
                  <a:pt x="284206" y="642551"/>
                </a:lnTo>
                <a:lnTo>
                  <a:pt x="284206" y="64873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任意多边形 13"/>
          <p:cNvSpPr/>
          <p:nvPr/>
        </p:nvSpPr>
        <p:spPr>
          <a:xfrm>
            <a:off x="3997440" y="5319720"/>
            <a:ext cx="12600" cy="561960"/>
          </a:xfrm>
          <a:custGeom>
            <a:avLst/>
            <a:gdLst>
              <a:gd name="textAreaLeft" fmla="*/ 0 w 12600"/>
              <a:gd name="textAreaRight" fmla="*/ 12960 w 12600"/>
              <a:gd name="textAreaTop" fmla="*/ 0 h 561960"/>
              <a:gd name="textAreaBottom" fmla="*/ 562320 h 561960"/>
            </a:gdLst>
            <a:ahLst/>
            <a:rect l="textAreaLeft" t="textAreaTop" r="textAreaRight" b="textAreaBottom"/>
            <a:pathLst>
              <a:path w="12357" h="562232">
                <a:moveTo>
                  <a:pt x="0" y="0"/>
                </a:moveTo>
                <a:lnTo>
                  <a:pt x="12357" y="562232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任意多边形 14"/>
          <p:cNvSpPr/>
          <p:nvPr/>
        </p:nvSpPr>
        <p:spPr>
          <a:xfrm>
            <a:off x="3997440" y="4768920"/>
            <a:ext cx="6120" cy="574560"/>
          </a:xfrm>
          <a:custGeom>
            <a:avLst/>
            <a:gdLst>
              <a:gd name="textAreaLeft" fmla="*/ 0 w 6120"/>
              <a:gd name="textAreaRight" fmla="*/ 6480 w 61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6178" h="574589">
                <a:moveTo>
                  <a:pt x="6178" y="0"/>
                </a:moveTo>
                <a:cubicBezTo>
                  <a:pt x="4119" y="191530"/>
                  <a:pt x="2059" y="383059"/>
                  <a:pt x="0" y="574589"/>
                </a:cubicBezTo>
                <a:lnTo>
                  <a:pt x="0" y="574589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任意多边形 15"/>
          <p:cNvSpPr/>
          <p:nvPr/>
        </p:nvSpPr>
        <p:spPr>
          <a:xfrm>
            <a:off x="4479840" y="5467320"/>
            <a:ext cx="357120" cy="407880"/>
          </a:xfrm>
          <a:custGeom>
            <a:avLst/>
            <a:gdLst>
              <a:gd name="textAreaLeft" fmla="*/ 0 w 357120"/>
              <a:gd name="textAreaRight" fmla="*/ 357480 w 357120"/>
              <a:gd name="textAreaTop" fmla="*/ 0 h 407880"/>
              <a:gd name="textAreaBottom" fmla="*/ 408240 h 407880"/>
            </a:gdLst>
            <a:ahLst/>
            <a:rect l="textAreaLeft" t="textAreaTop" r="textAreaRight" b="textAreaBottom"/>
            <a:pathLst>
              <a:path w="358346" h="407773">
                <a:moveTo>
                  <a:pt x="0" y="0"/>
                </a:moveTo>
                <a:lnTo>
                  <a:pt x="352168" y="0"/>
                </a:lnTo>
                <a:cubicBezTo>
                  <a:pt x="354227" y="135924"/>
                  <a:pt x="356287" y="271849"/>
                  <a:pt x="358346" y="407773"/>
                </a:cubicBez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任意多边形 16"/>
          <p:cNvSpPr/>
          <p:nvPr/>
        </p:nvSpPr>
        <p:spPr>
          <a:xfrm>
            <a:off x="4676760" y="4813200"/>
            <a:ext cx="561960" cy="23760"/>
          </a:xfrm>
          <a:custGeom>
            <a:avLst/>
            <a:gdLst>
              <a:gd name="textAreaLeft" fmla="*/ 0 w 561960"/>
              <a:gd name="textAreaRight" fmla="*/ 562320 w 561960"/>
              <a:gd name="textAreaTop" fmla="*/ 0 h 23760"/>
              <a:gd name="textAreaBottom" fmla="*/ 24120 h 23760"/>
            </a:gdLst>
            <a:ahLst/>
            <a:rect l="textAreaLeft" t="textAreaTop" r="textAreaRight" b="textAreaBottom"/>
            <a:pathLst>
              <a:path w="562233" h="24713">
                <a:moveTo>
                  <a:pt x="0" y="6178"/>
                </a:moveTo>
                <a:lnTo>
                  <a:pt x="172995" y="0"/>
                </a:lnTo>
                <a:lnTo>
                  <a:pt x="562233" y="24713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任意多边形 17"/>
          <p:cNvSpPr/>
          <p:nvPr/>
        </p:nvSpPr>
        <p:spPr>
          <a:xfrm>
            <a:off x="5794200" y="4603680"/>
            <a:ext cx="358920" cy="284400"/>
          </a:xfrm>
          <a:custGeom>
            <a:avLst/>
            <a:gdLst>
              <a:gd name="textAreaLeft" fmla="*/ 0 w 358920"/>
              <a:gd name="textAreaRight" fmla="*/ 359280 w 358920"/>
              <a:gd name="textAreaTop" fmla="*/ 0 h 284400"/>
              <a:gd name="textAreaBottom" fmla="*/ 284760 h 284400"/>
            </a:gdLst>
            <a:ahLst/>
            <a:rect l="textAreaLeft" t="textAreaTop" r="textAreaRight" b="textAreaBottom"/>
            <a:pathLst>
              <a:path w="358346" h="284205">
                <a:moveTo>
                  <a:pt x="0" y="0"/>
                </a:moveTo>
                <a:lnTo>
                  <a:pt x="18535" y="265670"/>
                </a:lnTo>
                <a:lnTo>
                  <a:pt x="358346" y="284205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任意多边形 18"/>
          <p:cNvSpPr/>
          <p:nvPr/>
        </p:nvSpPr>
        <p:spPr>
          <a:xfrm>
            <a:off x="5072040" y="4856040"/>
            <a:ext cx="433440" cy="946440"/>
          </a:xfrm>
          <a:custGeom>
            <a:avLst/>
            <a:gdLst>
              <a:gd name="textAreaLeft" fmla="*/ 0 w 433440"/>
              <a:gd name="textAreaRight" fmla="*/ 433800 w 433440"/>
              <a:gd name="textAreaTop" fmla="*/ 0 h 946440"/>
              <a:gd name="textAreaBottom" fmla="*/ 946800 h 946440"/>
            </a:gdLst>
            <a:ahLst/>
            <a:rect l="textAreaLeft" t="textAreaTop" r="textAreaRight" b="textAreaBottom"/>
            <a:pathLst>
              <a:path w="432486" h="945292">
                <a:moveTo>
                  <a:pt x="0" y="945292"/>
                </a:moveTo>
                <a:cubicBezTo>
                  <a:pt x="2059" y="811427"/>
                  <a:pt x="4119" y="677563"/>
                  <a:pt x="6178" y="543698"/>
                </a:cubicBezTo>
                <a:lnTo>
                  <a:pt x="166816" y="549876"/>
                </a:lnTo>
                <a:lnTo>
                  <a:pt x="179173" y="871152"/>
                </a:lnTo>
                <a:lnTo>
                  <a:pt x="179173" y="939114"/>
                </a:lnTo>
                <a:lnTo>
                  <a:pt x="240956" y="932936"/>
                </a:lnTo>
                <a:lnTo>
                  <a:pt x="240956" y="574590"/>
                </a:lnTo>
                <a:lnTo>
                  <a:pt x="240956" y="549876"/>
                </a:lnTo>
                <a:lnTo>
                  <a:pt x="432486" y="537519"/>
                </a:lnTo>
                <a:lnTo>
                  <a:pt x="432486" y="0"/>
                </a:lnTo>
                <a:lnTo>
                  <a:pt x="432486" y="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任意多边形 19"/>
          <p:cNvSpPr/>
          <p:nvPr/>
        </p:nvSpPr>
        <p:spPr>
          <a:xfrm>
            <a:off x="5486400" y="5388120"/>
            <a:ext cx="111240" cy="431640"/>
          </a:xfrm>
          <a:custGeom>
            <a:avLst/>
            <a:gdLst>
              <a:gd name="textAreaLeft" fmla="*/ 0 w 111240"/>
              <a:gd name="textAreaRight" fmla="*/ 111600 w 11124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111211" h="432486">
                <a:moveTo>
                  <a:pt x="0" y="0"/>
                </a:moveTo>
                <a:lnTo>
                  <a:pt x="105032" y="6178"/>
                </a:lnTo>
                <a:cubicBezTo>
                  <a:pt x="107092" y="148281"/>
                  <a:pt x="109151" y="290383"/>
                  <a:pt x="111211" y="432486"/>
                </a:cubicBez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任意多边形 20"/>
          <p:cNvSpPr/>
          <p:nvPr/>
        </p:nvSpPr>
        <p:spPr>
          <a:xfrm>
            <a:off x="6832440" y="5226120"/>
            <a:ext cx="6480" cy="636480"/>
          </a:xfrm>
          <a:custGeom>
            <a:avLst/>
            <a:gdLst>
              <a:gd name="textAreaLeft" fmla="*/ 0 w 6480"/>
              <a:gd name="textAreaRight" fmla="*/ 6840 w 6480"/>
              <a:gd name="textAreaTop" fmla="*/ 0 h 636480"/>
              <a:gd name="textAreaBottom" fmla="*/ 636840 h 636480"/>
            </a:gdLst>
            <a:ahLst/>
            <a:rect l="textAreaLeft" t="textAreaTop" r="textAreaRight" b="textAreaBottom"/>
            <a:pathLst>
              <a:path w="6179" h="636373">
                <a:moveTo>
                  <a:pt x="0" y="0"/>
                </a:moveTo>
                <a:cubicBezTo>
                  <a:pt x="2060" y="212124"/>
                  <a:pt x="4119" y="424249"/>
                  <a:pt x="6179" y="636373"/>
                </a:cubicBez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任意多边形 21"/>
          <p:cNvSpPr/>
          <p:nvPr/>
        </p:nvSpPr>
        <p:spPr>
          <a:xfrm>
            <a:off x="7210440" y="5165640"/>
            <a:ext cx="85680" cy="679680"/>
          </a:xfrm>
          <a:custGeom>
            <a:avLst/>
            <a:gdLst>
              <a:gd name="textAreaLeft" fmla="*/ 0 w 85680"/>
              <a:gd name="textAreaRight" fmla="*/ 85680 w 85680"/>
              <a:gd name="textAreaTop" fmla="*/ 0 h 679680"/>
              <a:gd name="textAreaBottom" fmla="*/ 680040 h 679680"/>
            </a:gdLst>
            <a:ahLst/>
            <a:rect l="textAreaLeft" t="textAreaTop" r="textAreaRight" b="textAreaBottom"/>
            <a:pathLst>
              <a:path w="86497" h="679622">
                <a:moveTo>
                  <a:pt x="86497" y="0"/>
                </a:moveTo>
                <a:lnTo>
                  <a:pt x="0" y="18535"/>
                </a:lnTo>
                <a:cubicBezTo>
                  <a:pt x="2059" y="238897"/>
                  <a:pt x="4119" y="459260"/>
                  <a:pt x="6178" y="679622"/>
                </a:cubicBez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任意多边形 22"/>
          <p:cNvSpPr/>
          <p:nvPr/>
        </p:nvSpPr>
        <p:spPr>
          <a:xfrm>
            <a:off x="6832440" y="5202360"/>
            <a:ext cx="378000" cy="29880"/>
          </a:xfrm>
          <a:custGeom>
            <a:avLst/>
            <a:gdLst>
              <a:gd name="textAreaLeft" fmla="*/ 0 w 378000"/>
              <a:gd name="textAreaRight" fmla="*/ 378360 w 378000"/>
              <a:gd name="textAreaTop" fmla="*/ 0 h 29880"/>
              <a:gd name="textAreaBottom" fmla="*/ 30240 h 29880"/>
            </a:gdLst>
            <a:ahLst/>
            <a:rect l="textAreaLeft" t="textAreaTop" r="textAreaRight" b="textAreaBottom"/>
            <a:pathLst>
              <a:path w="376882" h="30891">
                <a:moveTo>
                  <a:pt x="0" y="30891"/>
                </a:moveTo>
                <a:lnTo>
                  <a:pt x="376882" y="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39"/>
          <p:cNvSpPr/>
          <p:nvPr/>
        </p:nvSpPr>
        <p:spPr>
          <a:xfrm>
            <a:off x="6159600" y="4876920"/>
            <a:ext cx="360" cy="939600"/>
          </a:xfrm>
          <a:custGeom>
            <a:avLst/>
            <a:gdLst/>
            <a:ahLst/>
            <a:rect l="l" t="t" r="r" b="b"/>
            <a:pathLst>
              <a:path w="635" h="939800">
                <a:moveTo>
                  <a:pt x="0" y="0"/>
                </a:moveTo>
                <a:lnTo>
                  <a:pt x="0" y="939800"/>
                </a:lnTo>
              </a:path>
            </a:pathLst>
          </a:custGeom>
          <a:noFill/>
          <a:ln w="2232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圆角矩形 41"/>
          <p:cNvSpPr/>
          <p:nvPr/>
        </p:nvSpPr>
        <p:spPr>
          <a:xfrm>
            <a:off x="1357200" y="1571760"/>
            <a:ext cx="3786480" cy="5713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ffff"/>
            </a:solidFill>
            <a:prstDash val="sysDot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空气变得不再清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2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0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7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67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0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0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7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4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0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4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98" nodeType="afterEffect" fill="hold" presetClass="exit" presetID="47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9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0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Box 15"/>
          <p:cNvSpPr/>
          <p:nvPr/>
        </p:nvSpPr>
        <p:spPr>
          <a:xfrm>
            <a:off x="4071960" y="3786120"/>
            <a:ext cx="78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8" name="组合 36"/>
          <p:cNvGrpSpPr/>
          <p:nvPr/>
        </p:nvGrpSpPr>
        <p:grpSpPr>
          <a:xfrm>
            <a:off x="4110480" y="3642840"/>
            <a:ext cx="461520" cy="572040"/>
            <a:chOff x="4110480" y="3642840"/>
            <a:chExt cx="461520" cy="572040"/>
          </a:xfrm>
        </p:grpSpPr>
        <p:sp>
          <p:nvSpPr>
            <p:cNvPr id="459" name="任意多边形 37"/>
            <p:cNvSpPr/>
            <p:nvPr/>
          </p:nvSpPr>
          <p:spPr>
            <a:xfrm>
              <a:off x="4357800" y="3714120"/>
              <a:ext cx="214200" cy="19656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312005" h="267855">
                  <a:moveTo>
                    <a:pt x="4618" y="249382"/>
                  </a:moveTo>
                  <a:cubicBezTo>
                    <a:pt x="9236" y="230909"/>
                    <a:pt x="4178" y="152840"/>
                    <a:pt x="46182" y="110836"/>
                  </a:cubicBezTo>
                  <a:cubicBezTo>
                    <a:pt x="57956" y="99062"/>
                    <a:pt x="73891" y="92363"/>
                    <a:pt x="87746" y="83127"/>
                  </a:cubicBezTo>
                  <a:cubicBezTo>
                    <a:pt x="100330" y="64252"/>
                    <a:pt x="121231" y="27014"/>
                    <a:pt x="143164" y="13854"/>
                  </a:cubicBezTo>
                  <a:cubicBezTo>
                    <a:pt x="155687" y="6340"/>
                    <a:pt x="170873" y="4618"/>
                    <a:pt x="184728" y="0"/>
                  </a:cubicBezTo>
                  <a:cubicBezTo>
                    <a:pt x="255672" y="14188"/>
                    <a:pt x="312005" y="1504"/>
                    <a:pt x="240146" y="124691"/>
                  </a:cubicBezTo>
                  <a:cubicBezTo>
                    <a:pt x="223366" y="153457"/>
                    <a:pt x="184727" y="161636"/>
                    <a:pt x="157018" y="180109"/>
                  </a:cubicBezTo>
                  <a:cubicBezTo>
                    <a:pt x="90190" y="224661"/>
                    <a:pt x="128200" y="207957"/>
                    <a:pt x="18473" y="221673"/>
                  </a:cubicBezTo>
                  <a:cubicBezTo>
                    <a:pt x="13890" y="222246"/>
                    <a:pt x="0" y="267855"/>
                    <a:pt x="4618" y="249382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" name="组合 38"/>
            <p:cNvGrpSpPr/>
            <p:nvPr/>
          </p:nvGrpSpPr>
          <p:grpSpPr>
            <a:xfrm>
              <a:off x="4110480" y="3642840"/>
              <a:ext cx="369000" cy="572040"/>
              <a:chOff x="4110480" y="3642840"/>
              <a:chExt cx="369000" cy="572040"/>
            </a:xfrm>
          </p:grpSpPr>
          <p:grpSp>
            <p:nvGrpSpPr>
              <p:cNvPr id="461" name="组合 39"/>
              <p:cNvGrpSpPr/>
              <p:nvPr/>
            </p:nvGrpSpPr>
            <p:grpSpPr>
              <a:xfrm>
                <a:off x="4110480" y="3642840"/>
                <a:ext cx="369000" cy="572040"/>
                <a:chOff x="4110480" y="3642840"/>
                <a:chExt cx="369000" cy="572040"/>
              </a:xfrm>
            </p:grpSpPr>
            <p:sp>
              <p:nvSpPr>
                <p:cNvPr id="462" name="任意多边形 41"/>
                <p:cNvSpPr/>
                <p:nvPr/>
              </p:nvSpPr>
              <p:spPr>
                <a:xfrm rot="1593000">
                  <a:off x="4133880" y="3705120"/>
                  <a:ext cx="321840" cy="181440"/>
                </a:xfrm>
                <a:custGeom>
                  <a:avLst/>
                  <a:gdLst>
                    <a:gd name="textAreaLeft" fmla="*/ 0 w 321840"/>
                    <a:gd name="textAreaRight" fmla="*/ 322200 w 321840"/>
                    <a:gd name="textAreaTop" fmla="*/ 0 h 181440"/>
                    <a:gd name="textAreaBottom" fmla="*/ 181800 h 181440"/>
                  </a:gdLst>
                  <a:ahLst/>
                  <a:rect l="textAreaLeft" t="textAreaTop" r="textAreaRight" b="textAreaBottom"/>
                  <a:pathLst>
                    <a:path w="254370" h="150713">
                      <a:moveTo>
                        <a:pt x="249752" y="132478"/>
                      </a:moveTo>
                      <a:cubicBezTo>
                        <a:pt x="254370" y="120933"/>
                        <a:pt x="241999" y="88563"/>
                        <a:pt x="208188" y="63205"/>
                      </a:cubicBezTo>
                      <a:cubicBezTo>
                        <a:pt x="181546" y="43224"/>
                        <a:pt x="125061" y="7787"/>
                        <a:pt x="125061" y="7787"/>
                      </a:cubicBezTo>
                      <a:cubicBezTo>
                        <a:pt x="88116" y="12405"/>
                        <a:pt x="44523" y="0"/>
                        <a:pt x="14225" y="21641"/>
                      </a:cubicBezTo>
                      <a:cubicBezTo>
                        <a:pt x="0" y="31801"/>
                        <a:pt x="45603" y="114919"/>
                        <a:pt x="55788" y="118623"/>
                      </a:cubicBezTo>
                      <a:cubicBezTo>
                        <a:pt x="95090" y="132915"/>
                        <a:pt x="138915" y="127860"/>
                        <a:pt x="180479" y="132478"/>
                      </a:cubicBezTo>
                      <a:cubicBezTo>
                        <a:pt x="235187" y="150713"/>
                        <a:pt x="245134" y="144024"/>
                        <a:pt x="249752" y="132478"/>
                      </a:cubicBezTo>
                      <a:close/>
                    </a:path>
                  </a:pathLst>
                </a:custGeom>
                <a:solidFill>
                  <a:srgbClr val="92d05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任意多边形 42"/>
                <p:cNvSpPr/>
                <p:nvPr/>
              </p:nvSpPr>
              <p:spPr>
                <a:xfrm>
                  <a:off x="4368960" y="3831120"/>
                  <a:ext cx="45720" cy="383760"/>
                </a:xfrm>
                <a:custGeom>
                  <a:avLst/>
                  <a:gdLst>
                    <a:gd name="textAreaLeft" fmla="*/ 0 w 45720"/>
                    <a:gd name="textAreaRight" fmla="*/ 45720 w 45720"/>
                    <a:gd name="textAreaTop" fmla="*/ 0 h 383760"/>
                    <a:gd name="textAreaBottom" fmla="*/ 384120 h 383760"/>
                  </a:gdLst>
                  <a:ahLst/>
                  <a:rect l="textAreaLeft" t="textAreaTop" r="textAreaRight" b="textAreaBottom"/>
                  <a:pathLst>
                    <a:path w="27709" h="235527">
                      <a:moveTo>
                        <a:pt x="0" y="0"/>
                      </a:moveTo>
                      <a:cubicBezTo>
                        <a:pt x="13854" y="35791"/>
                        <a:pt x="27709" y="71582"/>
                        <a:pt x="27709" y="110836"/>
                      </a:cubicBezTo>
                      <a:cubicBezTo>
                        <a:pt x="27709" y="150090"/>
                        <a:pt x="0" y="235527"/>
                        <a:pt x="0" y="235527"/>
                      </a:cubicBezTo>
                      <a:lnTo>
                        <a:pt x="0" y="235527"/>
                      </a:lnTo>
                    </a:path>
                  </a:pathLst>
                </a:custGeom>
                <a:noFill/>
                <a:ln w="50760">
                  <a:solidFill>
                    <a:srgbClr val="92d05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4" name="任意多边形 40"/>
              <p:cNvSpPr/>
              <p:nvPr/>
            </p:nvSpPr>
            <p:spPr>
              <a:xfrm>
                <a:off x="4362840" y="3785040"/>
                <a:ext cx="27720" cy="83160"/>
              </a:xfrm>
              <a:custGeom>
                <a:avLst/>
                <a:gdLst>
                  <a:gd name="textAreaLeft" fmla="*/ 0 w 27720"/>
                  <a:gd name="textAreaRight" fmla="*/ 28080 w 27720"/>
                  <a:gd name="textAreaTop" fmla="*/ 0 h 83160"/>
                  <a:gd name="textAreaBottom" fmla="*/ 83160 h 83160"/>
                </a:gdLst>
                <a:ahLst/>
                <a:rect l="textAreaLeft" t="textAreaTop" r="textAreaRight" b="textAreaBottom"/>
                <a:pathLst>
                  <a:path w="27709" h="83127">
                    <a:moveTo>
                      <a:pt x="0" y="0"/>
                    </a:moveTo>
                    <a:lnTo>
                      <a:pt x="27709" y="83127"/>
                    </a:lnTo>
                  </a:path>
                </a:pathLst>
              </a:custGeom>
              <a:noFill/>
              <a:ln w="9360">
                <a:solidFill>
                  <a:srgbClr val="ffff00">
                    <a:alpha val="81000"/>
                  </a:srgbClr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65" name="Picture 2" descr="D:\我的文档\My Pictures\kjhsds.png"/>
          <p:cNvPicPr/>
          <p:nvPr/>
        </p:nvPicPr>
        <p:blipFill>
          <a:blip r:embed="rId1"/>
          <a:stretch/>
        </p:blipFill>
        <p:spPr>
          <a:xfrm>
            <a:off x="4071960" y="3568680"/>
            <a:ext cx="557280" cy="574560"/>
          </a:xfrm>
          <a:prstGeom prst="rect">
            <a:avLst/>
          </a:prstGeom>
          <a:ln w="0">
            <a:noFill/>
          </a:ln>
        </p:spPr>
      </p:pic>
      <p:grpSp>
        <p:nvGrpSpPr>
          <p:cNvPr id="466" name="组合 21"/>
          <p:cNvGrpSpPr/>
          <p:nvPr/>
        </p:nvGrpSpPr>
        <p:grpSpPr>
          <a:xfrm>
            <a:off x="3286080" y="3857760"/>
            <a:ext cx="2214720" cy="285480"/>
            <a:chOff x="3286080" y="3857760"/>
            <a:chExt cx="2214720" cy="285480"/>
          </a:xfrm>
        </p:grpSpPr>
        <p:sp>
          <p:nvSpPr>
            <p:cNvPr id="467" name="任意多边形 22"/>
            <p:cNvSpPr/>
            <p:nvPr/>
          </p:nvSpPr>
          <p:spPr>
            <a:xfrm>
              <a:off x="3286080" y="3857760"/>
              <a:ext cx="2214720" cy="285480"/>
            </a:xfrm>
            <a:custGeom>
              <a:avLst/>
              <a:gdLst>
                <a:gd name="textAreaLeft" fmla="*/ 0 w 2214720"/>
                <a:gd name="textAreaRight" fmla="*/ 2215080 w 22147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2044700" h="266700">
                  <a:moveTo>
                    <a:pt x="596900" y="0"/>
                  </a:moveTo>
                  <a:lnTo>
                    <a:pt x="2044700" y="0"/>
                  </a:lnTo>
                  <a:lnTo>
                    <a:pt x="2044700" y="50800"/>
                  </a:lnTo>
                  <a:lnTo>
                    <a:pt x="1397000" y="38100"/>
                  </a:lnTo>
                  <a:lnTo>
                    <a:pt x="1397000" y="63500"/>
                  </a:lnTo>
                  <a:lnTo>
                    <a:pt x="1447800" y="63500"/>
                  </a:lnTo>
                  <a:lnTo>
                    <a:pt x="1435100" y="88900"/>
                  </a:lnTo>
                  <a:lnTo>
                    <a:pt x="1397000" y="101600"/>
                  </a:lnTo>
                  <a:lnTo>
                    <a:pt x="1257300" y="114300"/>
                  </a:lnTo>
                  <a:lnTo>
                    <a:pt x="1041400" y="114300"/>
                  </a:lnTo>
                  <a:lnTo>
                    <a:pt x="863600" y="101600"/>
                  </a:lnTo>
                  <a:lnTo>
                    <a:pt x="812800" y="88900"/>
                  </a:lnTo>
                  <a:lnTo>
                    <a:pt x="685800" y="101600"/>
                  </a:lnTo>
                  <a:lnTo>
                    <a:pt x="673100" y="139700"/>
                  </a:lnTo>
                  <a:lnTo>
                    <a:pt x="635000" y="152400"/>
                  </a:lnTo>
                  <a:lnTo>
                    <a:pt x="596900" y="152400"/>
                  </a:lnTo>
                  <a:lnTo>
                    <a:pt x="571500" y="127000"/>
                  </a:lnTo>
                  <a:lnTo>
                    <a:pt x="558800" y="101600"/>
                  </a:lnTo>
                  <a:lnTo>
                    <a:pt x="520700" y="101600"/>
                  </a:lnTo>
                  <a:lnTo>
                    <a:pt x="495300" y="114300"/>
                  </a:lnTo>
                  <a:lnTo>
                    <a:pt x="469900" y="152400"/>
                  </a:lnTo>
                  <a:lnTo>
                    <a:pt x="469900" y="152400"/>
                  </a:lnTo>
                  <a:lnTo>
                    <a:pt x="368300" y="190500"/>
                  </a:lnTo>
                  <a:lnTo>
                    <a:pt x="152400" y="266700"/>
                  </a:lnTo>
                  <a:lnTo>
                    <a:pt x="25400" y="266700"/>
                  </a:lnTo>
                  <a:lnTo>
                    <a:pt x="0" y="114300"/>
                  </a:lnTo>
                  <a:lnTo>
                    <a:pt x="50800" y="88900"/>
                  </a:lnTo>
                  <a:lnTo>
                    <a:pt x="431800" y="63500"/>
                  </a:lnTo>
                  <a:lnTo>
                    <a:pt x="596900" y="0"/>
                  </a:lnTo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任意多边形 23"/>
            <p:cNvSpPr/>
            <p:nvPr/>
          </p:nvSpPr>
          <p:spPr>
            <a:xfrm>
              <a:off x="4335120" y="3931920"/>
              <a:ext cx="247320" cy="36000"/>
            </a:xfrm>
            <a:custGeom>
              <a:avLst/>
              <a:gdLst>
                <a:gd name="textAreaLeft" fmla="*/ 0 w 247320"/>
                <a:gd name="textAreaRight" fmla="*/ 247680 w 247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28600" h="33675">
                  <a:moveTo>
                    <a:pt x="0" y="33675"/>
                  </a:moveTo>
                  <a:cubicBezTo>
                    <a:pt x="12700" y="25208"/>
                    <a:pt x="22866" y="9227"/>
                    <a:pt x="38100" y="8275"/>
                  </a:cubicBezTo>
                  <a:cubicBezTo>
                    <a:pt x="169377" y="70"/>
                    <a:pt x="161251" y="0"/>
                    <a:pt x="228600" y="3367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任意多边形 24"/>
            <p:cNvSpPr/>
            <p:nvPr/>
          </p:nvSpPr>
          <p:spPr>
            <a:xfrm>
              <a:off x="4266360" y="3886200"/>
              <a:ext cx="669600" cy="42840"/>
            </a:xfrm>
            <a:custGeom>
              <a:avLst/>
              <a:gdLst>
                <a:gd name="textAreaLeft" fmla="*/ 0 w 669600"/>
                <a:gd name="textAreaRight" fmla="*/ 669960 w 669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618389" h="40026">
                  <a:moveTo>
                    <a:pt x="0" y="25530"/>
                  </a:moveTo>
                  <a:cubicBezTo>
                    <a:pt x="178710" y="0"/>
                    <a:pt x="95872" y="6315"/>
                    <a:pt x="393700" y="25530"/>
                  </a:cubicBezTo>
                  <a:cubicBezTo>
                    <a:pt x="618389" y="40026"/>
                    <a:pt x="400390" y="38230"/>
                    <a:pt x="520700" y="382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任意多边形 25"/>
            <p:cNvSpPr/>
            <p:nvPr/>
          </p:nvSpPr>
          <p:spPr>
            <a:xfrm>
              <a:off x="3908520" y="3954600"/>
              <a:ext cx="123480" cy="147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114300" h="14092">
                  <a:moveTo>
                    <a:pt x="0" y="12700"/>
                  </a:moveTo>
                  <a:cubicBezTo>
                    <a:pt x="12700" y="8467"/>
                    <a:pt x="24713" y="0"/>
                    <a:pt x="38100" y="0"/>
                  </a:cubicBezTo>
                  <a:cubicBezTo>
                    <a:pt x="55554" y="0"/>
                    <a:pt x="71683" y="9831"/>
                    <a:pt x="88900" y="12700"/>
                  </a:cubicBezTo>
                  <a:cubicBezTo>
                    <a:pt x="97251" y="14092"/>
                    <a:pt x="105833" y="12700"/>
                    <a:pt x="114300" y="127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任意多边形 26"/>
            <p:cNvSpPr/>
            <p:nvPr/>
          </p:nvSpPr>
          <p:spPr>
            <a:xfrm>
              <a:off x="3660840" y="3913560"/>
              <a:ext cx="206280" cy="14940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190500" h="139700">
                  <a:moveTo>
                    <a:pt x="0" y="139700"/>
                  </a:moveTo>
                  <a:cubicBezTo>
                    <a:pt x="12700" y="135467"/>
                    <a:pt x="28634" y="136466"/>
                    <a:pt x="38100" y="127000"/>
                  </a:cubicBezTo>
                  <a:cubicBezTo>
                    <a:pt x="59686" y="105414"/>
                    <a:pt x="59940" y="60453"/>
                    <a:pt x="88900" y="50800"/>
                  </a:cubicBezTo>
                  <a:cubicBezTo>
                    <a:pt x="176459" y="21614"/>
                    <a:pt x="146168" y="44332"/>
                    <a:pt x="190500" y="0"/>
                  </a:cubicBezTo>
                </a:path>
              </a:pathLst>
            </a:custGeom>
            <a:noFill/>
            <a:ln w="9360">
              <a:solidFill>
                <a:srgbClr val="000000">
                  <a:alpha val="83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任意多边形 27"/>
            <p:cNvSpPr/>
            <p:nvPr/>
          </p:nvSpPr>
          <p:spPr>
            <a:xfrm>
              <a:off x="4266360" y="3913560"/>
              <a:ext cx="360" cy="360"/>
            </a:xfrm>
            <a:custGeom>
              <a:avLst/>
              <a:gdLst>
                <a:gd name="textAreaLeft" fmla="*/ 0 w 360"/>
                <a:gd name="textAreaRight" fmla="*/ 720 w 360"/>
                <a:gd name="textAreaTop" fmla="*/ 0 h 360"/>
                <a:gd name="textAreaBottom" fmla="*/ 720 h 36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任意多边形 28"/>
            <p:cNvSpPr/>
            <p:nvPr/>
          </p:nvSpPr>
          <p:spPr>
            <a:xfrm>
              <a:off x="4252320" y="3900240"/>
              <a:ext cx="68760" cy="543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63500" h="50800">
                  <a:moveTo>
                    <a:pt x="-2036" y="0"/>
                  </a:moveTo>
                  <a:cubicBezTo>
                    <a:pt x="-14736" y="4233"/>
                    <a:pt x="-29683" y="4337"/>
                    <a:pt x="25400" y="12700"/>
                  </a:cubicBezTo>
                  <a:cubicBezTo>
                    <a:pt x="13481" y="22235"/>
                    <a:pt x="0" y="-14736"/>
                    <a:pt x="0" y="-1473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任意多边形 29"/>
            <p:cNvSpPr/>
            <p:nvPr/>
          </p:nvSpPr>
          <p:spPr>
            <a:xfrm>
              <a:off x="3954600" y="3955680"/>
              <a:ext cx="10080" cy="3708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37080"/>
                <a:gd name="textAreaBottom" fmla="*/ 37440 h 37080"/>
              </a:gdLst>
              <a:ahLst/>
              <a:rect l="textAreaLeft" t="textAreaTop" r="textAreaRight" b="textAreaBottom"/>
              <a:pathLst>
                <a:path w="9558" h="34798">
                  <a:moveTo>
                    <a:pt x="683" y="2050"/>
                  </a:moveTo>
                  <a:cubicBezTo>
                    <a:pt x="0" y="0"/>
                    <a:pt x="3236" y="13033"/>
                    <a:pt x="4784" y="18452"/>
                  </a:cubicBezTo>
                  <a:cubicBezTo>
                    <a:pt x="5971" y="22608"/>
                    <a:pt x="8174" y="26490"/>
                    <a:pt x="8884" y="30753"/>
                  </a:cubicBezTo>
                  <a:cubicBezTo>
                    <a:pt x="9558" y="-30738"/>
                    <a:pt x="1366" y="4100"/>
                    <a:pt x="683" y="2050"/>
                  </a:cubicBezTo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任意多边形 30"/>
            <p:cNvSpPr/>
            <p:nvPr/>
          </p:nvSpPr>
          <p:spPr>
            <a:xfrm>
              <a:off x="3844440" y="3891960"/>
              <a:ext cx="17640" cy="70200"/>
            </a:xfrm>
            <a:custGeom>
              <a:avLst/>
              <a:gdLst>
                <a:gd name="textAreaLeft" fmla="*/ 0 w 17640"/>
                <a:gd name="textAreaRight" fmla="*/ 18000 w 1764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6402" h="65608">
                  <a:moveTo>
                    <a:pt x="16402" y="0"/>
                  </a:moveTo>
                  <a:lnTo>
                    <a:pt x="4101" y="36904"/>
                  </a:lnTo>
                  <a:cubicBezTo>
                    <a:pt x="2734" y="41005"/>
                    <a:pt x="0" y="44883"/>
                    <a:pt x="0" y="49206"/>
                  </a:cubicBezTo>
                  <a:lnTo>
                    <a:pt x="0" y="656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TextBox 17"/>
          <p:cNvSpPr/>
          <p:nvPr/>
        </p:nvSpPr>
        <p:spPr>
          <a:xfrm>
            <a:off x="3500280" y="36399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t’s time to do somet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椭圆 8"/>
          <p:cNvSpPr/>
          <p:nvPr/>
        </p:nvSpPr>
        <p:spPr>
          <a:xfrm>
            <a:off x="4286160" y="3357720"/>
            <a:ext cx="357120" cy="357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矩形 16"/>
          <p:cNvSpPr/>
          <p:nvPr/>
        </p:nvSpPr>
        <p:spPr>
          <a:xfrm>
            <a:off x="2928960" y="4357800"/>
            <a:ext cx="3000240" cy="1000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圆角矩形 4"/>
          <p:cNvSpPr/>
          <p:nvPr/>
        </p:nvSpPr>
        <p:spPr>
          <a:xfrm>
            <a:off x="2857680" y="2000160"/>
            <a:ext cx="3214440" cy="1571760"/>
          </a:xfrm>
          <a:prstGeom prst="roundRect">
            <a:avLst>
              <a:gd name="adj" fmla="val 1929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3"/>
          <p:cNvSpPr/>
          <p:nvPr/>
        </p:nvSpPr>
        <p:spPr>
          <a:xfrm>
            <a:off x="3214800" y="2286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Dotum"/>
              </a:rPr>
              <a:t>Everything chang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Dotum"/>
              </a:rPr>
              <a:t>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Arial"/>
                <a:ea typeface="Dotum"/>
              </a:rPr>
              <a:t>Our h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直接连接符 6"/>
          <p:cNvSpPr/>
          <p:nvPr/>
        </p:nvSpPr>
        <p:spPr>
          <a:xfrm>
            <a:off x="3143160" y="3571920"/>
            <a:ext cx="2643120" cy="1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椭圆 11"/>
          <p:cNvSpPr/>
          <p:nvPr/>
        </p:nvSpPr>
        <p:spPr>
          <a:xfrm>
            <a:off x="3429000" y="4286160"/>
            <a:ext cx="2000160" cy="1429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直接连接符 1"/>
          <p:cNvSpPr/>
          <p:nvPr/>
        </p:nvSpPr>
        <p:spPr>
          <a:xfrm>
            <a:off x="-142920" y="5857920"/>
            <a:ext cx="9858600" cy="1440"/>
          </a:xfrm>
          <a:prstGeom prst="line">
            <a:avLst/>
          </a:prstGeom>
          <a:ln w="5724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流程图: 汇总连接 32"/>
          <p:cNvSpPr/>
          <p:nvPr/>
        </p:nvSpPr>
        <p:spPr>
          <a:xfrm>
            <a:off x="4071960" y="3429000"/>
            <a:ext cx="642960" cy="6429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流程图: 汇总连接 33"/>
          <p:cNvSpPr/>
          <p:nvPr/>
        </p:nvSpPr>
        <p:spPr>
          <a:xfrm>
            <a:off x="4071960" y="3429000"/>
            <a:ext cx="642960" cy="642960"/>
          </a:xfrm>
          <a:prstGeom prst="flowChartSummingJunction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34"/>
          <p:cNvSpPr/>
          <p:nvPr/>
        </p:nvSpPr>
        <p:spPr>
          <a:xfrm>
            <a:off x="3429000" y="2643120"/>
            <a:ext cx="1857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   LOGG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35"/>
          <p:cNvSpPr/>
          <p:nvPr/>
        </p:nvSpPr>
        <p:spPr>
          <a:xfrm>
            <a:off x="3857760" y="2643120"/>
            <a:ext cx="114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NO   HUNT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43"/>
          <p:cNvSpPr/>
          <p:nvPr/>
        </p:nvSpPr>
        <p:spPr>
          <a:xfrm>
            <a:off x="2500200" y="2136600"/>
            <a:ext cx="3929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l the world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it a better plac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44"/>
          <p:cNvSpPr/>
          <p:nvPr/>
        </p:nvSpPr>
        <p:spPr>
          <a:xfrm>
            <a:off x="2143080" y="17524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谨以此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幼圆"/>
              </a:rPr>
              <a:t>PPT</a:t>
            </a: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献给每一位世界公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45"/>
          <p:cNvSpPr/>
          <p:nvPr/>
        </p:nvSpPr>
        <p:spPr>
          <a:xfrm>
            <a:off x="3357720" y="278604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幼圆"/>
                <a:ea typeface="幼圆"/>
              </a:rPr>
              <a:t>让改变发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nodeType="clickEffect" fill="hold">
                      <p:stCondLst>
                        <p:cond delay="0"/>
                      </p:stCondLst>
                      <p:childTnLst>
                        <p:par>
                          <p:cTn id="1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0.00277 L -0.03924 -0.56412 E">
                                      <p:cBhvr>
                                        <p:cTn id="1111" dur="1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24 -0.56412 L -0.03924 -0.33311 E">
                                      <p:cBhvr>
                                        <p:cTn id="1114" dur="1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7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9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0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5" nodeType="after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29" nodeType="after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0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4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7.40741E-007 L -0.00625 0.20509 E">
                                      <p:cBhvr>
                                        <p:cTn id="1142" dur="5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6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0" nodeType="afterEffect" fill="hold" presetClass="exit" presetID="4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1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1000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7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8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61" autoRev="1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 0 L 0 -0.06296 E">
                                      <p:cBhvr>
                                        <p:cTn id="1162" dur="2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16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6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6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7" dur="10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4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7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1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4501"/>
                            </p:stCondLst>
                            <p:childTnLst>
                              <p:par>
                                <p:cTn id="1181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2.22222E-006 L 1.94444E-006 -0.06297 E">
                                      <p:cBhvr>
                                        <p:cTn id="1182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8501"/>
                            </p:stCondLst>
                            <p:childTnLst>
                              <p:par>
                                <p:cTn id="1184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5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6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1000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nodeType="afterEffect" fill="hold">
                            <p:stCondLst>
                              <p:cond delay="19501"/>
                            </p:stCondLst>
                            <p:childTnLst>
                              <p:par>
                                <p:cTn id="12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nodeType="afterEffect" fill="hold">
                            <p:stCondLst>
                              <p:cond delay="19502"/>
                            </p:stCondLst>
                            <p:childTnLst>
                              <p:par>
                                <p:cTn id="1206" autoRev="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67362E-019 2.22222E-006 L -8.67362E-019 -0.05255 E">
                                      <p:cBhvr>
                                        <p:cTn id="1207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nodeType="afterEffect" fill="hold">
                            <p:stCondLst>
                              <p:cond delay="23502"/>
                            </p:stCondLst>
                            <p:childTnLst>
                              <p:par>
                                <p:cTn id="1209" nodeType="after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1000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9" nodeType="afterEffect" fill="hold">
                            <p:stCondLst>
                              <p:cond delay="24502"/>
                            </p:stCondLst>
                            <p:childTnLst>
                              <p:par>
                                <p:cTn id="12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2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25502"/>
                            </p:stCondLst>
                            <p:childTnLst>
                              <p:par>
                                <p:cTn id="1226" autoRev="1" nodeType="after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2.11841E-006 L 5.55556E-006 -0.0629 E">
                                      <p:cBhvr>
                                        <p:cTn id="1227" dur="2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0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1" nodeType="afterEffect" fill="hold">
                            <p:stCondLst>
                              <p:cond delay="29502"/>
                            </p:stCondLst>
                            <p:childTnLst>
                              <p:par>
                                <p:cTn id="1232" nodeType="afterEffect" fill="hold" presetClass="exit" presetID="10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33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34502"/>
                            </p:stCondLst>
                            <p:childTnLst>
                              <p:par>
                                <p:cTn id="1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8" dur="1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35502"/>
                            </p:stCondLst>
                            <p:childTnLst>
                              <p:par>
                                <p:cTn id="1240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1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8-16T09:02:42Z</dcterms:created>
  <dc:creator>Administrator</dc:creator>
  <dc:description/>
  <cp:keywords/>
  <dc:language>en-US</dc:language>
  <cp:lastModifiedBy>王玉清</cp:lastModifiedBy>
  <dcterms:modified xsi:type="dcterms:W3CDTF">2016-02-19T04:53:11Z</dcterms:modified>
  <cp:revision>2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