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4E1-89D2-42FB-A035-A5BDEE96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984-862A-4AAE-84D4-DB31CFB1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8BA-9F71-4F50-A6B8-4F543333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017-9083-4E1B-82AC-7E539362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CDD-0A83-4301-93C7-EE8B91D3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995-7AB7-469B-90FA-75958622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B53-9E25-482B-A3F1-7357BC14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959-1ECA-4C00-AF88-9974B75C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A3D-39D4-4562-9950-65458F0D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5BB-4295-416B-8FE6-003FEC10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BBA-5B4F-45DE-B63F-DE1AFA5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87B-6372-4290-88B5-D52E2BA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egoe UI Ligh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Segoe UI Ligh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egoe UI Ligh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E7C7-9095-4C1D-9AA7-29A88E229DFF}" type="slidenum">
              <a:rPr b="0" lang="zh-CN" sz="1200" spc="-1" strike="noStrike">
                <a:solidFill>
                  <a:srgbClr val="898989"/>
                </a:solidFill>
                <a:latin typeface="Segoe UI Ligh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椭圆 26"/>
          <p:cNvGrpSpPr/>
          <p:nvPr/>
        </p:nvGrpSpPr>
        <p:grpSpPr>
          <a:xfrm>
            <a:off x="-79200" y="3286080"/>
            <a:ext cx="10058400" cy="1687680"/>
            <a:chOff x="-79200" y="3286080"/>
            <a:chExt cx="10058400" cy="1687680"/>
          </a:xfrm>
        </p:grpSpPr>
        <p:pic>
          <p:nvPicPr>
            <p:cNvPr id="42" name="椭圆 26" descr=""/>
            <p:cNvPicPr/>
            <p:nvPr/>
          </p:nvPicPr>
          <p:blipFill>
            <a:blip r:embed="rId1"/>
            <a:stretch/>
          </p:blipFill>
          <p:spPr>
            <a:xfrm>
              <a:off x="-79200" y="3286080"/>
              <a:ext cx="1005840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4"/>
            <p:cNvSpPr/>
            <p:nvPr/>
          </p:nvSpPr>
          <p:spPr>
            <a:xfrm rot="21210600">
              <a:off x="1376280" y="3692160"/>
              <a:ext cx="714996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矩形 32"/>
          <p:cNvSpPr/>
          <p:nvPr/>
        </p:nvSpPr>
        <p:spPr>
          <a:xfrm>
            <a:off x="6480" y="1154160"/>
            <a:ext cx="9144000" cy="1046160"/>
          </a:xfrm>
          <a:prstGeom prst="rect">
            <a:avLst/>
          </a:prstGeom>
          <a:solidFill>
            <a:srgbClr val="d9d9d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33"/>
          <p:cNvGrpSpPr/>
          <p:nvPr/>
        </p:nvGrpSpPr>
        <p:grpSpPr>
          <a:xfrm>
            <a:off x="3722760" y="3003480"/>
            <a:ext cx="3282840" cy="1045440"/>
            <a:chOff x="3722760" y="3003480"/>
            <a:chExt cx="3282840" cy="1045440"/>
          </a:xfrm>
        </p:grpSpPr>
        <p:sp>
          <p:nvSpPr>
            <p:cNvPr id="46" name="TextBox 30"/>
            <p:cNvSpPr/>
            <p:nvPr/>
          </p:nvSpPr>
          <p:spPr>
            <a:xfrm>
              <a:off x="3722760" y="3003480"/>
              <a:ext cx="328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TITL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31"/>
            <p:cNvSpPr/>
            <p:nvPr/>
          </p:nvSpPr>
          <p:spPr>
            <a:xfrm>
              <a:off x="3722760" y="3711600"/>
              <a:ext cx="328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NTERPRE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矩形 12"/>
          <p:cNvSpPr/>
          <p:nvPr/>
        </p:nvSpPr>
        <p:spPr>
          <a:xfrm>
            <a:off x="2044440" y="1349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创意线条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314280" y="480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1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8"/>
          <p:cNvGrpSpPr/>
          <p:nvPr/>
        </p:nvGrpSpPr>
        <p:grpSpPr>
          <a:xfrm>
            <a:off x="5292360" y="776160"/>
            <a:ext cx="1306440" cy="3666960"/>
            <a:chOff x="5292360" y="776160"/>
            <a:chExt cx="1306440" cy="3666960"/>
          </a:xfrm>
        </p:grpSpPr>
        <p:sp>
          <p:nvSpPr>
            <p:cNvPr id="51" name="直接连接符 9"/>
            <p:cNvSpPr/>
            <p:nvPr/>
          </p:nvSpPr>
          <p:spPr>
            <a:xfrm flipH="1">
              <a:off x="5292360" y="776160"/>
              <a:ext cx="1295640" cy="1795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10"/>
            <p:cNvSpPr/>
            <p:nvPr/>
          </p:nvSpPr>
          <p:spPr>
            <a:xfrm flipH="1">
              <a:off x="5292360" y="1131480"/>
              <a:ext cx="1306440" cy="1440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1"/>
            <p:cNvSpPr/>
            <p:nvPr/>
          </p:nvSpPr>
          <p:spPr>
            <a:xfrm flipH="1">
              <a:off x="5292360" y="1363320"/>
              <a:ext cx="1298520" cy="1208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12"/>
            <p:cNvSpPr/>
            <p:nvPr/>
          </p:nvSpPr>
          <p:spPr>
            <a:xfrm flipH="1">
              <a:off x="5292360" y="1515960"/>
              <a:ext cx="1295640" cy="1055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13"/>
            <p:cNvSpPr/>
            <p:nvPr/>
          </p:nvSpPr>
          <p:spPr>
            <a:xfrm flipH="1">
              <a:off x="5292360" y="1820880"/>
              <a:ext cx="1306440" cy="75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4"/>
            <p:cNvSpPr/>
            <p:nvPr/>
          </p:nvSpPr>
          <p:spPr>
            <a:xfrm flipH="1">
              <a:off x="5292360" y="2125440"/>
              <a:ext cx="1306440" cy="446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15"/>
            <p:cNvSpPr/>
            <p:nvPr/>
          </p:nvSpPr>
          <p:spPr>
            <a:xfrm flipH="1" flipV="1">
              <a:off x="5292360" y="2571480"/>
              <a:ext cx="130644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6"/>
            <p:cNvSpPr/>
            <p:nvPr/>
          </p:nvSpPr>
          <p:spPr>
            <a:xfrm flipH="1" flipV="1">
              <a:off x="5292360" y="2571480"/>
              <a:ext cx="1295640" cy="6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17"/>
            <p:cNvSpPr/>
            <p:nvPr/>
          </p:nvSpPr>
          <p:spPr>
            <a:xfrm flipH="1" flipV="1">
              <a:off x="5292360" y="2571840"/>
              <a:ext cx="1306440" cy="100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18"/>
            <p:cNvSpPr/>
            <p:nvPr/>
          </p:nvSpPr>
          <p:spPr>
            <a:xfrm flipH="1" flipV="1">
              <a:off x="5292360" y="2571480"/>
              <a:ext cx="1306440" cy="136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9"/>
            <p:cNvSpPr/>
            <p:nvPr/>
          </p:nvSpPr>
          <p:spPr>
            <a:xfrm flipH="1" flipV="1">
              <a:off x="5292360" y="2571480"/>
              <a:ext cx="1306440" cy="187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0"/>
          <p:cNvGrpSpPr/>
          <p:nvPr/>
        </p:nvGrpSpPr>
        <p:grpSpPr>
          <a:xfrm>
            <a:off x="6588000" y="773280"/>
            <a:ext cx="2556000" cy="3666960"/>
            <a:chOff x="6588000" y="773280"/>
            <a:chExt cx="2556000" cy="3666960"/>
          </a:xfrm>
        </p:grpSpPr>
        <p:sp>
          <p:nvSpPr>
            <p:cNvPr id="63" name="直接连接符 21"/>
            <p:cNvSpPr/>
            <p:nvPr/>
          </p:nvSpPr>
          <p:spPr>
            <a:xfrm>
              <a:off x="6595920" y="773280"/>
              <a:ext cx="2543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2"/>
            <p:cNvSpPr/>
            <p:nvPr/>
          </p:nvSpPr>
          <p:spPr>
            <a:xfrm>
              <a:off x="6606720" y="1128600"/>
              <a:ext cx="2532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23"/>
            <p:cNvSpPr/>
            <p:nvPr/>
          </p:nvSpPr>
          <p:spPr>
            <a:xfrm>
              <a:off x="6595920" y="1360440"/>
              <a:ext cx="254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4"/>
            <p:cNvSpPr/>
            <p:nvPr/>
          </p:nvSpPr>
          <p:spPr>
            <a:xfrm>
              <a:off x="6588000" y="1513080"/>
              <a:ext cx="255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25"/>
            <p:cNvSpPr/>
            <p:nvPr/>
          </p:nvSpPr>
          <p:spPr>
            <a:xfrm>
              <a:off x="6595920" y="181764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26"/>
            <p:cNvSpPr/>
            <p:nvPr/>
          </p:nvSpPr>
          <p:spPr>
            <a:xfrm flipV="1">
              <a:off x="6588000" y="2122200"/>
              <a:ext cx="255600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27"/>
            <p:cNvSpPr/>
            <p:nvPr/>
          </p:nvSpPr>
          <p:spPr>
            <a:xfrm>
              <a:off x="6595920" y="271296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28"/>
            <p:cNvSpPr/>
            <p:nvPr/>
          </p:nvSpPr>
          <p:spPr>
            <a:xfrm>
              <a:off x="6595920" y="321624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9"/>
            <p:cNvSpPr/>
            <p:nvPr/>
          </p:nvSpPr>
          <p:spPr>
            <a:xfrm>
              <a:off x="6595920" y="444024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30"/>
            <p:cNvSpPr/>
            <p:nvPr/>
          </p:nvSpPr>
          <p:spPr>
            <a:xfrm>
              <a:off x="6595920" y="393732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31"/>
            <p:cNvSpPr/>
            <p:nvPr/>
          </p:nvSpPr>
          <p:spPr>
            <a:xfrm>
              <a:off x="6595920" y="3576600"/>
              <a:ext cx="2534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直接连接符 40"/>
          <p:cNvSpPr/>
          <p:nvPr/>
        </p:nvSpPr>
        <p:spPr>
          <a:xfrm flipH="1" flipV="1">
            <a:off x="0" y="-360"/>
            <a:ext cx="133200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44"/>
          <p:cNvSpPr/>
          <p:nvPr/>
        </p:nvSpPr>
        <p:spPr>
          <a:xfrm flipH="1">
            <a:off x="847800" y="1058760"/>
            <a:ext cx="506160" cy="21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47"/>
          <p:cNvSpPr/>
          <p:nvPr/>
        </p:nvSpPr>
        <p:spPr>
          <a:xfrm flipV="1">
            <a:off x="847800" y="3076560"/>
            <a:ext cx="1417680" cy="179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50"/>
          <p:cNvSpPr/>
          <p:nvPr/>
        </p:nvSpPr>
        <p:spPr>
          <a:xfrm>
            <a:off x="2265480" y="3076560"/>
            <a:ext cx="144288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69"/>
          <p:cNvSpPr/>
          <p:nvPr/>
        </p:nvSpPr>
        <p:spPr>
          <a:xfrm flipH="1">
            <a:off x="3708000" y="2571840"/>
            <a:ext cx="1584360" cy="20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70"/>
          <p:cNvSpPr/>
          <p:nvPr/>
        </p:nvSpPr>
        <p:spPr>
          <a:xfrm>
            <a:off x="728640" y="433440"/>
            <a:ext cx="1251000" cy="1252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72"/>
          <p:cNvSpPr/>
          <p:nvPr/>
        </p:nvSpPr>
        <p:spPr>
          <a:xfrm>
            <a:off x="501480" y="2876400"/>
            <a:ext cx="757440" cy="758880"/>
          </a:xfrm>
          <a:prstGeom prst="ellips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73"/>
          <p:cNvSpPr/>
          <p:nvPr/>
        </p:nvSpPr>
        <p:spPr>
          <a:xfrm>
            <a:off x="1758960" y="2568600"/>
            <a:ext cx="1012680" cy="101448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74"/>
          <p:cNvSpPr/>
          <p:nvPr/>
        </p:nvSpPr>
        <p:spPr>
          <a:xfrm>
            <a:off x="2771640" y="3625920"/>
            <a:ext cx="1871640" cy="187308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5"/>
          <p:cNvSpPr/>
          <p:nvPr/>
        </p:nvSpPr>
        <p:spPr>
          <a:xfrm>
            <a:off x="1979640" y="11365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roadway"/>
                <a:ea typeface="微软雅黑"/>
              </a:rPr>
              <a:t>Your Title or Sub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53"/>
          <p:cNvGrpSpPr/>
          <p:nvPr/>
        </p:nvGrpSpPr>
        <p:grpSpPr>
          <a:xfrm>
            <a:off x="-11160" y="776160"/>
            <a:ext cx="1846800" cy="3667320"/>
            <a:chOff x="-11160" y="776160"/>
            <a:chExt cx="1846800" cy="3667320"/>
          </a:xfrm>
        </p:grpSpPr>
        <p:sp>
          <p:nvSpPr>
            <p:cNvPr id="85" name="直接连接符 19"/>
            <p:cNvSpPr/>
            <p:nvPr/>
          </p:nvSpPr>
          <p:spPr>
            <a:xfrm>
              <a:off x="-2880" y="77616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20"/>
            <p:cNvSpPr/>
            <p:nvPr/>
          </p:nvSpPr>
          <p:spPr>
            <a:xfrm>
              <a:off x="-2880" y="113148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21"/>
            <p:cNvSpPr/>
            <p:nvPr/>
          </p:nvSpPr>
          <p:spPr>
            <a:xfrm>
              <a:off x="0" y="136332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22"/>
            <p:cNvSpPr/>
            <p:nvPr/>
          </p:nvSpPr>
          <p:spPr>
            <a:xfrm>
              <a:off x="0" y="151596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23"/>
            <p:cNvSpPr/>
            <p:nvPr/>
          </p:nvSpPr>
          <p:spPr>
            <a:xfrm>
              <a:off x="-11160" y="182088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24"/>
            <p:cNvSpPr/>
            <p:nvPr/>
          </p:nvSpPr>
          <p:spPr>
            <a:xfrm>
              <a:off x="0" y="212544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25"/>
            <p:cNvSpPr/>
            <p:nvPr/>
          </p:nvSpPr>
          <p:spPr>
            <a:xfrm>
              <a:off x="-11160" y="271620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26"/>
            <p:cNvSpPr/>
            <p:nvPr/>
          </p:nvSpPr>
          <p:spPr>
            <a:xfrm>
              <a:off x="-11160" y="321948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27"/>
            <p:cNvSpPr/>
            <p:nvPr/>
          </p:nvSpPr>
          <p:spPr>
            <a:xfrm>
              <a:off x="-11160" y="444348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8"/>
            <p:cNvSpPr/>
            <p:nvPr/>
          </p:nvSpPr>
          <p:spPr>
            <a:xfrm>
              <a:off x="-11160" y="394020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29"/>
            <p:cNvSpPr/>
            <p:nvPr/>
          </p:nvSpPr>
          <p:spPr>
            <a:xfrm>
              <a:off x="-11160" y="3579840"/>
              <a:ext cx="183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54"/>
          <p:cNvGrpSpPr/>
          <p:nvPr/>
        </p:nvGrpSpPr>
        <p:grpSpPr>
          <a:xfrm>
            <a:off x="1824120" y="776160"/>
            <a:ext cx="1307880" cy="3666960"/>
            <a:chOff x="1824120" y="776160"/>
            <a:chExt cx="1307880" cy="3666960"/>
          </a:xfrm>
        </p:grpSpPr>
        <p:sp>
          <p:nvSpPr>
            <p:cNvPr id="97" name="直接连接符 31"/>
            <p:cNvSpPr/>
            <p:nvPr/>
          </p:nvSpPr>
          <p:spPr>
            <a:xfrm>
              <a:off x="1834920" y="776160"/>
              <a:ext cx="1297080" cy="1795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33"/>
            <p:cNvSpPr/>
            <p:nvPr/>
          </p:nvSpPr>
          <p:spPr>
            <a:xfrm>
              <a:off x="1824120" y="1131480"/>
              <a:ext cx="1307880" cy="1440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35"/>
            <p:cNvSpPr/>
            <p:nvPr/>
          </p:nvSpPr>
          <p:spPr>
            <a:xfrm>
              <a:off x="1832040" y="1363320"/>
              <a:ext cx="1299960" cy="1208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37"/>
            <p:cNvSpPr/>
            <p:nvPr/>
          </p:nvSpPr>
          <p:spPr>
            <a:xfrm>
              <a:off x="1834920" y="1515960"/>
              <a:ext cx="1297080" cy="1055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39"/>
            <p:cNvSpPr/>
            <p:nvPr/>
          </p:nvSpPr>
          <p:spPr>
            <a:xfrm>
              <a:off x="1824120" y="1820880"/>
              <a:ext cx="1307880" cy="75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41"/>
            <p:cNvSpPr/>
            <p:nvPr/>
          </p:nvSpPr>
          <p:spPr>
            <a:xfrm>
              <a:off x="1824120" y="2125440"/>
              <a:ext cx="1307880" cy="446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43"/>
            <p:cNvSpPr/>
            <p:nvPr/>
          </p:nvSpPr>
          <p:spPr>
            <a:xfrm flipV="1">
              <a:off x="1824120" y="2571480"/>
              <a:ext cx="130788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45"/>
            <p:cNvSpPr/>
            <p:nvPr/>
          </p:nvSpPr>
          <p:spPr>
            <a:xfrm flipV="1">
              <a:off x="1834920" y="2571480"/>
              <a:ext cx="1297080" cy="6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47"/>
            <p:cNvSpPr/>
            <p:nvPr/>
          </p:nvSpPr>
          <p:spPr>
            <a:xfrm flipV="1">
              <a:off x="1824120" y="2571840"/>
              <a:ext cx="1307880" cy="100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49"/>
            <p:cNvSpPr/>
            <p:nvPr/>
          </p:nvSpPr>
          <p:spPr>
            <a:xfrm flipV="1">
              <a:off x="1824120" y="2571480"/>
              <a:ext cx="1307880" cy="136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51"/>
            <p:cNvSpPr/>
            <p:nvPr/>
          </p:nvSpPr>
          <p:spPr>
            <a:xfrm flipV="1">
              <a:off x="1824120" y="2571480"/>
              <a:ext cx="1307880" cy="187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直接连接符 60"/>
          <p:cNvSpPr/>
          <p:nvPr/>
        </p:nvSpPr>
        <p:spPr>
          <a:xfrm>
            <a:off x="3132000" y="2571840"/>
            <a:ext cx="6012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1"/>
          <p:cNvSpPr/>
          <p:nvPr/>
        </p:nvSpPr>
        <p:spPr>
          <a:xfrm>
            <a:off x="3833640" y="1131840"/>
            <a:ext cx="46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Broadway"/>
                <a:ea typeface="微软雅黑"/>
              </a:rPr>
              <a:t>NEXT 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2"/>
          <p:cNvSpPr/>
          <p:nvPr/>
        </p:nvSpPr>
        <p:spPr>
          <a:xfrm>
            <a:off x="3833640" y="29624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Segoe UI Light"/>
                <a:ea typeface="微软雅黑"/>
              </a:rPr>
              <a:t>SUBTITLE OR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直接连接符 21"/>
          <p:cNvSpPr/>
          <p:nvPr/>
        </p:nvSpPr>
        <p:spPr>
          <a:xfrm>
            <a:off x="0" y="2571840"/>
            <a:ext cx="183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4"/>
          <p:cNvSpPr/>
          <p:nvPr/>
        </p:nvSpPr>
        <p:spPr>
          <a:xfrm flipV="1">
            <a:off x="1835280" y="1995120"/>
            <a:ext cx="36036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26"/>
          <p:cNvSpPr/>
          <p:nvPr/>
        </p:nvSpPr>
        <p:spPr>
          <a:xfrm>
            <a:off x="2195640" y="1995480"/>
            <a:ext cx="576000" cy="194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8"/>
          <p:cNvSpPr/>
          <p:nvPr/>
        </p:nvSpPr>
        <p:spPr>
          <a:xfrm flipV="1">
            <a:off x="2771640" y="555480"/>
            <a:ext cx="1008360" cy="338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30"/>
          <p:cNvSpPr/>
          <p:nvPr/>
        </p:nvSpPr>
        <p:spPr>
          <a:xfrm>
            <a:off x="3780000" y="555480"/>
            <a:ext cx="360360" cy="201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33"/>
          <p:cNvSpPr/>
          <p:nvPr/>
        </p:nvSpPr>
        <p:spPr>
          <a:xfrm>
            <a:off x="4140360" y="2571840"/>
            <a:ext cx="1944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弧形 34"/>
          <p:cNvSpPr/>
          <p:nvPr/>
        </p:nvSpPr>
        <p:spPr>
          <a:xfrm rot="13500000">
            <a:off x="1839960" y="1639440"/>
            <a:ext cx="712800" cy="712800"/>
          </a:xfrm>
          <a:custGeom>
            <a:avLst/>
            <a:gdLst/>
            <a:ahLst/>
            <a:rect l="l" t="t" r="r" b="b"/>
            <a:pathLst>
              <a:path stroke="0" w="712787" h="712787">
                <a:moveTo>
                  <a:pt x="356393" y="0"/>
                </a:moveTo>
                <a:cubicBezTo>
                  <a:pt x="506415" y="0"/>
                  <a:pt x="640374" y="93948"/>
                  <a:pt x="691475" y="234999"/>
                </a:cubicBezTo>
                <a:cubicBezTo>
                  <a:pt x="742576" y="376050"/>
                  <a:pt x="699875" y="533999"/>
                  <a:pt x="584665" y="630089"/>
                </a:cubicBezTo>
                <a:cubicBezTo>
                  <a:pt x="469455" y="726179"/>
                  <a:pt x="306406" y="739832"/>
                  <a:pt x="176820" y="664242"/>
                </a:cubicBezTo>
                <a:cubicBezTo>
                  <a:pt x="47233" y="588652"/>
                  <a:pt x="-21142" y="440004"/>
                  <a:pt x="5789" y="292419"/>
                </a:cubicBezTo>
                <a:lnTo>
                  <a:pt x="356394" y="356394"/>
                </a:lnTo>
                <a:cubicBezTo>
                  <a:pt x="356394" y="237596"/>
                  <a:pt x="356393" y="118798"/>
                  <a:pt x="356393" y="0"/>
                </a:cubicBezTo>
                <a:close/>
              </a:path>
              <a:path fill="none" w="712787" h="712787">
                <a:moveTo>
                  <a:pt x="356393" y="0"/>
                </a:moveTo>
                <a:cubicBezTo>
                  <a:pt x="506415" y="0"/>
                  <a:pt x="640374" y="93948"/>
                  <a:pt x="691475" y="234999"/>
                </a:cubicBezTo>
                <a:cubicBezTo>
                  <a:pt x="742576" y="376050"/>
                  <a:pt x="699875" y="533999"/>
                  <a:pt x="584665" y="630089"/>
                </a:cubicBezTo>
                <a:cubicBezTo>
                  <a:pt x="469455" y="726179"/>
                  <a:pt x="306406" y="739832"/>
                  <a:pt x="176820" y="664242"/>
                </a:cubicBezTo>
                <a:cubicBezTo>
                  <a:pt x="47233" y="588652"/>
                  <a:pt x="-21142" y="440004"/>
                  <a:pt x="5789" y="29241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弧形 35"/>
          <p:cNvSpPr/>
          <p:nvPr/>
        </p:nvSpPr>
        <p:spPr>
          <a:xfrm rot="13500000">
            <a:off x="1584000" y="1384200"/>
            <a:ext cx="1222560" cy="1222200"/>
          </a:xfrm>
          <a:custGeom>
            <a:avLst/>
            <a:gdLst/>
            <a:ahLst/>
            <a:rect l="l" t="t" r="r" b="b"/>
            <a:pathLst>
              <a:path stroke="0" w="1222375" h="1222375">
                <a:moveTo>
                  <a:pt x="611187" y="0"/>
                </a:moveTo>
                <a:cubicBezTo>
                  <a:pt x="871218" y="0"/>
                  <a:pt x="1102779" y="164529"/>
                  <a:pt x="1188341" y="410081"/>
                </a:cubicBezTo>
                <a:cubicBezTo>
                  <a:pt x="1273903" y="655632"/>
                  <a:pt x="1194729" y="928436"/>
                  <a:pt x="991004" y="1090030"/>
                </a:cubicBezTo>
                <a:cubicBezTo>
                  <a:pt x="787280" y="1251624"/>
                  <a:pt x="503615" y="1266623"/>
                  <a:pt x="283985" y="1127415"/>
                </a:cubicBezTo>
                <a:cubicBezTo>
                  <a:pt x="64355" y="988207"/>
                  <a:pt x="-43147" y="725274"/>
                  <a:pt x="16042" y="472068"/>
                </a:cubicBezTo>
                <a:lnTo>
                  <a:pt x="611188" y="611188"/>
                </a:lnTo>
                <a:cubicBezTo>
                  <a:pt x="611188" y="407459"/>
                  <a:pt x="611187" y="203729"/>
                  <a:pt x="611187" y="0"/>
                </a:cubicBezTo>
                <a:close/>
              </a:path>
              <a:path fill="none" w="1222375" h="1222375">
                <a:moveTo>
                  <a:pt x="611187" y="0"/>
                </a:moveTo>
                <a:cubicBezTo>
                  <a:pt x="871218" y="0"/>
                  <a:pt x="1102779" y="164529"/>
                  <a:pt x="1188341" y="410081"/>
                </a:cubicBezTo>
                <a:cubicBezTo>
                  <a:pt x="1273903" y="655632"/>
                  <a:pt x="1194729" y="928436"/>
                  <a:pt x="991004" y="1090030"/>
                </a:cubicBezTo>
                <a:cubicBezTo>
                  <a:pt x="787280" y="1251624"/>
                  <a:pt x="503615" y="1266623"/>
                  <a:pt x="283985" y="1127415"/>
                </a:cubicBezTo>
                <a:cubicBezTo>
                  <a:pt x="64355" y="988207"/>
                  <a:pt x="-43147" y="725274"/>
                  <a:pt x="16042" y="47206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6"/>
          <p:cNvSpPr/>
          <p:nvPr/>
        </p:nvSpPr>
        <p:spPr>
          <a:xfrm>
            <a:off x="2124000" y="192420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49"/>
          <p:cNvSpPr/>
          <p:nvPr/>
        </p:nvSpPr>
        <p:spPr>
          <a:xfrm flipV="1">
            <a:off x="6084720" y="1131840"/>
            <a:ext cx="0" cy="1440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51"/>
          <p:cNvSpPr/>
          <p:nvPr/>
        </p:nvSpPr>
        <p:spPr>
          <a:xfrm flipH="1">
            <a:off x="5738400" y="1131840"/>
            <a:ext cx="345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63"/>
          <p:cNvGrpSpPr/>
          <p:nvPr/>
        </p:nvGrpSpPr>
        <p:grpSpPr>
          <a:xfrm>
            <a:off x="5310360" y="195120"/>
            <a:ext cx="1331640" cy="936720"/>
            <a:chOff x="5310360" y="195120"/>
            <a:chExt cx="1331640" cy="936720"/>
          </a:xfrm>
        </p:grpSpPr>
        <p:sp>
          <p:nvSpPr>
            <p:cNvPr id="123" name="弧形 57"/>
            <p:cNvSpPr/>
            <p:nvPr/>
          </p:nvSpPr>
          <p:spPr>
            <a:xfrm>
              <a:off x="5310360" y="195120"/>
              <a:ext cx="857160" cy="655920"/>
            </a:xfrm>
            <a:custGeom>
              <a:avLst/>
              <a:gdLst/>
              <a:ahLst/>
              <a:rect l="l" t="t" r="r" b="b"/>
              <a:pathLst>
                <a:path stroke="0" w="1008320" h="1008111">
                  <a:moveTo>
                    <a:pt x="1008315" y="506206"/>
                  </a:moveTo>
                  <a:cubicBezTo>
                    <a:pt x="1007138" y="781967"/>
                    <a:pt x="784535" y="1005593"/>
                    <a:pt x="508726" y="1008091"/>
                  </a:cubicBezTo>
                  <a:lnTo>
                    <a:pt x="504160" y="504056"/>
                  </a:lnTo>
                  <a:lnTo>
                    <a:pt x="1008315" y="506206"/>
                  </a:lnTo>
                  <a:close/>
                </a:path>
                <a:path fill="none" w="1008320" h="1008111">
                  <a:moveTo>
                    <a:pt x="1008315" y="506206"/>
                  </a:moveTo>
                  <a:cubicBezTo>
                    <a:pt x="1007138" y="781967"/>
                    <a:pt x="784535" y="1005593"/>
                    <a:pt x="508726" y="1008091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62"/>
            <p:cNvGrpSpPr/>
            <p:nvPr/>
          </p:nvGrpSpPr>
          <p:grpSpPr>
            <a:xfrm>
              <a:off x="5738760" y="523080"/>
              <a:ext cx="903240" cy="608760"/>
              <a:chOff x="5738760" y="523080"/>
              <a:chExt cx="903240" cy="608760"/>
            </a:xfrm>
          </p:grpSpPr>
          <p:sp>
            <p:nvSpPr>
              <p:cNvPr id="125" name="直接连接符 59"/>
              <p:cNvSpPr/>
              <p:nvPr/>
            </p:nvSpPr>
            <p:spPr>
              <a:xfrm>
                <a:off x="5738760" y="850680"/>
                <a:ext cx="0" cy="281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61"/>
              <p:cNvSpPr/>
              <p:nvPr/>
            </p:nvSpPr>
            <p:spPr>
              <a:xfrm>
                <a:off x="6167520" y="523080"/>
                <a:ext cx="474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直接连接符 79"/>
          <p:cNvSpPr/>
          <p:nvPr/>
        </p:nvSpPr>
        <p:spPr>
          <a:xfrm>
            <a:off x="6642000" y="523800"/>
            <a:ext cx="0" cy="2048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82"/>
          <p:cNvSpPr/>
          <p:nvPr/>
        </p:nvSpPr>
        <p:spPr>
          <a:xfrm>
            <a:off x="6642000" y="2571840"/>
            <a:ext cx="2502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88"/>
          <p:cNvGrpSpPr/>
          <p:nvPr/>
        </p:nvGrpSpPr>
        <p:grpSpPr>
          <a:xfrm>
            <a:off x="4211640" y="2716200"/>
            <a:ext cx="4932360" cy="1682640"/>
            <a:chOff x="4211640" y="2716200"/>
            <a:chExt cx="4932360" cy="1682640"/>
          </a:xfrm>
        </p:grpSpPr>
        <p:sp>
          <p:nvSpPr>
            <p:cNvPr id="130" name="TextBox 84"/>
            <p:cNvSpPr/>
            <p:nvPr/>
          </p:nvSpPr>
          <p:spPr>
            <a:xfrm>
              <a:off x="4211640" y="27162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Broadway"/>
                  <a:ea typeface="微软雅黑"/>
                </a:rPr>
                <a:t>STEP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85"/>
            <p:cNvSpPr/>
            <p:nvPr/>
          </p:nvSpPr>
          <p:spPr>
            <a:xfrm>
              <a:off x="5911920" y="2787480"/>
              <a:ext cx="323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86"/>
            <p:cNvSpPr/>
            <p:nvPr/>
          </p:nvSpPr>
          <p:spPr>
            <a:xfrm>
              <a:off x="4249440" y="328932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87"/>
            <p:cNvSpPr/>
            <p:nvPr/>
          </p:nvSpPr>
          <p:spPr>
            <a:xfrm>
              <a:off x="4249440" y="381816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1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6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1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91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41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67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直接连接符 8"/>
          <p:cNvSpPr/>
          <p:nvPr/>
        </p:nvSpPr>
        <p:spPr>
          <a:xfrm>
            <a:off x="0" y="2571840"/>
            <a:ext cx="183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9"/>
          <p:cNvSpPr/>
          <p:nvPr/>
        </p:nvSpPr>
        <p:spPr>
          <a:xfrm flipV="1">
            <a:off x="1835280" y="1995120"/>
            <a:ext cx="36036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0"/>
          <p:cNvSpPr/>
          <p:nvPr/>
        </p:nvSpPr>
        <p:spPr>
          <a:xfrm>
            <a:off x="2195640" y="1995480"/>
            <a:ext cx="576000" cy="194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1"/>
          <p:cNvSpPr/>
          <p:nvPr/>
        </p:nvSpPr>
        <p:spPr>
          <a:xfrm flipV="1">
            <a:off x="2771640" y="555480"/>
            <a:ext cx="1008360" cy="338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"/>
          <p:cNvSpPr/>
          <p:nvPr/>
        </p:nvSpPr>
        <p:spPr>
          <a:xfrm>
            <a:off x="3780000" y="555480"/>
            <a:ext cx="360360" cy="201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3"/>
          <p:cNvSpPr/>
          <p:nvPr/>
        </p:nvSpPr>
        <p:spPr>
          <a:xfrm>
            <a:off x="4140360" y="2571840"/>
            <a:ext cx="1979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弧形 14"/>
          <p:cNvSpPr/>
          <p:nvPr/>
        </p:nvSpPr>
        <p:spPr>
          <a:xfrm flipV="1" rot="8100000">
            <a:off x="2413440" y="3509640"/>
            <a:ext cx="714240" cy="712800"/>
          </a:xfrm>
          <a:custGeom>
            <a:avLst/>
            <a:gdLst/>
            <a:ahLst/>
            <a:rect l="l" t="t" r="r" b="b"/>
            <a:pathLst>
              <a:path stroke="0" w="712788" h="714375">
                <a:moveTo>
                  <a:pt x="306238" y="3555"/>
                </a:moveTo>
                <a:cubicBezTo>
                  <a:pt x="457469" y="-17990"/>
                  <a:pt x="605583" y="59450"/>
                  <a:pt x="674479" y="196086"/>
                </a:cubicBezTo>
                <a:cubicBezTo>
                  <a:pt x="743184" y="332345"/>
                  <a:pt x="717885" y="497304"/>
                  <a:pt x="611521" y="606593"/>
                </a:cubicBezTo>
                <a:cubicBezTo>
                  <a:pt x="504792" y="716257"/>
                  <a:pt x="340173" y="745501"/>
                  <a:pt x="202338" y="679281"/>
                </a:cubicBezTo>
                <a:cubicBezTo>
                  <a:pt x="64870" y="613238"/>
                  <a:pt x="-15463" y="466879"/>
                  <a:pt x="2476" y="315155"/>
                </a:cubicBezTo>
                <a:lnTo>
                  <a:pt x="356394" y="357188"/>
                </a:lnTo>
                <a:lnTo>
                  <a:pt x="306238" y="3555"/>
                </a:lnTo>
                <a:close/>
              </a:path>
              <a:path fill="none" w="712788" h="714375">
                <a:moveTo>
                  <a:pt x="306238" y="3555"/>
                </a:moveTo>
                <a:cubicBezTo>
                  <a:pt x="457469" y="-17990"/>
                  <a:pt x="605583" y="59450"/>
                  <a:pt x="674479" y="196086"/>
                </a:cubicBezTo>
                <a:cubicBezTo>
                  <a:pt x="743184" y="332345"/>
                  <a:pt x="717885" y="497304"/>
                  <a:pt x="611521" y="606593"/>
                </a:cubicBezTo>
                <a:cubicBezTo>
                  <a:pt x="504792" y="716257"/>
                  <a:pt x="340173" y="745501"/>
                  <a:pt x="202338" y="679281"/>
                </a:cubicBezTo>
                <a:cubicBezTo>
                  <a:pt x="64870" y="613238"/>
                  <a:pt x="-15463" y="466879"/>
                  <a:pt x="2476" y="31515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弧形 15"/>
          <p:cNvSpPr/>
          <p:nvPr/>
        </p:nvSpPr>
        <p:spPr>
          <a:xfrm flipV="1" rot="8100000">
            <a:off x="2159640" y="3255480"/>
            <a:ext cx="1222560" cy="1220760"/>
          </a:xfrm>
          <a:custGeom>
            <a:avLst/>
            <a:gdLst/>
            <a:ahLst/>
            <a:rect l="l" t="t" r="r" b="b"/>
            <a:pathLst>
              <a:path stroke="0" w="1220788" h="1222375">
                <a:moveTo>
                  <a:pt x="449688" y="21563"/>
                </a:moveTo>
                <a:cubicBezTo>
                  <a:pt x="711967" y="-50109"/>
                  <a:pt x="989969" y="60548"/>
                  <a:pt x="1131524" y="292962"/>
                </a:cubicBezTo>
                <a:cubicBezTo>
                  <a:pt x="1272827" y="524964"/>
                  <a:pt x="1244183" y="822518"/>
                  <a:pt x="1061225" y="1023224"/>
                </a:cubicBezTo>
                <a:cubicBezTo>
                  <a:pt x="877903" y="1224329"/>
                  <a:pt x="583830" y="1279755"/>
                  <a:pt x="340031" y="1159152"/>
                </a:cubicBezTo>
                <a:cubicBezTo>
                  <a:pt x="96618" y="1038741"/>
                  <a:pt x="-38109" y="771820"/>
                  <a:pt x="9430" y="504169"/>
                </a:cubicBezTo>
                <a:lnTo>
                  <a:pt x="610394" y="611188"/>
                </a:lnTo>
                <a:lnTo>
                  <a:pt x="449688" y="21563"/>
                </a:lnTo>
                <a:close/>
              </a:path>
              <a:path fill="none" w="1220788" h="1222375">
                <a:moveTo>
                  <a:pt x="449688" y="21563"/>
                </a:moveTo>
                <a:cubicBezTo>
                  <a:pt x="711967" y="-50109"/>
                  <a:pt x="989969" y="60548"/>
                  <a:pt x="1131524" y="292962"/>
                </a:cubicBezTo>
                <a:cubicBezTo>
                  <a:pt x="1272827" y="524964"/>
                  <a:pt x="1244183" y="822518"/>
                  <a:pt x="1061225" y="1023224"/>
                </a:cubicBezTo>
                <a:cubicBezTo>
                  <a:pt x="877903" y="1224329"/>
                  <a:pt x="583830" y="1279755"/>
                  <a:pt x="340031" y="1159152"/>
                </a:cubicBezTo>
                <a:cubicBezTo>
                  <a:pt x="96618" y="1038741"/>
                  <a:pt x="-38109" y="771820"/>
                  <a:pt x="9430" y="50416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6"/>
          <p:cNvSpPr/>
          <p:nvPr/>
        </p:nvSpPr>
        <p:spPr>
          <a:xfrm>
            <a:off x="2700360" y="37958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 flipV="1">
            <a:off x="6102360" y="224964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4"/>
          <p:cNvSpPr/>
          <p:nvPr/>
        </p:nvSpPr>
        <p:spPr>
          <a:xfrm>
            <a:off x="7342200" y="2249640"/>
            <a:ext cx="0" cy="32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25"/>
          <p:cNvSpPr/>
          <p:nvPr/>
        </p:nvSpPr>
        <p:spPr>
          <a:xfrm flipV="1">
            <a:off x="7342200" y="2571840"/>
            <a:ext cx="18018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6"/>
          <p:cNvGrpSpPr/>
          <p:nvPr/>
        </p:nvGrpSpPr>
        <p:grpSpPr>
          <a:xfrm>
            <a:off x="4211640" y="2716200"/>
            <a:ext cx="4932360" cy="1682640"/>
            <a:chOff x="4211640" y="2716200"/>
            <a:chExt cx="4932360" cy="1682640"/>
          </a:xfrm>
        </p:grpSpPr>
        <p:sp>
          <p:nvSpPr>
            <p:cNvPr id="147" name="TextBox 27"/>
            <p:cNvSpPr/>
            <p:nvPr/>
          </p:nvSpPr>
          <p:spPr>
            <a:xfrm>
              <a:off x="4211640" y="27162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Broadway"/>
                  <a:ea typeface="微软雅黑"/>
                </a:rPr>
                <a:t>STEP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28"/>
            <p:cNvSpPr/>
            <p:nvPr/>
          </p:nvSpPr>
          <p:spPr>
            <a:xfrm>
              <a:off x="5911920" y="2787480"/>
              <a:ext cx="323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29"/>
            <p:cNvSpPr/>
            <p:nvPr/>
          </p:nvSpPr>
          <p:spPr>
            <a:xfrm>
              <a:off x="4249440" y="328932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30"/>
            <p:cNvSpPr/>
            <p:nvPr/>
          </p:nvSpPr>
          <p:spPr>
            <a:xfrm>
              <a:off x="4249440" y="381816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01"/>
          <p:cNvGrpSpPr/>
          <p:nvPr/>
        </p:nvGrpSpPr>
        <p:grpSpPr>
          <a:xfrm>
            <a:off x="6084720" y="627120"/>
            <a:ext cx="1221120" cy="187200"/>
            <a:chOff x="6084720" y="627120"/>
            <a:chExt cx="1221120" cy="187200"/>
          </a:xfrm>
        </p:grpSpPr>
        <p:sp>
          <p:nvSpPr>
            <p:cNvPr id="152" name="直接连接符 46"/>
            <p:cNvSpPr/>
            <p:nvPr/>
          </p:nvSpPr>
          <p:spPr>
            <a:xfrm flipH="1">
              <a:off x="6263640" y="627120"/>
              <a:ext cx="862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49"/>
            <p:cNvSpPr/>
            <p:nvPr/>
          </p:nvSpPr>
          <p:spPr>
            <a:xfrm flipH="1">
              <a:off x="6084720" y="627120"/>
              <a:ext cx="179280" cy="18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56"/>
            <p:cNvSpPr/>
            <p:nvPr/>
          </p:nvSpPr>
          <p:spPr>
            <a:xfrm>
              <a:off x="7126560" y="633240"/>
              <a:ext cx="179280" cy="18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02"/>
          <p:cNvGrpSpPr/>
          <p:nvPr/>
        </p:nvGrpSpPr>
        <p:grpSpPr>
          <a:xfrm>
            <a:off x="6588000" y="814320"/>
            <a:ext cx="736560" cy="1433160"/>
            <a:chOff x="6588000" y="814320"/>
            <a:chExt cx="736560" cy="1433160"/>
          </a:xfrm>
        </p:grpSpPr>
        <p:sp>
          <p:nvSpPr>
            <p:cNvPr id="156" name="直接连接符 1023"/>
            <p:cNvSpPr/>
            <p:nvPr/>
          </p:nvSpPr>
          <p:spPr>
            <a:xfrm flipV="1">
              <a:off x="6588000" y="1491840"/>
              <a:ext cx="736560" cy="75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032"/>
            <p:cNvSpPr/>
            <p:nvPr/>
          </p:nvSpPr>
          <p:spPr>
            <a:xfrm>
              <a:off x="7324560" y="814320"/>
              <a:ext cx="0" cy="677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直接连接符 97"/>
          <p:cNvSpPr/>
          <p:nvPr/>
        </p:nvSpPr>
        <p:spPr>
          <a:xfrm flipH="1">
            <a:off x="6443640" y="915840"/>
            <a:ext cx="501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00"/>
          <p:cNvGrpSpPr/>
          <p:nvPr/>
        </p:nvGrpSpPr>
        <p:grpSpPr>
          <a:xfrm>
            <a:off x="6102360" y="915840"/>
            <a:ext cx="917640" cy="1349280"/>
            <a:chOff x="6102360" y="915840"/>
            <a:chExt cx="917640" cy="1349280"/>
          </a:xfrm>
        </p:grpSpPr>
        <p:sp>
          <p:nvSpPr>
            <p:cNvPr id="160" name="直接连接符 61"/>
            <p:cNvSpPr/>
            <p:nvPr/>
          </p:nvSpPr>
          <p:spPr>
            <a:xfrm flipV="1">
              <a:off x="7020000" y="98676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64"/>
            <p:cNvSpPr/>
            <p:nvPr/>
          </p:nvSpPr>
          <p:spPr>
            <a:xfrm>
              <a:off x="6945480" y="915840"/>
              <a:ext cx="74520" cy="71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103"/>
            <p:cNvSpPr/>
            <p:nvPr/>
          </p:nvSpPr>
          <p:spPr>
            <a:xfrm flipV="1">
              <a:off x="6102360" y="1347480"/>
              <a:ext cx="917640" cy="917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直接连接符 73"/>
          <p:cNvSpPr/>
          <p:nvPr/>
        </p:nvSpPr>
        <p:spPr>
          <a:xfrm>
            <a:off x="6084720" y="808200"/>
            <a:ext cx="0" cy="358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75"/>
          <p:cNvSpPr/>
          <p:nvPr/>
        </p:nvSpPr>
        <p:spPr>
          <a:xfrm>
            <a:off x="6084720" y="1176480"/>
            <a:ext cx="358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77"/>
          <p:cNvSpPr/>
          <p:nvPr/>
        </p:nvSpPr>
        <p:spPr>
          <a:xfrm>
            <a:off x="6443640" y="915840"/>
            <a:ext cx="0" cy="250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84"/>
          <p:cNvSpPr/>
          <p:nvPr/>
        </p:nvSpPr>
        <p:spPr>
          <a:xfrm>
            <a:off x="6588000" y="2247840"/>
            <a:ext cx="754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1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71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41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670"/>
                            </p:stCondLst>
                            <p:childTnLst>
                              <p:par>
                                <p:cTn id="2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2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69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1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71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97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22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33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3"/>
          <p:cNvSpPr/>
          <p:nvPr/>
        </p:nvSpPr>
        <p:spPr>
          <a:xfrm>
            <a:off x="0" y="2571840"/>
            <a:ext cx="183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4"/>
          <p:cNvSpPr/>
          <p:nvPr/>
        </p:nvSpPr>
        <p:spPr>
          <a:xfrm flipV="1">
            <a:off x="1835280" y="1995120"/>
            <a:ext cx="36036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5"/>
          <p:cNvSpPr/>
          <p:nvPr/>
        </p:nvSpPr>
        <p:spPr>
          <a:xfrm>
            <a:off x="2195640" y="1995480"/>
            <a:ext cx="576000" cy="194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"/>
          <p:cNvSpPr/>
          <p:nvPr/>
        </p:nvSpPr>
        <p:spPr>
          <a:xfrm flipV="1">
            <a:off x="2771640" y="555480"/>
            <a:ext cx="1008360" cy="338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7"/>
          <p:cNvSpPr/>
          <p:nvPr/>
        </p:nvSpPr>
        <p:spPr>
          <a:xfrm>
            <a:off x="3780000" y="555480"/>
            <a:ext cx="360360" cy="201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8"/>
          <p:cNvSpPr/>
          <p:nvPr/>
        </p:nvSpPr>
        <p:spPr>
          <a:xfrm>
            <a:off x="4140360" y="2571840"/>
            <a:ext cx="211428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弧形 9"/>
          <p:cNvSpPr/>
          <p:nvPr/>
        </p:nvSpPr>
        <p:spPr>
          <a:xfrm rot="13500000">
            <a:off x="3541320" y="316800"/>
            <a:ext cx="476280" cy="476280"/>
          </a:xfrm>
          <a:custGeom>
            <a:avLst/>
            <a:gdLst/>
            <a:ahLst/>
            <a:rect l="l" t="t" r="r" b="b"/>
            <a:pathLst>
              <a:path stroke="0" w="476250" h="476250">
                <a:moveTo>
                  <a:pt x="204687" y="2359"/>
                </a:moveTo>
                <a:cubicBezTo>
                  <a:pt x="306129" y="-12028"/>
                  <a:pt x="405402" y="40085"/>
                  <a:pt x="451171" y="131752"/>
                </a:cubicBezTo>
                <a:cubicBezTo>
                  <a:pt x="496940" y="223418"/>
                  <a:pt x="478942" y="334085"/>
                  <a:pt x="406486" y="406525"/>
                </a:cubicBezTo>
                <a:cubicBezTo>
                  <a:pt x="334029" y="478965"/>
                  <a:pt x="223358" y="496936"/>
                  <a:pt x="131703" y="451146"/>
                </a:cubicBezTo>
                <a:cubicBezTo>
                  <a:pt x="40047" y="405356"/>
                  <a:pt x="-12043" y="306070"/>
                  <a:pt x="2368" y="204632"/>
                </a:cubicBezTo>
                <a:lnTo>
                  <a:pt x="238125" y="238125"/>
                </a:lnTo>
                <a:lnTo>
                  <a:pt x="204687" y="2359"/>
                </a:lnTo>
                <a:close/>
              </a:path>
              <a:path fill="none" w="476250" h="476250">
                <a:moveTo>
                  <a:pt x="204687" y="2359"/>
                </a:moveTo>
                <a:cubicBezTo>
                  <a:pt x="306129" y="-12028"/>
                  <a:pt x="405402" y="40085"/>
                  <a:pt x="451171" y="131752"/>
                </a:cubicBezTo>
                <a:cubicBezTo>
                  <a:pt x="496940" y="223418"/>
                  <a:pt x="478942" y="334085"/>
                  <a:pt x="406486" y="406525"/>
                </a:cubicBezTo>
                <a:cubicBezTo>
                  <a:pt x="334029" y="478965"/>
                  <a:pt x="223358" y="496936"/>
                  <a:pt x="131703" y="451146"/>
                </a:cubicBezTo>
                <a:cubicBezTo>
                  <a:pt x="40047" y="405356"/>
                  <a:pt x="-12043" y="306070"/>
                  <a:pt x="2368" y="20463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弧形 10"/>
          <p:cNvSpPr/>
          <p:nvPr/>
        </p:nvSpPr>
        <p:spPr>
          <a:xfrm rot="13500000">
            <a:off x="3371400" y="146880"/>
            <a:ext cx="816120" cy="816120"/>
          </a:xfrm>
          <a:custGeom>
            <a:avLst/>
            <a:gdLst/>
            <a:ahLst/>
            <a:rect l="l" t="t" r="r" b="b"/>
            <a:pathLst>
              <a:path stroke="0" w="815975" h="815975">
                <a:moveTo>
                  <a:pt x="300701" y="14359"/>
                </a:moveTo>
                <a:cubicBezTo>
                  <a:pt x="479407" y="-34349"/>
                  <a:pt x="668501" y="43440"/>
                  <a:pt x="761202" y="203798"/>
                </a:cubicBezTo>
                <a:cubicBezTo>
                  <a:pt x="853903" y="364156"/>
                  <a:pt x="826949" y="566840"/>
                  <a:pt x="695558" y="697396"/>
                </a:cubicBezTo>
                <a:cubicBezTo>
                  <a:pt x="564168" y="827952"/>
                  <a:pt x="361316" y="853616"/>
                  <a:pt x="201552" y="759895"/>
                </a:cubicBezTo>
                <a:cubicBezTo>
                  <a:pt x="41788" y="666174"/>
                  <a:pt x="-34795" y="476589"/>
                  <a:pt x="15049" y="298197"/>
                </a:cubicBezTo>
                <a:lnTo>
                  <a:pt x="407988" y="407988"/>
                </a:lnTo>
                <a:lnTo>
                  <a:pt x="300701" y="14359"/>
                </a:lnTo>
                <a:close/>
              </a:path>
              <a:path fill="none" w="815975" h="815975">
                <a:moveTo>
                  <a:pt x="300701" y="14359"/>
                </a:moveTo>
                <a:cubicBezTo>
                  <a:pt x="479407" y="-34349"/>
                  <a:pt x="668501" y="43440"/>
                  <a:pt x="761202" y="203798"/>
                </a:cubicBezTo>
                <a:cubicBezTo>
                  <a:pt x="853903" y="364156"/>
                  <a:pt x="826949" y="566840"/>
                  <a:pt x="695558" y="697396"/>
                </a:cubicBezTo>
                <a:cubicBezTo>
                  <a:pt x="564168" y="827952"/>
                  <a:pt x="361316" y="853616"/>
                  <a:pt x="201552" y="759895"/>
                </a:cubicBezTo>
                <a:cubicBezTo>
                  <a:pt x="41788" y="666174"/>
                  <a:pt x="-34795" y="476589"/>
                  <a:pt x="15049" y="29819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1"/>
          <p:cNvSpPr/>
          <p:nvPr/>
        </p:nvSpPr>
        <p:spPr>
          <a:xfrm flipV="1">
            <a:off x="3732120" y="50724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4"/>
          <p:cNvSpPr/>
          <p:nvPr/>
        </p:nvSpPr>
        <p:spPr>
          <a:xfrm>
            <a:off x="7169040" y="2571840"/>
            <a:ext cx="1974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15"/>
          <p:cNvGrpSpPr/>
          <p:nvPr/>
        </p:nvGrpSpPr>
        <p:grpSpPr>
          <a:xfrm>
            <a:off x="4211640" y="2716200"/>
            <a:ext cx="4932360" cy="1682640"/>
            <a:chOff x="4211640" y="2716200"/>
            <a:chExt cx="4932360" cy="1682640"/>
          </a:xfrm>
        </p:grpSpPr>
        <p:sp>
          <p:nvSpPr>
            <p:cNvPr id="178" name="TextBox 16"/>
            <p:cNvSpPr/>
            <p:nvPr/>
          </p:nvSpPr>
          <p:spPr>
            <a:xfrm>
              <a:off x="4211640" y="27162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Broadway"/>
                  <a:ea typeface="微软雅黑"/>
                </a:rPr>
                <a:t>STEP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7"/>
            <p:cNvSpPr/>
            <p:nvPr/>
          </p:nvSpPr>
          <p:spPr>
            <a:xfrm>
              <a:off x="5911920" y="2787480"/>
              <a:ext cx="323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8"/>
            <p:cNvSpPr/>
            <p:nvPr/>
          </p:nvSpPr>
          <p:spPr>
            <a:xfrm>
              <a:off x="4249440" y="328932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9"/>
            <p:cNvSpPr/>
            <p:nvPr/>
          </p:nvSpPr>
          <p:spPr>
            <a:xfrm>
              <a:off x="4249440" y="3818160"/>
              <a:ext cx="489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Segoe UI Light"/>
                  <a:ea typeface="微软雅黑"/>
                </a:rPr>
                <a:t>Your text will be typed in this place. Try to fulfill this lin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20"/>
          <p:cNvGrpSpPr/>
          <p:nvPr/>
        </p:nvGrpSpPr>
        <p:grpSpPr>
          <a:xfrm>
            <a:off x="6103800" y="457200"/>
            <a:ext cx="1220760" cy="187200"/>
            <a:chOff x="6103800" y="457200"/>
            <a:chExt cx="1220760" cy="187200"/>
          </a:xfrm>
        </p:grpSpPr>
        <p:sp>
          <p:nvSpPr>
            <p:cNvPr id="183" name="直接连接符 21"/>
            <p:cNvSpPr/>
            <p:nvPr/>
          </p:nvSpPr>
          <p:spPr>
            <a:xfrm flipH="1">
              <a:off x="6282720" y="457200"/>
              <a:ext cx="862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22"/>
            <p:cNvSpPr/>
            <p:nvPr/>
          </p:nvSpPr>
          <p:spPr>
            <a:xfrm flipH="1">
              <a:off x="6103800" y="457200"/>
              <a:ext cx="179280" cy="18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3"/>
            <p:cNvSpPr/>
            <p:nvPr/>
          </p:nvSpPr>
          <p:spPr>
            <a:xfrm>
              <a:off x="7145280" y="463320"/>
              <a:ext cx="179280" cy="18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7"/>
          <p:cNvSpPr/>
          <p:nvPr/>
        </p:nvSpPr>
        <p:spPr>
          <a:xfrm flipH="1">
            <a:off x="6443640" y="752400"/>
            <a:ext cx="501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2"/>
          <p:cNvSpPr/>
          <p:nvPr/>
        </p:nvSpPr>
        <p:spPr>
          <a:xfrm>
            <a:off x="6103800" y="644400"/>
            <a:ext cx="0" cy="360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3"/>
          <p:cNvSpPr/>
          <p:nvPr/>
        </p:nvSpPr>
        <p:spPr>
          <a:xfrm>
            <a:off x="6103800" y="1014480"/>
            <a:ext cx="339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4"/>
          <p:cNvSpPr/>
          <p:nvPr/>
        </p:nvSpPr>
        <p:spPr>
          <a:xfrm>
            <a:off x="6443640" y="752400"/>
            <a:ext cx="0" cy="25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63"/>
          <p:cNvGrpSpPr/>
          <p:nvPr/>
        </p:nvGrpSpPr>
        <p:grpSpPr>
          <a:xfrm>
            <a:off x="7016760" y="652320"/>
            <a:ext cx="307800" cy="1920960"/>
            <a:chOff x="7016760" y="652320"/>
            <a:chExt cx="307800" cy="1920960"/>
          </a:xfrm>
        </p:grpSpPr>
        <p:sp>
          <p:nvSpPr>
            <p:cNvPr id="191" name="直接连接符 45"/>
            <p:cNvSpPr/>
            <p:nvPr/>
          </p:nvSpPr>
          <p:spPr>
            <a:xfrm flipV="1">
              <a:off x="7140600" y="2394000"/>
              <a:ext cx="179280" cy="17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组合 62"/>
            <p:cNvGrpSpPr/>
            <p:nvPr/>
          </p:nvGrpSpPr>
          <p:grpSpPr>
            <a:xfrm>
              <a:off x="7016760" y="652320"/>
              <a:ext cx="307800" cy="1731960"/>
              <a:chOff x="7016760" y="652320"/>
              <a:chExt cx="307800" cy="1731960"/>
            </a:xfrm>
          </p:grpSpPr>
          <p:grpSp>
            <p:nvGrpSpPr>
              <p:cNvPr id="193" name="组合 24"/>
              <p:cNvGrpSpPr/>
              <p:nvPr/>
            </p:nvGrpSpPr>
            <p:grpSpPr>
              <a:xfrm>
                <a:off x="7020360" y="652320"/>
                <a:ext cx="304200" cy="865080"/>
                <a:chOff x="7020360" y="652320"/>
                <a:chExt cx="304200" cy="865080"/>
              </a:xfrm>
            </p:grpSpPr>
            <p:sp>
              <p:nvSpPr>
                <p:cNvPr id="194" name="直接连接符 25"/>
                <p:cNvSpPr/>
                <p:nvPr/>
              </p:nvSpPr>
              <p:spPr>
                <a:xfrm flipV="1">
                  <a:off x="7020360" y="1328400"/>
                  <a:ext cx="304200" cy="18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直接连接符 26"/>
                <p:cNvSpPr/>
                <p:nvPr/>
              </p:nvSpPr>
              <p:spPr>
                <a:xfrm>
                  <a:off x="7324560" y="652320"/>
                  <a:ext cx="0" cy="676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组合 46"/>
              <p:cNvGrpSpPr/>
              <p:nvPr/>
            </p:nvGrpSpPr>
            <p:grpSpPr>
              <a:xfrm>
                <a:off x="7016760" y="1519200"/>
                <a:ext cx="304200" cy="865080"/>
                <a:chOff x="7016760" y="1519200"/>
                <a:chExt cx="304200" cy="865080"/>
              </a:xfrm>
            </p:grpSpPr>
            <p:sp>
              <p:nvSpPr>
                <p:cNvPr id="197" name="直接连接符 47"/>
                <p:cNvSpPr/>
                <p:nvPr/>
              </p:nvSpPr>
              <p:spPr>
                <a:xfrm>
                  <a:off x="7016760" y="1519200"/>
                  <a:ext cx="304200" cy="18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直接连接符 48"/>
                <p:cNvSpPr/>
                <p:nvPr/>
              </p:nvSpPr>
              <p:spPr>
                <a:xfrm flipV="1">
                  <a:off x="7320960" y="1707840"/>
                  <a:ext cx="0" cy="676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" name="直接连接符 49"/>
          <p:cNvSpPr/>
          <p:nvPr/>
        </p:nvSpPr>
        <p:spPr>
          <a:xfrm flipH="1">
            <a:off x="6433920" y="2284560"/>
            <a:ext cx="501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61"/>
          <p:cNvGrpSpPr/>
          <p:nvPr/>
        </p:nvGrpSpPr>
        <p:grpSpPr>
          <a:xfrm>
            <a:off x="6684840" y="752400"/>
            <a:ext cx="335160" cy="1531800"/>
            <a:chOff x="6684840" y="752400"/>
            <a:chExt cx="335160" cy="1531800"/>
          </a:xfrm>
        </p:grpSpPr>
        <p:grpSp>
          <p:nvGrpSpPr>
            <p:cNvPr id="201" name="组合 28"/>
            <p:cNvGrpSpPr/>
            <p:nvPr/>
          </p:nvGrpSpPr>
          <p:grpSpPr>
            <a:xfrm>
              <a:off x="6694200" y="752400"/>
              <a:ext cx="325800" cy="576000"/>
              <a:chOff x="6694200" y="752400"/>
              <a:chExt cx="325800" cy="576000"/>
            </a:xfrm>
          </p:grpSpPr>
          <p:sp>
            <p:nvSpPr>
              <p:cNvPr id="202" name="直接连接符 29"/>
              <p:cNvSpPr/>
              <p:nvPr/>
            </p:nvSpPr>
            <p:spPr>
              <a:xfrm flipV="1">
                <a:off x="7020000" y="823320"/>
                <a:ext cx="0" cy="360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30"/>
              <p:cNvSpPr/>
              <p:nvPr/>
            </p:nvSpPr>
            <p:spPr>
              <a:xfrm>
                <a:off x="6945480" y="752400"/>
                <a:ext cx="7452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31"/>
              <p:cNvSpPr/>
              <p:nvPr/>
            </p:nvSpPr>
            <p:spPr>
              <a:xfrm flipV="1">
                <a:off x="6694200" y="1184040"/>
                <a:ext cx="325800" cy="144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直接连接符 38"/>
            <p:cNvSpPr/>
            <p:nvPr/>
          </p:nvSpPr>
          <p:spPr>
            <a:xfrm>
              <a:off x="6694200" y="1328760"/>
              <a:ext cx="0" cy="377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组合 50"/>
            <p:cNvGrpSpPr/>
            <p:nvPr/>
          </p:nvGrpSpPr>
          <p:grpSpPr>
            <a:xfrm>
              <a:off x="6684840" y="1708200"/>
              <a:ext cx="325800" cy="576000"/>
              <a:chOff x="6684840" y="1708200"/>
              <a:chExt cx="325800" cy="576000"/>
            </a:xfrm>
          </p:grpSpPr>
          <p:sp>
            <p:nvSpPr>
              <p:cNvPr id="207" name="直接连接符 51"/>
              <p:cNvSpPr/>
              <p:nvPr/>
            </p:nvSpPr>
            <p:spPr>
              <a:xfrm>
                <a:off x="7010640" y="1852920"/>
                <a:ext cx="0" cy="360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52"/>
              <p:cNvSpPr/>
              <p:nvPr/>
            </p:nvSpPr>
            <p:spPr>
              <a:xfrm flipV="1">
                <a:off x="6936120" y="2212920"/>
                <a:ext cx="74520" cy="71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53"/>
              <p:cNvSpPr/>
              <p:nvPr/>
            </p:nvSpPr>
            <p:spPr>
              <a:xfrm>
                <a:off x="6684840" y="1708200"/>
                <a:ext cx="325800" cy="144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组合 60"/>
          <p:cNvGrpSpPr/>
          <p:nvPr/>
        </p:nvGrpSpPr>
        <p:grpSpPr>
          <a:xfrm>
            <a:off x="6075360" y="2031840"/>
            <a:ext cx="179280" cy="540000"/>
            <a:chOff x="6075360" y="2031840"/>
            <a:chExt cx="179280" cy="540000"/>
          </a:xfrm>
        </p:grpSpPr>
        <p:sp>
          <p:nvSpPr>
            <p:cNvPr id="211" name="直接连接符 44"/>
            <p:cNvSpPr/>
            <p:nvPr/>
          </p:nvSpPr>
          <p:spPr>
            <a:xfrm flipH="1" flipV="1">
              <a:off x="6075360" y="2392560"/>
              <a:ext cx="179280" cy="17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54"/>
            <p:cNvSpPr/>
            <p:nvPr/>
          </p:nvSpPr>
          <p:spPr>
            <a:xfrm flipV="1">
              <a:off x="6075360" y="2031840"/>
              <a:ext cx="0" cy="36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直接连接符 55"/>
          <p:cNvSpPr/>
          <p:nvPr/>
        </p:nvSpPr>
        <p:spPr>
          <a:xfrm>
            <a:off x="6075360" y="2022480"/>
            <a:ext cx="358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56"/>
          <p:cNvSpPr/>
          <p:nvPr/>
        </p:nvSpPr>
        <p:spPr>
          <a:xfrm flipV="1">
            <a:off x="6434280" y="2031840"/>
            <a:ext cx="0" cy="252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2"/>
          <p:cNvSpPr/>
          <p:nvPr/>
        </p:nvSpPr>
        <p:spPr>
          <a:xfrm>
            <a:off x="581040" y="4659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6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7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49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2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77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1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78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79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29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直接连接符 13"/>
          <p:cNvSpPr/>
          <p:nvPr/>
        </p:nvSpPr>
        <p:spPr>
          <a:xfrm flipH="1">
            <a:off x="-360" y="2560680"/>
            <a:ext cx="3063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5"/>
          <p:cNvSpPr/>
          <p:nvPr/>
        </p:nvSpPr>
        <p:spPr>
          <a:xfrm>
            <a:off x="3063960" y="2427120"/>
            <a:ext cx="11476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弧形 27"/>
          <p:cNvSpPr/>
          <p:nvPr/>
        </p:nvSpPr>
        <p:spPr>
          <a:xfrm>
            <a:off x="3359160" y="1347840"/>
            <a:ext cx="2425680" cy="2425680"/>
          </a:xfrm>
          <a:custGeom>
            <a:avLst/>
            <a:gdLst/>
            <a:ahLst/>
            <a:rect l="l" t="t" r="r" b="b"/>
            <a:pathLst>
              <a:path stroke="0" w="2425700" h="2425700">
                <a:moveTo>
                  <a:pt x="32333" y="934669"/>
                </a:moveTo>
                <a:cubicBezTo>
                  <a:pt x="173024" y="337618"/>
                  <a:pt x="737342" y="-60398"/>
                  <a:pt x="1346983" y="7440"/>
                </a:cubicBezTo>
                <a:cubicBezTo>
                  <a:pt x="1956624" y="75278"/>
                  <a:pt x="2419642" y="587612"/>
                  <a:pt x="2425642" y="1200987"/>
                </a:cubicBezTo>
                <a:cubicBezTo>
                  <a:pt x="2431642" y="1814361"/>
                  <a:pt x="1978735" y="2335655"/>
                  <a:pt x="1370538" y="2415406"/>
                </a:cubicBezTo>
                <a:cubicBezTo>
                  <a:pt x="762341" y="2495157"/>
                  <a:pt x="190345" y="2108256"/>
                  <a:pt x="38001" y="1514072"/>
                </a:cubicBezTo>
                <a:lnTo>
                  <a:pt x="1212850" y="1212850"/>
                </a:lnTo>
                <a:lnTo>
                  <a:pt x="32333" y="934669"/>
                </a:lnTo>
                <a:close/>
              </a:path>
              <a:path fill="none" w="2425700" h="2425700">
                <a:moveTo>
                  <a:pt x="32333" y="934669"/>
                </a:moveTo>
                <a:cubicBezTo>
                  <a:pt x="173024" y="337618"/>
                  <a:pt x="737342" y="-60398"/>
                  <a:pt x="1346983" y="7440"/>
                </a:cubicBezTo>
                <a:cubicBezTo>
                  <a:pt x="1956624" y="75278"/>
                  <a:pt x="2419642" y="587612"/>
                  <a:pt x="2425642" y="1200987"/>
                </a:cubicBezTo>
                <a:cubicBezTo>
                  <a:pt x="2431642" y="1814361"/>
                  <a:pt x="1978735" y="2335655"/>
                  <a:pt x="1370538" y="2415406"/>
                </a:cubicBezTo>
                <a:cubicBezTo>
                  <a:pt x="762341" y="2495157"/>
                  <a:pt x="190345" y="2108256"/>
                  <a:pt x="38001" y="151407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弧形 30"/>
          <p:cNvSpPr/>
          <p:nvPr/>
        </p:nvSpPr>
        <p:spPr>
          <a:xfrm>
            <a:off x="3635280" y="1635120"/>
            <a:ext cx="1873440" cy="1873080"/>
          </a:xfrm>
          <a:custGeom>
            <a:avLst/>
            <a:gdLst/>
            <a:ahLst/>
            <a:rect l="l" t="t" r="r" b="b"/>
            <a:pathLst>
              <a:path stroke="0" w="1873250" h="1873250">
                <a:moveTo>
                  <a:pt x="45787" y="647360"/>
                </a:moveTo>
                <a:cubicBezTo>
                  <a:pt x="187704" y="210303"/>
                  <a:pt x="625727" y="-59250"/>
                  <a:pt x="1079844" y="11015"/>
                </a:cubicBezTo>
                <a:cubicBezTo>
                  <a:pt x="1533961" y="81280"/>
                  <a:pt x="1870035" y="470609"/>
                  <a:pt x="1873227" y="930119"/>
                </a:cubicBezTo>
                <a:cubicBezTo>
                  <a:pt x="1876419" y="1389629"/>
                  <a:pt x="1545787" y="1783589"/>
                  <a:pt x="1092690" y="1860157"/>
                </a:cubicBezTo>
                <a:cubicBezTo>
                  <a:pt x="639593" y="1936725"/>
                  <a:pt x="197868" y="1673283"/>
                  <a:pt x="49892" y="1238240"/>
                </a:cubicBezTo>
                <a:lnTo>
                  <a:pt x="936625" y="936625"/>
                </a:lnTo>
                <a:lnTo>
                  <a:pt x="45787" y="647360"/>
                </a:lnTo>
                <a:close/>
              </a:path>
              <a:path fill="none" w="1873250" h="1873250">
                <a:moveTo>
                  <a:pt x="45787" y="647360"/>
                </a:moveTo>
                <a:cubicBezTo>
                  <a:pt x="187704" y="210303"/>
                  <a:pt x="625727" y="-59250"/>
                  <a:pt x="1079844" y="11015"/>
                </a:cubicBezTo>
                <a:cubicBezTo>
                  <a:pt x="1533961" y="81280"/>
                  <a:pt x="1870035" y="470609"/>
                  <a:pt x="1873227" y="930119"/>
                </a:cubicBezTo>
                <a:cubicBezTo>
                  <a:pt x="1876419" y="1389629"/>
                  <a:pt x="1545787" y="1783589"/>
                  <a:pt x="1092690" y="1860157"/>
                </a:cubicBezTo>
                <a:cubicBezTo>
                  <a:pt x="639593" y="1936725"/>
                  <a:pt x="197868" y="1673283"/>
                  <a:pt x="49892" y="123824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44"/>
          <p:cNvSpPr/>
          <p:nvPr/>
        </p:nvSpPr>
        <p:spPr>
          <a:xfrm>
            <a:off x="3390840" y="2282760"/>
            <a:ext cx="290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49"/>
          <p:cNvSpPr/>
          <p:nvPr/>
        </p:nvSpPr>
        <p:spPr>
          <a:xfrm>
            <a:off x="3400560" y="2859120"/>
            <a:ext cx="290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62"/>
          <p:cNvGrpSpPr/>
          <p:nvPr/>
        </p:nvGrpSpPr>
        <p:grpSpPr>
          <a:xfrm>
            <a:off x="3063960" y="1359000"/>
            <a:ext cx="2720880" cy="2425680"/>
            <a:chOff x="3063960" y="1359000"/>
            <a:chExt cx="2720880" cy="2425680"/>
          </a:xfrm>
        </p:grpSpPr>
        <p:sp>
          <p:nvSpPr>
            <p:cNvPr id="223" name="矩形 57"/>
            <p:cNvSpPr/>
            <p:nvPr/>
          </p:nvSpPr>
          <p:spPr>
            <a:xfrm>
              <a:off x="3063960" y="2438640"/>
              <a:ext cx="1147680" cy="266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弧形 58"/>
            <p:cNvSpPr/>
            <p:nvPr/>
          </p:nvSpPr>
          <p:spPr>
            <a:xfrm>
              <a:off x="3359160" y="1359000"/>
              <a:ext cx="2425680" cy="2425680"/>
            </a:xfrm>
            <a:custGeom>
              <a:avLst/>
              <a:gdLst/>
              <a:ahLst/>
              <a:rect l="l" t="t" r="r" b="b"/>
              <a:pathLst>
                <a:path stroke="0" w="2425900" h="2426518">
                  <a:moveTo>
                    <a:pt x="32320" y="935051"/>
                  </a:moveTo>
                  <a:cubicBezTo>
                    <a:pt x="172998" y="337752"/>
                    <a:pt x="737400" y="-60437"/>
                    <a:pt x="1347128" y="7446"/>
                  </a:cubicBezTo>
                  <a:cubicBezTo>
                    <a:pt x="1956805" y="75323"/>
                    <a:pt x="2419843" y="587825"/>
                    <a:pt x="2425842" y="1201394"/>
                  </a:cubicBezTo>
                  <a:cubicBezTo>
                    <a:pt x="2431841" y="1814959"/>
                    <a:pt x="1978919" y="2336418"/>
                    <a:pt x="1370690" y="2416214"/>
                  </a:cubicBezTo>
                  <a:cubicBezTo>
                    <a:pt x="762402" y="2496018"/>
                    <a:pt x="190316" y="2108946"/>
                    <a:pt x="37985" y="1514509"/>
                  </a:cubicBezTo>
                  <a:lnTo>
                    <a:pt x="1212950" y="1213259"/>
                  </a:lnTo>
                  <a:lnTo>
                    <a:pt x="32320" y="935051"/>
                  </a:lnTo>
                  <a:close/>
                </a:path>
                <a:path fill="none" w="2425900" h="2426518">
                  <a:moveTo>
                    <a:pt x="32320" y="935051"/>
                  </a:moveTo>
                  <a:cubicBezTo>
                    <a:pt x="172998" y="337752"/>
                    <a:pt x="737400" y="-60437"/>
                    <a:pt x="1347128" y="7446"/>
                  </a:cubicBezTo>
                  <a:cubicBezTo>
                    <a:pt x="1956805" y="75323"/>
                    <a:pt x="2419843" y="587825"/>
                    <a:pt x="2425842" y="1201394"/>
                  </a:cubicBezTo>
                  <a:cubicBezTo>
                    <a:pt x="2431841" y="1814959"/>
                    <a:pt x="1978919" y="2336418"/>
                    <a:pt x="1370690" y="2416214"/>
                  </a:cubicBezTo>
                  <a:cubicBezTo>
                    <a:pt x="762402" y="2496018"/>
                    <a:pt x="190316" y="2108946"/>
                    <a:pt x="37985" y="1514509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弧形 59"/>
            <p:cNvSpPr/>
            <p:nvPr/>
          </p:nvSpPr>
          <p:spPr>
            <a:xfrm>
              <a:off x="3635280" y="1646280"/>
              <a:ext cx="1871640" cy="1871640"/>
            </a:xfrm>
            <a:custGeom>
              <a:avLst/>
              <a:gdLst/>
              <a:ahLst/>
              <a:rect l="l" t="t" r="r" b="b"/>
              <a:pathLst>
                <a:path stroke="0" w="1871817" h="1872293">
                  <a:moveTo>
                    <a:pt x="45731" y="647096"/>
                  </a:moveTo>
                  <a:cubicBezTo>
                    <a:pt x="187520" y="210213"/>
                    <a:pt x="625248" y="-59238"/>
                    <a:pt x="1079055" y="11014"/>
                  </a:cubicBezTo>
                  <a:cubicBezTo>
                    <a:pt x="1532809" y="81259"/>
                    <a:pt x="1868607" y="470383"/>
                    <a:pt x="1871796" y="929645"/>
                  </a:cubicBezTo>
                  <a:cubicBezTo>
                    <a:pt x="1874985" y="1388905"/>
                    <a:pt x="1544626" y="1782655"/>
                    <a:pt x="1091894" y="1859200"/>
                  </a:cubicBezTo>
                  <a:cubicBezTo>
                    <a:pt x="639105" y="1935755"/>
                    <a:pt x="197674" y="1672411"/>
                    <a:pt x="49831" y="1237538"/>
                  </a:cubicBezTo>
                  <a:lnTo>
                    <a:pt x="935909" y="936147"/>
                  </a:lnTo>
                  <a:lnTo>
                    <a:pt x="45731" y="647096"/>
                  </a:lnTo>
                  <a:close/>
                </a:path>
                <a:path fill="none" w="1871817" h="1872293">
                  <a:moveTo>
                    <a:pt x="45731" y="647096"/>
                  </a:moveTo>
                  <a:cubicBezTo>
                    <a:pt x="187520" y="210213"/>
                    <a:pt x="625248" y="-59238"/>
                    <a:pt x="1079055" y="11014"/>
                  </a:cubicBezTo>
                  <a:cubicBezTo>
                    <a:pt x="1532809" y="81259"/>
                    <a:pt x="1868607" y="470383"/>
                    <a:pt x="1871796" y="929645"/>
                  </a:cubicBezTo>
                  <a:cubicBezTo>
                    <a:pt x="1874985" y="1388905"/>
                    <a:pt x="1544626" y="1782655"/>
                    <a:pt x="1091894" y="1859200"/>
                  </a:cubicBezTo>
                  <a:cubicBezTo>
                    <a:pt x="639105" y="1935755"/>
                    <a:pt x="197674" y="1672411"/>
                    <a:pt x="49831" y="123753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60"/>
            <p:cNvSpPr/>
            <p:nvPr/>
          </p:nvSpPr>
          <p:spPr>
            <a:xfrm>
              <a:off x="3390840" y="229392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61"/>
            <p:cNvSpPr/>
            <p:nvPr/>
          </p:nvSpPr>
          <p:spPr>
            <a:xfrm>
              <a:off x="3400200" y="287028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push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3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851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852"/>
                            </p:stCondLst>
                            <p:childTnLst>
                              <p:par>
                                <p:cTn id="4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弧形 5"/>
          <p:cNvSpPr/>
          <p:nvPr/>
        </p:nvSpPr>
        <p:spPr>
          <a:xfrm rot="5400000">
            <a:off x="3359160" y="1293480"/>
            <a:ext cx="2425680" cy="2425680"/>
          </a:xfrm>
          <a:custGeom>
            <a:avLst/>
            <a:gdLst/>
            <a:ahLst/>
            <a:rect l="l" t="t" r="r" b="b"/>
            <a:pathLst>
              <a:path stroke="0" w="2425700" h="2425700">
                <a:moveTo>
                  <a:pt x="32333" y="934669"/>
                </a:moveTo>
                <a:cubicBezTo>
                  <a:pt x="173024" y="337618"/>
                  <a:pt x="737342" y="-60398"/>
                  <a:pt x="1346983" y="7440"/>
                </a:cubicBezTo>
                <a:cubicBezTo>
                  <a:pt x="1956624" y="75278"/>
                  <a:pt x="2419642" y="587612"/>
                  <a:pt x="2425642" y="1200987"/>
                </a:cubicBezTo>
                <a:cubicBezTo>
                  <a:pt x="2431642" y="1814361"/>
                  <a:pt x="1978735" y="2335655"/>
                  <a:pt x="1370538" y="2415406"/>
                </a:cubicBezTo>
                <a:cubicBezTo>
                  <a:pt x="762341" y="2495157"/>
                  <a:pt x="190345" y="2108256"/>
                  <a:pt x="38001" y="1514072"/>
                </a:cubicBezTo>
                <a:lnTo>
                  <a:pt x="1212850" y="1212850"/>
                </a:lnTo>
                <a:lnTo>
                  <a:pt x="32333" y="934669"/>
                </a:lnTo>
                <a:close/>
              </a:path>
              <a:path fill="none" w="2425700" h="2425700">
                <a:moveTo>
                  <a:pt x="32333" y="934669"/>
                </a:moveTo>
                <a:cubicBezTo>
                  <a:pt x="173024" y="337618"/>
                  <a:pt x="737342" y="-60398"/>
                  <a:pt x="1346983" y="7440"/>
                </a:cubicBezTo>
                <a:cubicBezTo>
                  <a:pt x="1956624" y="75278"/>
                  <a:pt x="2419642" y="587612"/>
                  <a:pt x="2425642" y="1200987"/>
                </a:cubicBezTo>
                <a:cubicBezTo>
                  <a:pt x="2431642" y="1814361"/>
                  <a:pt x="1978735" y="2335655"/>
                  <a:pt x="1370538" y="2415406"/>
                </a:cubicBezTo>
                <a:cubicBezTo>
                  <a:pt x="762341" y="2495157"/>
                  <a:pt x="190345" y="2108256"/>
                  <a:pt x="38001" y="151407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弧形 6"/>
          <p:cNvSpPr/>
          <p:nvPr/>
        </p:nvSpPr>
        <p:spPr>
          <a:xfrm rot="5400000">
            <a:off x="3624120" y="1569960"/>
            <a:ext cx="1873440" cy="1873440"/>
          </a:xfrm>
          <a:custGeom>
            <a:avLst/>
            <a:gdLst/>
            <a:ahLst/>
            <a:rect l="l" t="t" r="r" b="b"/>
            <a:pathLst>
              <a:path stroke="0" w="1873250" h="1873250">
                <a:moveTo>
                  <a:pt x="45787" y="647360"/>
                </a:moveTo>
                <a:cubicBezTo>
                  <a:pt x="187704" y="210303"/>
                  <a:pt x="625727" y="-59250"/>
                  <a:pt x="1079844" y="11015"/>
                </a:cubicBezTo>
                <a:cubicBezTo>
                  <a:pt x="1533961" y="81280"/>
                  <a:pt x="1870035" y="470609"/>
                  <a:pt x="1873227" y="930119"/>
                </a:cubicBezTo>
                <a:cubicBezTo>
                  <a:pt x="1876419" y="1389629"/>
                  <a:pt x="1545787" y="1783589"/>
                  <a:pt x="1092690" y="1860157"/>
                </a:cubicBezTo>
                <a:cubicBezTo>
                  <a:pt x="639593" y="1936725"/>
                  <a:pt x="197868" y="1673283"/>
                  <a:pt x="49892" y="1238240"/>
                </a:cubicBezTo>
                <a:lnTo>
                  <a:pt x="936625" y="936625"/>
                </a:lnTo>
                <a:lnTo>
                  <a:pt x="45787" y="647360"/>
                </a:lnTo>
                <a:close/>
              </a:path>
              <a:path fill="none" w="1873250" h="1873250">
                <a:moveTo>
                  <a:pt x="45787" y="647360"/>
                </a:moveTo>
                <a:cubicBezTo>
                  <a:pt x="187704" y="210303"/>
                  <a:pt x="625727" y="-59250"/>
                  <a:pt x="1079844" y="11015"/>
                </a:cubicBezTo>
                <a:cubicBezTo>
                  <a:pt x="1533961" y="81280"/>
                  <a:pt x="1870035" y="470609"/>
                  <a:pt x="1873227" y="930119"/>
                </a:cubicBezTo>
                <a:cubicBezTo>
                  <a:pt x="1876419" y="1389629"/>
                  <a:pt x="1545787" y="1783589"/>
                  <a:pt x="1092690" y="1860157"/>
                </a:cubicBezTo>
                <a:cubicBezTo>
                  <a:pt x="639593" y="1936725"/>
                  <a:pt x="197868" y="1673283"/>
                  <a:pt x="49892" y="123824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7"/>
          <p:cNvSpPr/>
          <p:nvPr/>
        </p:nvSpPr>
        <p:spPr>
          <a:xfrm>
            <a:off x="4849920" y="1325520"/>
            <a:ext cx="0" cy="290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8"/>
          <p:cNvSpPr/>
          <p:nvPr/>
        </p:nvSpPr>
        <p:spPr>
          <a:xfrm>
            <a:off x="4273560" y="1335240"/>
            <a:ext cx="0" cy="290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41"/>
          <p:cNvSpPr/>
          <p:nvPr/>
        </p:nvSpPr>
        <p:spPr>
          <a:xfrm>
            <a:off x="4705200" y="990720"/>
            <a:ext cx="0" cy="1155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44"/>
          <p:cNvSpPr/>
          <p:nvPr/>
        </p:nvSpPr>
        <p:spPr>
          <a:xfrm flipH="1">
            <a:off x="4438800" y="2146320"/>
            <a:ext cx="266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46"/>
          <p:cNvSpPr/>
          <p:nvPr/>
        </p:nvSpPr>
        <p:spPr>
          <a:xfrm flipV="1">
            <a:off x="4438800" y="990720"/>
            <a:ext cx="0" cy="1155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48"/>
          <p:cNvSpPr/>
          <p:nvPr/>
        </p:nvSpPr>
        <p:spPr>
          <a:xfrm>
            <a:off x="4705200" y="990720"/>
            <a:ext cx="48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51"/>
          <p:cNvSpPr/>
          <p:nvPr/>
        </p:nvSpPr>
        <p:spPr>
          <a:xfrm flipV="1">
            <a:off x="5191200" y="691920"/>
            <a:ext cx="0" cy="29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154"/>
          <p:cNvSpPr/>
          <p:nvPr/>
        </p:nvSpPr>
        <p:spPr>
          <a:xfrm flipH="1">
            <a:off x="3952800" y="692280"/>
            <a:ext cx="1238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156"/>
          <p:cNvSpPr/>
          <p:nvPr/>
        </p:nvSpPr>
        <p:spPr>
          <a:xfrm>
            <a:off x="3952800" y="692280"/>
            <a:ext cx="0" cy="29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60"/>
          <p:cNvSpPr/>
          <p:nvPr/>
        </p:nvSpPr>
        <p:spPr>
          <a:xfrm flipH="1">
            <a:off x="3952800" y="990720"/>
            <a:ext cx="48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162"/>
          <p:cNvSpPr/>
          <p:nvPr/>
        </p:nvSpPr>
        <p:spPr>
          <a:xfrm flipH="1">
            <a:off x="4438800" y="990720"/>
            <a:ext cx="266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328"/>
          <p:cNvSpPr/>
          <p:nvPr/>
        </p:nvSpPr>
        <p:spPr>
          <a:xfrm>
            <a:off x="3059280" y="19638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329"/>
          <p:cNvSpPr/>
          <p:nvPr/>
        </p:nvSpPr>
        <p:spPr>
          <a:xfrm>
            <a:off x="3062160" y="1963800"/>
            <a:ext cx="0" cy="14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330"/>
          <p:cNvSpPr/>
          <p:nvPr/>
        </p:nvSpPr>
        <p:spPr>
          <a:xfrm>
            <a:off x="3062160" y="3435480"/>
            <a:ext cx="285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331"/>
          <p:cNvSpPr/>
          <p:nvPr/>
        </p:nvSpPr>
        <p:spPr>
          <a:xfrm>
            <a:off x="3348000" y="19638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32"/>
          <p:cNvSpPr/>
          <p:nvPr/>
        </p:nvSpPr>
        <p:spPr>
          <a:xfrm flipV="1">
            <a:off x="3348000" y="2682360"/>
            <a:ext cx="0" cy="752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33"/>
          <p:cNvSpPr/>
          <p:nvPr/>
        </p:nvSpPr>
        <p:spPr>
          <a:xfrm flipH="1">
            <a:off x="3792600" y="19638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34"/>
          <p:cNvSpPr/>
          <p:nvPr/>
        </p:nvSpPr>
        <p:spPr>
          <a:xfrm>
            <a:off x="4078440" y="1963800"/>
            <a:ext cx="0" cy="14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335"/>
          <p:cNvSpPr/>
          <p:nvPr/>
        </p:nvSpPr>
        <p:spPr>
          <a:xfrm flipH="1">
            <a:off x="3792600" y="3435480"/>
            <a:ext cx="285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36"/>
          <p:cNvSpPr/>
          <p:nvPr/>
        </p:nvSpPr>
        <p:spPr>
          <a:xfrm>
            <a:off x="3792600" y="19638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337"/>
          <p:cNvSpPr/>
          <p:nvPr/>
        </p:nvSpPr>
        <p:spPr>
          <a:xfrm flipV="1">
            <a:off x="3792600" y="2682360"/>
            <a:ext cx="0" cy="752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38"/>
          <p:cNvSpPr/>
          <p:nvPr/>
        </p:nvSpPr>
        <p:spPr>
          <a:xfrm flipH="1">
            <a:off x="3347640" y="2421000"/>
            <a:ext cx="444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339"/>
          <p:cNvSpPr/>
          <p:nvPr/>
        </p:nvSpPr>
        <p:spPr>
          <a:xfrm>
            <a:off x="3336840" y="2682720"/>
            <a:ext cx="4557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40"/>
          <p:cNvSpPr/>
          <p:nvPr/>
        </p:nvSpPr>
        <p:spPr>
          <a:xfrm>
            <a:off x="6504120" y="195264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341"/>
          <p:cNvSpPr/>
          <p:nvPr/>
        </p:nvSpPr>
        <p:spPr>
          <a:xfrm>
            <a:off x="6507000" y="1952640"/>
            <a:ext cx="0" cy="1473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342"/>
          <p:cNvSpPr/>
          <p:nvPr/>
        </p:nvSpPr>
        <p:spPr>
          <a:xfrm>
            <a:off x="6507000" y="3425760"/>
            <a:ext cx="28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343"/>
          <p:cNvSpPr/>
          <p:nvPr/>
        </p:nvSpPr>
        <p:spPr>
          <a:xfrm>
            <a:off x="6791400" y="1952640"/>
            <a:ext cx="0" cy="458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44"/>
          <p:cNvSpPr/>
          <p:nvPr/>
        </p:nvSpPr>
        <p:spPr>
          <a:xfrm flipV="1">
            <a:off x="6791400" y="1971360"/>
            <a:ext cx="457200" cy="439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345"/>
          <p:cNvSpPr/>
          <p:nvPr/>
        </p:nvSpPr>
        <p:spPr>
          <a:xfrm>
            <a:off x="7248600" y="197496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346"/>
          <p:cNvSpPr/>
          <p:nvPr/>
        </p:nvSpPr>
        <p:spPr>
          <a:xfrm flipH="1">
            <a:off x="6961320" y="1974960"/>
            <a:ext cx="576000" cy="598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347"/>
          <p:cNvSpPr/>
          <p:nvPr/>
        </p:nvSpPr>
        <p:spPr>
          <a:xfrm flipV="1">
            <a:off x="6791400" y="2760480"/>
            <a:ext cx="0" cy="66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48"/>
          <p:cNvSpPr/>
          <p:nvPr/>
        </p:nvSpPr>
        <p:spPr>
          <a:xfrm>
            <a:off x="6791400" y="2760840"/>
            <a:ext cx="457200" cy="66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349"/>
          <p:cNvSpPr/>
          <p:nvPr/>
        </p:nvSpPr>
        <p:spPr>
          <a:xfrm>
            <a:off x="6961320" y="2573280"/>
            <a:ext cx="576000" cy="85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350"/>
          <p:cNvSpPr/>
          <p:nvPr/>
        </p:nvSpPr>
        <p:spPr>
          <a:xfrm>
            <a:off x="7248600" y="342576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351"/>
          <p:cNvSpPr/>
          <p:nvPr/>
        </p:nvSpPr>
        <p:spPr>
          <a:xfrm>
            <a:off x="6129360" y="193356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352"/>
          <p:cNvSpPr/>
          <p:nvPr/>
        </p:nvSpPr>
        <p:spPr>
          <a:xfrm>
            <a:off x="5330880" y="1933560"/>
            <a:ext cx="0" cy="1473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353"/>
          <p:cNvSpPr/>
          <p:nvPr/>
        </p:nvSpPr>
        <p:spPr>
          <a:xfrm>
            <a:off x="6345360" y="1933560"/>
            <a:ext cx="0" cy="1473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354"/>
          <p:cNvSpPr/>
          <p:nvPr/>
        </p:nvSpPr>
        <p:spPr>
          <a:xfrm>
            <a:off x="6129360" y="1933560"/>
            <a:ext cx="0" cy="897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355"/>
          <p:cNvSpPr/>
          <p:nvPr/>
        </p:nvSpPr>
        <p:spPr>
          <a:xfrm>
            <a:off x="5330880" y="1933560"/>
            <a:ext cx="798480" cy="897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356"/>
          <p:cNvSpPr/>
          <p:nvPr/>
        </p:nvSpPr>
        <p:spPr>
          <a:xfrm>
            <a:off x="5546880" y="2509920"/>
            <a:ext cx="0" cy="896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357"/>
          <p:cNvSpPr/>
          <p:nvPr/>
        </p:nvSpPr>
        <p:spPr>
          <a:xfrm>
            <a:off x="5546880" y="2509920"/>
            <a:ext cx="798480" cy="896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358"/>
          <p:cNvSpPr/>
          <p:nvPr/>
        </p:nvSpPr>
        <p:spPr>
          <a:xfrm>
            <a:off x="5330880" y="340668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359"/>
          <p:cNvSpPr/>
          <p:nvPr/>
        </p:nvSpPr>
        <p:spPr>
          <a:xfrm>
            <a:off x="7885080" y="199080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360"/>
          <p:cNvSpPr/>
          <p:nvPr/>
        </p:nvSpPr>
        <p:spPr>
          <a:xfrm flipH="1">
            <a:off x="8588520" y="197496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361"/>
          <p:cNvSpPr/>
          <p:nvPr/>
        </p:nvSpPr>
        <p:spPr>
          <a:xfrm>
            <a:off x="8872560" y="1974960"/>
            <a:ext cx="0" cy="10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362"/>
          <p:cNvSpPr/>
          <p:nvPr/>
        </p:nvSpPr>
        <p:spPr>
          <a:xfrm flipV="1">
            <a:off x="8588520" y="1974960"/>
            <a:ext cx="0" cy="10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363"/>
          <p:cNvSpPr/>
          <p:nvPr/>
        </p:nvSpPr>
        <p:spPr>
          <a:xfrm>
            <a:off x="7886880" y="1990800"/>
            <a:ext cx="0" cy="992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弧形 364"/>
          <p:cNvSpPr/>
          <p:nvPr/>
        </p:nvSpPr>
        <p:spPr>
          <a:xfrm flipV="1">
            <a:off x="7889760" y="2515320"/>
            <a:ext cx="984240" cy="932040"/>
          </a:xfrm>
          <a:custGeom>
            <a:avLst/>
            <a:gdLst/>
            <a:ahLst/>
            <a:rect l="l" t="t" r="r" b="b"/>
            <a:pathLst>
              <a:path stroke="0" w="984250" h="931862">
                <a:moveTo>
                  <a:pt x="449" y="485828"/>
                </a:moveTo>
                <a:cubicBezTo>
                  <a:pt x="-7359" y="312877"/>
                  <a:pt x="86753" y="150084"/>
                  <a:pt x="244833" y="63097"/>
                </a:cubicBezTo>
                <a:cubicBezTo>
                  <a:pt x="391752" y="-17748"/>
                  <a:pt x="572329" y="-21111"/>
                  <a:pt x="722492" y="54201"/>
                </a:cubicBezTo>
                <a:cubicBezTo>
                  <a:pt x="883536" y="134970"/>
                  <a:pt x="984249" y="293387"/>
                  <a:pt x="984249" y="465931"/>
                </a:cubicBezTo>
                <a:lnTo>
                  <a:pt x="492125" y="465931"/>
                </a:lnTo>
                <a:lnTo>
                  <a:pt x="449" y="485828"/>
                </a:lnTo>
                <a:close/>
              </a:path>
              <a:path fill="none" w="984250" h="931862">
                <a:moveTo>
                  <a:pt x="449" y="485828"/>
                </a:moveTo>
                <a:cubicBezTo>
                  <a:pt x="-7359" y="312877"/>
                  <a:pt x="86753" y="150084"/>
                  <a:pt x="244833" y="63097"/>
                </a:cubicBezTo>
                <a:cubicBezTo>
                  <a:pt x="391752" y="-17748"/>
                  <a:pt x="572329" y="-21111"/>
                  <a:pt x="722492" y="54201"/>
                </a:cubicBezTo>
                <a:cubicBezTo>
                  <a:pt x="883536" y="134970"/>
                  <a:pt x="984249" y="293387"/>
                  <a:pt x="984249" y="465931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365"/>
          <p:cNvSpPr/>
          <p:nvPr/>
        </p:nvSpPr>
        <p:spPr>
          <a:xfrm flipV="1">
            <a:off x="8172360" y="1990800"/>
            <a:ext cx="0" cy="992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弧形 366"/>
          <p:cNvSpPr/>
          <p:nvPr/>
        </p:nvSpPr>
        <p:spPr>
          <a:xfrm flipV="1">
            <a:off x="8180280" y="2770200"/>
            <a:ext cx="408240" cy="387360"/>
          </a:xfrm>
          <a:custGeom>
            <a:avLst/>
            <a:gdLst/>
            <a:ahLst/>
            <a:rect l="l" t="t" r="r" b="b"/>
            <a:pathLst>
              <a:path stroke="0" w="407987" h="387350">
                <a:moveTo>
                  <a:pt x="103" y="187529"/>
                </a:moveTo>
                <a:cubicBezTo>
                  <a:pt x="3634" y="81935"/>
                  <a:pt x="95647" y="-1491"/>
                  <a:pt x="206912" y="20"/>
                </a:cubicBezTo>
                <a:cubicBezTo>
                  <a:pt x="318425" y="1535"/>
                  <a:pt x="407988" y="87792"/>
                  <a:pt x="407988" y="193675"/>
                </a:cubicBezTo>
                <a:lnTo>
                  <a:pt x="203994" y="193675"/>
                </a:lnTo>
                <a:lnTo>
                  <a:pt x="103" y="187529"/>
                </a:lnTo>
                <a:close/>
              </a:path>
              <a:path fill="none" w="407987" h="387350">
                <a:moveTo>
                  <a:pt x="103" y="187529"/>
                </a:moveTo>
                <a:cubicBezTo>
                  <a:pt x="3634" y="81935"/>
                  <a:pt x="95647" y="-1491"/>
                  <a:pt x="206912" y="20"/>
                </a:cubicBezTo>
                <a:cubicBezTo>
                  <a:pt x="318425" y="1535"/>
                  <a:pt x="407988" y="87792"/>
                  <a:pt x="407988" y="193675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367"/>
          <p:cNvSpPr/>
          <p:nvPr/>
        </p:nvSpPr>
        <p:spPr>
          <a:xfrm>
            <a:off x="5003640" y="342576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368"/>
          <p:cNvSpPr/>
          <p:nvPr/>
        </p:nvSpPr>
        <p:spPr>
          <a:xfrm>
            <a:off x="4205160" y="1952640"/>
            <a:ext cx="0" cy="1473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369"/>
          <p:cNvSpPr/>
          <p:nvPr/>
        </p:nvSpPr>
        <p:spPr>
          <a:xfrm>
            <a:off x="5219640" y="1952640"/>
            <a:ext cx="0" cy="1473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370"/>
          <p:cNvSpPr/>
          <p:nvPr/>
        </p:nvSpPr>
        <p:spPr>
          <a:xfrm>
            <a:off x="4205160" y="1952640"/>
            <a:ext cx="1014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371"/>
          <p:cNvSpPr/>
          <p:nvPr/>
        </p:nvSpPr>
        <p:spPr>
          <a:xfrm>
            <a:off x="4421160" y="2195640"/>
            <a:ext cx="0" cy="37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72"/>
          <p:cNvSpPr/>
          <p:nvPr/>
        </p:nvSpPr>
        <p:spPr>
          <a:xfrm>
            <a:off x="5003640" y="2195640"/>
            <a:ext cx="0" cy="37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73"/>
          <p:cNvSpPr/>
          <p:nvPr/>
        </p:nvSpPr>
        <p:spPr>
          <a:xfrm>
            <a:off x="4421160" y="2195640"/>
            <a:ext cx="582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374"/>
          <p:cNvSpPr/>
          <p:nvPr/>
        </p:nvSpPr>
        <p:spPr>
          <a:xfrm>
            <a:off x="4421160" y="2573280"/>
            <a:ext cx="582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375"/>
          <p:cNvSpPr/>
          <p:nvPr/>
        </p:nvSpPr>
        <p:spPr>
          <a:xfrm>
            <a:off x="4421160" y="2849400"/>
            <a:ext cx="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376"/>
          <p:cNvSpPr/>
          <p:nvPr/>
        </p:nvSpPr>
        <p:spPr>
          <a:xfrm>
            <a:off x="5003640" y="2843280"/>
            <a:ext cx="0" cy="58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77"/>
          <p:cNvSpPr/>
          <p:nvPr/>
        </p:nvSpPr>
        <p:spPr>
          <a:xfrm>
            <a:off x="4421160" y="2843280"/>
            <a:ext cx="582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78"/>
          <p:cNvSpPr/>
          <p:nvPr/>
        </p:nvSpPr>
        <p:spPr>
          <a:xfrm>
            <a:off x="4205160" y="342576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196"/>
          <p:cNvGrpSpPr/>
          <p:nvPr/>
        </p:nvGrpSpPr>
        <p:grpSpPr>
          <a:xfrm>
            <a:off x="-900000" y="1944720"/>
            <a:ext cx="2376360" cy="2440080"/>
            <a:chOff x="-900000" y="1944720"/>
            <a:chExt cx="2376360" cy="2440080"/>
          </a:xfrm>
        </p:grpSpPr>
        <p:sp>
          <p:nvSpPr>
            <p:cNvPr id="293" name="矩形 191"/>
            <p:cNvSpPr/>
            <p:nvPr/>
          </p:nvSpPr>
          <p:spPr>
            <a:xfrm>
              <a:off x="203400" y="1944720"/>
              <a:ext cx="1214280" cy="1492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弧形 193"/>
            <p:cNvSpPr/>
            <p:nvPr/>
          </p:nvSpPr>
          <p:spPr>
            <a:xfrm>
              <a:off x="-402840" y="2887560"/>
              <a:ext cx="1212840" cy="1041480"/>
            </a:xfrm>
            <a:custGeom>
              <a:avLst/>
              <a:gdLst/>
              <a:ahLst/>
              <a:rect l="l" t="t" r="r" b="b"/>
              <a:pathLst>
                <a:path stroke="0" w="1041239" h="1041380">
                  <a:moveTo>
                    <a:pt x="429496" y="8038"/>
                  </a:moveTo>
                  <a:cubicBezTo>
                    <a:pt x="602789" y="-22773"/>
                    <a:pt x="779914" y="36073"/>
                    <a:pt x="900331" y="164462"/>
                  </a:cubicBezTo>
                  <a:cubicBezTo>
                    <a:pt x="1020724" y="292825"/>
                    <a:pt x="1068132" y="473328"/>
                    <a:pt x="1026358" y="644296"/>
                  </a:cubicBezTo>
                  <a:lnTo>
                    <a:pt x="520620" y="520690"/>
                  </a:lnTo>
                  <a:lnTo>
                    <a:pt x="429496" y="8038"/>
                  </a:lnTo>
                  <a:close/>
                </a:path>
                <a:path fill="none" w="1041239" h="1041380">
                  <a:moveTo>
                    <a:pt x="429496" y="8038"/>
                  </a:moveTo>
                  <a:cubicBezTo>
                    <a:pt x="602789" y="-22773"/>
                    <a:pt x="779914" y="36073"/>
                    <a:pt x="900331" y="164462"/>
                  </a:cubicBezTo>
                  <a:cubicBezTo>
                    <a:pt x="1020724" y="292825"/>
                    <a:pt x="1068132" y="473328"/>
                    <a:pt x="1026358" y="644296"/>
                  </a:cubicBezTo>
                </a:path>
              </a:pathLst>
            </a:custGeom>
            <a:noFill/>
            <a:ln w="507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弧形 402"/>
            <p:cNvSpPr/>
            <p:nvPr/>
          </p:nvSpPr>
          <p:spPr>
            <a:xfrm>
              <a:off x="-649080" y="2674800"/>
              <a:ext cx="1706400" cy="1465200"/>
            </a:xfrm>
            <a:custGeom>
              <a:avLst/>
              <a:gdLst/>
              <a:ahLst/>
              <a:rect l="l" t="t" r="r" b="b"/>
              <a:pathLst>
                <a:path stroke="0" w="1465095" h="1465234">
                  <a:moveTo>
                    <a:pt x="604335" y="11308"/>
                  </a:moveTo>
                  <a:cubicBezTo>
                    <a:pt x="848163" y="-32040"/>
                    <a:pt x="1097383" y="50752"/>
                    <a:pt x="1266816" y="231388"/>
                  </a:cubicBezTo>
                  <a:cubicBezTo>
                    <a:pt x="1436226" y="411999"/>
                    <a:pt x="1502937" y="665977"/>
                    <a:pt x="1444154" y="906537"/>
                  </a:cubicBezTo>
                  <a:lnTo>
                    <a:pt x="732548" y="732617"/>
                  </a:lnTo>
                  <a:lnTo>
                    <a:pt x="604335" y="11308"/>
                  </a:lnTo>
                  <a:close/>
                </a:path>
                <a:path fill="none" w="1465095" h="1465234">
                  <a:moveTo>
                    <a:pt x="604335" y="11308"/>
                  </a:moveTo>
                  <a:cubicBezTo>
                    <a:pt x="848163" y="-32040"/>
                    <a:pt x="1097383" y="50752"/>
                    <a:pt x="1266816" y="231388"/>
                  </a:cubicBezTo>
                  <a:cubicBezTo>
                    <a:pt x="1436226" y="411999"/>
                    <a:pt x="1502937" y="665977"/>
                    <a:pt x="1444154" y="906537"/>
                  </a:cubicBezTo>
                </a:path>
              </a:pathLst>
            </a:custGeom>
            <a:noFill/>
            <a:ln w="507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弧形 403"/>
            <p:cNvSpPr/>
            <p:nvPr/>
          </p:nvSpPr>
          <p:spPr>
            <a:xfrm>
              <a:off x="-900000" y="2489040"/>
              <a:ext cx="2208240" cy="1895760"/>
            </a:xfrm>
            <a:custGeom>
              <a:avLst/>
              <a:gdLst/>
              <a:ahLst/>
              <a:rect l="l" t="t" r="r" b="b"/>
              <a:pathLst>
                <a:path stroke="0" w="1895765" h="1895438">
                  <a:moveTo>
                    <a:pt x="782025" y="14621"/>
                  </a:moveTo>
                  <a:cubicBezTo>
                    <a:pt x="1097470" y="-41430"/>
                    <a:pt x="1419887" y="65635"/>
                    <a:pt x="1639116" y="299234"/>
                  </a:cubicBezTo>
                  <a:cubicBezTo>
                    <a:pt x="1858400" y="532892"/>
                    <a:pt x="1944752" y="861511"/>
                    <a:pt x="1868655" y="1172761"/>
                  </a:cubicBezTo>
                  <a:lnTo>
                    <a:pt x="947883" y="947719"/>
                  </a:lnTo>
                  <a:lnTo>
                    <a:pt x="782025" y="14621"/>
                  </a:lnTo>
                  <a:close/>
                </a:path>
                <a:path fill="none" w="1895765" h="1895438">
                  <a:moveTo>
                    <a:pt x="782025" y="14621"/>
                  </a:moveTo>
                  <a:cubicBezTo>
                    <a:pt x="1097470" y="-41430"/>
                    <a:pt x="1419887" y="65635"/>
                    <a:pt x="1639116" y="299234"/>
                  </a:cubicBezTo>
                  <a:cubicBezTo>
                    <a:pt x="1858400" y="532892"/>
                    <a:pt x="1944752" y="861511"/>
                    <a:pt x="1868655" y="1172761"/>
                  </a:cubicBezTo>
                </a:path>
              </a:pathLst>
            </a:custGeom>
            <a:noFill/>
            <a:ln w="507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94"/>
            <p:cNvSpPr/>
            <p:nvPr/>
          </p:nvSpPr>
          <p:spPr>
            <a:xfrm flipV="1">
              <a:off x="247680" y="2248560"/>
              <a:ext cx="315720" cy="1285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405"/>
            <p:cNvSpPr/>
            <p:nvPr/>
          </p:nvSpPr>
          <p:spPr>
            <a:xfrm flipV="1">
              <a:off x="642960" y="2320200"/>
              <a:ext cx="314280" cy="1285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406"/>
            <p:cNvSpPr/>
            <p:nvPr/>
          </p:nvSpPr>
          <p:spPr>
            <a:xfrm flipV="1">
              <a:off x="992160" y="2428200"/>
              <a:ext cx="315720" cy="1285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407"/>
            <p:cNvSpPr/>
            <p:nvPr/>
          </p:nvSpPr>
          <p:spPr>
            <a:xfrm flipV="1">
              <a:off x="1160640" y="2658240"/>
              <a:ext cx="315720" cy="1299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1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2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50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52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54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56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58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60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62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64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25008 L -0.25 0.25008 E">
                                      <p:cBhvr>
                                        <p:cTn id="467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25008 L -0.25 0.25008 E">
                                      <p:cBhvr>
                                        <p:cTn id="469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25008 L -0.25 0.25008 E">
                                      <p:cBhvr>
                                        <p:cTn id="471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25008 L -0.25 0.25008 E">
                                      <p:cBhvr>
                                        <p:cTn id="473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25008 L -0.25 0.25008 E">
                                      <p:cBhvr>
                                        <p:cTn id="475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25008 L -0.25 0.25008 E">
                                      <p:cBhvr>
                                        <p:cTn id="477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25008 L -0.25 0.25008 E">
                                      <p:cBhvr>
                                        <p:cTn id="479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25008 L -0.25 0.25008 E">
                                      <p:cBhvr>
                                        <p:cTn id="481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5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5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1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5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1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1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6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6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955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5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7:16:45Z</dcterms:modified>
  <cp:revision>1</cp:revision>
  <dc:subject/>
  <dc:title>PowerPoint 演示文稿</dc:title>
</cp:coreProperties>
</file>