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B4E-6D66-442A-9E70-74196247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850-D170-4012-96BD-B9E2F35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E8A-6DE6-484A-9D7D-847EC451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F73-B225-42DF-8621-323B43F9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874-93D7-4383-A405-19B48C1D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5C4-35A2-4FCF-BEDE-2BBDC1A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734-91A9-4E15-A864-545D73BA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4C8-0D87-44BA-B2CE-F1944DFC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611-ACAA-4AE5-8242-4FEA227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F52-6B31-4867-8484-F45870E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BC6-2E34-4562-89E3-FD52064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FA5-E937-4024-8919-4EE7894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0E9-83D1-48C3-910E-13F95DD0DC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教程\PPT\PPT素材\3D小人\小人\bd731a39400231e6d56225b2.jpg"/>
          <p:cNvPicPr/>
          <p:nvPr/>
        </p:nvPicPr>
        <p:blipFill>
          <a:blip r:embed="rId1"/>
          <a:srcRect l="0" t="0" r="9712" b="0"/>
          <a:stretch/>
        </p:blipFill>
        <p:spPr>
          <a:xfrm>
            <a:off x="0" y="2706840"/>
            <a:ext cx="6000840" cy="415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3D</a:t>
            </a: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人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电话系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708360" y="1684080"/>
            <a:ext cx="499104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打电话</a:t>
            </a:r>
            <a:r>
              <a:rPr b="0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话筒11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话筒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www.tuweimei.comComp_9747366_J0aGCyieKfivW4HzESszVJnbQOfyQYh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www.tuweimei.comComp_10492831_2cuoWWp0e8T62nNqh46RQIRIW7JVurMm.jpg"/>
          <p:cNvPicPr/>
          <p:nvPr/>
        </p:nvPicPr>
        <p:blipFill>
          <a:blip r:embed="rId2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www.tuweimei.comComp_10569313_JWw2a8WzthkSiJVkr7gC1yIURaFzylg8.jpg"/>
          <p:cNvPicPr/>
          <p:nvPr/>
        </p:nvPicPr>
        <p:blipFill>
          <a:blip r:embed="rId3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发彩信.jpg"/>
          <p:cNvPicPr/>
          <p:nvPr/>
        </p:nvPicPr>
        <p:blipFill>
          <a:blip r:embed="rId4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ww.tuweimei.comComp_11375492_CfcXxbJizXGSQyociIm6J5v0GLWJTCEW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www.tuweimei.comComp_11376171_0iKCqbowEsJXBrw4djSklVRf1JXxfovW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www_tuweimei_comComp_9719773_czcMOf62qz80sFx7M7EwsvL9KV8WoQa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www_tuweimei_comComp_9720251_6TsYDn2uijrt9eqwfOFCYAqSFbO3KmTH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ww_tuweimei_comComp_16474652_hAumqdN5ML1F1O72WlLapN3pxe59eTnC.jpg"/>
          <p:cNvPicPr/>
          <p:nvPr/>
        </p:nvPicPr>
        <p:blipFill>
          <a:blip r:embed="rId1"/>
          <a:stretch/>
        </p:blipFill>
        <p:spPr>
          <a:xfrm>
            <a:off x="12556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www_tuweimei_comComp_19454919_oY0tOGVzrXWeTjW6vfJIsMo67QOmUpW9.jpg"/>
          <p:cNvPicPr/>
          <p:nvPr/>
        </p:nvPicPr>
        <p:blipFill>
          <a:blip r:embed="rId2"/>
          <a:stretch/>
        </p:blipFill>
        <p:spPr>
          <a:xfrm>
            <a:off x="5850000" y="4572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www_tuweimei_comComp_20496545_5qqFX40V4wWxQ1EbPwTQCLdyQ0T6rP9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www_tuweimei_comComp_21863434_uMgy7qUnBcnge8EMLtBdeG8502uFkY3V.jpg"/>
          <p:cNvPicPr/>
          <p:nvPr/>
        </p:nvPicPr>
        <p:blipFill>
          <a:blip r:embed="rId4"/>
          <a:stretch/>
        </p:blipFill>
        <p:spPr>
          <a:xfrm>
            <a:off x="5076720" y="3543480"/>
            <a:ext cx="333216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68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_tuweimei_comComp_21942790_KBtIGzXxIPKBlPf8GTdcWmJo0sAk70DH.jpg"/>
          <p:cNvPicPr/>
          <p:nvPr/>
        </p:nvPicPr>
        <p:blipFill>
          <a:blip r:embed="rId1"/>
          <a:stretch/>
        </p:blipFill>
        <p:spPr>
          <a:xfrm>
            <a:off x="343080" y="603360"/>
            <a:ext cx="4114800" cy="256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_tuweimei_comComp_22492316_ZbB8b0onpP5twFtGZWputQnq84Zva6d0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_tuweimei_comComp_22751858_OxaiYkliNU9g8NdUWykJbkZlineIZP3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_tuweimei_comComp_23598048_ix3hVn8EwltON3SVSWH2NCrcRZ9fu6kS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www_tuweimei_comComp_23670852_8prgmEdHZxFmGekSRO21Oa0qlqJ1BPN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www_tuweimei_comComp_23681869_r9Bcx1zweqnhjG3S2w8SC2ZSgBSAsPDZ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www_tuweimei_comComp_23682805_EnhB6o36teWjPAWFcygeZAbYd2zwCPwH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www_tuweimei_comComp_23682811_95K8UBGBaFiq02pQQr0tNCOwczJOu9P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打电话.jpg"/>
          <p:cNvPicPr/>
          <p:nvPr/>
        </p:nvPicPr>
        <p:blipFill>
          <a:blip r:embed="rId1"/>
          <a:stretch/>
        </p:blipFill>
        <p:spPr>
          <a:xfrm>
            <a:off x="1459080" y="457200"/>
            <a:ext cx="188100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打手机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等电话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电话2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电话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红色话筒.jpg"/>
          <p:cNvPicPr/>
          <p:nvPr/>
        </p:nvPicPr>
        <p:blipFill>
          <a:blip r:embed="rId2"/>
          <a:stretch/>
        </p:blipFill>
        <p:spPr>
          <a:xfrm>
            <a:off x="766800" y="3543480"/>
            <a:ext cx="326556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话筒2.jpg"/>
          <p:cNvPicPr/>
          <p:nvPr/>
        </p:nvPicPr>
        <p:blipFill>
          <a:blip r:embed="rId3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手机.jpg"/>
          <p:cNvPicPr/>
          <p:nvPr/>
        </p:nvPicPr>
        <p:blipFill>
          <a:blip r:embed="rId4"/>
          <a:stretch/>
        </p:blipFill>
        <p:spPr>
          <a:xfrm>
            <a:off x="5500800" y="50004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08:20Z</dcterms:created>
  <dc:creator>张文霖</dc:creator>
  <dc:description/>
  <cp:keywords/>
  <dc:language>en-US</dc:language>
  <cp:lastModifiedBy>a</cp:lastModifiedBy>
  <dcterms:modified xsi:type="dcterms:W3CDTF">2015-07-20T12:06:57Z</dcterms:modified>
  <cp:revision>5</cp:revision>
  <dc:subject/>
  <dc:title>3D小人—电话系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