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FE77-7564-4018-9399-3D0BBDA79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314E-58A9-425A-BC1B-D5AECF24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3CE9-16D4-497D-8516-A92EC9490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FD7B-FAB0-4B80-A380-221420D81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93C75-448F-494A-8BF4-545960666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44BB-F972-40EF-8F74-54B17D07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4AB45-658D-4636-BB99-FACCE4DF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7E9D-79A4-4A36-BC89-6C7C00A5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C495-1F55-425F-8108-15B3D610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CA757-8212-4B4C-B15B-3D046CA8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7BC2-9E52-4B67-ABC0-9D47E38E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BC7F-727F-43E1-980A-34AD9016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1C5C-B6F1-47DB-89F6-54CB5DF3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4EB0D-CA27-41E9-A0CB-9F53F9A9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8800-5A09-405A-A4CC-D4176439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F383E-A78A-4E46-B960-87EFC8058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4EF75-7434-454B-B752-CA7B10AF4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398F-05AB-467A-9CB9-B5FB9FE3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D427-BCF7-4E08-ACA7-73E0E8F7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4E85-749D-4FDD-8303-2E54F373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A67B-08FC-4EEE-AC8A-23E1D761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B718-1660-4CEF-9EC6-2796A8A1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CF0B-DBE5-4D72-840B-CC4B19E9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C2F3-82C2-4AD2-A925-436F6469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14F2-4092-4AAD-BF36-BBE8784AA67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21DC-DE1B-4333-8AD7-58AEBB9D22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9221-DC0C-4A2B-A64F-5B6F289A21B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227A-F468-4B30-8B8B-A17DC085B53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49"/>
          <p:cNvPicPr/>
          <p:nvPr/>
        </p:nvPicPr>
        <p:blipFill>
          <a:blip r:embed="rId1"/>
          <a:stretch/>
        </p:blipFill>
        <p:spPr>
          <a:xfrm>
            <a:off x="36360" y="336600"/>
            <a:ext cx="9061560" cy="6172200"/>
          </a:xfrm>
          <a:prstGeom prst="rect">
            <a:avLst/>
          </a:prstGeom>
          <a:ln w="0">
            <a:noFill/>
          </a:ln>
        </p:spPr>
      </p:pic>
      <p:sp>
        <p:nvSpPr>
          <p:cNvPr id="85" name="矩形 1"/>
          <p:cNvSpPr/>
          <p:nvPr/>
        </p:nvSpPr>
        <p:spPr>
          <a:xfrm>
            <a:off x="2300760" y="33660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道德经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pc</dc:creator>
  <dc:description/>
  <cp:keywords/>
  <dc:language>en-US</dc:language>
  <cp:lastModifiedBy>a</cp:lastModifiedBy>
  <dcterms:modified xsi:type="dcterms:W3CDTF">2015-07-20T12:30:10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