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6177440"/>
        <c:axId val="59740268"/>
      </c:barChart>
      <c:catAx>
        <c:axId val="617744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9740268"/>
        <c:crosses val="autoZero"/>
        <c:auto val="1"/>
        <c:lblAlgn val="ctr"/>
        <c:lblOffset val="100"/>
        <c:noMultiLvlLbl val="0"/>
      </c:catAx>
      <c:valAx>
        <c:axId val="59740268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6177440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96211386"/>
        <c:axId val="74874589"/>
      </c:barChart>
      <c:catAx>
        <c:axId val="9621138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74874589"/>
        <c:crosses val="autoZero"/>
        <c:auto val="1"/>
        <c:lblAlgn val="ctr"/>
        <c:lblOffset val="100"/>
        <c:noMultiLvlLbl val="0"/>
      </c:catAx>
      <c:valAx>
        <c:axId val="74874589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96211386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64152206"/>
        <c:axId val="30895789"/>
      </c:lineChart>
      <c:catAx>
        <c:axId val="6415220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30895789"/>
        <c:crosses val="autoZero"/>
        <c:auto val="1"/>
        <c:lblAlgn val="ctr"/>
        <c:lblOffset val="100"/>
        <c:noMultiLvlLbl val="0"/>
      </c:catAx>
      <c:valAx>
        <c:axId val="30895789"/>
        <c:scaling>
          <c:orientation val="minMax"/>
        </c:scaling>
        <c:delete val="0"/>
        <c:axPos val="l"/>
        <c:majorGridlines>
          <c:spPr>
            <a:ln w="9360">
              <a:solidFill>
                <a:srgbClr val="5f5f5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64152206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78005005754791"/>
          <c:h val="0.0930768623861897"/>
        </c:manualLayout>
      </c:layout>
      <c:overlay val="0"/>
      <c:spPr>
        <a:noFill/>
        <a:ln w="0">
          <a:solidFill>
            <a:srgbClr val="5f5f5f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21845672"/>
        <c:axId val="5929904"/>
      </c:barChart>
      <c:catAx>
        <c:axId val="2184567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929904"/>
        <c:crosses val="autoZero"/>
        <c:auto val="1"/>
        <c:lblAlgn val="ctr"/>
        <c:lblOffset val="100"/>
        <c:noMultiLvlLbl val="0"/>
      </c:catAx>
      <c:valAx>
        <c:axId val="5929904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21845672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4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6239680-3CB0-4DF4-8F4D-801C589137CD}">
      <dsp:nvSpPr>
        <dsp:cNvPr id="0" name=""/>
        <dsp:cNvSpPr/>
      </dsp:nvSpPr>
      <dsp:spPr>
        <a:xfrm rot="5400000">
          <a:off x="4682714" y="-2303224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03778"/>
        <a:ext cx="5317402" cy="532188"/>
      </dsp:txXfrm>
    </dsp:sp>
    <dsp:sp modelId="{2381FA19-2733-48ED-ABAA-7EDFAF30A094}">
      <dsp:nvSpPr>
        <dsp:cNvPr id="0" name=""/>
        <dsp:cNvSpPr/>
      </dsp:nvSpPr>
      <dsp:spPr>
        <a:xfrm>
          <a:off x="702730" y="1266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1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7254"/>
        <a:ext cx="1529796" cy="665234"/>
      </dsp:txXfrm>
    </dsp:sp>
    <dsp:sp modelId="{A0313DD0-A4E1-4D7E-AE20-031718C5CEC6}">
      <dsp:nvSpPr>
        <dsp:cNvPr id="0" name=""/>
        <dsp:cNvSpPr/>
      </dsp:nvSpPr>
      <dsp:spPr>
        <a:xfrm rot="5400000">
          <a:off x="4682714" y="-1529153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877849"/>
        <a:ext cx="5317402" cy="532188"/>
      </dsp:txXfrm>
    </dsp:sp>
    <dsp:sp modelId="{4CE170C5-6DE4-49AE-85C4-BB9332B44101}">
      <dsp:nvSpPr>
        <dsp:cNvPr id="0" name=""/>
        <dsp:cNvSpPr/>
      </dsp:nvSpPr>
      <dsp:spPr>
        <a:xfrm>
          <a:off x="702730" y="775337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2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811325"/>
        <a:ext cx="1529796" cy="665234"/>
      </dsp:txXfrm>
    </dsp:sp>
    <dsp:sp modelId="{3DAE57B0-4386-42CD-B7BF-2EB7D32E6BF2}">
      <dsp:nvSpPr>
        <dsp:cNvPr id="0" name=""/>
        <dsp:cNvSpPr/>
      </dsp:nvSpPr>
      <dsp:spPr>
        <a:xfrm rot="5400000">
          <a:off x="4682714" y="-75508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651921"/>
        <a:ext cx="5317402" cy="532188"/>
      </dsp:txXfrm>
    </dsp:sp>
    <dsp:sp modelId="{E8A2056D-40E3-46C3-8DEB-F711CFFDABE5}">
      <dsp:nvSpPr>
        <dsp:cNvPr id="0" name=""/>
        <dsp:cNvSpPr/>
      </dsp:nvSpPr>
      <dsp:spPr>
        <a:xfrm>
          <a:off x="702730" y="1549408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3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1585396"/>
        <a:ext cx="1529796" cy="665234"/>
      </dsp:txXfrm>
    </dsp:sp>
    <dsp:sp modelId="{FFAD5F7D-A880-40A0-AE9E-17C80DAA362D}">
      <dsp:nvSpPr>
        <dsp:cNvPr id="0" name=""/>
        <dsp:cNvSpPr/>
      </dsp:nvSpPr>
      <dsp:spPr>
        <a:xfrm rot="5400000">
          <a:off x="4682714" y="18989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2425991"/>
        <a:ext cx="5317402" cy="532188"/>
      </dsp:txXfrm>
    </dsp:sp>
    <dsp:sp modelId="{5E94653F-6E3A-466B-866E-C0149A07CA40}">
      <dsp:nvSpPr>
        <dsp:cNvPr id="0" name=""/>
        <dsp:cNvSpPr/>
      </dsp:nvSpPr>
      <dsp:spPr>
        <a:xfrm>
          <a:off x="702730" y="2323480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4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2359468"/>
        <a:ext cx="1529796" cy="665234"/>
      </dsp:txXfrm>
    </dsp:sp>
    <dsp:sp modelId="{4A256C4D-C145-46CA-A9D9-95A8600A7020}">
      <dsp:nvSpPr>
        <dsp:cNvPr id="0" name=""/>
        <dsp:cNvSpPr/>
      </dsp:nvSpPr>
      <dsp:spPr>
        <a:xfrm rot="5400000">
          <a:off x="4682714" y="79306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200063"/>
        <a:ext cx="5317402" cy="532188"/>
      </dsp:txXfrm>
    </dsp:sp>
    <dsp:sp modelId="{39A22D0B-8CB7-4C90-A0BE-B94049266003}">
      <dsp:nvSpPr>
        <dsp:cNvPr id="0" name=""/>
        <dsp:cNvSpPr/>
      </dsp:nvSpPr>
      <dsp:spPr>
        <a:xfrm>
          <a:off x="702730" y="3097551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5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133539"/>
        <a:ext cx="1529796" cy="665234"/>
      </dsp:txXfrm>
    </dsp:sp>
    <dsp:sp modelId="{E845FE83-ED04-40F4-B057-95E666072AD5}">
      <dsp:nvSpPr>
        <dsp:cNvPr id="0" name=""/>
        <dsp:cNvSpPr/>
      </dsp:nvSpPr>
      <dsp:spPr>
        <a:xfrm rot="5400000">
          <a:off x="4682714" y="1567132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974134"/>
        <a:ext cx="5317402" cy="532188"/>
      </dsp:txXfrm>
    </dsp:sp>
    <dsp:sp modelId="{F889E688-BCE4-4A0E-8C7D-7E9E48AB2095}">
      <dsp:nvSpPr>
        <dsp:cNvPr id="0" name=""/>
        <dsp:cNvSpPr/>
      </dsp:nvSpPr>
      <dsp:spPr>
        <a:xfrm>
          <a:off x="702730" y="3871622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6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907610"/>
        <a:ext cx="1529796" cy="665234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A56968A-E0A1-4472-A81F-33AF83D89196}">
      <dsp:nvSpPr>
        <dsp:cNvPr id="0" name=""/>
        <dsp:cNvSpPr/>
      </dsp:nvSpPr>
      <dsp:spPr>
        <a:xfrm>
          <a:off x="2810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41348" y="1444583"/>
        <a:ext cx="1953300" cy="1238709"/>
      </dsp:txXfrm>
    </dsp:sp>
    <dsp:sp modelId="{806460DA-3BDB-4235-8F83-5E07F6F8F17D}">
      <dsp:nvSpPr>
        <dsp:cNvPr id="0" name=""/>
        <dsp:cNvSpPr/>
      </dsp:nvSpPr>
      <dsp:spPr>
        <a:xfrm>
          <a:off x="1161097" y="1866913"/>
          <a:ext cx="2147504" cy="2147504"/>
        </a:xfrm>
        <a:prstGeom prst="leftCircularArrow">
          <a:avLst>
            <a:gd name="adj1" fmla="val 2731"/>
            <a:gd name="adj2" fmla="val 332723"/>
            <a:gd name="adj3" fmla="val 2108234"/>
            <a:gd name="adj4" fmla="val 9024489"/>
            <a:gd name="adj5" fmla="val 3186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93246614-B449-443A-B0F1-95E91921E9D8}">
      <dsp:nvSpPr>
        <dsp:cNvPr id="0" name=""/>
        <dsp:cNvSpPr/>
      </dsp:nvSpPr>
      <dsp:spPr>
        <a:xfrm>
          <a:off x="454005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475026" y="2742852"/>
        <a:ext cx="1762737" cy="675659"/>
      </dsp:txXfrm>
    </dsp:sp>
    <dsp:sp modelId="{8D87B9EB-96F2-4066-86EF-89D7AFAEA69E}">
      <dsp:nvSpPr>
        <dsp:cNvPr id="0" name=""/>
        <dsp:cNvSpPr/>
      </dsp:nvSpPr>
      <dsp:spPr>
        <a:xfrm>
          <a:off x="2538031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2576569" y="1803434"/>
        <a:ext cx="1953300" cy="1238709"/>
      </dsp:txXfrm>
    </dsp:sp>
    <dsp:sp modelId="{511FCBE0-7C2E-46E5-B1C1-B7E2BD5EB0F5}">
      <dsp:nvSpPr>
        <dsp:cNvPr id="0" name=""/>
        <dsp:cNvSpPr/>
      </dsp:nvSpPr>
      <dsp:spPr>
        <a:xfrm>
          <a:off x="3679399" y="406648"/>
          <a:ext cx="2406941" cy="2406941"/>
        </a:xfrm>
        <a:prstGeom prst="circularArrow">
          <a:avLst>
            <a:gd name="adj1" fmla="val 2436"/>
            <a:gd name="adj2" fmla="val 294837"/>
            <a:gd name="adj3" fmla="val 19529653"/>
            <a:gd name="adj4" fmla="val 12575511"/>
            <a:gd name="adj5" fmla="val 2842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C35B912B-C3EC-41D4-A7E3-1B2F9D15219C}">
      <dsp:nvSpPr>
        <dsp:cNvPr id="0" name=""/>
        <dsp:cNvSpPr/>
      </dsp:nvSpPr>
      <dsp:spPr>
        <a:xfrm>
          <a:off x="2989226" y="1047195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3010247" y="1068216"/>
        <a:ext cx="1762737" cy="675659"/>
      </dsp:txXfrm>
    </dsp:sp>
    <dsp:sp modelId="{D627A842-D3B2-492A-BCBB-66750577F7BE}">
      <dsp:nvSpPr>
        <dsp:cNvPr id="0" name=""/>
        <dsp:cNvSpPr/>
      </dsp:nvSpPr>
      <dsp:spPr>
        <a:xfrm>
          <a:off x="5073253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5111791" y="1444583"/>
        <a:ext cx="1953300" cy="1238709"/>
      </dsp:txXfrm>
    </dsp:sp>
    <dsp:sp modelId="{9324AE40-C757-43FB-8D9F-7736A07938F3}">
      <dsp:nvSpPr>
        <dsp:cNvPr id="0" name=""/>
        <dsp:cNvSpPr/>
      </dsp:nvSpPr>
      <dsp:spPr>
        <a:xfrm>
          <a:off x="5524448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5545469" y="2742852"/>
        <a:ext cx="1762737" cy="67565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D06547-5439-47EC-98AF-D090656F1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34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BB592E80-AE95-43FA-87FE-F7F040AC1DD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F78-8446-41F3-8366-19A11D3A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D5E-6E99-4588-9D4A-97CCCA4D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86F-FA0F-4109-BA57-66666B6B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7CE-6BEE-4A17-82A6-D490FD8F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3C4A-1E5E-459E-BD3D-C0041578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E7DA-5129-4D42-821D-C73AED16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03A2-AE30-441B-BC4C-1555F0D1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779C-855B-4D80-B4D0-3C9DD2CD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7A9E-74B4-4111-AECA-E2D05510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262440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3DAC-F66F-4EFA-A9CD-1EE41999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2066-F7DD-47C8-948C-16549CCA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557-B36C-47B6-A3B7-BA1FC7E7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DEA3-DBA2-4B58-9585-27BD01C3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EE9A-EE6A-4C7E-9B42-A7C6CA3A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0AE6-23BA-498B-A6D2-D560E197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BE06-DFF2-4D52-91F3-271FA70B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4954-A4D1-4FFB-B121-8ADCEAAB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D4A61-3B2A-4540-9026-1EBBBE6E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E4514-ED89-480F-9810-E07629B3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48566-95F7-405B-B8D8-6F62B765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DC8D6-1A9B-409C-8C8F-E1871A63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DE18D-02B9-4E65-A9CD-700AD53E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6D7-932B-45C4-91A8-FC3A93CF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262440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F0A57-A96B-461B-8F9B-3CAC08ED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B3101-0199-48E9-8CF2-8B20A42D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E5242-10F8-419E-9596-85898C45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4AE0D-B76E-49BD-996D-A38D752B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A926B-4922-4A50-8D93-650D0937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A8CC-CB51-4314-A867-0FE6FFC5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0359B-C399-44B2-9CA4-739D9438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FF503-557D-416E-8EFA-FDE3D3B5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E5F1B-7414-4EE3-85C9-20F9EB36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51FD2-A0B2-4AA3-A648-F4696366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4FB-118E-4A5A-A25E-41B79948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62EB7-8C2E-4272-8E79-CA4F34C8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3BDFE-5A0A-4D4B-9F39-90E28EF3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262440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BA41F-6834-4616-8ECC-2CA61514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5CD8F-0A48-4108-9AEE-B486C34A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AEBF4-29B0-4CFA-817D-ABC4FBEA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BE31E-4995-473B-AC1F-5CCF4215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950E4-6B1A-4CA3-B44A-A0C3E48B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75B48-F24D-4A8B-B935-F65AAC4A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B1835-3D66-4DAC-ACF4-CF46C35B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DC57F-4457-48FC-A85C-9799A42F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7AA-9AF3-426E-B2EB-1F384C72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313B9-3A43-4AA0-8D23-B9BBA5E2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8E556-6A11-4A37-995A-C0ACC08E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9891F-94E3-46C2-A2F6-D8AA7576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2F117-4096-4538-A3FC-2D842265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262440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D4232-3816-474B-AEA9-0EECACCC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70117-CB4B-470B-AB3F-31CB5D0A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DA194-2805-464D-B9D3-BEB25F50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CC2D9-A782-469A-B3C2-F43306BE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0B7EA-938F-433A-A0E5-7FA33A1F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CED3F-CA67-4755-80A0-3A036DC6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262440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059-58FC-4670-94F0-7D292F8C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44960-4414-455E-A1CA-4196E7A2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8E78E-2C70-486E-8C76-97FB666C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5499E-17AC-4742-AC01-D2001E01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9BFEE-141A-46AB-A1E6-0E63A0EE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CB7BE-CB65-4F46-B558-0D83ACDE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2368D-B7C5-41B7-986D-F4D619D1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262440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3645E-0DAE-4EB2-9A55-3594AC24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B699B-5E77-40B1-A049-BAB96E1E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0F0B3-8B4E-4B14-8D38-80663410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BCBBF-C286-4510-9FDF-1DFAE697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92E-55AD-4548-8394-D949C97F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2BEB8-1E1F-4796-8A05-76581FD5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2B80F-56FC-4090-AD2F-0505F9FE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2A988-5660-4282-85A3-BD0D8F59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6F6DB-DA36-4326-A63D-89EF6B09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42547-0848-4544-847F-48ABA4EB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D681D-6DEC-4DCE-9C1B-81D45D2E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CA8B5-B3E5-453D-AA15-E0E43915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8DDE1-431F-4C2E-98BC-DCD73FEA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262440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75DB8-F7D0-4BE1-A5B4-EFAD7AE2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242F5-96BB-43F0-9490-A1B1EEC5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7C8-5E4C-49C7-9666-8771D3E8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205C4-BD6A-45B9-8909-5119F58A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72343-5DDA-450C-94FF-886C7647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5BD0F-5F5B-469A-8604-A6CC6A49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5FB98-FFC5-4043-87BE-A0495DD8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A5013-5C8F-47A3-9CEC-D3A14754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3BE04-D7AA-47B5-8C6A-9091CDEA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4FCFC-728C-45B9-A7AC-A3E5297E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F0239-D70B-4C66-B596-FABD5B5B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BC220-6D38-4015-ABCC-1E02EEEE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0348F-9A2A-4738-B0D4-B8BFBD37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927-826B-4780-BA91-710EC9FE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262440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54B0A-7E87-4B47-A9B5-FA551594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1506A-42F3-410D-A3AA-3770BFC7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94853-AE93-4434-BB21-3FE4C3DD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8A98E-E02F-4B10-A27A-EE35DA9D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96A12-707B-4352-9954-8BBD57B4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C4906-9374-4D7A-BE29-9C8FB97A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BE2F6-EE77-41F0-B80E-D20D5DF8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新建文件夹 (16)\bg1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" descr="D:\SLIDEtoME\TP模板\新建文件夹 (16)\bg12.jpg"/>
          <p:cNvPicPr/>
          <p:nvPr/>
        </p:nvPicPr>
        <p:blipFill>
          <a:blip r:embed="rId3"/>
          <a:stretch/>
        </p:blipFill>
        <p:spPr>
          <a:xfrm>
            <a:off x="0" y="-25200"/>
            <a:ext cx="9143640" cy="68828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27090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3A5AEB9-BA7A-42A8-AF52-CCD18C0234ED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SLIDEtoME\TP模板\新建文件夹 (16)\bg1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698D22-088F-467C-8553-AACDA472C9A6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SLIDEtoME\TP模板\新建文件夹 (16)\bg1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SLIDEtoME\TP模板\新建文件夹 (16)\bg12.jpg"/>
          <p:cNvPicPr/>
          <p:nvPr/>
        </p:nvPicPr>
        <p:blipFill>
          <a:blip r:embed="rId3"/>
          <a:srcRect l="0" t="15861" r="0" b="22692"/>
          <a:stretch/>
        </p:blipFill>
        <p:spPr>
          <a:xfrm>
            <a:off x="0" y="775080"/>
            <a:ext cx="9143640" cy="4228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B81D786-BBAD-4405-A7F4-B460950DB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268920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22874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SLIDEtoME\TP模板\新建文件夹 (16)\bg1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1918AE-419A-4D5F-A4F3-8EDE3B6AFDF0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:\SLIDEtoME\TP模板\新建文件夹 (16)\bg1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0359E9F-FA25-4881-8AE1-F370A441EB38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SLIDEtoME\TP模板\新建文件夹 (16)\bg1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A0F2CA4-7FA0-424E-ADA9-3C299401F068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D:\SLIDEtoME\TP模板\新建文件夹 (16)\bg1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BB5637-821A-4C52-B2EE-9D06EC7B4CE4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:\SLIDEtoME\TP模板\新建文件夹 (16)\bg11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D:\SLIDEtoME\TP模板\新建文件夹 (16)\bg12.jpg"/>
          <p:cNvPicPr/>
          <p:nvPr/>
        </p:nvPicPr>
        <p:blipFill>
          <a:blip r:embed="rId3"/>
          <a:stretch/>
        </p:blipFill>
        <p:spPr>
          <a:xfrm>
            <a:off x="0" y="-25200"/>
            <a:ext cx="9143640" cy="68828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4030B5E-F894-4754-9C57-24E8541973AC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27090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地球背景商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模板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3501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E09-D9B0-402D-86A5-2B09191633E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D55F6-6CF7-45F4-8958-DBBAFDA61418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2"/>
          <p:cNvSpPr/>
          <p:nvPr/>
        </p:nvSpPr>
        <p:spPr>
          <a:xfrm>
            <a:off x="2952360" y="3259800"/>
            <a:ext cx="323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600" spc="-1" strike="noStrike">
                <a:solidFill>
                  <a:srgbClr val="0e0e0e"/>
                </a:solidFill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33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F34E581-894E-4E0C-846D-D54DD214DB54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29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F65C0C-7ACA-425E-8003-EA6867EEAAD8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39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0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1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3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4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5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6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7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8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9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0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1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2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3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5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31B5-10BB-44C8-8CBA-C0AF33A69D6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C73B1AF-6983-4A97-8AE5-DE6EF586C23F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262440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395280" y="34164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7B152-7FCA-44D8-90D6-F5226FC3AB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BB90CD45-3B55-48F5-A34E-DB741DA76807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D69819C-4346-4E3F-815B-600E05F8AED2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29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DF6E00-6586-47A7-B632-15C96169A93A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373737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6e6e6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8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79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89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0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1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2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3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4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5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6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97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0070c0"/>
          </a:solidFill>
          <a:ln w="9525">
            <a:solidFill>
              <a:srgbClr val="0070c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00b05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b2b2b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777777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8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09" name="直接连接符 150"/>
          <p:cNvCxnSpPr/>
          <p:nvPr/>
        </p:nvCxnSpPr>
        <p:spPr>
          <a:xfrm>
            <a:off x="395280" y="19440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10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268920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ffffff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22874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5EEB7-BDEA-4F75-BC88-B230CD97AC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1F56811C-065D-450D-8186-6E8019E8927F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14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018E4-9FF2-47F8-95A2-44D9B02003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251FC797-4CE1-4099-BCA6-8553255F9829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396580943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18" name="Text Box 6"/>
          <p:cNvSpPr/>
          <p:nvPr/>
        </p:nvSpPr>
        <p:spPr>
          <a:xfrm>
            <a:off x="787320" y="64562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01BE8-1B34-4919-90E1-92C170B36D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CE12409A-F4F0-4D04-8DE7-BDB4ABB4E76E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4286643838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B1744-62F8-4645-A767-B35FF397609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B54EC19C-6F59-4CB2-B25B-5DAD1DB924F7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1" name="内容占位符 9"/>
          <p:cNvGraphicFramePr/>
          <p:nvPr/>
        </p:nvGraphicFramePr>
        <p:xfrm>
          <a:off x="395280" y="1412640"/>
          <a:ext cx="8353080" cy="439272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52092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22" name="TextBox 10"/>
          <p:cNvSpPr/>
          <p:nvPr/>
        </p:nvSpPr>
        <p:spPr>
          <a:xfrm>
            <a:off x="7338960" y="5819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7296A-996B-4E58-B6F8-7C1052D2D35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1D157D94-182E-41FB-8383-FA91A81FFDCA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7" name="内容占位符 6"/>
          <p:cNvGraphicFramePr/>
          <p:nvPr/>
        </p:nvGraphicFramePr>
        <p:xfrm>
          <a:off x="46360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9667D-CBE5-4B54-A603-53F3C1B8354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F90DC02B-CBCE-4C8A-8375-BABCB8C7F82B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9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30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C7982-9222-438C-8932-17081A124C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83B5E6F4-C37A-47E2-BC3F-F989094E5457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素材夹_0081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素材夹_0081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素材夹_0081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素材夹_0081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素材夹_0081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素材夹_0081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素材夹_0081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素材夹_0081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081</Template>
  <TotalTime>9</TotalTime>
  <Application>LibreOffice/7.4.7.2$Linux_X86_64 LibreOffice_project/40$Build-2</Application>
  <AppVersion>15.0000</AppVersion>
  <Words>518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3-02-28T02:09:03Z</dcterms:created>
  <dc:creator>lenovo</dc:creator>
  <dc:description>我爱PPT中文网</dc:description>
  <cp:keywords>XS-普屏 4：3 SC-淡蓝色 BG-浅色 DH-静态 XJ-二级</cp:keywords>
  <dc:language>en-US</dc:language>
  <cp:lastModifiedBy>a</cp:lastModifiedBy>
  <dcterms:modified xsi:type="dcterms:W3CDTF">2015-07-25T08:59:19Z</dcterms:modified>
  <cp:revision>3</cp:revision>
  <dc:subject>TP-信息通讯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</Properties>
</file>