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2CA-EA60-43F6-9A9B-E9E125C3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24E-16A8-48BA-8B5A-1A998460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F73-695B-4E55-9AD2-553403DD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23D-1342-478F-B38A-3B87EA75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8517-A5DD-4620-87D5-7478169E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4AE6-33A4-4E01-B170-9DB86282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EA9C-00A1-44AF-9E97-93C0C07D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5ED0-6BF1-4F28-B0B6-02676079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3360-4DDC-4C6C-8B84-102F5B2C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06600" y="22716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95AF-66BC-49C3-BDB1-75FCDB4D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460A-B517-4C6B-8EBA-B73FCF7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BD2-CBDD-4B81-9209-EFD16661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24DA-E0C4-4C42-940D-482C09C5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B90D-C426-4234-9219-6229E2AA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1878-DD26-45DE-B7D5-8CABCE3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A7F8-EEE7-4182-B8E3-9AB31F05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52CB-C94C-4D7D-83ED-A8A414D4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E9B-5D0F-4B00-A958-042E11BA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E74-A285-4104-BCB9-AFF9D845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23D-5640-4788-86E7-A50AD82B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06600" y="22716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149-AFF1-4ABD-AED6-D67B5E22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B6A-945A-44F3-AAF1-62D054B6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FEC-02CD-4434-A5C1-D3D29F31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F76-410D-411A-A7F4-4967D131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9"/>
          <p:cNvGraphicFramePr/>
          <p:nvPr/>
        </p:nvGraphicFramePr>
        <p:xfrm>
          <a:off x="2987640" y="2736720"/>
          <a:ext cx="6156360" cy="412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2736720"/>
                    <a:ext cx="615636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Object 20"/>
          <p:cNvGraphicFramePr/>
          <p:nvPr/>
        </p:nvGraphicFramePr>
        <p:xfrm>
          <a:off x="0" y="0"/>
          <a:ext cx="9144000" cy="97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Freeform 21"/>
          <p:cNvSpPr/>
          <p:nvPr/>
        </p:nvSpPr>
        <p:spPr>
          <a:xfrm>
            <a:off x="1828800" y="246240"/>
            <a:ext cx="7315200" cy="720720"/>
          </a:xfrm>
          <a:custGeom>
            <a:avLst/>
            <a:gdLst/>
            <a:ahLst/>
            <a:rect l="l" t="t" r="r" b="b"/>
            <a:pathLst>
              <a:path w="4798" h="454">
                <a:moveTo>
                  <a:pt x="0" y="454"/>
                </a:moveTo>
                <a:lnTo>
                  <a:pt x="4798" y="454"/>
                </a:lnTo>
                <a:lnTo>
                  <a:pt x="4798" y="0"/>
                </a:lnTo>
                <a:lnTo>
                  <a:pt x="382" y="3"/>
                </a:lnTo>
                <a:lnTo>
                  <a:pt x="0" y="454"/>
                </a:lnTo>
                <a:close/>
              </a:path>
            </a:pathLst>
          </a:custGeom>
          <a:gradFill rotWithShape="0">
            <a:gsLst>
              <a:gs pos="0">
                <a:srgbClr val="023b3f"/>
              </a:gs>
              <a:gs pos="100000">
                <a:srgbClr val="0580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Freeform 22"/>
          <p:cNvSpPr/>
          <p:nvPr/>
        </p:nvSpPr>
        <p:spPr>
          <a:xfrm>
            <a:off x="0" y="966960"/>
            <a:ext cx="1828800" cy="288720"/>
          </a:xfrm>
          <a:custGeom>
            <a:avLst/>
            <a:gdLst/>
            <a:ahLst/>
            <a:rect l="l" t="t" r="r" b="b"/>
            <a:pathLst>
              <a:path w="1338" h="182">
                <a:moveTo>
                  <a:pt x="0" y="0"/>
                </a:moveTo>
                <a:lnTo>
                  <a:pt x="1338" y="0"/>
                </a:lnTo>
                <a:lnTo>
                  <a:pt x="1138" y="182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66b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6257-D335-4F0E-A0E1-45AE96AE7B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0" descr="j0341439"/>
          <p:cNvPicPr/>
          <p:nvPr/>
        </p:nvPicPr>
        <p:blipFill>
          <a:blip r:embed="rId2"/>
          <a:srcRect l="0" t="0" r="0" b="19829"/>
          <a:stretch/>
        </p:blipFill>
        <p:spPr>
          <a:xfrm>
            <a:off x="0" y="1744560"/>
            <a:ext cx="9144000" cy="5127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1"/>
          <p:cNvSpPr/>
          <p:nvPr/>
        </p:nvSpPr>
        <p:spPr>
          <a:xfrm>
            <a:off x="0" y="0"/>
            <a:ext cx="9144000" cy="2392200"/>
          </a:xfrm>
          <a:prstGeom prst="rect">
            <a:avLst/>
          </a:prstGeom>
          <a:gradFill rotWithShape="0">
            <a:gsLst>
              <a:gs pos="0">
                <a:srgbClr val="2ca9d0"/>
              </a:gs>
              <a:gs pos="100000">
                <a:srgbClr val="144e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Freeform 32"/>
          <p:cNvSpPr/>
          <p:nvPr/>
        </p:nvSpPr>
        <p:spPr>
          <a:xfrm>
            <a:off x="2130480" y="1486080"/>
            <a:ext cx="7014960" cy="909360"/>
          </a:xfrm>
          <a:custGeom>
            <a:avLst/>
            <a:gdLst/>
            <a:ahLst/>
            <a:rect l="l" t="t" r="r" b="b"/>
            <a:pathLst>
              <a:path w="4134" h="573">
                <a:moveTo>
                  <a:pt x="0" y="573"/>
                </a:moveTo>
                <a:lnTo>
                  <a:pt x="4134" y="573"/>
                </a:lnTo>
                <a:lnTo>
                  <a:pt x="4134" y="1"/>
                </a:lnTo>
                <a:lnTo>
                  <a:pt x="322" y="0"/>
                </a:lnTo>
                <a:lnTo>
                  <a:pt x="0" y="573"/>
                </a:lnTo>
                <a:close/>
              </a:path>
            </a:pathLst>
          </a:custGeom>
          <a:gradFill rotWithShape="0">
            <a:gsLst>
              <a:gs pos="0">
                <a:srgbClr val="011011"/>
              </a:gs>
              <a:gs pos="100000">
                <a:srgbClr val="0580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Freeform 33"/>
          <p:cNvSpPr/>
          <p:nvPr/>
        </p:nvSpPr>
        <p:spPr>
          <a:xfrm>
            <a:off x="-6480" y="2379600"/>
            <a:ext cx="2140200" cy="455760"/>
          </a:xfrm>
          <a:custGeom>
            <a:avLst/>
            <a:gdLst/>
            <a:ahLst/>
            <a:rect l="l" t="t" r="r" b="b"/>
            <a:pathLst>
              <a:path w="1348" h="287">
                <a:moveTo>
                  <a:pt x="0" y="0"/>
                </a:moveTo>
                <a:lnTo>
                  <a:pt x="1348" y="0"/>
                </a:lnTo>
                <a:lnTo>
                  <a:pt x="1170" y="287"/>
                </a:lnTo>
                <a:lnTo>
                  <a:pt x="0" y="286"/>
                </a:lnTo>
                <a:lnTo>
                  <a:pt x="0" y="0"/>
                </a:lnTo>
                <a:close/>
              </a:path>
            </a:pathLst>
          </a:custGeom>
          <a:solidFill>
            <a:srgbClr val="66b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Text Box 34"/>
          <p:cNvSpPr/>
          <p:nvPr/>
        </p:nvSpPr>
        <p:spPr>
          <a:xfrm>
            <a:off x="899640" y="1523880"/>
            <a:ext cx="5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公司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徽标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7259-81B4-4600-9447-AF1E2D51F8B7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87440" y="1699920"/>
            <a:ext cx="8197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滴嗒作响的时钟商务管理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6000" y="5638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副标题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日程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1752480" y="228600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23b3f"/>
              </a:gs>
              <a:gs pos="50000">
                <a:srgbClr val="058089"/>
              </a:gs>
              <a:gs pos="100000">
                <a:srgbClr val="023b3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752480" y="304812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f5806"/>
              </a:gs>
              <a:gs pos="50000">
                <a:srgbClr val="66be0e"/>
              </a:gs>
              <a:gs pos="100000">
                <a:srgbClr val="2f580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752480" y="380988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44e60"/>
              </a:gs>
              <a:gs pos="50000">
                <a:srgbClr val="2ca9d0"/>
              </a:gs>
              <a:gs pos="100000">
                <a:srgbClr val="144e6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752480" y="4572000"/>
            <a:ext cx="54104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211e64"/>
              </a:gs>
              <a:gs pos="50000">
                <a:srgbClr val="4841d9"/>
              </a:gs>
              <a:gs pos="100000">
                <a:srgbClr val="211e64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 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循环图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5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fefef"/>
              </a:gs>
              <a:gs pos="100000">
                <a:srgbClr val="b2b2b2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2c2c2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058089"/>
              </a:gs>
              <a:gs pos="100000">
                <a:srgbClr val="02282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66be0e"/>
              </a:gs>
              <a:gs pos="100000">
                <a:srgbClr val="24440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ca9d0"/>
              </a:gs>
              <a:gs pos="100000">
                <a:srgbClr val="144e6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4841d9"/>
              </a:gs>
              <a:gs pos="100000">
                <a:srgbClr val="19164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1610640" y="366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4201560" y="2138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7135200" y="2416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5344560" y="4729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2523600" y="5353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14" name="AutoShape 28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115" name="Text Box 29"/>
          <p:cNvSpPr/>
          <p:nvPr/>
        </p:nvSpPr>
        <p:spPr>
          <a:xfrm>
            <a:off x="930600" y="1528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添加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3657600" y="3581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  <a:ea typeface="宋体"/>
              </a:rPr>
              <a:t>循环名称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流程图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6be0e"/>
              </a:gs>
              <a:gs pos="100000">
                <a:srgbClr val="2f580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ca9d0"/>
              </a:gs>
              <a:gs pos="100000">
                <a:srgbClr val="144e60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58089"/>
              </a:gs>
              <a:gs pos="100000">
                <a:srgbClr val="023b3f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58089"/>
              </a:gs>
              <a:gs pos="100000">
                <a:srgbClr val="023b3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a9d0"/>
              </a:gs>
              <a:gs pos="100000">
                <a:srgbClr val="144e6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be0e"/>
              </a:gs>
              <a:gs pos="100000">
                <a:srgbClr val="2f580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框图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3118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4559400" y="32767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281952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105408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1111680" y="1782000"/>
            <a:ext cx="6437160" cy="1388160"/>
            <a:chOff x="1111680" y="1782000"/>
            <a:chExt cx="6437160" cy="1388160"/>
          </a:xfrm>
        </p:grpSpPr>
        <p:sp>
          <p:nvSpPr>
            <p:cNvPr id="130" name="Rectangle 10"/>
            <p:cNvSpPr/>
            <p:nvPr/>
          </p:nvSpPr>
          <p:spPr>
            <a:xfrm rot="3418800">
              <a:off x="1321920" y="20073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ca9d0"/>
                </a:gs>
                <a:gs pos="100000">
                  <a:srgbClr val="144e6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1" name="Group 11"/>
            <p:cNvGrpSpPr/>
            <p:nvPr/>
          </p:nvGrpSpPr>
          <p:grpSpPr>
            <a:xfrm>
              <a:off x="2286360" y="2179080"/>
              <a:ext cx="931680" cy="131760"/>
              <a:chOff x="2286360" y="2179080"/>
              <a:chExt cx="931680" cy="131760"/>
            </a:xfrm>
          </p:grpSpPr>
          <p:sp>
            <p:nvSpPr>
              <p:cNvPr id="132" name="Oval 12"/>
              <p:cNvSpPr/>
              <p:nvPr/>
            </p:nvSpPr>
            <p:spPr>
              <a:xfrm>
                <a:off x="228636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33" name="Rectangle 13"/>
              <p:cNvSpPr/>
              <p:nvPr/>
            </p:nvSpPr>
            <p:spPr>
              <a:xfrm>
                <a:off x="237564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34" name="Oval 14"/>
              <p:cNvSpPr/>
              <p:nvPr/>
            </p:nvSpPr>
            <p:spPr>
              <a:xfrm>
                <a:off x="3076920" y="21812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35" name="Oval 15"/>
              <p:cNvSpPr/>
              <p:nvPr/>
            </p:nvSpPr>
            <p:spPr>
              <a:xfrm>
                <a:off x="3154680" y="22222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16"/>
            <p:cNvSpPr/>
            <p:nvPr/>
          </p:nvSpPr>
          <p:spPr>
            <a:xfrm rot="3418800">
              <a:off x="3042000" y="194076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66be0e"/>
                </a:gs>
                <a:gs pos="100000">
                  <a:srgbClr val="2f580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7" name="Group 17"/>
            <p:cNvGrpSpPr/>
            <p:nvPr/>
          </p:nvGrpSpPr>
          <p:grpSpPr>
            <a:xfrm>
              <a:off x="4007880" y="2179080"/>
              <a:ext cx="931680" cy="131760"/>
              <a:chOff x="4007880" y="2179080"/>
              <a:chExt cx="931680" cy="131760"/>
            </a:xfrm>
          </p:grpSpPr>
          <p:sp>
            <p:nvSpPr>
              <p:cNvPr id="138" name="Oval 18"/>
              <p:cNvSpPr/>
              <p:nvPr/>
            </p:nvSpPr>
            <p:spPr>
              <a:xfrm>
                <a:off x="40078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39" name="Rectangle 19"/>
              <p:cNvSpPr/>
              <p:nvPr/>
            </p:nvSpPr>
            <p:spPr>
              <a:xfrm>
                <a:off x="40971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0" name="Oval 20"/>
              <p:cNvSpPr/>
              <p:nvPr/>
            </p:nvSpPr>
            <p:spPr>
              <a:xfrm>
                <a:off x="4798440" y="21812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1" name="Oval 21"/>
              <p:cNvSpPr/>
              <p:nvPr/>
            </p:nvSpPr>
            <p:spPr>
              <a:xfrm>
                <a:off x="4874400" y="22222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22"/>
            <p:cNvSpPr/>
            <p:nvPr/>
          </p:nvSpPr>
          <p:spPr>
            <a:xfrm rot="3418800">
              <a:off x="4692240" y="194076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2ca9d0"/>
                </a:gs>
                <a:gs pos="100000">
                  <a:srgbClr val="144e6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43" name="Group 23"/>
            <p:cNvGrpSpPr/>
            <p:nvPr/>
          </p:nvGrpSpPr>
          <p:grpSpPr>
            <a:xfrm>
              <a:off x="5729040" y="2179080"/>
              <a:ext cx="1218240" cy="131760"/>
              <a:chOff x="5729040" y="2179080"/>
              <a:chExt cx="1218240" cy="131760"/>
            </a:xfrm>
          </p:grpSpPr>
          <p:sp>
            <p:nvSpPr>
              <p:cNvPr id="144" name="Oval 24"/>
              <p:cNvSpPr/>
              <p:nvPr/>
            </p:nvSpPr>
            <p:spPr>
              <a:xfrm>
                <a:off x="572904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5" name="Rectangle 25"/>
              <p:cNvSpPr/>
              <p:nvPr/>
            </p:nvSpPr>
            <p:spPr>
              <a:xfrm>
                <a:off x="584568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6" name="Oval 26"/>
              <p:cNvSpPr/>
              <p:nvPr/>
            </p:nvSpPr>
            <p:spPr>
              <a:xfrm>
                <a:off x="6762600" y="21812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7" name="Oval 27"/>
              <p:cNvSpPr/>
              <p:nvPr/>
            </p:nvSpPr>
            <p:spPr>
              <a:xfrm>
                <a:off x="6861960" y="22222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28"/>
            <p:cNvSpPr/>
            <p:nvPr/>
          </p:nvSpPr>
          <p:spPr>
            <a:xfrm rot="3418800">
              <a:off x="6413760" y="1941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6be0e"/>
                </a:gs>
                <a:gs pos="100000">
                  <a:srgbClr val="2f580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49" name="Rectangle 30"/>
          <p:cNvSpPr/>
          <p:nvPr/>
        </p:nvSpPr>
        <p:spPr>
          <a:xfrm>
            <a:off x="159804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335052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495072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6703560" y="23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160452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335700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510948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6862320" y="358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63440" y="6324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80808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2ca9d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表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838160"/>
          <a:ext cx="7620120" cy="72122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3b3f"/>
                        </a:gs>
                        <a:gs pos="50000">
                          <a:srgbClr val="058089"/>
                        </a:gs>
                        <a:gs pos="100000">
                          <a:srgbClr val="023b3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3b3f"/>
                        </a:gs>
                        <a:gs pos="50000">
                          <a:srgbClr val="058089"/>
                        </a:gs>
                        <a:gs pos="100000">
                          <a:srgbClr val="023b3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3b3f"/>
                        </a:gs>
                        <a:gs pos="50000">
                          <a:srgbClr val="058089"/>
                        </a:gs>
                        <a:gs pos="100000">
                          <a:srgbClr val="023b3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3b3f"/>
                        </a:gs>
                        <a:gs pos="50000">
                          <a:srgbClr val="058089"/>
                        </a:gs>
                        <a:gs pos="100000">
                          <a:srgbClr val="023b3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23b3f"/>
                        </a:gs>
                        <a:gs pos="50000">
                          <a:srgbClr val="058089"/>
                        </a:gs>
                        <a:gs pos="100000">
                          <a:srgbClr val="023b3f"/>
                        </a:gs>
                      </a:gsLst>
                      <a:lin ang="54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4e60"/>
                        </a:gs>
                        <a:gs pos="50000">
                          <a:srgbClr val="2ca9d0"/>
                        </a:gs>
                        <a:gs pos="100000">
                          <a:srgbClr val="144e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三维饼图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Oval 6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Arc 8"/>
          <p:cNvSpPr/>
          <p:nvPr/>
        </p:nvSpPr>
        <p:spPr>
          <a:xfrm rot="20601600">
            <a:off x="4390920" y="326232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Arc 10"/>
          <p:cNvSpPr/>
          <p:nvPr/>
        </p:nvSpPr>
        <p:spPr>
          <a:xfrm flipH="1" rot="20602200">
            <a:off x="1599840" y="3563640"/>
            <a:ext cx="2876400" cy="163008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Arc 11"/>
          <p:cNvSpPr/>
          <p:nvPr/>
        </p:nvSpPr>
        <p:spPr>
          <a:xfrm rot="20601600">
            <a:off x="3409920" y="1996920"/>
            <a:ext cx="2814840" cy="141768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Arc 12"/>
          <p:cNvSpPr/>
          <p:nvPr/>
        </p:nvSpPr>
        <p:spPr>
          <a:xfrm flipH="1" rot="20602200">
            <a:off x="1371240" y="264924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Freeform 13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Freeform 14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70" name="Group 15"/>
          <p:cNvGrpSpPr/>
          <p:nvPr/>
        </p:nvGrpSpPr>
        <p:grpSpPr>
          <a:xfrm>
            <a:off x="3988800" y="2935440"/>
            <a:ext cx="3251880" cy="2231640"/>
            <a:chOff x="3988800" y="2935440"/>
            <a:chExt cx="3251880" cy="2231640"/>
          </a:xfrm>
        </p:grpSpPr>
        <p:sp>
          <p:nvSpPr>
            <p:cNvPr id="171" name="Arc 16"/>
            <p:cNvSpPr/>
            <p:nvPr/>
          </p:nvSpPr>
          <p:spPr>
            <a:xfrm rot="20712600">
              <a:off x="4102200" y="329040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2" name="Freeform 17"/>
            <p:cNvSpPr/>
            <p:nvPr/>
          </p:nvSpPr>
          <p:spPr>
            <a:xfrm rot="20712600">
              <a:off x="4186440" y="347940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3" name="Freeform 18"/>
            <p:cNvSpPr/>
            <p:nvPr/>
          </p:nvSpPr>
          <p:spPr>
            <a:xfrm rot="20712600">
              <a:off x="5562360" y="364788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74" name="Group 24"/>
          <p:cNvGrpSpPr/>
          <p:nvPr/>
        </p:nvGrpSpPr>
        <p:grpSpPr>
          <a:xfrm>
            <a:off x="4482360" y="2761920"/>
            <a:ext cx="3270960" cy="2463840"/>
            <a:chOff x="4482360" y="2761920"/>
            <a:chExt cx="3270960" cy="2463840"/>
          </a:xfrm>
        </p:grpSpPr>
        <p:sp>
          <p:nvSpPr>
            <p:cNvPr id="175" name="Freeform 19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6" name="Arc 20"/>
            <p:cNvSpPr/>
            <p:nvPr/>
          </p:nvSpPr>
          <p:spPr>
            <a:xfrm rot="20539200">
              <a:off x="4625640" y="3169800"/>
              <a:ext cx="2905200" cy="1397160"/>
            </a:xfrm>
            <a:custGeom>
              <a:avLst/>
              <a:gdLst>
                <a:gd name="textAreaLeft" fmla="*/ 0 w 2905200"/>
                <a:gd name="textAreaRight" fmla="*/ 2905200 w 290520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 rot="20601600">
              <a:off x="4757760" y="3381480"/>
              <a:ext cx="1332000" cy="168876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78" name="Oval 22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Oval 23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5871600" y="2725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4271400" y="2268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2442600" y="3030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2214000" y="4325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3966480" y="4554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5947920" y="3716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36"/>
          <p:cNvGrpSpPr/>
          <p:nvPr/>
        </p:nvGrpSpPr>
        <p:grpSpPr>
          <a:xfrm>
            <a:off x="838080" y="4267080"/>
            <a:ext cx="1513080" cy="1511280"/>
            <a:chOff x="838080" y="4267080"/>
            <a:chExt cx="1513080" cy="1511280"/>
          </a:xfrm>
        </p:grpSpPr>
        <p:sp>
          <p:nvSpPr>
            <p:cNvPr id="187" name="Oval 37"/>
            <p:cNvSpPr/>
            <p:nvPr/>
          </p:nvSpPr>
          <p:spPr>
            <a:xfrm>
              <a:off x="83808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ca9d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83808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4d257"/>
                </a:gs>
                <a:gs pos="100000">
                  <a:srgbClr val="66be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936000" y="43650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185b71"/>
                </a:gs>
                <a:gs pos="50000">
                  <a:srgbClr val="2ca9d0"/>
                </a:gs>
                <a:gs pos="100000">
                  <a:srgbClr val="185b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0" name="Oval 40"/>
            <p:cNvSpPr/>
            <p:nvPr/>
          </p:nvSpPr>
          <p:spPr>
            <a:xfrm>
              <a:off x="936000" y="43650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66be0e"/>
                </a:gs>
                <a:gs pos="100000">
                  <a:srgbClr val="325c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1" name="Oval 41"/>
            <p:cNvSpPr/>
            <p:nvPr/>
          </p:nvSpPr>
          <p:spPr>
            <a:xfrm>
              <a:off x="1002960" y="4431600"/>
              <a:ext cx="1182240" cy="1180800"/>
            </a:xfrm>
            <a:prstGeom prst="ellipse">
              <a:avLst/>
            </a:prstGeom>
            <a:gradFill rotWithShape="0">
              <a:gsLst>
                <a:gs pos="0">
                  <a:srgbClr val="2f5806"/>
                </a:gs>
                <a:gs pos="100000">
                  <a:srgbClr val="66b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市场分析图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1463760" y="255600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b2b2b2"/>
              </a:gs>
              <a:gs pos="100000">
                <a:srgbClr val="e5e5e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94" name="Group 6"/>
          <p:cNvGrpSpPr/>
          <p:nvPr/>
        </p:nvGrpSpPr>
        <p:grpSpPr>
          <a:xfrm>
            <a:off x="4486320" y="4280040"/>
            <a:ext cx="1512720" cy="1511280"/>
            <a:chOff x="4486320" y="4280040"/>
            <a:chExt cx="1512720" cy="1511280"/>
          </a:xfrm>
        </p:grpSpPr>
        <p:sp>
          <p:nvSpPr>
            <p:cNvPr id="195" name="Oval 7"/>
            <p:cNvSpPr/>
            <p:nvPr/>
          </p:nvSpPr>
          <p:spPr>
            <a:xfrm>
              <a:off x="448632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5808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6" name="Oval 8"/>
            <p:cNvSpPr/>
            <p:nvPr/>
          </p:nvSpPr>
          <p:spPr>
            <a:xfrm>
              <a:off x="448632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0b6bb"/>
                </a:gs>
                <a:gs pos="100000">
                  <a:srgbClr val="05808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7" name="Oval 9"/>
            <p:cNvSpPr/>
            <p:nvPr/>
          </p:nvSpPr>
          <p:spPr>
            <a:xfrm>
              <a:off x="458424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03454a"/>
                </a:gs>
                <a:gs pos="50000">
                  <a:srgbClr val="058089"/>
                </a:gs>
                <a:gs pos="100000">
                  <a:srgbClr val="03454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8" name="Oval 10"/>
            <p:cNvSpPr/>
            <p:nvPr/>
          </p:nvSpPr>
          <p:spPr>
            <a:xfrm>
              <a:off x="458424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058089"/>
                </a:gs>
                <a:gs pos="100000">
                  <a:srgbClr val="023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9" name="Oval 11"/>
            <p:cNvSpPr/>
            <p:nvPr/>
          </p:nvSpPr>
          <p:spPr>
            <a:xfrm>
              <a:off x="4651200" y="4444560"/>
              <a:ext cx="1181880" cy="1180800"/>
            </a:xfrm>
            <a:prstGeom prst="ellipse">
              <a:avLst/>
            </a:prstGeom>
            <a:gradFill rotWithShape="0">
              <a:gsLst>
                <a:gs pos="0">
                  <a:srgbClr val="023b3f"/>
                </a:gs>
                <a:gs pos="100000">
                  <a:srgbClr val="0580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6359400" y="4280040"/>
            <a:ext cx="1513080" cy="1511280"/>
            <a:chOff x="6359400" y="4280040"/>
            <a:chExt cx="1513080" cy="1511280"/>
          </a:xfrm>
        </p:grpSpPr>
        <p:sp>
          <p:nvSpPr>
            <p:cNvPr id="201" name="Oval 19"/>
            <p:cNvSpPr/>
            <p:nvPr/>
          </p:nvSpPr>
          <p:spPr>
            <a:xfrm>
              <a:off x="635940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841d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635940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8580e6"/>
                </a:gs>
                <a:gs pos="100000">
                  <a:srgbClr val="4841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6457320" y="437796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272375"/>
                </a:gs>
                <a:gs pos="50000">
                  <a:srgbClr val="4841d9"/>
                </a:gs>
                <a:gs pos="100000">
                  <a:srgbClr val="27237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6457320" y="437796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4841d9"/>
                </a:gs>
                <a:gs pos="100000">
                  <a:srgbClr val="2320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6524280" y="4444560"/>
              <a:ext cx="1182240" cy="1180800"/>
            </a:xfrm>
            <a:prstGeom prst="ellipse">
              <a:avLst/>
            </a:prstGeom>
            <a:gradFill rotWithShape="0">
              <a:gsLst>
                <a:gs pos="0">
                  <a:srgbClr val="211e64"/>
                </a:gs>
                <a:gs pos="100000">
                  <a:srgbClr val="4841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206" name="Group 24"/>
          <p:cNvGrpSpPr/>
          <p:nvPr/>
        </p:nvGrpSpPr>
        <p:grpSpPr>
          <a:xfrm>
            <a:off x="2687760" y="4280040"/>
            <a:ext cx="1512720" cy="1511280"/>
            <a:chOff x="2687760" y="4280040"/>
            <a:chExt cx="1512720" cy="1511280"/>
          </a:xfrm>
        </p:grpSpPr>
        <p:sp>
          <p:nvSpPr>
            <p:cNvPr id="207" name="Oval 25"/>
            <p:cNvSpPr/>
            <p:nvPr/>
          </p:nvSpPr>
          <p:spPr>
            <a:xfrm>
              <a:off x="26877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ca9d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8" name="Oval 26"/>
            <p:cNvSpPr/>
            <p:nvPr/>
          </p:nvSpPr>
          <p:spPr>
            <a:xfrm>
              <a:off x="26877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cc3de"/>
                </a:gs>
                <a:gs pos="100000">
                  <a:srgbClr val="2ca9d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9" name="Oval 27"/>
            <p:cNvSpPr/>
            <p:nvPr/>
          </p:nvSpPr>
          <p:spPr>
            <a:xfrm>
              <a:off x="278568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185b71"/>
                </a:gs>
                <a:gs pos="50000">
                  <a:srgbClr val="2ca9d0"/>
                </a:gs>
                <a:gs pos="100000">
                  <a:srgbClr val="185b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10" name="Oval 28"/>
            <p:cNvSpPr/>
            <p:nvPr/>
          </p:nvSpPr>
          <p:spPr>
            <a:xfrm>
              <a:off x="2785680" y="437796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2ca9d0"/>
                </a:gs>
                <a:gs pos="100000">
                  <a:srgbClr val="15526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11" name="Oval 29"/>
            <p:cNvSpPr/>
            <p:nvPr/>
          </p:nvSpPr>
          <p:spPr>
            <a:xfrm>
              <a:off x="2852640" y="4444560"/>
              <a:ext cx="1181880" cy="1180800"/>
            </a:xfrm>
            <a:prstGeom prst="ellipse">
              <a:avLst/>
            </a:prstGeom>
            <a:gradFill rotWithShape="0">
              <a:gsLst>
                <a:gs pos="0">
                  <a:srgbClr val="144e60"/>
                </a:gs>
                <a:gs pos="100000">
                  <a:srgbClr val="2ca9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212" name="AutoShape 31"/>
          <p:cNvSpPr/>
          <p:nvPr/>
        </p:nvSpPr>
        <p:spPr>
          <a:xfrm>
            <a:off x="1905120" y="19177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a9d0"/>
              </a:gs>
              <a:gs pos="50000">
                <a:srgbClr val="cceaf4"/>
              </a:gs>
              <a:gs pos="100000">
                <a:srgbClr val="2ca9d0"/>
              </a:gs>
            </a:gsLst>
            <a:lin ang="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宋体"/>
              </a:rPr>
              <a:t>标题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Rectangle 32"/>
          <p:cNvSpPr/>
          <p:nvPr/>
        </p:nvSpPr>
        <p:spPr>
          <a:xfrm>
            <a:off x="13759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Rectangle 33"/>
          <p:cNvSpPr/>
          <p:nvPr/>
        </p:nvSpPr>
        <p:spPr>
          <a:xfrm>
            <a:off x="50335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3204720" y="490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" name="Rectangle 35"/>
          <p:cNvSpPr/>
          <p:nvPr/>
        </p:nvSpPr>
        <p:spPr>
          <a:xfrm>
            <a:off x="6938280" y="488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1:21:46Z</dcterms:created>
  <dc:creator>ppt宝藏</dc:creator>
  <dc:description/>
  <dc:language>en-US</dc:language>
  <cp:lastModifiedBy>a</cp:lastModifiedBy>
  <dcterms:modified xsi:type="dcterms:W3CDTF">2015-07-25T06:45:03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2052</vt:lpwstr>
  </property>
</Properties>
</file>